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C5D-9CBD-4A71-8591-43DDADF9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364-206C-49F3-9819-1B4666C4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ACE-02FC-468F-A1AE-C9CAD7E1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AA0-B12F-4674-94CC-581A3C0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150-7CC7-4FAD-97C3-AEBB7E7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662-8313-4DC8-A17A-C121A23B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6CF-90B7-47F7-A88F-9DC8F4D5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14E-6FD3-4E77-BE5A-FB0D6883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DA2-3304-408E-B759-274D1A90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093-1EA0-4D1D-A4A3-D17F0AD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4CB-DDF5-412A-84C6-481141A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CF9-4F8C-41C5-9FF6-76644C6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DD6-1CEE-4DC3-BFB6-E184E9C0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380880"/>
            <a:ext cx="182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35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.security.auth.Main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85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447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4" idx="2"/>
            <a:endCxn id="45" idx="0"/>
          </p:cNvCxnSpPr>
          <p:nvPr/>
        </p:nvCxnSpPr>
        <p:spPr>
          <a:xfrm>
            <a:off x="4038480" y="1905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562720" y="76212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_jaas.con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80880"/>
            <a:ext cx="19810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UserLogin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47" idx="1"/>
          </p:cNvCxnSpPr>
          <p:nvPr/>
        </p:nvCxnSpPr>
        <p:spPr>
          <a:xfrm>
            <a:off x="4724280" y="914400"/>
            <a:ext cx="838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0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3920" y="1676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808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Thread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18288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362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657600"/>
            <a:ext cx="32763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86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 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rExplorer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029200"/>
            <a:ext cx="1676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5" idx="1"/>
            <a:endCxn id="59" idx="3"/>
          </p:cNvCxnSpPr>
          <p:nvPr/>
        </p:nvCxnSpPr>
        <p:spPr>
          <a:xfrm flipH="1">
            <a:off x="2666880" y="243828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57" idx="0"/>
          </p:cNvCxnSpPr>
          <p:nvPr/>
        </p:nvCxnSpPr>
        <p:spPr>
          <a:xfrm>
            <a:off x="1752480" y="2666880"/>
            <a:ext cx="3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3"/>
            <a:endCxn id="60" idx="1"/>
          </p:cNvCxnSpPr>
          <p:nvPr/>
        </p:nvCxnSpPr>
        <p:spPr>
          <a:xfrm>
            <a:off x="2514600" y="4267080"/>
            <a:ext cx="1752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cio un 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657600"/>
            <a:ext cx="20574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8620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502920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0" idx="3"/>
            <a:endCxn id="66" idx="1"/>
          </p:cNvCxnSpPr>
          <p:nvPr/>
        </p:nvCxnSpPr>
        <p:spPr>
          <a:xfrm>
            <a:off x="5715000" y="426708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3T14:14:17Z</dcterms:created>
  <dc:creator>Mario Zambrini</dc:creator>
  <dc:description/>
  <dc:language>en-US</dc:language>
  <cp:lastModifiedBy>Mario Zambrini</cp:lastModifiedBy>
  <dcterms:modified xsi:type="dcterms:W3CDTF">1999-12-23T14:42:56Z</dcterms:modified>
  <cp:revision>2</cp:revision>
  <dc:subject/>
  <dc:title>Nessun titolo diapositiva</dc:title>
</cp:coreProperties>
</file>