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2CD-93B7-4104-ADF9-3A7FBCD3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3EE-0071-408F-AB88-75F136F7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DC7-AF5A-4EB2-8A1B-3DA62153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AE1-2CC9-40F6-88AF-24C122AE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F9E-87EE-41DA-92DE-9BFE8928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834-C3B3-4165-AFAB-FAAE70D8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46C-1DF1-42FB-ADE6-587B4B68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216-E4A4-4F15-8F1F-DFF43FE2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351-7B93-4F95-A9FC-6F1371FA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A20-A571-49F5-9668-2944994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A1E-C09A-4523-8F83-76895FE8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DF5-9690-4E23-842E-01D598E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78D6-19F0-4F6A-9DD0-FFB266AFB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7400" y="1641600"/>
            <a:ext cx="6248520" cy="4997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7360" y="76320"/>
            <a:ext cx="1962360" cy="49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apitolo 4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647640"/>
            <a:ext cx="8915400" cy="876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ccanismi simmetrici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roprietà del PRNG (Golomb, 1967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280" y="3463920"/>
            <a:ext cx="896508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NOBIT e RUN: "In un generatore di bit pseudocasuali di period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numero complessivo di uni e di zeri deve essere circa uguale a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p/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numero complessivo di stringhe di lunghezza l formate da tutti u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o da tutti zeri),deve essere circa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p/2</a:t>
            </a:r>
            <a:r>
              <a:rPr b="1" lang="it-IT" sz="2400" spc="-1" strike="noStrike" baseline="30000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UTOCORRELAZIONE: “traslando d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k&gt;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osizioni verso sinistr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a originaria e confrontando le due stringhe, la funzione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autocorrelazione fuori dalla sequen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ve avere lo stesso val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on diviso da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53520" y="1184400"/>
            <a:ext cx="4863960" cy="1922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i a scorrimento con retro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line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25640" y="1768320"/>
            <a:ext cx="6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187200"/>
            <a:ext cx="8610480" cy="6213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Q: Cifrari a bloc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la rete di Feist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il 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Rijnda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sa sono le modalità di cifratu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Block cip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221120" y="1523880"/>
            <a:ext cx="1249200" cy="2057400"/>
            <a:chOff x="1221120" y="1523880"/>
            <a:chExt cx="1249200" cy="2057400"/>
          </a:xfrm>
        </p:grpSpPr>
        <p:sp>
          <p:nvSpPr>
            <p:cNvPr id="237" name=""/>
            <p:cNvSpPr/>
            <p:nvPr/>
          </p:nvSpPr>
          <p:spPr>
            <a:xfrm>
              <a:off x="1708200" y="2009880"/>
              <a:ext cx="657000" cy="6570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13120" y="26668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21120" y="198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13120" y="15238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27320" y="236232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55920" y="3124080"/>
              <a:ext cx="9144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668680" y="1523880"/>
            <a:ext cx="1249200" cy="2057400"/>
            <a:chOff x="2668680" y="1523880"/>
            <a:chExt cx="1249200" cy="2057400"/>
          </a:xfrm>
        </p:grpSpPr>
        <p:sp>
          <p:nvSpPr>
            <p:cNvPr id="244" name=""/>
            <p:cNvSpPr/>
            <p:nvPr/>
          </p:nvSpPr>
          <p:spPr>
            <a:xfrm>
              <a:off x="2774880" y="23623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56120" y="2009880"/>
              <a:ext cx="657000" cy="6570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60680" y="26668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68680" y="198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60680" y="15238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03480" y="3124080"/>
              <a:ext cx="9144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55920" y="1066680"/>
            <a:ext cx="3809880" cy="457200"/>
            <a:chOff x="1555920" y="1066680"/>
            <a:chExt cx="3809880" cy="457200"/>
          </a:xfrm>
        </p:grpSpPr>
        <p:sp>
          <p:nvSpPr>
            <p:cNvPr id="251" name=""/>
            <p:cNvSpPr/>
            <p:nvPr/>
          </p:nvSpPr>
          <p:spPr>
            <a:xfrm>
              <a:off x="1555920" y="10666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03480" y="10666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51400" y="10666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116600" y="1523880"/>
            <a:ext cx="1249200" cy="2057400"/>
            <a:chOff x="4116600" y="1523880"/>
            <a:chExt cx="1249200" cy="2057400"/>
          </a:xfrm>
        </p:grpSpPr>
        <p:sp>
          <p:nvSpPr>
            <p:cNvPr id="255" name=""/>
            <p:cNvSpPr/>
            <p:nvPr/>
          </p:nvSpPr>
          <p:spPr>
            <a:xfrm>
              <a:off x="4908600" y="26668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03680" y="2009880"/>
              <a:ext cx="657360" cy="6570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16600" y="198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08600" y="15238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22800" y="236232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51400" y="3124080"/>
              <a:ext cx="9144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221120" y="4038480"/>
            <a:ext cx="1249200" cy="2514600"/>
            <a:chOff x="1221120" y="4038480"/>
            <a:chExt cx="1249200" cy="2514600"/>
          </a:xfrm>
        </p:grpSpPr>
        <p:sp>
          <p:nvSpPr>
            <p:cNvPr id="262" name=""/>
            <p:cNvSpPr/>
            <p:nvPr/>
          </p:nvSpPr>
          <p:spPr>
            <a:xfrm>
              <a:off x="1523880" y="60958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08200" y="4981680"/>
              <a:ext cx="657000" cy="6570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13120" y="56386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21120" y="495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13120" y="44956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27320" y="533412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55920" y="4038480"/>
              <a:ext cx="9144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668680" y="4038480"/>
            <a:ext cx="1249200" cy="2514600"/>
            <a:chOff x="2668680" y="4038480"/>
            <a:chExt cx="1249200" cy="2514600"/>
          </a:xfrm>
        </p:grpSpPr>
        <p:sp>
          <p:nvSpPr>
            <p:cNvPr id="270" name=""/>
            <p:cNvSpPr/>
            <p:nvPr/>
          </p:nvSpPr>
          <p:spPr>
            <a:xfrm>
              <a:off x="2774880" y="53341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6120" y="4981680"/>
              <a:ext cx="657000" cy="6570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60958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60680" y="56386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8680" y="495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60680" y="44956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03480" y="4038480"/>
              <a:ext cx="9144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116600" y="4038480"/>
            <a:ext cx="1249200" cy="2514600"/>
            <a:chOff x="4116600" y="4038480"/>
            <a:chExt cx="1249200" cy="2514600"/>
          </a:xfrm>
        </p:grpSpPr>
        <p:sp>
          <p:nvSpPr>
            <p:cNvPr id="278" name=""/>
            <p:cNvSpPr/>
            <p:nvPr/>
          </p:nvSpPr>
          <p:spPr>
            <a:xfrm>
              <a:off x="4908600" y="56386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9720" y="60958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03680" y="4981680"/>
              <a:ext cx="657360" cy="6570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16600" y="495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08600" y="449568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22800" y="533412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51400" y="4038480"/>
              <a:ext cx="9144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867280" y="22860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8098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73440" y="37749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28320" y="2666880"/>
            <a:ext cx="3103560" cy="238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FRATU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), i =1, 2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FRAZIO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)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=1, 2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867280" y="1066680"/>
            <a:ext cx="2895840" cy="457200"/>
            <a:chOff x="5867280" y="1066680"/>
            <a:chExt cx="2895840" cy="457200"/>
          </a:xfrm>
        </p:grpSpPr>
        <p:grpSp>
          <p:nvGrpSpPr>
            <p:cNvPr id="291" name=""/>
            <p:cNvGrpSpPr/>
            <p:nvPr/>
          </p:nvGrpSpPr>
          <p:grpSpPr>
            <a:xfrm>
              <a:off x="7924680" y="1066680"/>
              <a:ext cx="838440" cy="457200"/>
              <a:chOff x="7924680" y="1066680"/>
              <a:chExt cx="838440" cy="457200"/>
            </a:xfrm>
          </p:grpSpPr>
          <p:sp>
            <p:nvSpPr>
              <p:cNvPr id="292" name=""/>
              <p:cNvSpPr/>
              <p:nvPr/>
            </p:nvSpPr>
            <p:spPr>
              <a:xfrm>
                <a:off x="7924680" y="1066680"/>
                <a:ext cx="5335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58200" y="1066680"/>
                <a:ext cx="30492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867280" y="12952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867280" y="6095880"/>
            <a:ext cx="2895840" cy="457200"/>
            <a:chOff x="5867280" y="6095880"/>
            <a:chExt cx="2895840" cy="457200"/>
          </a:xfrm>
        </p:grpSpPr>
        <p:grpSp>
          <p:nvGrpSpPr>
            <p:cNvPr id="296" name=""/>
            <p:cNvGrpSpPr/>
            <p:nvPr/>
          </p:nvGrpSpPr>
          <p:grpSpPr>
            <a:xfrm>
              <a:off x="7924680" y="6095880"/>
              <a:ext cx="838440" cy="457200"/>
              <a:chOff x="7924680" y="6095880"/>
              <a:chExt cx="838440" cy="457200"/>
            </a:xfrm>
          </p:grpSpPr>
          <p:sp>
            <p:nvSpPr>
              <p:cNvPr id="297" name=""/>
              <p:cNvSpPr/>
              <p:nvPr/>
            </p:nvSpPr>
            <p:spPr>
              <a:xfrm>
                <a:off x="7924680" y="6095880"/>
                <a:ext cx="5335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458200" y="6095880"/>
                <a:ext cx="30492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5867280" y="63244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Comic Sans MS"/>
              </a:rPr>
              <a:t>Time to break a code </a:t>
            </a:r>
            <a:br>
              <a:rPr sz="3600"/>
            </a:br>
            <a:r>
              <a:rPr b="1" lang="sv-SE" sz="3600" spc="-1" strike="noStrike">
                <a:solidFill>
                  <a:srgbClr val="000000"/>
                </a:solidFill>
                <a:latin typeface="Comic Sans MS"/>
              </a:rPr>
              <a:t>(10</a:t>
            </a:r>
            <a:r>
              <a:rPr b="1" lang="sv-SE" sz="3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sv-SE" sz="3600" spc="-1" strike="noStrike">
                <a:solidFill>
                  <a:srgbClr val="000000"/>
                </a:solidFill>
                <a:latin typeface="Comic Sans MS"/>
              </a:rPr>
              <a:t> decryptions/µ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105160" cy="5067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68480" y="4495680"/>
            <a:ext cx="3041280" cy="19227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Valutazione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 breve termine (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25: “75 b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ni MIP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14 bit ogni vent’ann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981080"/>
            <a:ext cx="266724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b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chia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4,3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7,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2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3,4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6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3,7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9800" y="3733920"/>
            <a:ext cx="9216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3640" y="3733920"/>
            <a:ext cx="18054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4419720"/>
            <a:ext cx="4191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486400" y="1716120"/>
            <a:ext cx="0" cy="4191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mensione della chi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1240" y="1143000"/>
            <a:ext cx="82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 Cracker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): macchina parallela costata 250.000 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individuato  in meno di 3 giorni una chiave di 56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 una chiave di 168 bit impiegherebbe 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n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440" y="25146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BI, 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portazione solo di crittografia “debole” (40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880" y="3089160"/>
            <a:ext cx="790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56 bit di chiave e 64 bit di blocco): anni '80 e '9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DE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112 o 168 bit di chiave e 64 bit di blocco): anni '9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 da 128 a 256 bit di chiave con blocchi da 128 a 256 bi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jndael, prossimi 30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31880" y="5070600"/>
            <a:ext cx="59202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la chiave segreta deve essere scelta caso (R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frequentemente modificata (R21)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2509920" y="838080"/>
            <a:ext cx="4652640" cy="1653120"/>
            <a:chOff x="2509920" y="838080"/>
            <a:chExt cx="4652640" cy="1653120"/>
          </a:xfrm>
        </p:grpSpPr>
        <p:sp>
          <p:nvSpPr>
            <p:cNvPr id="314" name=""/>
            <p:cNvSpPr/>
            <p:nvPr/>
          </p:nvSpPr>
          <p:spPr>
            <a:xfrm>
              <a:off x="2514600" y="914400"/>
              <a:ext cx="4572000" cy="1523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70720" y="9144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364200" y="838080"/>
              <a:ext cx="3798360" cy="1653120"/>
              <a:chOff x="3364200" y="838080"/>
              <a:chExt cx="3798360" cy="165312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3504960" y="838080"/>
                <a:ext cx="3657600" cy="1508400"/>
                <a:chOff x="3504960" y="838080"/>
                <a:chExt cx="3657600" cy="15084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3504960" y="1249200"/>
                  <a:ext cx="533520" cy="479880"/>
                </a:xfrm>
                <a:prstGeom prst="octagon">
                  <a:avLst>
                    <a:gd name="adj" fmla="val 2928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724280" y="1249200"/>
                  <a:ext cx="533520" cy="479880"/>
                </a:xfrm>
                <a:prstGeom prst="octagon">
                  <a:avLst>
                    <a:gd name="adj" fmla="val 2928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038120" y="14551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5257440" y="14551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806640" y="838080"/>
                  <a:ext cx="3240" cy="4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809880" y="838080"/>
                  <a:ext cx="2133720" cy="1508400"/>
                </a:xfrm>
                <a:custGeom>
                  <a:avLst/>
                  <a:gdLst/>
                  <a:ahLst/>
                  <a:rect l="l" t="t" r="r" b="b"/>
                  <a:pathLst>
                    <a:path w="1344" h="1056">
                      <a:moveTo>
                        <a:pt x="1344" y="0"/>
                      </a:moveTo>
                      <a:lnTo>
                        <a:pt x="1344" y="672"/>
                      </a:lnTo>
                      <a:lnTo>
                        <a:pt x="0" y="960"/>
                      </a:lnTo>
                      <a:lnTo>
                        <a:pt x="0" y="10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809880" y="1729440"/>
                  <a:ext cx="2133720" cy="617040"/>
                </a:xfrm>
                <a:custGeom>
                  <a:avLst/>
                  <a:gdLst/>
                  <a:ahLst/>
                  <a:rect l="l" t="t" r="r" b="b"/>
                  <a:pathLst>
                    <a:path w="1344" h="43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344" y="336"/>
                      </a:lnTo>
                      <a:lnTo>
                        <a:pt x="1344" y="4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952880" y="974880"/>
                  <a:ext cx="2209680" cy="274320"/>
                </a:xfrm>
                <a:custGeom>
                  <a:avLst/>
                  <a:gdLst/>
                  <a:ahLst/>
                  <a:rect l="l" t="t" r="r" b="b"/>
                  <a:pathLst>
                    <a:path w="1392" h="192">
                      <a:moveTo>
                        <a:pt x="0" y="192"/>
                      </a:moveTo>
                      <a:lnTo>
                        <a:pt x="0" y="0"/>
                      </a:lnTo>
                      <a:lnTo>
                        <a:pt x="1392" y="0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926320" y="19810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64200" y="1981080"/>
                <a:ext cx="45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509920" y="914400"/>
              <a:ext cx="992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516400" y="4343400"/>
            <a:ext cx="4652640" cy="1653120"/>
            <a:chOff x="2516400" y="4343400"/>
            <a:chExt cx="4652640" cy="1653120"/>
          </a:xfrm>
        </p:grpSpPr>
        <p:sp>
          <p:nvSpPr>
            <p:cNvPr id="330" name=""/>
            <p:cNvSpPr/>
            <p:nvPr/>
          </p:nvSpPr>
          <p:spPr>
            <a:xfrm>
              <a:off x="2521080" y="4419720"/>
              <a:ext cx="4572000" cy="1523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77200" y="4419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370680" y="4343400"/>
              <a:ext cx="3798360" cy="1653120"/>
              <a:chOff x="3370680" y="4343400"/>
              <a:chExt cx="3798360" cy="165312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3511440" y="4343400"/>
                <a:ext cx="3657600" cy="1508400"/>
                <a:chOff x="3511440" y="4343400"/>
                <a:chExt cx="3657600" cy="15084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511440" y="4754520"/>
                  <a:ext cx="533520" cy="479880"/>
                </a:xfrm>
                <a:prstGeom prst="octagon">
                  <a:avLst>
                    <a:gd name="adj" fmla="val 2928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730760" y="4754520"/>
                  <a:ext cx="533520" cy="479880"/>
                </a:xfrm>
                <a:prstGeom prst="octagon">
                  <a:avLst>
                    <a:gd name="adj" fmla="val 2928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4044600" y="49604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5263920" y="49604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813120" y="4343400"/>
                  <a:ext cx="3240" cy="4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816360" y="4343400"/>
                  <a:ext cx="2133720" cy="1508400"/>
                </a:xfrm>
                <a:custGeom>
                  <a:avLst/>
                  <a:gdLst/>
                  <a:ahLst/>
                  <a:rect l="l" t="t" r="r" b="b"/>
                  <a:pathLst>
                    <a:path w="1344" h="1056">
                      <a:moveTo>
                        <a:pt x="1344" y="0"/>
                      </a:moveTo>
                      <a:lnTo>
                        <a:pt x="1344" y="672"/>
                      </a:lnTo>
                      <a:lnTo>
                        <a:pt x="0" y="960"/>
                      </a:lnTo>
                      <a:lnTo>
                        <a:pt x="0" y="10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6360" y="5234760"/>
                  <a:ext cx="2133720" cy="617040"/>
                </a:xfrm>
                <a:custGeom>
                  <a:avLst/>
                  <a:gdLst/>
                  <a:ahLst/>
                  <a:rect l="l" t="t" r="r" b="b"/>
                  <a:pathLst>
                    <a:path w="1344" h="43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344" y="336"/>
                      </a:lnTo>
                      <a:lnTo>
                        <a:pt x="1344" y="4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959360" y="4480200"/>
                  <a:ext cx="2209680" cy="274320"/>
                </a:xfrm>
                <a:custGeom>
                  <a:avLst/>
                  <a:gdLst/>
                  <a:ahLst/>
                  <a:rect l="l" t="t" r="r" b="b"/>
                  <a:pathLst>
                    <a:path w="1392" h="192">
                      <a:moveTo>
                        <a:pt x="0" y="192"/>
                      </a:moveTo>
                      <a:lnTo>
                        <a:pt x="0" y="0"/>
                      </a:lnTo>
                      <a:lnTo>
                        <a:pt x="1392" y="0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32800" y="54864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70680" y="5486400"/>
                <a:ext cx="45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2516400" y="4419720"/>
              <a:ext cx="992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162920" y="228600"/>
            <a:ext cx="1904760" cy="5181480"/>
            <a:chOff x="7162920" y="228600"/>
            <a:chExt cx="1904760" cy="5181480"/>
          </a:xfrm>
        </p:grpSpPr>
        <p:sp>
          <p:nvSpPr>
            <p:cNvPr id="346" name=""/>
            <p:cNvSpPr/>
            <p:nvPr/>
          </p:nvSpPr>
          <p:spPr>
            <a:xfrm>
              <a:off x="7238880" y="228600"/>
              <a:ext cx="1828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838080"/>
              <a:ext cx="1904760" cy="457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b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lgorith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76960" y="6094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345120" y="228600"/>
            <a:ext cx="3053160" cy="815040"/>
            <a:chOff x="3345120" y="228600"/>
            <a:chExt cx="3053160" cy="815040"/>
          </a:xfrm>
        </p:grpSpPr>
        <p:sp>
          <p:nvSpPr>
            <p:cNvPr id="350" name=""/>
            <p:cNvSpPr/>
            <p:nvPr/>
          </p:nvSpPr>
          <p:spPr>
            <a:xfrm>
              <a:off x="4038480" y="228600"/>
              <a:ext cx="1828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laintext (2w b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345120" y="533520"/>
              <a:ext cx="3053160" cy="510120"/>
              <a:chOff x="3345120" y="533520"/>
              <a:chExt cx="3053160" cy="510120"/>
            </a:xfrm>
          </p:grpSpPr>
          <p:sp>
            <p:nvSpPr>
              <p:cNvPr id="352" name=""/>
              <p:cNvSpPr/>
              <p:nvPr/>
            </p:nvSpPr>
            <p:spPr>
              <a:xfrm>
                <a:off x="3809880" y="609480"/>
                <a:ext cx="1066680" cy="228600"/>
              </a:xfrm>
              <a:custGeom>
                <a:avLst/>
                <a:gdLst/>
                <a:ahLst/>
                <a:rect l="l" t="t" r="r" b="b"/>
                <a:pathLst>
                  <a:path w="672" h="144">
                    <a:moveTo>
                      <a:pt x="672" y="0"/>
                    </a:moveTo>
                    <a:lnTo>
                      <a:pt x="67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029200" y="60948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672" h="144">
                    <a:moveTo>
                      <a:pt x="672" y="0"/>
                    </a:moveTo>
                    <a:lnTo>
                      <a:pt x="67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26320" y="5335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345120" y="533520"/>
                <a:ext cx="45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3809880" y="5815080"/>
            <a:ext cx="2209680" cy="914400"/>
            <a:chOff x="3809880" y="5815080"/>
            <a:chExt cx="2209680" cy="914400"/>
          </a:xfrm>
        </p:grpSpPr>
        <p:sp>
          <p:nvSpPr>
            <p:cNvPr id="357" name=""/>
            <p:cNvSpPr/>
            <p:nvPr/>
          </p:nvSpPr>
          <p:spPr>
            <a:xfrm>
              <a:off x="3886200" y="6348240"/>
              <a:ext cx="213336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Ciphertext (2w b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09880" y="5815080"/>
              <a:ext cx="12193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lnTo>
                    <a:pt x="768" y="192"/>
                  </a:lnTo>
                  <a:lnTo>
                    <a:pt x="768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876560" y="5815080"/>
              <a:ext cx="106704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lnTo>
                    <a:pt x="768" y="192"/>
                  </a:lnTo>
                  <a:lnTo>
                    <a:pt x="768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516400" y="2590920"/>
            <a:ext cx="4652640" cy="1653120"/>
            <a:chOff x="2516400" y="2590920"/>
            <a:chExt cx="4652640" cy="1653120"/>
          </a:xfrm>
        </p:grpSpPr>
        <p:sp>
          <p:nvSpPr>
            <p:cNvPr id="361" name=""/>
            <p:cNvSpPr/>
            <p:nvPr/>
          </p:nvSpPr>
          <p:spPr>
            <a:xfrm>
              <a:off x="2521080" y="2667240"/>
              <a:ext cx="4572000" cy="1523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97360" y="26672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390480" y="2590920"/>
              <a:ext cx="3778560" cy="1653120"/>
              <a:chOff x="3390480" y="2590920"/>
              <a:chExt cx="3778560" cy="165312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3511440" y="2590920"/>
                <a:ext cx="3657600" cy="1508400"/>
                <a:chOff x="3511440" y="2590920"/>
                <a:chExt cx="3657600" cy="15084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511440" y="3002040"/>
                  <a:ext cx="533520" cy="479880"/>
                </a:xfrm>
                <a:prstGeom prst="octagon">
                  <a:avLst>
                    <a:gd name="adj" fmla="val 2928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730760" y="3002040"/>
                  <a:ext cx="533520" cy="479880"/>
                </a:xfrm>
                <a:prstGeom prst="octagon">
                  <a:avLst>
                    <a:gd name="adj" fmla="val 2928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4044600" y="32079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5263920" y="32079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813120" y="2590920"/>
                  <a:ext cx="3240" cy="4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816360" y="2590920"/>
                  <a:ext cx="2133720" cy="1508400"/>
                </a:xfrm>
                <a:custGeom>
                  <a:avLst/>
                  <a:gdLst/>
                  <a:ahLst/>
                  <a:rect l="l" t="t" r="r" b="b"/>
                  <a:pathLst>
                    <a:path w="1344" h="1056">
                      <a:moveTo>
                        <a:pt x="1344" y="0"/>
                      </a:moveTo>
                      <a:lnTo>
                        <a:pt x="1344" y="672"/>
                      </a:lnTo>
                      <a:lnTo>
                        <a:pt x="0" y="960"/>
                      </a:lnTo>
                      <a:lnTo>
                        <a:pt x="0" y="10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816360" y="3482280"/>
                  <a:ext cx="2133720" cy="617040"/>
                </a:xfrm>
                <a:custGeom>
                  <a:avLst/>
                  <a:gdLst/>
                  <a:ahLst/>
                  <a:rect l="l" t="t" r="r" b="b"/>
                  <a:pathLst>
                    <a:path w="1344" h="43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344" y="336"/>
                      </a:lnTo>
                      <a:lnTo>
                        <a:pt x="1344" y="4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959360" y="2727720"/>
                  <a:ext cx="2209680" cy="274320"/>
                </a:xfrm>
                <a:custGeom>
                  <a:avLst/>
                  <a:gdLst/>
                  <a:ahLst/>
                  <a:rect l="l" t="t" r="r" b="b"/>
                  <a:pathLst>
                    <a:path w="1392" h="192">
                      <a:moveTo>
                        <a:pt x="0" y="192"/>
                      </a:moveTo>
                      <a:lnTo>
                        <a:pt x="0" y="0"/>
                      </a:lnTo>
                      <a:lnTo>
                        <a:pt x="1392" y="0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5952960" y="3733920"/>
                <a:ext cx="432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90480" y="3733920"/>
                <a:ext cx="41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516400" y="2667240"/>
              <a:ext cx="992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a rete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di Feist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3120" y="2971800"/>
            <a:ext cx="235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(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2446560" y="3962520"/>
            <a:ext cx="4652640" cy="1653120"/>
            <a:chOff x="2446560" y="3962520"/>
            <a:chExt cx="4652640" cy="1653120"/>
          </a:xfrm>
        </p:grpSpPr>
        <p:sp>
          <p:nvSpPr>
            <p:cNvPr id="379" name=""/>
            <p:cNvSpPr/>
            <p:nvPr/>
          </p:nvSpPr>
          <p:spPr>
            <a:xfrm>
              <a:off x="2451240" y="4038480"/>
              <a:ext cx="4572000" cy="1524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7360" y="4038480"/>
              <a:ext cx="421560" cy="510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3300840" y="3962520"/>
              <a:ext cx="3798360" cy="1653120"/>
              <a:chOff x="3300840" y="3962520"/>
              <a:chExt cx="3798360" cy="16531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441600" y="3962520"/>
                <a:ext cx="3657600" cy="1508400"/>
                <a:chOff x="3441600" y="3962520"/>
                <a:chExt cx="3657600" cy="15084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441600" y="4373640"/>
                  <a:ext cx="533520" cy="479880"/>
                </a:xfrm>
                <a:prstGeom prst="octagon">
                  <a:avLst>
                    <a:gd name="adj" fmla="val 2928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660920" y="4373640"/>
                  <a:ext cx="533520" cy="479880"/>
                </a:xfrm>
                <a:prstGeom prst="octagon">
                  <a:avLst>
                    <a:gd name="adj" fmla="val 2928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3974760" y="45795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5194080" y="45795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743280" y="3962520"/>
                  <a:ext cx="3240" cy="4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746520" y="3962520"/>
                  <a:ext cx="2133720" cy="1508400"/>
                </a:xfrm>
                <a:custGeom>
                  <a:avLst/>
                  <a:gdLst/>
                  <a:ahLst/>
                  <a:rect l="l" t="t" r="r" b="b"/>
                  <a:pathLst>
                    <a:path w="1344" h="1056">
                      <a:moveTo>
                        <a:pt x="1344" y="0"/>
                      </a:moveTo>
                      <a:lnTo>
                        <a:pt x="1344" y="672"/>
                      </a:lnTo>
                      <a:lnTo>
                        <a:pt x="0" y="960"/>
                      </a:lnTo>
                      <a:lnTo>
                        <a:pt x="0" y="10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746520" y="4853880"/>
                  <a:ext cx="2133720" cy="617040"/>
                </a:xfrm>
                <a:custGeom>
                  <a:avLst/>
                  <a:gdLst/>
                  <a:ahLst/>
                  <a:rect l="l" t="t" r="r" b="b"/>
                  <a:pathLst>
                    <a:path w="1344" h="43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344" y="336"/>
                      </a:lnTo>
                      <a:lnTo>
                        <a:pt x="1344" y="4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889520" y="4099320"/>
                  <a:ext cx="2209680" cy="274320"/>
                </a:xfrm>
                <a:custGeom>
                  <a:avLst/>
                  <a:gdLst/>
                  <a:ahLst/>
                  <a:rect l="l" t="t" r="r" b="b"/>
                  <a:pathLst>
                    <a:path w="1392" h="192">
                      <a:moveTo>
                        <a:pt x="0" y="192"/>
                      </a:moveTo>
                      <a:lnTo>
                        <a:pt x="0" y="0"/>
                      </a:lnTo>
                      <a:lnTo>
                        <a:pt x="1392" y="0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5862960" y="51055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00840" y="5105520"/>
                <a:ext cx="45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446560" y="4038480"/>
              <a:ext cx="992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281760" y="3657600"/>
            <a:ext cx="3053160" cy="510120"/>
            <a:chOff x="3281760" y="3657600"/>
            <a:chExt cx="3053160" cy="510120"/>
          </a:xfrm>
        </p:grpSpPr>
        <p:sp>
          <p:nvSpPr>
            <p:cNvPr id="395" name=""/>
            <p:cNvSpPr/>
            <p:nvPr/>
          </p:nvSpPr>
          <p:spPr>
            <a:xfrm>
              <a:off x="3746520" y="3733560"/>
              <a:ext cx="106668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72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965840" y="3733560"/>
              <a:ext cx="91440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72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2960" y="3657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81760" y="3657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eti di Feistel: Cifratura/Decifr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000" y="3048120"/>
            <a:ext cx="3353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-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F(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-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440080" y="727200"/>
            <a:ext cx="4652640" cy="2876760"/>
            <a:chOff x="2440080" y="727200"/>
            <a:chExt cx="4652640" cy="2876760"/>
          </a:xfrm>
        </p:grpSpPr>
        <p:grpSp>
          <p:nvGrpSpPr>
            <p:cNvPr id="402" name=""/>
            <p:cNvGrpSpPr/>
            <p:nvPr/>
          </p:nvGrpSpPr>
          <p:grpSpPr>
            <a:xfrm>
              <a:off x="2440080" y="1218960"/>
              <a:ext cx="4652640" cy="2385000"/>
              <a:chOff x="2440080" y="1218960"/>
              <a:chExt cx="4652640" cy="238500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2440080" y="1218960"/>
                <a:ext cx="4652640" cy="1652760"/>
                <a:chOff x="2440080" y="1218960"/>
                <a:chExt cx="4652640" cy="16527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444760" y="1294920"/>
                  <a:ext cx="4572000" cy="152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00880" y="1294920"/>
                  <a:ext cx="42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" name=""/>
                <p:cNvGrpSpPr/>
                <p:nvPr/>
              </p:nvGrpSpPr>
              <p:grpSpPr>
                <a:xfrm>
                  <a:off x="3294360" y="1218960"/>
                  <a:ext cx="3798360" cy="1652760"/>
                  <a:chOff x="3294360" y="1218960"/>
                  <a:chExt cx="3798360" cy="1652760"/>
                </a:xfrm>
              </p:grpSpPr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3435120" y="1218960"/>
                    <a:ext cx="3657600" cy="1508040"/>
                    <a:chOff x="3435120" y="1218960"/>
                    <a:chExt cx="3657600" cy="15080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3435120" y="1630080"/>
                      <a:ext cx="533520" cy="479880"/>
                    </a:xfrm>
                    <a:prstGeom prst="octagon">
                      <a:avLst>
                        <a:gd name="adj" fmla="val 29287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4654440" y="1630080"/>
                      <a:ext cx="533520" cy="479880"/>
                    </a:xfrm>
                    <a:prstGeom prst="octagon">
                      <a:avLst>
                        <a:gd name="adj" fmla="val 29287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H="1">
                      <a:off x="3968280" y="18356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>
                      <a:off x="5187600" y="18356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oval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3736800" y="1218960"/>
                      <a:ext cx="3240" cy="41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3740040" y="1218960"/>
                      <a:ext cx="2133720" cy="150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4" h="1056">
                          <a:moveTo>
                            <a:pt x="1344" y="0"/>
                          </a:moveTo>
                          <a:lnTo>
                            <a:pt x="1344" y="672"/>
                          </a:lnTo>
                          <a:lnTo>
                            <a:pt x="0" y="960"/>
                          </a:lnTo>
                          <a:lnTo>
                            <a:pt x="0" y="105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3740040" y="2109960"/>
                      <a:ext cx="2133720" cy="61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4" h="432">
                          <a:moveTo>
                            <a:pt x="0" y="0"/>
                          </a:moveTo>
                          <a:lnTo>
                            <a:pt x="0" y="48"/>
                          </a:lnTo>
                          <a:lnTo>
                            <a:pt x="1344" y="336"/>
                          </a:lnTo>
                          <a:lnTo>
                            <a:pt x="1344" y="43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4883040" y="1355760"/>
                      <a:ext cx="2209680" cy="27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2" h="192">
                          <a:moveTo>
                            <a:pt x="0" y="192"/>
                          </a:moveTo>
                          <a:lnTo>
                            <a:pt x="0" y="0"/>
                          </a:lnTo>
                          <a:lnTo>
                            <a:pt x="1392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ff3300"/>
                      </a:solidFill>
                      <a:round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>
                    <a:off x="5856480" y="2361600"/>
                    <a:ext cx="4719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r>
                      <a:rPr b="0" lang="it-IT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94360" y="2361600"/>
                    <a:ext cx="4550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r>
                      <a:rPr b="0" lang="it-IT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>
                  <a:off x="2440080" y="1294920"/>
                  <a:ext cx="9928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ou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3733920" y="2690280"/>
                <a:ext cx="2209680" cy="913680"/>
                <a:chOff x="3733920" y="2690280"/>
                <a:chExt cx="2209680" cy="9136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810240" y="3223080"/>
                  <a:ext cx="213336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Ciphertext (2w bit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733920" y="2690280"/>
                  <a:ext cx="1219320" cy="532800"/>
                </a:xfrm>
                <a:custGeom>
                  <a:avLst/>
                  <a:gdLst/>
                  <a:ahLst/>
                  <a:rect l="l" t="t" r="r" b="b"/>
                  <a:pathLst>
                    <a:path w="768" h="336">
                      <a:moveTo>
                        <a:pt x="0" y="0"/>
                      </a:moveTo>
                      <a:lnTo>
                        <a:pt x="768" y="192"/>
                      </a:lnTo>
                      <a:lnTo>
                        <a:pt x="768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>
                  <a:off x="4800600" y="2690280"/>
                  <a:ext cx="1067040" cy="532800"/>
                </a:xfrm>
                <a:custGeom>
                  <a:avLst/>
                  <a:gdLst/>
                  <a:ahLst/>
                  <a:rect l="l" t="t" r="r" b="b"/>
                  <a:pathLst>
                    <a:path w="768" h="336">
                      <a:moveTo>
                        <a:pt x="0" y="0"/>
                      </a:moveTo>
                      <a:lnTo>
                        <a:pt x="768" y="192"/>
                      </a:lnTo>
                      <a:lnTo>
                        <a:pt x="768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3" name=""/>
            <p:cNvSpPr/>
            <p:nvPr/>
          </p:nvSpPr>
          <p:spPr>
            <a:xfrm>
              <a:off x="3388680" y="727200"/>
              <a:ext cx="266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n-1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62440" y="5813280"/>
            <a:ext cx="7293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n-1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F(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[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-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F(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F(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n-1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eistel Ciphe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ock siz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r block sizes mean grea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ey Siz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r key size means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grea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Number of rounds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multiple rounds offer increas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Subkey generation algorithm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greater complexity will lead to greater difficulty of crypt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Fast software encryption/decryption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he speed of execution of the algorithm becomes a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228760" y="181080"/>
          <a:ext cx="4686480" cy="649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81080"/>
                    <a:ext cx="468648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4800600" y="5029200"/>
            <a:ext cx="4191120" cy="914400"/>
            <a:chOff x="4800600" y="5029200"/>
            <a:chExt cx="4191120" cy="914400"/>
          </a:xfrm>
        </p:grpSpPr>
        <p:sp>
          <p:nvSpPr>
            <p:cNvPr id="430" name=""/>
            <p:cNvSpPr/>
            <p:nvPr/>
          </p:nvSpPr>
          <p:spPr>
            <a:xfrm>
              <a:off x="4800600" y="5029200"/>
              <a:ext cx="12193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48520" y="5029200"/>
              <a:ext cx="121896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6080" y="5029200"/>
              <a:ext cx="1295640" cy="9144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1992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6748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205360" y="3048120"/>
            <a:ext cx="47253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SI: 120 milioni di byte al sec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: 100 mila byte al sec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rcRect l="590" t="2953" r="590" b="2953"/>
          <a:stretch/>
        </p:blipFill>
        <p:spPr>
          <a:xfrm>
            <a:off x="31680" y="228600"/>
            <a:ext cx="9036000" cy="645156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228600" y="1143000"/>
            <a:ext cx="8381880" cy="4419720"/>
            <a:chOff x="228600" y="1143000"/>
            <a:chExt cx="8381880" cy="4419720"/>
          </a:xfrm>
        </p:grpSpPr>
        <p:sp>
          <p:nvSpPr>
            <p:cNvPr id="438" name=""/>
            <p:cNvSpPr/>
            <p:nvPr/>
          </p:nvSpPr>
          <p:spPr>
            <a:xfrm>
              <a:off x="5486400" y="1143000"/>
              <a:ext cx="3124080" cy="441972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round sulla chi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600" y="1143000"/>
              <a:ext cx="4724280" cy="441972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cc99"/>
                  </a:solidFill>
                  <a:latin typeface="Times New Roman"/>
                </a:rPr>
                <a:t>round sul bloc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l cifrario simmetric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729160" y="3089160"/>
            <a:ext cx="3746160" cy="1253880"/>
            <a:chOff x="2729160" y="3089160"/>
            <a:chExt cx="3746160" cy="1253880"/>
          </a:xfrm>
        </p:grpSpPr>
        <p:grpSp>
          <p:nvGrpSpPr>
            <p:cNvPr id="46" name=""/>
            <p:cNvGrpSpPr/>
            <p:nvPr/>
          </p:nvGrpSpPr>
          <p:grpSpPr>
            <a:xfrm>
              <a:off x="2729160" y="3089160"/>
              <a:ext cx="333000" cy="1253880"/>
              <a:chOff x="2729160" y="3089160"/>
              <a:chExt cx="333000" cy="1253880"/>
            </a:xfrm>
          </p:grpSpPr>
          <p:sp>
            <p:nvSpPr>
              <p:cNvPr id="47" name=""/>
              <p:cNvSpPr/>
              <p:nvPr/>
            </p:nvSpPr>
            <p:spPr>
              <a:xfrm>
                <a:off x="2895480" y="3657240"/>
                <a:ext cx="0" cy="685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29160" y="3089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6142320" y="3089160"/>
              <a:ext cx="333000" cy="1253880"/>
              <a:chOff x="6142320" y="3089160"/>
              <a:chExt cx="333000" cy="1253880"/>
            </a:xfrm>
          </p:grpSpPr>
          <p:sp>
            <p:nvSpPr>
              <p:cNvPr id="50" name=""/>
              <p:cNvSpPr/>
              <p:nvPr/>
            </p:nvSpPr>
            <p:spPr>
              <a:xfrm>
                <a:off x="6308640" y="3657240"/>
                <a:ext cx="0" cy="685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142320" y="3089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3200400" y="1066680"/>
            <a:ext cx="2666880" cy="1752840"/>
          </a:xfrm>
          <a:prstGeom prst="cloudCallout">
            <a:avLst>
              <a:gd name="adj1" fmla="val 2379"/>
              <a:gd name="adj2" fmla="val 15018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erva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18080" y="5730840"/>
            <a:ext cx="5271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ola c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) e trasmette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ola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=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)) =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38080" y="4114800"/>
            <a:ext cx="7467840" cy="1143000"/>
            <a:chOff x="838080" y="4114800"/>
            <a:chExt cx="7467840" cy="1143000"/>
          </a:xfrm>
        </p:grpSpPr>
        <p:sp>
          <p:nvSpPr>
            <p:cNvPr id="55" name=""/>
            <p:cNvSpPr/>
            <p:nvPr/>
          </p:nvSpPr>
          <p:spPr>
            <a:xfrm>
              <a:off x="1752480" y="48006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4343400"/>
              <a:ext cx="838440" cy="914400"/>
            </a:xfrm>
            <a:prstGeom prst="octagon">
              <a:avLst>
                <a:gd name="adj" fmla="val 29287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4343400"/>
              <a:ext cx="91440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91520" y="4343400"/>
              <a:ext cx="91440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67280" y="4343400"/>
              <a:ext cx="838440" cy="914400"/>
            </a:xfrm>
            <a:prstGeom prst="octagon">
              <a:avLst>
                <a:gd name="adj" fmla="val 2928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05720" y="48006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720" y="480060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4114800"/>
              <a:ext cx="533520" cy="53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81680" y="4114800"/>
              <a:ext cx="533520" cy="53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4114800"/>
              <a:ext cx="533520" cy="53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2120" y="2438280"/>
            <a:ext cx="7619760" cy="3276720"/>
            <a:chOff x="762120" y="2438280"/>
            <a:chExt cx="7619760" cy="3276720"/>
          </a:xfrm>
        </p:grpSpPr>
        <p:sp>
          <p:nvSpPr>
            <p:cNvPr id="66" name=""/>
            <p:cNvSpPr/>
            <p:nvPr/>
          </p:nvSpPr>
          <p:spPr>
            <a:xfrm>
              <a:off x="5958000" y="2438280"/>
              <a:ext cx="2423880" cy="1067040"/>
            </a:xfrm>
            <a:prstGeom prst="cloudCallout">
              <a:avLst>
                <a:gd name="adj1" fmla="val -95513"/>
                <a:gd name="adj2" fmla="val 12842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entic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2120" y="2438280"/>
              <a:ext cx="2423880" cy="1067040"/>
            </a:xfrm>
            <a:prstGeom prst="cloudCallout">
              <a:avLst>
                <a:gd name="adj1" fmla="val 97796"/>
                <a:gd name="adj2" fmla="val 129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entific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6200" y="5105520"/>
              <a:ext cx="1447920" cy="609480"/>
            </a:xfrm>
            <a:prstGeom prst="cloudCallout">
              <a:avLst>
                <a:gd name="adj1" fmla="val 1972"/>
                <a:gd name="adj2" fmla="val -1268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rittanalisi differenziale e line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666880" y="3063960"/>
            <a:ext cx="3886200" cy="1508040"/>
            <a:chOff x="2666880" y="3063960"/>
            <a:chExt cx="3886200" cy="1508040"/>
          </a:xfrm>
        </p:grpSpPr>
        <p:sp>
          <p:nvSpPr>
            <p:cNvPr id="442" name=""/>
            <p:cNvSpPr/>
            <p:nvPr/>
          </p:nvSpPr>
          <p:spPr>
            <a:xfrm>
              <a:off x="2666880" y="3139920"/>
              <a:ext cx="3124080" cy="121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2895480" y="3063960"/>
              <a:ext cx="3657600" cy="1508040"/>
              <a:chOff x="2895480" y="3063960"/>
              <a:chExt cx="3657600" cy="150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95480" y="3475080"/>
                <a:ext cx="533520" cy="479880"/>
              </a:xfrm>
              <a:prstGeom prst="octagon">
                <a:avLst>
                  <a:gd name="adj" fmla="val 2928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114800" y="3475080"/>
                <a:ext cx="533520" cy="479880"/>
              </a:xfrm>
              <a:prstGeom prst="octagon">
                <a:avLst>
                  <a:gd name="adj" fmla="val 2928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428640" y="36806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647960" y="36806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97160" y="3063960"/>
                <a:ext cx="324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00400" y="3063960"/>
                <a:ext cx="2133720" cy="1508040"/>
              </a:xfrm>
              <a:custGeom>
                <a:avLst/>
                <a:gdLst/>
                <a:ahLst/>
                <a:rect l="l" t="t" r="r" b="b"/>
                <a:pathLst>
                  <a:path w="1344" h="1056">
                    <a:moveTo>
                      <a:pt x="1344" y="0"/>
                    </a:moveTo>
                    <a:lnTo>
                      <a:pt x="1344" y="672"/>
                    </a:lnTo>
                    <a:lnTo>
                      <a:pt x="0" y="960"/>
                    </a:lnTo>
                    <a:lnTo>
                      <a:pt x="0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00400" y="3954960"/>
                <a:ext cx="2133720" cy="616680"/>
              </a:xfrm>
              <a:custGeom>
                <a:avLst/>
                <a:gdLst/>
                <a:ahLst/>
                <a:rect l="l" t="t" r="r" b="b"/>
                <a:pathLst>
                  <a:path w="1344" h="432">
                    <a:moveTo>
                      <a:pt x="0" y="0"/>
                    </a:moveTo>
                    <a:lnTo>
                      <a:pt x="0" y="48"/>
                    </a:lnTo>
                    <a:lnTo>
                      <a:pt x="1344" y="336"/>
                    </a:lnTo>
                    <a:lnTo>
                      <a:pt x="1344" y="4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43400" y="3200760"/>
                <a:ext cx="2209680" cy="273960"/>
              </a:xfrm>
              <a:custGeom>
                <a:avLst/>
                <a:gdLst/>
                <a:ahLst/>
                <a:rect l="l" t="t" r="r" b="b"/>
                <a:pathLst>
                  <a:path w="1392" h="192">
                    <a:moveTo>
                      <a:pt x="0" y="192"/>
                    </a:moveTo>
                    <a:lnTo>
                      <a:pt x="0" y="0"/>
                    </a:lnTo>
                    <a:lnTo>
                      <a:pt x="1392" y="0"/>
                    </a:ln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"/>
          <p:cNvSpPr txBox="1"/>
          <p:nvPr/>
        </p:nvSpPr>
        <p:spPr>
          <a:xfrm>
            <a:off x="6019920" y="2835360"/>
            <a:ext cx="51912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58320" y="955800"/>
            <a:ext cx="85914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tanalisi differenzi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erca coppie di testo in chiaro scelto la c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fferenza si riscontri identica anche sull’uscita della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680" y="1920960"/>
            <a:ext cx="812988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ittanalisi linea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erca coppie con testo in chiaro noto con c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struire una approssimazione lineare della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95720" y="3505320"/>
            <a:ext cx="21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p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9080" y="35053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L: rot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04920" y="4876920"/>
            <a:ext cx="1981080" cy="1676160"/>
            <a:chOff x="304920" y="4876920"/>
            <a:chExt cx="1981080" cy="1676160"/>
          </a:xfrm>
        </p:grpSpPr>
        <p:sp>
          <p:nvSpPr>
            <p:cNvPr id="458" name=""/>
            <p:cNvSpPr/>
            <p:nvPr/>
          </p:nvSpPr>
          <p:spPr>
            <a:xfrm>
              <a:off x="1295280" y="4876920"/>
              <a:ext cx="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3372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00200" y="5029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04920" y="4876920"/>
              <a:ext cx="1981080" cy="1676160"/>
              <a:chOff x="304920" y="4876920"/>
              <a:chExt cx="1981080" cy="1676160"/>
            </a:xfrm>
          </p:grpSpPr>
          <p:sp>
            <p:nvSpPr>
              <p:cNvPr id="464" name=""/>
              <p:cNvSpPr/>
              <p:nvPr/>
            </p:nvSpPr>
            <p:spPr>
              <a:xfrm>
                <a:off x="304920" y="5257800"/>
                <a:ext cx="1981080" cy="91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380880" y="4876920"/>
                <a:ext cx="762120" cy="380880"/>
                <a:chOff x="380880" y="4876920"/>
                <a:chExt cx="762120" cy="380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80880" y="4876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33520" y="4876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85800" y="4876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143000" y="4876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2120" y="50292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380880" y="6172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3520" y="6172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5800" y="6172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295280" y="6172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81080" y="6172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133720" y="6172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000" y="6172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447920" y="6172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62120" y="63244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600200" y="6324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2507040" y="5181480"/>
            <a:ext cx="623700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tendo un bit d’ingr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 bit d’uscita si modificano con  p = 0,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 modificano 2 bit d’uscita non prevedi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 modificano da 2 a 5 bit d’usc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successori del 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0" y="2057400"/>
            <a:ext cx="4419360" cy="1752480"/>
            <a:chOff x="0" y="2057400"/>
            <a:chExt cx="4419360" cy="1752480"/>
          </a:xfrm>
        </p:grpSpPr>
        <p:sp>
          <p:nvSpPr>
            <p:cNvPr id="484" name=""/>
            <p:cNvSpPr/>
            <p:nvPr/>
          </p:nvSpPr>
          <p:spPr>
            <a:xfrm>
              <a:off x="762120" y="3314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2781360"/>
              <a:ext cx="838080" cy="102852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219320" y="2057400"/>
              <a:ext cx="1066680" cy="1593720"/>
              <a:chOff x="1219320" y="2057400"/>
              <a:chExt cx="1066680" cy="159372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1219320" y="2514600"/>
                <a:ext cx="1066680" cy="1136520"/>
                <a:chOff x="1219320" y="2514600"/>
                <a:chExt cx="1066680" cy="11365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1905120" y="32986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219320" y="29941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523880" y="25146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1303560" y="20574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286000" y="2057400"/>
              <a:ext cx="1066680" cy="1593720"/>
              <a:chOff x="2286000" y="2057400"/>
              <a:chExt cx="1066680" cy="159372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286000" y="2514600"/>
                <a:ext cx="1066680" cy="1136520"/>
                <a:chOff x="2286000" y="2514600"/>
                <a:chExt cx="1066680" cy="11365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2971800" y="32986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286000" y="29941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90560" y="25146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2370240" y="20574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352680" y="2057400"/>
              <a:ext cx="1066680" cy="1593720"/>
              <a:chOff x="3352680" y="2057400"/>
              <a:chExt cx="1066680" cy="159372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3352680" y="2514600"/>
                <a:ext cx="1066680" cy="1136520"/>
                <a:chOff x="3352680" y="2514600"/>
                <a:chExt cx="1066680" cy="11365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038480" y="32986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352680" y="29941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657240" y="25146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3436920" y="20574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4724280" y="2057400"/>
            <a:ext cx="4343400" cy="1752480"/>
            <a:chOff x="4724280" y="2057400"/>
            <a:chExt cx="4343400" cy="1752480"/>
          </a:xfrm>
        </p:grpSpPr>
        <p:sp>
          <p:nvSpPr>
            <p:cNvPr id="505" name=""/>
            <p:cNvSpPr/>
            <p:nvPr/>
          </p:nvSpPr>
          <p:spPr>
            <a:xfrm>
              <a:off x="8229600" y="2781360"/>
              <a:ext cx="838080" cy="102852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24280" y="3314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181480" y="2057400"/>
              <a:ext cx="1066680" cy="1593720"/>
              <a:chOff x="5181480" y="2057400"/>
              <a:chExt cx="1066680" cy="159372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5181480" y="2514600"/>
                <a:ext cx="1066680" cy="1136520"/>
                <a:chOff x="5181480" y="2514600"/>
                <a:chExt cx="1066680" cy="11365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5867280" y="32986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181480" y="29941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486040" y="25146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5265720" y="20574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248520" y="2057400"/>
              <a:ext cx="1066680" cy="1593720"/>
              <a:chOff x="6248520" y="2057400"/>
              <a:chExt cx="1066680" cy="159372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6248520" y="2514600"/>
                <a:ext cx="1066680" cy="1136520"/>
                <a:chOff x="6248520" y="2514600"/>
                <a:chExt cx="1066680" cy="11365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934320" y="32986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248520" y="29941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553080" y="25146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6332760" y="20574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315200" y="2057400"/>
              <a:ext cx="1066680" cy="1593720"/>
              <a:chOff x="7315200" y="2057400"/>
              <a:chExt cx="1066680" cy="159372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7315200" y="2514600"/>
                <a:ext cx="1066680" cy="1136520"/>
                <a:chOff x="7315200" y="2514600"/>
                <a:chExt cx="1066680" cy="11365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8001000" y="32986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315200" y="29941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619760" y="25146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"/>
              <p:cNvSpPr/>
              <p:nvPr/>
            </p:nvSpPr>
            <p:spPr>
              <a:xfrm>
                <a:off x="7399440" y="20574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"/>
          <p:cNvSpPr/>
          <p:nvPr/>
        </p:nvSpPr>
        <p:spPr>
          <a:xfrm>
            <a:off x="2967840" y="38098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Triplo DES:168 bit di chi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33400" y="137160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, TDES, BLOWFISH, CAST-128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0" y="4572000"/>
            <a:ext cx="4419360" cy="1752480"/>
            <a:chOff x="0" y="4572000"/>
            <a:chExt cx="4419360" cy="1752480"/>
          </a:xfrm>
        </p:grpSpPr>
        <p:sp>
          <p:nvSpPr>
            <p:cNvPr id="528" name=""/>
            <p:cNvSpPr/>
            <p:nvPr/>
          </p:nvSpPr>
          <p:spPr>
            <a:xfrm>
              <a:off x="762120" y="58294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5295960"/>
              <a:ext cx="838080" cy="102852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1219320" y="4572000"/>
              <a:ext cx="1066680" cy="1593720"/>
              <a:chOff x="1219320" y="4572000"/>
              <a:chExt cx="1066680" cy="1593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1219320" y="5029200"/>
                <a:ext cx="1066680" cy="1136520"/>
                <a:chOff x="1219320" y="5029200"/>
                <a:chExt cx="1066680" cy="11365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1905120" y="5813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219320" y="55087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523880" y="50292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5" name=""/>
              <p:cNvSpPr/>
              <p:nvPr/>
            </p:nvSpPr>
            <p:spPr>
              <a:xfrm>
                <a:off x="1303560" y="45720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2286000" y="4572000"/>
              <a:ext cx="1066680" cy="1593720"/>
              <a:chOff x="2286000" y="4572000"/>
              <a:chExt cx="1066680" cy="159372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2286000" y="5029200"/>
                <a:ext cx="1066680" cy="1136520"/>
                <a:chOff x="2286000" y="5029200"/>
                <a:chExt cx="1066680" cy="11365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2971800" y="5813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86000" y="55087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590560" y="50292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2370240" y="45720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352680" y="4572000"/>
              <a:ext cx="1066680" cy="1593720"/>
              <a:chOff x="3352680" y="4572000"/>
              <a:chExt cx="1066680" cy="159372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3352680" y="5029200"/>
                <a:ext cx="1066680" cy="1136520"/>
                <a:chOff x="3352680" y="5029200"/>
                <a:chExt cx="1066680" cy="113652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038480" y="5813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352680" y="55087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657240" y="50292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3436920" y="45720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4724280" y="4572000"/>
            <a:ext cx="4343400" cy="1752480"/>
            <a:chOff x="4724280" y="4572000"/>
            <a:chExt cx="4343400" cy="1752480"/>
          </a:xfrm>
        </p:grpSpPr>
        <p:sp>
          <p:nvSpPr>
            <p:cNvPr id="549" name=""/>
            <p:cNvSpPr/>
            <p:nvPr/>
          </p:nvSpPr>
          <p:spPr>
            <a:xfrm>
              <a:off x="8229600" y="5295960"/>
              <a:ext cx="838080" cy="102852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24280" y="58294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181480" y="4572000"/>
              <a:ext cx="1066680" cy="1593720"/>
              <a:chOff x="5181480" y="4572000"/>
              <a:chExt cx="1066680" cy="159372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5181480" y="5029200"/>
                <a:ext cx="1066680" cy="1136520"/>
                <a:chOff x="5181480" y="5029200"/>
                <a:chExt cx="1066680" cy="11365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867280" y="5813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181480" y="55087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486040" y="50292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5265720" y="45720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248520" y="4572000"/>
              <a:ext cx="1066680" cy="1593720"/>
              <a:chOff x="6248520" y="4572000"/>
              <a:chExt cx="1066680" cy="159372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6248520" y="5029200"/>
                <a:ext cx="1066680" cy="1136520"/>
                <a:chOff x="6248520" y="5029200"/>
                <a:chExt cx="1066680" cy="11365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934320" y="5813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248520" y="55087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53080" y="50292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6332760" y="45720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7315200" y="4572000"/>
              <a:ext cx="1066680" cy="1593720"/>
              <a:chOff x="7315200" y="4572000"/>
              <a:chExt cx="1066680" cy="159372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315200" y="5029200"/>
                <a:ext cx="1066680" cy="1136520"/>
                <a:chOff x="7315200" y="5029200"/>
                <a:chExt cx="1066680" cy="11365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8001000" y="5813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315200" y="5508720"/>
                  <a:ext cx="657000" cy="65700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619760" y="5029200"/>
                  <a:ext cx="0" cy="49536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7399440" y="45720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>
            <a:off x="2967840" y="63244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Triplo DES:112 bit di chi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7440" y="644400"/>
            <a:ext cx="1407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w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65200" y="609480"/>
            <a:ext cx="18954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: 6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8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dvanced Encryption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68480" y="141300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finalisti su 16 candid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RS, RC6, Rijndael, Serpent, Two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4000" y="2854440"/>
            <a:ext cx="8030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Valutazione di Rijnda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ccellenti prestazioni su tutte le piattafor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dai main frame alle smart card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uon margine di sicurezza a fronte di ogni attacco conosciu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assa richiesta di memoria, sia ROM che 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loce procedura di key setu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uone caratteristiche per l'esecuzione parallela delle istruzion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avi e blocchi di lunghezza variabile per multipli di 32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Un round di Rijnda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895480" y="1962000"/>
            <a:ext cx="3341880" cy="1009800"/>
            <a:chOff x="2895480" y="1962000"/>
            <a:chExt cx="3341880" cy="1009800"/>
          </a:xfrm>
        </p:grpSpPr>
        <p:sp>
          <p:nvSpPr>
            <p:cNvPr id="577" name=""/>
            <p:cNvSpPr/>
            <p:nvPr/>
          </p:nvSpPr>
          <p:spPr>
            <a:xfrm>
              <a:off x="2895480" y="2554200"/>
              <a:ext cx="3341880" cy="417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ubstitute bytes (sostituzio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65520" y="1962000"/>
              <a:ext cx="0" cy="55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2895480" y="2973240"/>
            <a:ext cx="3341880" cy="417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hift rows (permutazi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3390840"/>
            <a:ext cx="3341880" cy="4190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ix columns (sostituzi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515280" y="2554200"/>
            <a:ext cx="2506320" cy="1712880"/>
            <a:chOff x="6515280" y="2554200"/>
            <a:chExt cx="2506320" cy="1712880"/>
          </a:xfrm>
        </p:grpSpPr>
        <p:sp>
          <p:nvSpPr>
            <p:cNvPr id="582" name=""/>
            <p:cNvSpPr/>
            <p:nvPr/>
          </p:nvSpPr>
          <p:spPr>
            <a:xfrm>
              <a:off x="6515280" y="2554200"/>
              <a:ext cx="417240" cy="1712880"/>
            </a:xfrm>
            <a:custGeom>
              <a:avLst/>
              <a:gdLst>
                <a:gd name="textAreaLeft" fmla="*/ 0 w 417240"/>
                <a:gd name="textAreaRight" fmla="*/ 150480 w 417240"/>
                <a:gd name="textAreaTop" fmla="*/ 44640 h 1712880"/>
                <a:gd name="textAreaBottom" fmla="*/ 1668240 h 17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72200" y="3124080"/>
              <a:ext cx="194940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a ripeter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vol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da 10 a 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90920" y="990720"/>
            <a:ext cx="3886200" cy="971280"/>
            <a:chOff x="2590920" y="990720"/>
            <a:chExt cx="3886200" cy="971280"/>
          </a:xfrm>
        </p:grpSpPr>
        <p:grpSp>
          <p:nvGrpSpPr>
            <p:cNvPr id="585" name=""/>
            <p:cNvGrpSpPr/>
            <p:nvPr/>
          </p:nvGrpSpPr>
          <p:grpSpPr>
            <a:xfrm>
              <a:off x="2895480" y="1544760"/>
              <a:ext cx="3341520" cy="417240"/>
              <a:chOff x="2895480" y="1544760"/>
              <a:chExt cx="3341520" cy="417240"/>
            </a:xfrm>
          </p:grpSpPr>
          <p:sp>
            <p:nvSpPr>
              <p:cNvPr id="586" name=""/>
              <p:cNvSpPr/>
              <p:nvPr/>
            </p:nvSpPr>
            <p:spPr>
              <a:xfrm>
                <a:off x="3730680" y="1544760"/>
                <a:ext cx="835200" cy="41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66240" y="1544760"/>
                <a:ext cx="835200" cy="41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01800" y="1544760"/>
                <a:ext cx="835200" cy="41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95480" y="1544760"/>
                <a:ext cx="835200" cy="41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2590920" y="99072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 128 bit in 4 blocchi da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143000" y="3711600"/>
            <a:ext cx="5094360" cy="515880"/>
            <a:chOff x="1143000" y="3711600"/>
            <a:chExt cx="5094360" cy="515880"/>
          </a:xfrm>
        </p:grpSpPr>
        <p:sp>
          <p:nvSpPr>
            <p:cNvPr id="592" name=""/>
            <p:cNvSpPr/>
            <p:nvPr/>
          </p:nvSpPr>
          <p:spPr>
            <a:xfrm>
              <a:off x="2895480" y="3809880"/>
              <a:ext cx="3341880" cy="417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Add Round Key (sostituzio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28800" y="3711600"/>
              <a:ext cx="50652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43000" y="4038480"/>
              <a:ext cx="1752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2743200" y="4227480"/>
            <a:ext cx="3581280" cy="1639800"/>
            <a:chOff x="2743200" y="4227480"/>
            <a:chExt cx="3581280" cy="1639800"/>
          </a:xfrm>
        </p:grpSpPr>
        <p:grpSp>
          <p:nvGrpSpPr>
            <p:cNvPr id="596" name=""/>
            <p:cNvGrpSpPr/>
            <p:nvPr/>
          </p:nvGrpSpPr>
          <p:grpSpPr>
            <a:xfrm>
              <a:off x="2895480" y="4800600"/>
              <a:ext cx="3341520" cy="417600"/>
              <a:chOff x="2895480" y="4800600"/>
              <a:chExt cx="3341520" cy="417600"/>
            </a:xfrm>
          </p:grpSpPr>
          <p:sp>
            <p:nvSpPr>
              <p:cNvPr id="597" name=""/>
              <p:cNvSpPr/>
              <p:nvPr/>
            </p:nvSpPr>
            <p:spPr>
              <a:xfrm>
                <a:off x="3730680" y="4800600"/>
                <a:ext cx="835200" cy="41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566240" y="4800600"/>
                <a:ext cx="835200" cy="41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01800" y="4800600"/>
                <a:ext cx="835200" cy="41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895480" y="4800600"/>
                <a:ext cx="835200" cy="41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4565520" y="4227480"/>
              <a:ext cx="0" cy="55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43200" y="541008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 128 bit in 4 blocchi da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85640" y="1219320"/>
            <a:ext cx="1190880" cy="3886200"/>
            <a:chOff x="485640" y="1219320"/>
            <a:chExt cx="1190880" cy="3886200"/>
          </a:xfrm>
        </p:grpSpPr>
        <p:sp>
          <p:nvSpPr>
            <p:cNvPr id="604" name=""/>
            <p:cNvSpPr/>
            <p:nvPr/>
          </p:nvSpPr>
          <p:spPr>
            <a:xfrm>
              <a:off x="560520" y="2362320"/>
              <a:ext cx="609480" cy="2743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70000" y="4800600"/>
              <a:ext cx="506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70000" y="2590920"/>
              <a:ext cx="506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65080" y="1905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5640" y="1219320"/>
              <a:ext cx="75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28 b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alità di elaborazione a blocch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160" y="160020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C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Electronic Code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520" y="2286000"/>
            <a:ext cx="37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B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ipher block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494000" y="1523880"/>
            <a:ext cx="1249200" cy="3581280"/>
            <a:chOff x="1494000" y="1523880"/>
            <a:chExt cx="1249200" cy="3581280"/>
          </a:xfrm>
        </p:grpSpPr>
        <p:sp>
          <p:nvSpPr>
            <p:cNvPr id="613" name=""/>
            <p:cNvSpPr/>
            <p:nvPr/>
          </p:nvSpPr>
          <p:spPr>
            <a:xfrm>
              <a:off x="1828800" y="152388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81080" y="3609720"/>
              <a:ext cx="657360" cy="65736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9400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286000" y="19810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00200" y="396216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28800" y="4647960"/>
              <a:ext cx="9144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86000" y="4267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952160" y="358128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utput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9040" y="5470560"/>
            <a:ext cx="42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chi identici di testo in chia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chi identici di testo cif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289548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F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ipher Feedb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4680" y="434340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T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940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3600" y="144792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3963600" y="2438280"/>
            <a:ext cx="989280" cy="2210040"/>
            <a:chOff x="3963600" y="2438280"/>
            <a:chExt cx="989280" cy="2210040"/>
          </a:xfrm>
        </p:grpSpPr>
        <p:sp>
          <p:nvSpPr>
            <p:cNvPr id="627" name=""/>
            <p:cNvSpPr/>
            <p:nvPr/>
          </p:nvSpPr>
          <p:spPr>
            <a:xfrm>
              <a:off x="3963600" y="3124080"/>
              <a:ext cx="65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Wingdings"/>
                  <a:ea typeface="Wingdings"/>
                </a:rPr>
                <a:t>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48320" y="2438280"/>
              <a:ext cx="304560" cy="22100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ipher Block Ch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55720" y="52164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09840" y="5181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017800" y="1066680"/>
            <a:ext cx="1325520" cy="3581640"/>
            <a:chOff x="2017800" y="1066680"/>
            <a:chExt cx="1325520" cy="3581640"/>
          </a:xfrm>
        </p:grpSpPr>
        <p:sp>
          <p:nvSpPr>
            <p:cNvPr id="633" name=""/>
            <p:cNvSpPr/>
            <p:nvPr/>
          </p:nvSpPr>
          <p:spPr>
            <a:xfrm>
              <a:off x="2017800" y="304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2124000" y="1066680"/>
              <a:ext cx="1219320" cy="3581640"/>
              <a:chOff x="2124000" y="1066680"/>
              <a:chExt cx="1219320" cy="3581640"/>
            </a:xfrm>
          </p:grpSpPr>
          <p:sp>
            <p:nvSpPr>
              <p:cNvPr id="635" name=""/>
              <p:cNvSpPr/>
              <p:nvPr/>
            </p:nvSpPr>
            <p:spPr>
              <a:xfrm>
                <a:off x="2428920" y="106668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05240" y="3076560"/>
                <a:ext cx="657000" cy="65736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809800" y="373392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86120" y="152388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124000" y="3429000"/>
                <a:ext cx="381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52600" y="4191120"/>
                <a:ext cx="91440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2585880" y="2017800"/>
                <a:ext cx="571680" cy="573120"/>
                <a:chOff x="2585880" y="2017800"/>
                <a:chExt cx="571680" cy="5731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2585880" y="2017800"/>
                  <a:ext cx="571680" cy="573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871720" y="2017800"/>
                  <a:ext cx="0" cy="57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585880" y="2304360"/>
                  <a:ext cx="571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854440" y="255276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2811600" y="1066680"/>
            <a:ext cx="1979640" cy="3581640"/>
            <a:chOff x="2811600" y="1066680"/>
            <a:chExt cx="1979640" cy="3581640"/>
          </a:xfrm>
        </p:grpSpPr>
        <p:grpSp>
          <p:nvGrpSpPr>
            <p:cNvPr id="647" name=""/>
            <p:cNvGrpSpPr/>
            <p:nvPr/>
          </p:nvGrpSpPr>
          <p:grpSpPr>
            <a:xfrm>
              <a:off x="2811600" y="1066680"/>
              <a:ext cx="1979640" cy="3581640"/>
              <a:chOff x="2811600" y="1066680"/>
              <a:chExt cx="1979640" cy="3581640"/>
            </a:xfrm>
          </p:grpSpPr>
          <p:sp>
            <p:nvSpPr>
              <p:cNvPr id="648" name=""/>
              <p:cNvSpPr/>
              <p:nvPr/>
            </p:nvSpPr>
            <p:spPr>
              <a:xfrm>
                <a:off x="3571920" y="3429000"/>
                <a:ext cx="38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952800" y="3076560"/>
                <a:ext cx="657360" cy="65736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76840" y="106668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257720" y="373392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465720" y="3048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34040" y="152388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00520" y="4191120"/>
                <a:ext cx="91440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4035600" y="2017800"/>
                <a:ext cx="571320" cy="573120"/>
                <a:chOff x="4035600" y="2017800"/>
                <a:chExt cx="571320" cy="5731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4035600" y="2017800"/>
                  <a:ext cx="571320" cy="573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321080" y="2017800"/>
                  <a:ext cx="0" cy="57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035600" y="2304360"/>
                  <a:ext cx="571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>
                <a:off x="2811600" y="2286000"/>
                <a:ext cx="1258920" cy="1600200"/>
              </a:xfrm>
              <a:custGeom>
                <a:avLst/>
                <a:gdLst/>
                <a:ahLst/>
                <a:rect l="l" t="t" r="r" b="b"/>
                <a:pathLst>
                  <a:path w="768" h="1248">
                    <a:moveTo>
                      <a:pt x="0" y="1248"/>
                    </a:moveTo>
                    <a:lnTo>
                      <a:pt x="336" y="1248"/>
                    </a:lnTo>
                    <a:lnTo>
                      <a:pt x="336" y="0"/>
                    </a:lnTo>
                    <a:lnTo>
                      <a:pt x="76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4302000" y="255276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262400" y="1066680"/>
            <a:ext cx="3679920" cy="3581640"/>
            <a:chOff x="4262400" y="1066680"/>
            <a:chExt cx="3679920" cy="3581640"/>
          </a:xfrm>
        </p:grpSpPr>
        <p:sp>
          <p:nvSpPr>
            <p:cNvPr id="662" name=""/>
            <p:cNvSpPr/>
            <p:nvPr/>
          </p:nvSpPr>
          <p:spPr>
            <a:xfrm>
              <a:off x="4262400" y="2286000"/>
              <a:ext cx="1258920" cy="1600200"/>
            </a:xfrm>
            <a:custGeom>
              <a:avLst/>
              <a:gdLst/>
              <a:ahLst/>
              <a:rect l="l" t="t" r="r" b="b"/>
              <a:pathLst>
                <a:path w="768" h="1248">
                  <a:moveTo>
                    <a:pt x="0" y="1248"/>
                  </a:moveTo>
                  <a:lnTo>
                    <a:pt x="336" y="1248"/>
                  </a:lnTo>
                  <a:lnTo>
                    <a:pt x="336" y="0"/>
                  </a:lnTo>
                  <a:lnTo>
                    <a:pt x="76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4913640" y="1066680"/>
              <a:ext cx="3028680" cy="3581640"/>
              <a:chOff x="4913640" y="1066680"/>
              <a:chExt cx="3028680" cy="3581640"/>
            </a:xfrm>
          </p:grpSpPr>
          <p:sp>
            <p:nvSpPr>
              <p:cNvPr id="664" name=""/>
              <p:cNvSpPr/>
              <p:nvPr/>
            </p:nvSpPr>
            <p:spPr>
              <a:xfrm>
                <a:off x="5705640" y="373392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24400" y="106668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400720" y="3076560"/>
                <a:ext cx="657360" cy="65736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913640" y="3048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781600" y="152388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19840" y="3429000"/>
                <a:ext cx="38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48440" y="4191120"/>
                <a:ext cx="91440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664320" y="3352680"/>
                <a:ext cx="127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" name=""/>
              <p:cNvGrpSpPr/>
              <p:nvPr/>
            </p:nvGrpSpPr>
            <p:grpSpPr>
              <a:xfrm>
                <a:off x="5486400" y="2017800"/>
                <a:ext cx="571680" cy="573120"/>
                <a:chOff x="5486400" y="2017800"/>
                <a:chExt cx="571680" cy="5731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486400" y="2017800"/>
                  <a:ext cx="571680" cy="573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772240" y="2017800"/>
                  <a:ext cx="0" cy="57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486400" y="2304360"/>
                  <a:ext cx="571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749920" y="255276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710320" y="2286000"/>
                <a:ext cx="1258920" cy="1600200"/>
              </a:xfrm>
              <a:custGeom>
                <a:avLst/>
                <a:gdLst/>
                <a:ahLst/>
                <a:rect l="l" t="t" r="r" b="b"/>
                <a:pathLst>
                  <a:path w="768" h="1248">
                    <a:moveTo>
                      <a:pt x="0" y="1248"/>
                    </a:moveTo>
                    <a:lnTo>
                      <a:pt x="336" y="1248"/>
                    </a:lnTo>
                    <a:lnTo>
                      <a:pt x="336" y="0"/>
                    </a:lnTo>
                    <a:lnTo>
                      <a:pt x="76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"/>
          <p:cNvGrpSpPr/>
          <p:nvPr/>
        </p:nvGrpSpPr>
        <p:grpSpPr>
          <a:xfrm>
            <a:off x="855720" y="2057400"/>
            <a:ext cx="1716120" cy="2590920"/>
            <a:chOff x="855720" y="2057400"/>
            <a:chExt cx="1716120" cy="2590920"/>
          </a:xfrm>
        </p:grpSpPr>
        <p:sp>
          <p:nvSpPr>
            <p:cNvPr id="679" name=""/>
            <p:cNvSpPr/>
            <p:nvPr/>
          </p:nvSpPr>
          <p:spPr>
            <a:xfrm>
              <a:off x="873000" y="2057400"/>
              <a:ext cx="91440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12920" y="2514600"/>
              <a:ext cx="0" cy="171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55720" y="4191120"/>
              <a:ext cx="9144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12920" y="2286000"/>
              <a:ext cx="1258920" cy="1600200"/>
            </a:xfrm>
            <a:custGeom>
              <a:avLst/>
              <a:gdLst/>
              <a:ahLst/>
              <a:rect l="l" t="t" r="r" b="b"/>
              <a:pathLst>
                <a:path w="768" h="1248">
                  <a:moveTo>
                    <a:pt x="0" y="1248"/>
                  </a:moveTo>
                  <a:lnTo>
                    <a:pt x="336" y="1248"/>
                  </a:lnTo>
                  <a:lnTo>
                    <a:pt x="336" y="0"/>
                  </a:lnTo>
                  <a:lnTo>
                    <a:pt x="76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2346480" y="5334120"/>
            <a:ext cx="44906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F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k)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k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FB (Chipher 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065600" y="2041560"/>
            <a:ext cx="3447000" cy="1049760"/>
            <a:chOff x="1065600" y="2041560"/>
            <a:chExt cx="3447000" cy="1049760"/>
          </a:xfrm>
        </p:grpSpPr>
        <p:grpSp>
          <p:nvGrpSpPr>
            <p:cNvPr id="686" name=""/>
            <p:cNvGrpSpPr/>
            <p:nvPr/>
          </p:nvGrpSpPr>
          <p:grpSpPr>
            <a:xfrm>
              <a:off x="2044800" y="2354400"/>
              <a:ext cx="592200" cy="591840"/>
              <a:chOff x="2044800" y="2354400"/>
              <a:chExt cx="592200" cy="591840"/>
            </a:xfrm>
          </p:grpSpPr>
          <p:sp>
            <p:nvSpPr>
              <p:cNvPr id="687" name=""/>
              <p:cNvSpPr/>
              <p:nvPr/>
            </p:nvSpPr>
            <p:spPr>
              <a:xfrm>
                <a:off x="2044800" y="2354400"/>
                <a:ext cx="592200" cy="59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40720" y="2354400"/>
                <a:ext cx="0" cy="59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044800" y="265032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698480" y="2649600"/>
              <a:ext cx="3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37000" y="2649600"/>
              <a:ext cx="87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40000" y="2057400"/>
              <a:ext cx="0" cy="29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10040" y="2443320"/>
              <a:ext cx="41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62680" y="204156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 &lt;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01320" y="2443320"/>
              <a:ext cx="33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5600" y="269244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n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00800" y="269244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n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364760" y="685800"/>
            <a:ext cx="2304000" cy="1981080"/>
            <a:chOff x="1364760" y="685800"/>
            <a:chExt cx="2304000" cy="1981080"/>
          </a:xfrm>
        </p:grpSpPr>
        <p:sp>
          <p:nvSpPr>
            <p:cNvPr id="699" name=""/>
            <p:cNvSpPr/>
            <p:nvPr/>
          </p:nvSpPr>
          <p:spPr>
            <a:xfrm>
              <a:off x="2373480" y="11685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06400" y="172260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64760" y="1355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459080" y="685800"/>
              <a:ext cx="1714320" cy="482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hift (N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135240" y="939960"/>
              <a:ext cx="533520" cy="1726920"/>
            </a:xfrm>
            <a:custGeom>
              <a:avLst/>
              <a:gdLst/>
              <a:ahLst/>
              <a:rect l="l" t="t" r="r" b="b"/>
              <a:pathLst>
                <a:path w="336" h="960">
                  <a:moveTo>
                    <a:pt x="192" y="960"/>
                  </a:moveTo>
                  <a:lnTo>
                    <a:pt x="336" y="960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81080" y="137160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652280" y="711360"/>
            <a:ext cx="4038840" cy="2260440"/>
            <a:chOff x="4652280" y="711360"/>
            <a:chExt cx="4038840" cy="2260440"/>
          </a:xfrm>
        </p:grpSpPr>
        <p:grpSp>
          <p:nvGrpSpPr>
            <p:cNvPr id="706" name=""/>
            <p:cNvGrpSpPr/>
            <p:nvPr/>
          </p:nvGrpSpPr>
          <p:grpSpPr>
            <a:xfrm>
              <a:off x="6415200" y="2379600"/>
              <a:ext cx="592200" cy="592200"/>
              <a:chOff x="6415200" y="2379600"/>
              <a:chExt cx="592200" cy="592200"/>
            </a:xfrm>
          </p:grpSpPr>
          <p:sp>
            <p:nvSpPr>
              <p:cNvPr id="707" name=""/>
              <p:cNvSpPr/>
              <p:nvPr/>
            </p:nvSpPr>
            <p:spPr>
              <a:xfrm>
                <a:off x="6415200" y="2379600"/>
                <a:ext cx="592200" cy="592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711120" y="2379600"/>
                <a:ext cx="0" cy="59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15200" y="267552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4952880" y="2666880"/>
              <a:ext cx="14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07400" y="2666880"/>
              <a:ext cx="122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10400" y="2065320"/>
              <a:ext cx="0" cy="29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52280" y="2392200"/>
              <a:ext cx="33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71360" y="2392200"/>
              <a:ext cx="41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29480" y="711360"/>
              <a:ext cx="1714320" cy="482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hift (N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43880" y="1193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81480" y="939960"/>
              <a:ext cx="609840" cy="1726920"/>
            </a:xfrm>
            <a:custGeom>
              <a:avLst/>
              <a:gdLst/>
              <a:ahLst/>
              <a:rect l="l" t="t" r="r" b="b"/>
              <a:pathLst>
                <a:path w="384" h="960">
                  <a:moveTo>
                    <a:pt x="0" y="960"/>
                  </a:moveTo>
                  <a:lnTo>
                    <a:pt x="0" y="0"/>
                  </a:lnTo>
                  <a:lnTo>
                    <a:pt x="3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72200" y="17524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92400" y="1447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0800" y="137160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04440" y="205740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 &lt;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685800" y="32767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B (Output 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065600" y="3844800"/>
            <a:ext cx="3431160" cy="2726280"/>
            <a:chOff x="1065600" y="3844800"/>
            <a:chExt cx="3431160" cy="2726280"/>
          </a:xfrm>
        </p:grpSpPr>
        <p:grpSp>
          <p:nvGrpSpPr>
            <p:cNvPr id="724" name=""/>
            <p:cNvGrpSpPr/>
            <p:nvPr/>
          </p:nvGrpSpPr>
          <p:grpSpPr>
            <a:xfrm>
              <a:off x="2044800" y="5783400"/>
              <a:ext cx="592200" cy="591840"/>
              <a:chOff x="2044800" y="5783400"/>
              <a:chExt cx="592200" cy="59184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5783400"/>
                <a:ext cx="592200" cy="59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40720" y="5783400"/>
                <a:ext cx="0" cy="59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044800" y="607932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1698480" y="6078600"/>
              <a:ext cx="3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37000" y="6078600"/>
              <a:ext cx="87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40000" y="518148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10040" y="5872320"/>
              <a:ext cx="41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62680" y="541008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 &lt;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06400" y="488160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64760" y="4514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01320" y="5872320"/>
              <a:ext cx="33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73480" y="4327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5600" y="61563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n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84960" y="617220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n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81080" y="453060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62320" y="4114800"/>
              <a:ext cx="1295280" cy="129528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816"/>
                  </a:moveTo>
                  <a:lnTo>
                    <a:pt x="816" y="816"/>
                  </a:lnTo>
                  <a:lnTo>
                    <a:pt x="816" y="0"/>
                  </a:lnTo>
                  <a:lnTo>
                    <a:pt x="5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59080" y="3844800"/>
              <a:ext cx="1714320" cy="482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hift (N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652280" y="3870360"/>
            <a:ext cx="4038840" cy="2530440"/>
            <a:chOff x="4652280" y="3870360"/>
            <a:chExt cx="4038840" cy="2530440"/>
          </a:xfrm>
        </p:grpSpPr>
        <p:grpSp>
          <p:nvGrpSpPr>
            <p:cNvPr id="743" name=""/>
            <p:cNvGrpSpPr/>
            <p:nvPr/>
          </p:nvGrpSpPr>
          <p:grpSpPr>
            <a:xfrm>
              <a:off x="6415200" y="5808600"/>
              <a:ext cx="592200" cy="592200"/>
              <a:chOff x="6415200" y="5808600"/>
              <a:chExt cx="592200" cy="592200"/>
            </a:xfrm>
          </p:grpSpPr>
          <p:sp>
            <p:nvSpPr>
              <p:cNvPr id="744" name=""/>
              <p:cNvSpPr/>
              <p:nvPr/>
            </p:nvSpPr>
            <p:spPr>
              <a:xfrm>
                <a:off x="6415200" y="5808600"/>
                <a:ext cx="592200" cy="592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711120" y="5808600"/>
                <a:ext cx="0" cy="59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15200" y="610452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952880" y="6095880"/>
              <a:ext cx="14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07400" y="6095880"/>
              <a:ext cx="122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1040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52280" y="5821200"/>
              <a:ext cx="33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271360" y="5821200"/>
              <a:ext cx="41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05440" y="3870360"/>
              <a:ext cx="1714680" cy="482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hift (N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43880" y="4352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72200" y="491184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92400" y="4606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53060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04440" y="548640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 &lt;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409360" y="4114800"/>
              <a:ext cx="1295640" cy="129528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816"/>
                  </a:moveTo>
                  <a:lnTo>
                    <a:pt x="816" y="816"/>
                  </a:lnTo>
                  <a:lnTo>
                    <a:pt x="816" y="0"/>
                  </a:lnTo>
                  <a:lnTo>
                    <a:pt x="5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TR (Coun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85040" y="2438280"/>
            <a:ext cx="1586520" cy="398880"/>
            <a:chOff x="185040" y="2438280"/>
            <a:chExt cx="1586520" cy="398880"/>
          </a:xfrm>
        </p:grpSpPr>
        <p:sp>
          <p:nvSpPr>
            <p:cNvPr id="761" name=""/>
            <p:cNvSpPr/>
            <p:nvPr/>
          </p:nvSpPr>
          <p:spPr>
            <a:xfrm>
              <a:off x="819000" y="266688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5040" y="243828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e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601640" y="4064040"/>
            <a:ext cx="2665800" cy="914400"/>
            <a:chOff x="1601640" y="4064040"/>
            <a:chExt cx="2665800" cy="914400"/>
          </a:xfrm>
        </p:grpSpPr>
        <p:grpSp>
          <p:nvGrpSpPr>
            <p:cNvPr id="764" name=""/>
            <p:cNvGrpSpPr/>
            <p:nvPr/>
          </p:nvGrpSpPr>
          <p:grpSpPr>
            <a:xfrm>
              <a:off x="2330280" y="4386240"/>
              <a:ext cx="592200" cy="592200"/>
              <a:chOff x="2330280" y="4386240"/>
              <a:chExt cx="592200" cy="592200"/>
            </a:xfrm>
          </p:grpSpPr>
          <p:sp>
            <p:nvSpPr>
              <p:cNvPr id="765" name=""/>
              <p:cNvSpPr/>
              <p:nvPr/>
            </p:nvSpPr>
            <p:spPr>
              <a:xfrm>
                <a:off x="2330280" y="4386240"/>
                <a:ext cx="592200" cy="592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626200" y="4386240"/>
                <a:ext cx="0" cy="59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330280" y="468216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1984320" y="468144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22480" y="4681440"/>
              <a:ext cx="87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25840" y="4089240"/>
              <a:ext cx="0" cy="29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01640" y="4475160"/>
              <a:ext cx="3909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24440" y="4064040"/>
              <a:ext cx="34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76480" y="4475160"/>
              <a:ext cx="3909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733400" y="1752480"/>
            <a:ext cx="2133720" cy="1168560"/>
            <a:chOff x="1733400" y="1752480"/>
            <a:chExt cx="2133720" cy="1168560"/>
          </a:xfrm>
        </p:grpSpPr>
        <p:sp>
          <p:nvSpPr>
            <p:cNvPr id="775" name=""/>
            <p:cNvSpPr/>
            <p:nvPr/>
          </p:nvSpPr>
          <p:spPr>
            <a:xfrm>
              <a:off x="1744560" y="2438280"/>
              <a:ext cx="1714680" cy="482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33400" y="1752480"/>
              <a:ext cx="1714680" cy="48276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7184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09920" y="1996920"/>
              <a:ext cx="457200" cy="64800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48" y="480"/>
                  </a:moveTo>
                  <a:lnTo>
                    <a:pt x="288" y="480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852120" y="2921040"/>
            <a:ext cx="2215080" cy="1143000"/>
            <a:chOff x="852120" y="2921040"/>
            <a:chExt cx="2215080" cy="1143000"/>
          </a:xfrm>
        </p:grpSpPr>
        <p:sp>
          <p:nvSpPr>
            <p:cNvPr id="780" name=""/>
            <p:cNvSpPr/>
            <p:nvPr/>
          </p:nvSpPr>
          <p:spPr>
            <a:xfrm>
              <a:off x="2571840" y="2921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52800" y="3149640"/>
              <a:ext cx="914400" cy="914400"/>
            </a:xfrm>
            <a:prstGeom prst="octagon">
              <a:avLst>
                <a:gd name="adj" fmla="val 29287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00240" y="360684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52120" y="3378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661640" y="1727280"/>
            <a:ext cx="4082400" cy="3225600"/>
            <a:chOff x="4661640" y="1727280"/>
            <a:chExt cx="4082400" cy="3225600"/>
          </a:xfrm>
        </p:grpSpPr>
        <p:grpSp>
          <p:nvGrpSpPr>
            <p:cNvPr id="785" name=""/>
            <p:cNvGrpSpPr/>
            <p:nvPr/>
          </p:nvGrpSpPr>
          <p:grpSpPr>
            <a:xfrm>
              <a:off x="6807240" y="4361040"/>
              <a:ext cx="592200" cy="591840"/>
              <a:chOff x="6807240" y="4361040"/>
              <a:chExt cx="592200" cy="591840"/>
            </a:xfrm>
          </p:grpSpPr>
          <p:sp>
            <p:nvSpPr>
              <p:cNvPr id="786" name=""/>
              <p:cNvSpPr/>
              <p:nvPr/>
            </p:nvSpPr>
            <p:spPr>
              <a:xfrm>
                <a:off x="6807240" y="4361040"/>
                <a:ext cx="592200" cy="59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103160" y="4361040"/>
                <a:ext cx="0" cy="59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807240" y="465696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6461280" y="465624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99440" y="4656240"/>
              <a:ext cx="87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02440" y="4064040"/>
              <a:ext cx="0" cy="29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78240" y="4449600"/>
              <a:ext cx="3909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01400" y="4038480"/>
              <a:ext cx="34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95960" y="264168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61640" y="241308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e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53080" y="4449600"/>
              <a:ext cx="3909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21520" y="2413080"/>
              <a:ext cx="1714320" cy="482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48440" y="28954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210360" y="1727280"/>
              <a:ext cx="1714320" cy="4824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48440" y="21844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86880" y="1971720"/>
              <a:ext cx="457200" cy="6476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48" y="480"/>
                  </a:moveTo>
                  <a:lnTo>
                    <a:pt x="288" y="480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629400" y="3124080"/>
              <a:ext cx="914400" cy="914400"/>
            </a:xfrm>
            <a:prstGeom prst="octagon">
              <a:avLst>
                <a:gd name="adj" fmla="val 29287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76840" y="358128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2872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NG X9.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2680" y="4784760"/>
            <a:ext cx="939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64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2289240" y="2117880"/>
            <a:ext cx="4876560" cy="1143000"/>
            <a:chOff x="2289240" y="2117880"/>
            <a:chExt cx="4876560" cy="1143000"/>
          </a:xfrm>
        </p:grpSpPr>
        <p:sp>
          <p:nvSpPr>
            <p:cNvPr id="808" name=""/>
            <p:cNvSpPr/>
            <p:nvPr/>
          </p:nvSpPr>
          <p:spPr>
            <a:xfrm>
              <a:off x="4218120" y="2117880"/>
              <a:ext cx="109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iave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112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727520" y="2803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289240" y="3260880"/>
              <a:ext cx="487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04560" y="3778200"/>
            <a:ext cx="10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/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4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222200" y="3260880"/>
            <a:ext cx="3921480" cy="1904400"/>
            <a:chOff x="1222200" y="3260880"/>
            <a:chExt cx="3921480" cy="1904400"/>
          </a:xfrm>
        </p:grpSpPr>
        <p:sp>
          <p:nvSpPr>
            <p:cNvPr id="813" name=""/>
            <p:cNvSpPr/>
            <p:nvPr/>
          </p:nvSpPr>
          <p:spPr>
            <a:xfrm>
              <a:off x="4727520" y="326088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2200" y="4403520"/>
              <a:ext cx="2362320" cy="761760"/>
            </a:xfrm>
            <a:custGeom>
              <a:avLst/>
              <a:gdLst/>
              <a:ahLst/>
              <a:rect l="l" t="t" r="r" b="b"/>
              <a:pathLst>
                <a:path w="1536" h="432">
                  <a:moveTo>
                    <a:pt x="0" y="432"/>
                  </a:moveTo>
                  <a:lnTo>
                    <a:pt x="1536" y="432"/>
                  </a:lnTo>
                  <a:lnTo>
                    <a:pt x="15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3314880" y="3877920"/>
              <a:ext cx="591840" cy="591840"/>
              <a:chOff x="3314880" y="3877920"/>
              <a:chExt cx="591840" cy="591840"/>
            </a:xfrm>
          </p:grpSpPr>
          <p:sp>
            <p:nvSpPr>
              <p:cNvPr id="816" name=""/>
              <p:cNvSpPr/>
              <p:nvPr/>
            </p:nvSpPr>
            <p:spPr>
              <a:xfrm>
                <a:off x="3314880" y="3877920"/>
                <a:ext cx="591840" cy="59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610800" y="3877920"/>
                <a:ext cx="0" cy="59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314880" y="417384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4229280" y="3717720"/>
              <a:ext cx="914400" cy="914040"/>
            </a:xfrm>
            <a:prstGeom prst="octagon">
              <a:avLst>
                <a:gd name="adj" fmla="val 29287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24360" y="417492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822400" y="3260880"/>
            <a:ext cx="5945400" cy="1600200"/>
            <a:chOff x="2822400" y="3260880"/>
            <a:chExt cx="5945400" cy="1600200"/>
          </a:xfrm>
        </p:grpSpPr>
        <p:sp>
          <p:nvSpPr>
            <p:cNvPr id="822" name=""/>
            <p:cNvSpPr/>
            <p:nvPr/>
          </p:nvSpPr>
          <p:spPr>
            <a:xfrm>
              <a:off x="6362640" y="417528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2822400" y="3260880"/>
              <a:ext cx="5945400" cy="1600200"/>
              <a:chOff x="2822400" y="3260880"/>
              <a:chExt cx="5945400" cy="160020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5753160" y="3878280"/>
                <a:ext cx="592200" cy="592200"/>
                <a:chOff x="5753160" y="3878280"/>
                <a:chExt cx="592200" cy="5922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5753160" y="3878280"/>
                  <a:ext cx="592200" cy="592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049080" y="3878280"/>
                  <a:ext cx="0" cy="59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753160" y="4174200"/>
                  <a:ext cx="592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"/>
              <p:cNvSpPr/>
              <p:nvPr/>
            </p:nvSpPr>
            <p:spPr>
              <a:xfrm>
                <a:off x="6667560" y="3718080"/>
                <a:ext cx="914400" cy="914400"/>
              </a:xfrm>
              <a:prstGeom prst="octagon">
                <a:avLst>
                  <a:gd name="adj" fmla="val 29287"/>
                </a:avLst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165800" y="32608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2400" y="4175280"/>
                <a:ext cx="3200400" cy="685800"/>
              </a:xfrm>
              <a:custGeom>
                <a:avLst/>
                <a:gdLst/>
                <a:ahLst/>
                <a:rect l="l" t="t" r="r" b="b"/>
                <a:pathLst>
                  <a:path w="2016" h="432">
                    <a:moveTo>
                      <a:pt x="0" y="0"/>
                    </a:moveTo>
                    <a:lnTo>
                      <a:pt x="0" y="432"/>
                    </a:lnTo>
                    <a:lnTo>
                      <a:pt x="2016" y="432"/>
                    </a:lnTo>
                    <a:lnTo>
                      <a:pt x="2016" y="19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828200" y="3794400"/>
                <a:ext cx="939600" cy="7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+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64 bi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7581960" y="416736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1222200" y="3260880"/>
            <a:ext cx="2057400" cy="1371600"/>
            <a:chOff x="1222200" y="3260880"/>
            <a:chExt cx="2057400" cy="1371600"/>
          </a:xfrm>
        </p:grpSpPr>
        <p:sp>
          <p:nvSpPr>
            <p:cNvPr id="834" name=""/>
            <p:cNvSpPr/>
            <p:nvPr/>
          </p:nvSpPr>
          <p:spPr>
            <a:xfrm>
              <a:off x="2289240" y="3260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1222200" y="3718080"/>
              <a:ext cx="2057400" cy="914400"/>
              <a:chOff x="1222200" y="3718080"/>
              <a:chExt cx="2057400" cy="914400"/>
            </a:xfrm>
          </p:grpSpPr>
          <p:sp>
            <p:nvSpPr>
              <p:cNvPr id="836" name=""/>
              <p:cNvSpPr/>
              <p:nvPr/>
            </p:nvSpPr>
            <p:spPr>
              <a:xfrm>
                <a:off x="1773360" y="3718080"/>
                <a:ext cx="914400" cy="914400"/>
              </a:xfrm>
              <a:prstGeom prst="octagon">
                <a:avLst>
                  <a:gd name="adj" fmla="val 29287"/>
                </a:avLst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222200" y="417528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687760" y="417528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9" name=""/>
          <p:cNvGrpSpPr/>
          <p:nvPr/>
        </p:nvGrpSpPr>
        <p:grpSpPr>
          <a:xfrm>
            <a:off x="5126040" y="4175280"/>
            <a:ext cx="3740040" cy="1355040"/>
            <a:chOff x="5126040" y="4175280"/>
            <a:chExt cx="3740040" cy="1355040"/>
          </a:xfrm>
        </p:grpSpPr>
        <p:sp>
          <p:nvSpPr>
            <p:cNvPr id="840" name=""/>
            <p:cNvSpPr/>
            <p:nvPr/>
          </p:nvSpPr>
          <p:spPr>
            <a:xfrm>
              <a:off x="5126040" y="4175280"/>
              <a:ext cx="59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37000" y="4175280"/>
              <a:ext cx="2590920" cy="990720"/>
            </a:xfrm>
            <a:custGeom>
              <a:avLst/>
              <a:gdLst/>
              <a:ahLst/>
              <a:rect l="l" t="t" r="r" b="b"/>
              <a:pathLst>
                <a:path w="1632" h="624">
                  <a:moveTo>
                    <a:pt x="0" y="0"/>
                  </a:moveTo>
                  <a:lnTo>
                    <a:pt x="0" y="624"/>
                  </a:lnTo>
                  <a:lnTo>
                    <a:pt x="1632" y="6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926480" y="4784760"/>
              <a:ext cx="9396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(64 b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1053360" y="930240"/>
            <a:ext cx="70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iettiv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hiavi e vettori di inizializzazione per il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canism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TDES a due chia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304920" y="187200"/>
            <a:ext cx="8610480" cy="6213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Q: Integrità ed ori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’è il MA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’è HMAC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87200"/>
            <a:ext cx="8610480" cy="6213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Q: Cifrari simme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 cos’è il cifrario a flus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 cos’è il cifrario a blocc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1374840" y="3124080"/>
            <a:ext cx="4340160" cy="2514600"/>
            <a:chOff x="1374840" y="3124080"/>
            <a:chExt cx="4340160" cy="2514600"/>
          </a:xfrm>
        </p:grpSpPr>
        <p:sp>
          <p:nvSpPr>
            <p:cNvPr id="846" name=""/>
            <p:cNvSpPr/>
            <p:nvPr/>
          </p:nvSpPr>
          <p:spPr>
            <a:xfrm>
              <a:off x="1905120" y="3352680"/>
              <a:ext cx="3809880" cy="2286000"/>
            </a:xfrm>
            <a:prstGeom prst="cloudCallout">
              <a:avLst>
                <a:gd name="adj1" fmla="val -56833"/>
                <a:gd name="adj2" fmla="val -3131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gine&amp;integrit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74840" y="3124080"/>
              <a:ext cx="67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1373400" y="838080"/>
            <a:ext cx="4341600" cy="2286000"/>
            <a:chOff x="1373400" y="838080"/>
            <a:chExt cx="4341600" cy="2286000"/>
          </a:xfrm>
        </p:grpSpPr>
        <p:sp>
          <p:nvSpPr>
            <p:cNvPr id="849" name=""/>
            <p:cNvSpPr/>
            <p:nvPr/>
          </p:nvSpPr>
          <p:spPr>
            <a:xfrm>
              <a:off x="1905120" y="838080"/>
              <a:ext cx="3809880" cy="2286000"/>
            </a:xfrm>
            <a:prstGeom prst="cloudCallout">
              <a:avLst>
                <a:gd name="adj1" fmla="val -51166"/>
                <a:gd name="adj2" fmla="val 923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gine&amp;riservatezz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73400" y="2057400"/>
              <a:ext cx="67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" y="297180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1371600" y="838080"/>
            <a:ext cx="5334120" cy="2133720"/>
            <a:chOff x="1371600" y="838080"/>
            <a:chExt cx="5334120" cy="2133720"/>
          </a:xfrm>
        </p:grpSpPr>
        <p:sp>
          <p:nvSpPr>
            <p:cNvPr id="854" name=""/>
            <p:cNvSpPr/>
            <p:nvPr/>
          </p:nvSpPr>
          <p:spPr>
            <a:xfrm>
              <a:off x="3200400" y="1523880"/>
              <a:ext cx="914400" cy="914400"/>
            </a:xfrm>
            <a:prstGeom prst="octagon">
              <a:avLst>
                <a:gd name="adj" fmla="val 29287"/>
              </a:avLst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57600" y="990360"/>
              <a:ext cx="0" cy="533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71600" y="1981080"/>
              <a:ext cx="1828800" cy="990720"/>
            </a:xfrm>
            <a:custGeom>
              <a:avLst/>
              <a:gdLst/>
              <a:ahLst/>
              <a:rect l="l" t="t" r="r" b="b"/>
              <a:pathLst>
                <a:path w="1152" h="624">
                  <a:moveTo>
                    <a:pt x="0" y="624"/>
                  </a:moveTo>
                  <a:lnTo>
                    <a:pt x="576" y="624"/>
                  </a:lnTo>
                  <a:lnTo>
                    <a:pt x="576" y="0"/>
                  </a:lnTo>
                  <a:lnTo>
                    <a:pt x="115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14800" y="19810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43560" y="838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91320" y="152388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1371600" y="3429000"/>
            <a:ext cx="5334120" cy="2517120"/>
            <a:chOff x="1371600" y="3429000"/>
            <a:chExt cx="5334120" cy="2517120"/>
          </a:xfrm>
        </p:grpSpPr>
        <p:sp>
          <p:nvSpPr>
            <p:cNvPr id="861" name=""/>
            <p:cNvSpPr/>
            <p:nvPr/>
          </p:nvSpPr>
          <p:spPr>
            <a:xfrm>
              <a:off x="3200400" y="4114800"/>
              <a:ext cx="914400" cy="914400"/>
            </a:xfrm>
            <a:prstGeom prst="octagon">
              <a:avLst>
                <a:gd name="adj" fmla="val 29287"/>
              </a:avLst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3657600" y="5029200"/>
              <a:ext cx="0" cy="533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1371600" y="388548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624">
                  <a:moveTo>
                    <a:pt x="0" y="624"/>
                  </a:moveTo>
                  <a:lnTo>
                    <a:pt x="576" y="624"/>
                  </a:lnTo>
                  <a:lnTo>
                    <a:pt x="576" y="0"/>
                  </a:lnTo>
                  <a:lnTo>
                    <a:pt x="115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14800" y="45720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286000" y="388620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59400" y="548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91320" y="342900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91320" y="4343400"/>
              <a:ext cx="914400" cy="533520"/>
            </a:xfrm>
            <a:prstGeom prst="foldedCorner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6860520" y="2057400"/>
            <a:ext cx="220932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erifica pu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re fatta s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 chi con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segre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la chi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304920" y="3029040"/>
            <a:ext cx="8381880" cy="3200400"/>
            <a:chOff x="304920" y="3029040"/>
            <a:chExt cx="8381880" cy="3200400"/>
          </a:xfrm>
        </p:grpSpPr>
        <p:sp>
          <p:nvSpPr>
            <p:cNvPr id="871" name=""/>
            <p:cNvSpPr/>
            <p:nvPr/>
          </p:nvSpPr>
          <p:spPr>
            <a:xfrm>
              <a:off x="304920" y="4324320"/>
              <a:ext cx="8381880" cy="1905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icurez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4920" y="3029040"/>
              <a:ext cx="8381880" cy="1218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fficien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enticazione con E(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937440" y="3181320"/>
            <a:ext cx="2865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o riser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469080" y="2343240"/>
            <a:ext cx="7506720" cy="459720"/>
            <a:chOff x="469080" y="2343240"/>
            <a:chExt cx="7506720" cy="459720"/>
          </a:xfrm>
        </p:grpSpPr>
        <p:sp>
          <p:nvSpPr>
            <p:cNvPr id="876" name=""/>
            <p:cNvSpPr/>
            <p:nvPr/>
          </p:nvSpPr>
          <p:spPr>
            <a:xfrm>
              <a:off x="469080" y="2343240"/>
              <a:ext cx="3804840" cy="4597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 FAVOREV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22560" y="2343240"/>
              <a:ext cx="2253240" cy="4597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NTI CRITI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5290200" y="3181320"/>
            <a:ext cx="339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o non riser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290560" y="3714840"/>
            <a:ext cx="2103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ù destina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12600" y="3714840"/>
            <a:ext cx="2170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destina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11520" y="4476600"/>
            <a:ext cx="242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ducia recip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288400" y="4476600"/>
            <a:ext cx="3180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udio e fals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09720" y="5010120"/>
            <a:ext cx="328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o del signifi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313240" y="5010120"/>
            <a:ext cx="351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to incontroll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35280" y="5619600"/>
            <a:ext cx="348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co attivo imposs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300280" y="5619600"/>
            <a:ext cx="316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co attivo poss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992880" y="685800"/>
            <a:ext cx="7012440" cy="1561680"/>
            <a:chOff x="992880" y="685800"/>
            <a:chExt cx="7012440" cy="1561680"/>
          </a:xfrm>
        </p:grpSpPr>
        <p:grpSp>
          <p:nvGrpSpPr>
            <p:cNvPr id="888" name=""/>
            <p:cNvGrpSpPr/>
            <p:nvPr/>
          </p:nvGrpSpPr>
          <p:grpSpPr>
            <a:xfrm>
              <a:off x="1335240" y="685800"/>
              <a:ext cx="6284880" cy="1561680"/>
              <a:chOff x="1335240" y="685800"/>
              <a:chExt cx="6284880" cy="1561680"/>
            </a:xfrm>
          </p:grpSpPr>
          <p:sp>
            <p:nvSpPr>
              <p:cNvPr id="889" name=""/>
              <p:cNvSpPr/>
              <p:nvPr/>
            </p:nvSpPr>
            <p:spPr>
              <a:xfrm>
                <a:off x="1335240" y="1142640"/>
                <a:ext cx="838080" cy="102852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2076480" y="685800"/>
                <a:ext cx="2133720" cy="1561680"/>
                <a:chOff x="2076480" y="685800"/>
                <a:chExt cx="2133720" cy="1561680"/>
              </a:xfrm>
            </p:grpSpPr>
            <p:grpSp>
              <p:nvGrpSpPr>
                <p:cNvPr id="891" name=""/>
                <p:cNvGrpSpPr/>
                <p:nvPr/>
              </p:nvGrpSpPr>
              <p:grpSpPr>
                <a:xfrm>
                  <a:off x="2457360" y="685800"/>
                  <a:ext cx="1752840" cy="1561680"/>
                  <a:chOff x="2457360" y="685800"/>
                  <a:chExt cx="1752840" cy="156168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2747880" y="761760"/>
                    <a:ext cx="0" cy="6091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2457360" y="685800"/>
                    <a:ext cx="1752840" cy="1561680"/>
                    <a:chOff x="2457360" y="685800"/>
                    <a:chExt cx="1752840" cy="156168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3371760" y="1218960"/>
                      <a:ext cx="838440" cy="1028520"/>
                    </a:xfrm>
                    <a:prstGeom prst="verticalScroll">
                      <a:avLst>
                        <a:gd name="adj" fmla="val 1250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2715480" y="685800"/>
                      <a:ext cx="60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2457360" y="1371240"/>
                      <a:ext cx="609840" cy="609480"/>
                    </a:xfrm>
                    <a:prstGeom prst="octagon">
                      <a:avLst>
                        <a:gd name="adj" fmla="val 29287"/>
                      </a:avLst>
                    </a:prstGeom>
                    <a:solidFill>
                      <a:srgbClr val="99ff33"/>
                    </a:solidFill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3067200" y="1676160"/>
                      <a:ext cx="38088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8" name=""/>
                <p:cNvSpPr/>
                <p:nvPr/>
              </p:nvSpPr>
              <p:spPr>
                <a:xfrm>
                  <a:off x="2076480" y="167616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9" name=""/>
              <p:cNvSpPr/>
              <p:nvPr/>
            </p:nvSpPr>
            <p:spPr>
              <a:xfrm>
                <a:off x="5257800" y="167616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0" name=""/>
              <p:cNvGrpSpPr/>
              <p:nvPr/>
            </p:nvGrpSpPr>
            <p:grpSpPr>
              <a:xfrm>
                <a:off x="6049440" y="685800"/>
                <a:ext cx="603000" cy="685080"/>
                <a:chOff x="6049440" y="685800"/>
                <a:chExt cx="603000" cy="68508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6081840" y="761760"/>
                  <a:ext cx="0" cy="609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049440" y="685800"/>
                  <a:ext cx="60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"/>
              <p:cNvSpPr/>
              <p:nvPr/>
            </p:nvSpPr>
            <p:spPr>
              <a:xfrm>
                <a:off x="5791320" y="1371240"/>
                <a:ext cx="609480" cy="60948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495680" y="1218960"/>
                <a:ext cx="838440" cy="1028520"/>
              </a:xfrm>
              <a:prstGeom prst="verticalScroll">
                <a:avLst>
                  <a:gd name="adj" fmla="val 125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962520" y="1295280"/>
                <a:ext cx="761760" cy="914040"/>
              </a:xfrm>
              <a:prstGeom prst="lightningBol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781680" y="1142640"/>
                <a:ext cx="838440" cy="102852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00800" y="167616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992880" y="137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2192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5253120" y="6289560"/>
            <a:ext cx="37101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lica, inserzione, dis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324160" y="2992320"/>
            <a:ext cx="2855880" cy="1665360"/>
            <a:chOff x="2324160" y="2992320"/>
            <a:chExt cx="2855880" cy="1665360"/>
          </a:xfrm>
        </p:grpSpPr>
        <p:sp>
          <p:nvSpPr>
            <p:cNvPr id="912" name="Puzzle1"/>
            <p:cNvSpPr/>
            <p:nvPr/>
          </p:nvSpPr>
          <p:spPr>
            <a:xfrm>
              <a:off x="2324160" y="299232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53040" y="361008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fr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908440" y="3987720"/>
            <a:ext cx="1699920" cy="2793960"/>
            <a:chOff x="2908440" y="3987720"/>
            <a:chExt cx="1699920" cy="2793960"/>
          </a:xfrm>
        </p:grpSpPr>
        <p:sp>
          <p:nvSpPr>
            <p:cNvPr id="915" name="Puzzle4"/>
            <p:cNvSpPr/>
            <p:nvPr/>
          </p:nvSpPr>
          <p:spPr>
            <a:xfrm>
              <a:off x="2908440" y="398772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31520" y="482904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h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998880" y="4014720"/>
            <a:ext cx="2820960" cy="2185920"/>
            <a:chOff x="3998880" y="4014720"/>
            <a:chExt cx="2820960" cy="2185920"/>
          </a:xfrm>
        </p:grpSpPr>
        <p:sp>
          <p:nvSpPr>
            <p:cNvPr id="918" name="Puzzle2"/>
            <p:cNvSpPr/>
            <p:nvPr/>
          </p:nvSpPr>
          <p:spPr>
            <a:xfrm>
              <a:off x="3998880" y="40147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762080" y="482904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4513320" y="2266920"/>
            <a:ext cx="1766880" cy="2398680"/>
            <a:chOff x="4513320" y="2266920"/>
            <a:chExt cx="1766880" cy="2398680"/>
          </a:xfrm>
        </p:grpSpPr>
        <p:sp>
          <p:nvSpPr>
            <p:cNvPr id="921" name="Puzzle3"/>
            <p:cNvSpPr/>
            <p:nvPr/>
          </p:nvSpPr>
          <p:spPr>
            <a:xfrm>
              <a:off x="4513320" y="226692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75760" y="307656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olog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enticazione con E(m*||H(m*)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365960" y="10125000"/>
            <a:ext cx="635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505320" y="5334120"/>
            <a:ext cx="609480" cy="609480"/>
          </a:xfrm>
          <a:prstGeom prst="octagon">
            <a:avLst>
              <a:gd name="adj" fmla="val 29287"/>
            </a:avLst>
          </a:prstGeom>
          <a:solidFill>
            <a:srgbClr val="99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143000" y="4648320"/>
            <a:ext cx="2362320" cy="1562040"/>
            <a:chOff x="1143000" y="4648320"/>
            <a:chExt cx="2362320" cy="1562040"/>
          </a:xfrm>
        </p:grpSpPr>
        <p:sp>
          <p:nvSpPr>
            <p:cNvPr id="927" name=""/>
            <p:cNvSpPr/>
            <p:nvPr/>
          </p:nvSpPr>
          <p:spPr>
            <a:xfrm>
              <a:off x="1828800" y="56386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05120" y="47242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72360" y="4648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514600" y="5334120"/>
              <a:ext cx="609840" cy="60948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143000" y="5181480"/>
              <a:ext cx="838440" cy="1028880"/>
            </a:xfrm>
            <a:prstGeom prst="vertic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124440" y="5638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809880" y="4191120"/>
            <a:ext cx="2514600" cy="2438280"/>
            <a:chOff x="3809880" y="4191120"/>
            <a:chExt cx="2514600" cy="2438280"/>
          </a:xfrm>
        </p:grpSpPr>
        <p:sp>
          <p:nvSpPr>
            <p:cNvPr id="934" name=""/>
            <p:cNvSpPr/>
            <p:nvPr/>
          </p:nvSpPr>
          <p:spPr>
            <a:xfrm>
              <a:off x="4647960" y="41911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43040" y="4724280"/>
              <a:ext cx="609840" cy="60984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6" name=""/>
            <p:cNvGrpSpPr/>
            <p:nvPr/>
          </p:nvGrpSpPr>
          <p:grpSpPr>
            <a:xfrm>
              <a:off x="3809880" y="4191120"/>
              <a:ext cx="2514600" cy="2438280"/>
              <a:chOff x="3809880" y="4191120"/>
              <a:chExt cx="2514600" cy="2438280"/>
            </a:xfrm>
          </p:grpSpPr>
          <p:sp>
            <p:nvSpPr>
              <p:cNvPr id="937" name=""/>
              <p:cNvSpPr/>
              <p:nvPr/>
            </p:nvSpPr>
            <p:spPr>
              <a:xfrm>
                <a:off x="4952880" y="5638680"/>
                <a:ext cx="685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13120" y="5410080"/>
                <a:ext cx="711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/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43040" y="5334120"/>
                <a:ext cx="604800" cy="604800"/>
              </a:xfrm>
              <a:prstGeom prst="diamond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809880" y="4191120"/>
                <a:ext cx="1447560" cy="1143000"/>
              </a:xfrm>
              <a:custGeom>
                <a:avLst/>
                <a:gdLst/>
                <a:ahLst/>
                <a:rect l="l" t="t" r="r" b="b"/>
                <a:pathLst>
                  <a:path w="1392" h="720">
                    <a:moveTo>
                      <a:pt x="0" y="720"/>
                    </a:moveTo>
                    <a:lnTo>
                      <a:pt x="0" y="0"/>
                    </a:lnTo>
                    <a:lnTo>
                      <a:pt x="139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809880" y="5943600"/>
                <a:ext cx="838080" cy="685800"/>
              </a:xfrm>
              <a:custGeom>
                <a:avLst/>
                <a:gdLst/>
                <a:ahLst/>
                <a:rect l="l" t="t" r="r" b="b"/>
                <a:pathLst>
                  <a:path w="528" h="432">
                    <a:moveTo>
                      <a:pt x="0" y="0"/>
                    </a:moveTo>
                    <a:lnTo>
                      <a:pt x="0" y="432"/>
                    </a:lnTo>
                    <a:lnTo>
                      <a:pt x="528" y="432"/>
                    </a:lnTo>
                    <a:lnTo>
                      <a:pt x="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2" name=""/>
          <p:cNvGrpSpPr/>
          <p:nvPr/>
        </p:nvGrpSpPr>
        <p:grpSpPr>
          <a:xfrm>
            <a:off x="5257800" y="3733920"/>
            <a:ext cx="1447920" cy="1676160"/>
            <a:chOff x="5257800" y="3733920"/>
            <a:chExt cx="1447920" cy="1676160"/>
          </a:xfrm>
        </p:grpSpPr>
        <p:sp>
          <p:nvSpPr>
            <p:cNvPr id="943" name=""/>
            <p:cNvSpPr/>
            <p:nvPr/>
          </p:nvSpPr>
          <p:spPr>
            <a:xfrm>
              <a:off x="5257800" y="3733920"/>
              <a:ext cx="1447920" cy="914400"/>
            </a:xfrm>
            <a:prstGeom prst="rect">
              <a:avLst/>
            </a:prstGeom>
            <a:solidFill>
              <a:srgbClr val="99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,n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4360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6705720" y="3657600"/>
            <a:ext cx="1143000" cy="1028880"/>
            <a:chOff x="6705720" y="3657600"/>
            <a:chExt cx="1143000" cy="1028880"/>
          </a:xfrm>
        </p:grpSpPr>
        <p:sp>
          <p:nvSpPr>
            <p:cNvPr id="946" name=""/>
            <p:cNvSpPr/>
            <p:nvPr/>
          </p:nvSpPr>
          <p:spPr>
            <a:xfrm>
              <a:off x="7010640" y="3657600"/>
              <a:ext cx="838080" cy="102888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05720" y="419112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1606680" y="3062160"/>
            <a:ext cx="685800" cy="685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999000" y="2438280"/>
            <a:ext cx="1742040" cy="1996200"/>
            <a:chOff x="999000" y="2438280"/>
            <a:chExt cx="1742040" cy="1996200"/>
          </a:xfrm>
        </p:grpSpPr>
        <p:grpSp>
          <p:nvGrpSpPr>
            <p:cNvPr id="950" name=""/>
            <p:cNvGrpSpPr/>
            <p:nvPr/>
          </p:nvGrpSpPr>
          <p:grpSpPr>
            <a:xfrm>
              <a:off x="999000" y="2438280"/>
              <a:ext cx="1742040" cy="1996200"/>
              <a:chOff x="999000" y="2438280"/>
              <a:chExt cx="1742040" cy="1996200"/>
            </a:xfrm>
          </p:grpSpPr>
          <p:sp>
            <p:nvSpPr>
              <p:cNvPr id="951" name=""/>
              <p:cNvSpPr/>
              <p:nvPr/>
            </p:nvSpPr>
            <p:spPr>
              <a:xfrm>
                <a:off x="1225440" y="275724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225440" y="412884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999000" y="243828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rd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176200" y="40971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1225440" y="34430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11240" y="35193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76320" y="1295280"/>
            <a:ext cx="1276200" cy="1028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219320" y="1295280"/>
            <a:ext cx="2647800" cy="1028880"/>
            <a:chOff x="1219320" y="1295280"/>
            <a:chExt cx="2647800" cy="1028880"/>
          </a:xfrm>
        </p:grpSpPr>
        <p:sp>
          <p:nvSpPr>
            <p:cNvPr id="959" name=""/>
            <p:cNvSpPr/>
            <p:nvPr/>
          </p:nvSpPr>
          <p:spPr>
            <a:xfrm>
              <a:off x="2590920" y="1295280"/>
              <a:ext cx="1276200" cy="102888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*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||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n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219320" y="182880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024600" y="838080"/>
            <a:ext cx="2008080" cy="2075760"/>
            <a:chOff x="6024600" y="838080"/>
            <a:chExt cx="2008080" cy="2075760"/>
          </a:xfrm>
        </p:grpSpPr>
        <p:grpSp>
          <p:nvGrpSpPr>
            <p:cNvPr id="962" name=""/>
            <p:cNvGrpSpPr/>
            <p:nvPr/>
          </p:nvGrpSpPr>
          <p:grpSpPr>
            <a:xfrm>
              <a:off x="6095880" y="838080"/>
              <a:ext cx="1752840" cy="1562400"/>
              <a:chOff x="6095880" y="838080"/>
              <a:chExt cx="1752840" cy="1562400"/>
            </a:xfrm>
          </p:grpSpPr>
          <p:sp>
            <p:nvSpPr>
              <p:cNvPr id="963" name=""/>
              <p:cNvSpPr/>
              <p:nvPr/>
            </p:nvSpPr>
            <p:spPr>
              <a:xfrm>
                <a:off x="6386400" y="914400"/>
                <a:ext cx="0" cy="60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010280" y="1371600"/>
                <a:ext cx="838440" cy="1028880"/>
              </a:xfrm>
              <a:prstGeom prst="verticalScroll">
                <a:avLst>
                  <a:gd name="adj" fmla="val 125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353640" y="838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95880" y="1523880"/>
                <a:ext cx="609840" cy="60984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05720" y="182880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6024600" y="2576520"/>
              <a:ext cx="20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rigine&amp;riservatez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3733920" y="1523880"/>
            <a:ext cx="2361960" cy="1941480"/>
            <a:chOff x="3733920" y="1523880"/>
            <a:chExt cx="2361960" cy="1941480"/>
          </a:xfrm>
        </p:grpSpPr>
        <p:grpSp>
          <p:nvGrpSpPr>
            <p:cNvPr id="970" name=""/>
            <p:cNvGrpSpPr/>
            <p:nvPr/>
          </p:nvGrpSpPr>
          <p:grpSpPr>
            <a:xfrm>
              <a:off x="3733920" y="1523880"/>
              <a:ext cx="2361960" cy="1941480"/>
              <a:chOff x="3733920" y="1523880"/>
              <a:chExt cx="2361960" cy="1941480"/>
            </a:xfrm>
          </p:grpSpPr>
          <p:sp>
            <p:nvSpPr>
              <p:cNvPr id="971" name=""/>
              <p:cNvSpPr/>
              <p:nvPr/>
            </p:nvSpPr>
            <p:spPr>
              <a:xfrm>
                <a:off x="4343400" y="2855880"/>
                <a:ext cx="609480" cy="60948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15000" y="182880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05520" y="1523880"/>
                <a:ext cx="609480" cy="60984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952880" y="2133720"/>
                <a:ext cx="457200" cy="990360"/>
              </a:xfrm>
              <a:custGeom>
                <a:avLst/>
                <a:gdLst/>
                <a:ahLst/>
                <a:rect l="l" t="t" r="r" b="b"/>
                <a:pathLst>
                  <a:path w="528" h="624">
                    <a:moveTo>
                      <a:pt x="0" y="624"/>
                    </a:moveTo>
                    <a:lnTo>
                      <a:pt x="528" y="624"/>
                    </a:lnTo>
                    <a:lnTo>
                      <a:pt x="528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733920" y="1828800"/>
                <a:ext cx="1371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962520" y="1828800"/>
                <a:ext cx="380880" cy="1295280"/>
              </a:xfrm>
              <a:custGeom>
                <a:avLst/>
                <a:gdLst/>
                <a:ahLst/>
                <a:rect l="l" t="t" r="r" b="b"/>
                <a:pathLst>
                  <a:path w="240" h="816">
                    <a:moveTo>
                      <a:pt x="0" y="0"/>
                    </a:moveTo>
                    <a:lnTo>
                      <a:pt x="0" y="816"/>
                    </a:lnTo>
                    <a:lnTo>
                      <a:pt x="240" y="81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4177080" y="251460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grit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6704280" y="5562720"/>
            <a:ext cx="2343240" cy="119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blemi apert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p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s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21000" y="762120"/>
            <a:ext cx="4949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ttura di un messaggio autentic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ità ed origine di un testo in chia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371600" y="5334120"/>
            <a:ext cx="6384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A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ash with CBC encryptio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HMA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ash with ke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76320" y="1143000"/>
            <a:ext cx="4419360" cy="2517120"/>
            <a:chOff x="76320" y="1143000"/>
            <a:chExt cx="4419360" cy="2517120"/>
          </a:xfrm>
        </p:grpSpPr>
        <p:sp>
          <p:nvSpPr>
            <p:cNvPr id="983" name=""/>
            <p:cNvSpPr/>
            <p:nvPr/>
          </p:nvSpPr>
          <p:spPr>
            <a:xfrm>
              <a:off x="1905120" y="2133720"/>
              <a:ext cx="914400" cy="914400"/>
            </a:xfrm>
            <a:prstGeom prst="octagon">
              <a:avLst>
                <a:gd name="adj" fmla="val 29287"/>
              </a:avLst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2362320" y="3047760"/>
              <a:ext cx="0" cy="533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6320" y="1600200"/>
              <a:ext cx="1828800" cy="990720"/>
            </a:xfrm>
            <a:custGeom>
              <a:avLst/>
              <a:gdLst/>
              <a:ahLst/>
              <a:rect l="l" t="t" r="r" b="b"/>
              <a:pathLst>
                <a:path w="1152" h="624">
                  <a:moveTo>
                    <a:pt x="0" y="624"/>
                  </a:moveTo>
                  <a:lnTo>
                    <a:pt x="576" y="624"/>
                  </a:lnTo>
                  <a:lnTo>
                    <a:pt x="576" y="0"/>
                  </a:lnTo>
                  <a:lnTo>
                    <a:pt x="115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19520" y="25909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90720" y="160020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64120" y="320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81280" y="114300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81280" y="2247840"/>
              <a:ext cx="914400" cy="533520"/>
            </a:xfrm>
            <a:prstGeom prst="foldedCorner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4495680" y="990720"/>
            <a:ext cx="3733920" cy="1981080"/>
            <a:chOff x="4495680" y="990720"/>
            <a:chExt cx="3733920" cy="1981080"/>
          </a:xfrm>
        </p:grpSpPr>
        <p:sp>
          <p:nvSpPr>
            <p:cNvPr id="992" name=""/>
            <p:cNvSpPr/>
            <p:nvPr/>
          </p:nvSpPr>
          <p:spPr>
            <a:xfrm>
              <a:off x="4495680" y="990720"/>
              <a:ext cx="914400" cy="1981080"/>
            </a:xfrm>
            <a:prstGeom prst="cloudCallout">
              <a:avLst>
                <a:gd name="adj1" fmla="val -7810"/>
                <a:gd name="adj2" fmla="val 3757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5257800" y="1600200"/>
              <a:ext cx="2971800" cy="990720"/>
              <a:chOff x="5257800" y="1600200"/>
              <a:chExt cx="2971800" cy="990720"/>
            </a:xfrm>
          </p:grpSpPr>
          <p:sp>
            <p:nvSpPr>
              <p:cNvPr id="994" name=""/>
              <p:cNvSpPr/>
              <p:nvPr/>
            </p:nvSpPr>
            <p:spPr>
              <a:xfrm>
                <a:off x="5410080" y="160020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257800" y="1905120"/>
                <a:ext cx="2971800" cy="685800"/>
              </a:xfrm>
              <a:custGeom>
                <a:avLst/>
                <a:gdLst/>
                <a:ahLst/>
                <a:rect l="l" t="t" r="r" b="b"/>
                <a:pathLst>
                  <a:path w="1824" h="432">
                    <a:moveTo>
                      <a:pt x="0" y="432"/>
                    </a:moveTo>
                    <a:lnTo>
                      <a:pt x="240" y="432"/>
                    </a:lnTo>
                    <a:lnTo>
                      <a:pt x="240" y="0"/>
                    </a:lnTo>
                    <a:lnTo>
                      <a:pt x="182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6" name=""/>
          <p:cNvGrpSpPr/>
          <p:nvPr/>
        </p:nvGrpSpPr>
        <p:grpSpPr>
          <a:xfrm>
            <a:off x="6172200" y="1600200"/>
            <a:ext cx="2514600" cy="2059920"/>
            <a:chOff x="6172200" y="1600200"/>
            <a:chExt cx="2514600" cy="2059920"/>
          </a:xfrm>
        </p:grpSpPr>
        <p:sp>
          <p:nvSpPr>
            <p:cNvPr id="997" name=""/>
            <p:cNvSpPr/>
            <p:nvPr/>
          </p:nvSpPr>
          <p:spPr>
            <a:xfrm>
              <a:off x="6553080" y="2133720"/>
              <a:ext cx="914400" cy="914400"/>
            </a:xfrm>
            <a:prstGeom prst="octagon">
              <a:avLst>
                <a:gd name="adj" fmla="val 29287"/>
              </a:avLst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12080" y="320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67480" y="25909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772400" y="2286000"/>
              <a:ext cx="914400" cy="533520"/>
            </a:xfrm>
            <a:prstGeom prst="foldedCorner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7010280" y="3047760"/>
              <a:ext cx="0" cy="533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172200" y="1600200"/>
              <a:ext cx="380880" cy="990720"/>
            </a:xfrm>
            <a:custGeom>
              <a:avLst/>
              <a:gdLst/>
              <a:ahLst/>
              <a:rect l="l" t="t" r="r" b="b"/>
              <a:pathLst>
                <a:path w="240" h="624">
                  <a:moveTo>
                    <a:pt x="0" y="0"/>
                  </a:moveTo>
                  <a:lnTo>
                    <a:pt x="0" y="624"/>
                  </a:lnTo>
                  <a:lnTo>
                    <a:pt x="240" y="6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8153280" y="1828800"/>
            <a:ext cx="58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=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1004" name=""/>
          <p:cNvSpPr/>
          <p:nvPr/>
        </p:nvSpPr>
        <p:spPr>
          <a:xfrm>
            <a:off x="6475680" y="3809880"/>
            <a:ext cx="2343240" cy="119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blemi apert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p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s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95560" y="3774960"/>
            <a:ext cx="521460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POTESI sulla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ilità di inver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ilità di individuare colli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AC (Message Authentication Cod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3920" y="1447920"/>
            <a:ext cx="1369800" cy="2743200"/>
            <a:chOff x="763920" y="1447920"/>
            <a:chExt cx="1369800" cy="2743200"/>
          </a:xfrm>
        </p:grpSpPr>
        <p:sp>
          <p:nvSpPr>
            <p:cNvPr id="1008" name=""/>
            <p:cNvSpPr/>
            <p:nvPr/>
          </p:nvSpPr>
          <p:spPr>
            <a:xfrm>
              <a:off x="884520" y="350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90720" y="27432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763920" y="1447920"/>
              <a:ext cx="1369800" cy="2743200"/>
              <a:chOff x="763920" y="1447920"/>
              <a:chExt cx="1369800" cy="2743200"/>
            </a:xfrm>
          </p:grpSpPr>
          <p:sp>
            <p:nvSpPr>
              <p:cNvPr id="1011" name=""/>
              <p:cNvSpPr/>
              <p:nvPr/>
            </p:nvSpPr>
            <p:spPr>
              <a:xfrm>
                <a:off x="1219320" y="144792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71600" y="3533760"/>
                <a:ext cx="657360" cy="65736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676520" y="305424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371600" y="2390760"/>
                <a:ext cx="657360" cy="65736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76520" y="190512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990720" y="3886200"/>
                <a:ext cx="38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3920" y="236232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2057400" y="1447920"/>
            <a:ext cx="1523880" cy="2743200"/>
            <a:chOff x="2057400" y="1447920"/>
            <a:chExt cx="1523880" cy="2743200"/>
          </a:xfrm>
        </p:grpSpPr>
        <p:sp>
          <p:nvSpPr>
            <p:cNvPr id="1019" name=""/>
            <p:cNvSpPr/>
            <p:nvPr/>
          </p:nvSpPr>
          <p:spPr>
            <a:xfrm>
              <a:off x="2332080" y="350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2057400" y="1447920"/>
              <a:ext cx="1523880" cy="2743200"/>
              <a:chOff x="2057400" y="1447920"/>
              <a:chExt cx="1523880" cy="2743200"/>
            </a:xfrm>
          </p:grpSpPr>
          <p:sp>
            <p:nvSpPr>
              <p:cNvPr id="1021" name=""/>
              <p:cNvSpPr/>
              <p:nvPr/>
            </p:nvSpPr>
            <p:spPr>
              <a:xfrm>
                <a:off x="2666880" y="144792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19520" y="3533760"/>
                <a:ext cx="657000" cy="65736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124080" y="305424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19520" y="2390760"/>
                <a:ext cx="657000" cy="65736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24080" y="1905120"/>
                <a:ext cx="0" cy="4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438280" y="3886200"/>
                <a:ext cx="381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057400" y="2743200"/>
                <a:ext cx="762120" cy="1143000"/>
              </a:xfrm>
              <a:custGeom>
                <a:avLst/>
                <a:gdLst/>
                <a:ahLst/>
                <a:rect l="l" t="t" r="r" b="b"/>
                <a:pathLst>
                  <a:path w="480" h="768">
                    <a:moveTo>
                      <a:pt x="0" y="768"/>
                    </a:moveTo>
                    <a:lnTo>
                      <a:pt x="96" y="768"/>
                    </a:lnTo>
                    <a:lnTo>
                      <a:pt x="96" y="0"/>
                    </a:lnTo>
                    <a:lnTo>
                      <a:pt x="48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8" name=""/>
          <p:cNvGrpSpPr/>
          <p:nvPr/>
        </p:nvGrpSpPr>
        <p:grpSpPr>
          <a:xfrm>
            <a:off x="7086600" y="3809880"/>
            <a:ext cx="914400" cy="1752840"/>
            <a:chOff x="7086600" y="3809880"/>
            <a:chExt cx="914400" cy="1752840"/>
          </a:xfrm>
        </p:grpSpPr>
        <p:sp>
          <p:nvSpPr>
            <p:cNvPr id="1029" name=""/>
            <p:cNvSpPr/>
            <p:nvPr/>
          </p:nvSpPr>
          <p:spPr>
            <a:xfrm>
              <a:off x="7086600" y="5105520"/>
              <a:ext cx="9144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91520" y="3809880"/>
              <a:ext cx="152280" cy="129564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0" y="0"/>
                  </a:moveTo>
                  <a:lnTo>
                    <a:pt x="96" y="0"/>
                  </a:lnTo>
                  <a:lnTo>
                    <a:pt x="96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3505320" y="1447920"/>
            <a:ext cx="3994200" cy="2743200"/>
            <a:chOff x="3505320" y="1447920"/>
            <a:chExt cx="3994200" cy="2743200"/>
          </a:xfrm>
        </p:grpSpPr>
        <p:sp>
          <p:nvSpPr>
            <p:cNvPr id="1032" name=""/>
            <p:cNvSpPr/>
            <p:nvPr/>
          </p:nvSpPr>
          <p:spPr>
            <a:xfrm>
              <a:off x="6356520" y="38862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3505320" y="1447920"/>
              <a:ext cx="3994200" cy="2743200"/>
              <a:chOff x="3505320" y="1447920"/>
              <a:chExt cx="3994200" cy="2743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6250320" y="35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3505320" y="1447920"/>
                <a:ext cx="3994200" cy="2743200"/>
                <a:chOff x="3505320" y="1447920"/>
                <a:chExt cx="3994200" cy="27432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6585120" y="1447920"/>
                  <a:ext cx="91440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737400" y="3533760"/>
                  <a:ext cx="657000" cy="65736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042320" y="3054240"/>
                  <a:ext cx="0" cy="49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737400" y="2390760"/>
                  <a:ext cx="657000" cy="65736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99ff33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042320" y="1905120"/>
                  <a:ext cx="0" cy="49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505320" y="2743200"/>
                  <a:ext cx="761760" cy="114300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0" y="768"/>
                      </a:moveTo>
                      <a:lnTo>
                        <a:pt x="96" y="768"/>
                      </a:lnTo>
                      <a:lnTo>
                        <a:pt x="96" y="0"/>
                      </a:lnTo>
                      <a:lnTo>
                        <a:pt x="48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943600" y="2743200"/>
                  <a:ext cx="762120" cy="114300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0" y="768"/>
                      </a:moveTo>
                      <a:lnTo>
                        <a:pt x="96" y="768"/>
                      </a:lnTo>
                      <a:lnTo>
                        <a:pt x="96" y="0"/>
                      </a:lnTo>
                      <a:lnTo>
                        <a:pt x="48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419720" y="3276720"/>
                  <a:ext cx="1143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4" name=""/>
          <p:cNvSpPr/>
          <p:nvPr/>
        </p:nvSpPr>
        <p:spPr>
          <a:xfrm>
            <a:off x="2743200" y="5105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191120" y="5105520"/>
            <a:ext cx="2819160" cy="457200"/>
            <a:chOff x="4191120" y="5105520"/>
            <a:chExt cx="2819160" cy="457200"/>
          </a:xfrm>
        </p:grpSpPr>
        <p:sp>
          <p:nvSpPr>
            <p:cNvPr id="1046" name=""/>
            <p:cNvSpPr/>
            <p:nvPr/>
          </p:nvSpPr>
          <p:spPr>
            <a:xfrm>
              <a:off x="6095880" y="510552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191120" y="5334120"/>
              <a:ext cx="152388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59040" y="4537080"/>
            <a:ext cx="2684160" cy="1025640"/>
            <a:chOff x="59040" y="4537080"/>
            <a:chExt cx="2684160" cy="1025640"/>
          </a:xfrm>
        </p:grpSpPr>
        <p:sp>
          <p:nvSpPr>
            <p:cNvPr id="1049" name=""/>
            <p:cNvSpPr/>
            <p:nvPr/>
          </p:nvSpPr>
          <p:spPr>
            <a:xfrm>
              <a:off x="1828800" y="510552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9040" y="4537080"/>
              <a:ext cx="18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smissio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6324480" y="3962520"/>
            <a:ext cx="2590920" cy="2590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ensio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1828800" y="2971800"/>
            <a:ext cx="5410080" cy="1066680"/>
            <a:chOff x="1828800" y="2971800"/>
            <a:chExt cx="5410080" cy="1066680"/>
          </a:xfrm>
        </p:grpSpPr>
        <p:sp>
          <p:nvSpPr>
            <p:cNvPr id="1053" name=""/>
            <p:cNvSpPr/>
            <p:nvPr/>
          </p:nvSpPr>
          <p:spPr>
            <a:xfrm>
              <a:off x="5410080" y="2971800"/>
              <a:ext cx="182880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28800" y="2971800"/>
              <a:ext cx="182880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sh a 2 ingressi o con chi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1932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743200" y="3048120"/>
            <a:ext cx="838080" cy="914400"/>
          </a:xfrm>
          <a:prstGeom prst="octagon">
            <a:avLst>
              <a:gd name="adj" fmla="val 2928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04920" y="3048120"/>
            <a:ext cx="914400" cy="914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848720" y="3048120"/>
            <a:ext cx="914400" cy="914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00800" y="485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733920" y="2057400"/>
            <a:ext cx="533160" cy="5335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33920" y="2895480"/>
            <a:ext cx="533160" cy="5335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47920" y="2666880"/>
            <a:ext cx="5333760" cy="838440"/>
          </a:xfrm>
          <a:custGeom>
            <a:avLst/>
            <a:gdLst/>
            <a:ahLst/>
            <a:rect l="l" t="t" r="r" b="b"/>
            <a:pathLst>
              <a:path w="2640" h="528">
                <a:moveTo>
                  <a:pt x="0" y="528"/>
                </a:moveTo>
                <a:lnTo>
                  <a:pt x="0" y="0"/>
                </a:lnTo>
                <a:lnTo>
                  <a:pt x="2640" y="0"/>
                </a:lnTo>
                <a:lnTo>
                  <a:pt x="2640" y="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781680" y="26668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238880" y="4952880"/>
            <a:ext cx="685800" cy="5335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/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05120" y="3048120"/>
            <a:ext cx="838080" cy="914400"/>
          </a:xfrm>
          <a:prstGeom prst="octagon">
            <a:avLst>
              <a:gd name="adj" fmla="val 2928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24480" y="3048120"/>
            <a:ext cx="838440" cy="914400"/>
          </a:xfrm>
          <a:prstGeom prst="octagon">
            <a:avLst>
              <a:gd name="adj" fmla="val 2928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486400" y="3048120"/>
            <a:ext cx="838080" cy="914400"/>
          </a:xfrm>
          <a:prstGeom prst="octagon">
            <a:avLst>
              <a:gd name="adj" fmla="val 2928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2120" y="3962520"/>
            <a:ext cx="1523880" cy="685800"/>
          </a:xfrm>
          <a:custGeom>
            <a:avLst/>
            <a:gdLst/>
            <a:ahLst/>
            <a:rect l="l" t="t" r="r" b="b"/>
            <a:pathLst>
              <a:path w="960" h="432">
                <a:moveTo>
                  <a:pt x="0" y="0"/>
                </a:moveTo>
                <a:lnTo>
                  <a:pt x="0" y="432"/>
                </a:lnTo>
                <a:lnTo>
                  <a:pt x="960" y="432"/>
                </a:lnTo>
                <a:lnTo>
                  <a:pt x="960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162560" y="35053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10080" y="4348080"/>
            <a:ext cx="986040" cy="986040"/>
          </a:xfrm>
          <a:prstGeom prst="diamond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219320" y="4038480"/>
            <a:ext cx="533160" cy="5335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238880" y="2895480"/>
            <a:ext cx="533520" cy="5335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3505320"/>
            <a:ext cx="1828800" cy="1334880"/>
          </a:xfrm>
          <a:custGeom>
            <a:avLst/>
            <a:gdLst/>
            <a:ahLst/>
            <a:rect l="l" t="t" r="r" b="b"/>
            <a:pathLst>
              <a:path w="1152" h="816">
                <a:moveTo>
                  <a:pt x="0" y="0"/>
                </a:moveTo>
                <a:lnTo>
                  <a:pt x="384" y="0"/>
                </a:lnTo>
                <a:lnTo>
                  <a:pt x="384" y="816"/>
                </a:lnTo>
                <a:lnTo>
                  <a:pt x="1152" y="8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897520" y="396252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095880" y="4038480"/>
            <a:ext cx="533520" cy="5335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103760" y="5654520"/>
            <a:ext cx="697968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ndo il segreto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chiara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essere l’au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la prova di integrità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 messaggi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M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0880" y="32004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tandard Internet (RFC 210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dare sicurezza al livell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685800" y="685800"/>
            <a:ext cx="7529760" cy="2168280"/>
            <a:chOff x="685800" y="685800"/>
            <a:chExt cx="7529760" cy="2168280"/>
          </a:xfrm>
        </p:grpSpPr>
        <p:grpSp>
          <p:nvGrpSpPr>
            <p:cNvPr id="1081" name=""/>
            <p:cNvGrpSpPr/>
            <p:nvPr/>
          </p:nvGrpSpPr>
          <p:grpSpPr>
            <a:xfrm>
              <a:off x="685800" y="1125360"/>
              <a:ext cx="7529760" cy="1728720"/>
              <a:chOff x="685800" y="1125360"/>
              <a:chExt cx="7529760" cy="1728720"/>
            </a:xfrm>
          </p:grpSpPr>
          <p:sp>
            <p:nvSpPr>
              <p:cNvPr id="1082" name=""/>
              <p:cNvSpPr/>
              <p:nvPr/>
            </p:nvSpPr>
            <p:spPr>
              <a:xfrm>
                <a:off x="1289160" y="1544400"/>
                <a:ext cx="160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429000" y="1544400"/>
                <a:ext cx="88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873680" y="2422440"/>
                <a:ext cx="106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404120" y="19904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85800" y="1125360"/>
                <a:ext cx="679320" cy="83340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255920" y="1311120"/>
                <a:ext cx="677880" cy="432000"/>
              </a:xfrm>
              <a:prstGeom prst="verticalScroll">
                <a:avLst>
                  <a:gd name="adj" fmla="val 12500"/>
                </a:avLst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255920" y="2020680"/>
                <a:ext cx="677880" cy="833400"/>
              </a:xfrm>
              <a:prstGeom prst="verticalScroll">
                <a:avLst>
                  <a:gd name="adj" fmla="val 125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938920" y="2162160"/>
                <a:ext cx="531720" cy="53172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43720" y="1743120"/>
                <a:ext cx="860400" cy="493560"/>
              </a:xfrm>
              <a:prstGeom prst="flowChartPreparation">
                <a:avLst/>
              </a:prstGeom>
              <a:solidFill>
                <a:srgbClr val="99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F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539720" y="1557360"/>
                <a:ext cx="2778120" cy="893520"/>
              </a:xfrm>
              <a:custGeom>
                <a:avLst/>
                <a:gdLst/>
                <a:ahLst/>
                <a:rect l="l" t="t" r="r" b="b"/>
                <a:pathLst>
                  <a:path w="216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2160" y="72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873680" y="1557360"/>
                <a:ext cx="2098800" cy="185760"/>
              </a:xfrm>
              <a:custGeom>
                <a:avLst/>
                <a:gdLst/>
                <a:ahLst/>
                <a:rect l="l" t="t" r="r" b="b"/>
                <a:pathLst>
                  <a:path w="1632" h="96">
                    <a:moveTo>
                      <a:pt x="0" y="0"/>
                    </a:moveTo>
                    <a:lnTo>
                      <a:pt x="1632" y="0"/>
                    </a:lnTo>
                    <a:lnTo>
                      <a:pt x="1632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70640" y="2222280"/>
                <a:ext cx="501840" cy="192240"/>
              </a:xfrm>
              <a:custGeom>
                <a:avLst/>
                <a:gdLst/>
                <a:ahLst/>
                <a:rect l="l" t="t" r="r" b="b"/>
                <a:pathLst>
                  <a:path w="480" h="144">
                    <a:moveTo>
                      <a:pt x="0" y="144"/>
                    </a:moveTo>
                    <a:lnTo>
                      <a:pt x="480" y="144"/>
                    </a:lnTo>
                    <a:lnTo>
                      <a:pt x="48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596000" y="1522440"/>
                <a:ext cx="619560" cy="1191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897280" y="1253880"/>
                <a:ext cx="531720" cy="53208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1890720" y="685800"/>
              <a:ext cx="3823560" cy="2016000"/>
              <a:chOff x="1890720" y="685800"/>
              <a:chExt cx="3823560" cy="2016000"/>
            </a:xfrm>
          </p:grpSpPr>
          <p:sp>
            <p:nvSpPr>
              <p:cNvPr id="1097" name=""/>
              <p:cNvSpPr/>
              <p:nvPr/>
            </p:nvSpPr>
            <p:spPr>
              <a:xfrm>
                <a:off x="1890720" y="1280880"/>
                <a:ext cx="531720" cy="53208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105520" y="2170080"/>
                <a:ext cx="531720" cy="53172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9" name=""/>
              <p:cNvGrpSpPr/>
              <p:nvPr/>
            </p:nvGrpSpPr>
            <p:grpSpPr>
              <a:xfrm>
                <a:off x="2135520" y="685800"/>
                <a:ext cx="3578760" cy="1482480"/>
                <a:chOff x="2135520" y="685800"/>
                <a:chExt cx="3578760" cy="148248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2135520" y="685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173320" y="9493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5410080" y="18637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364360" y="16351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04" name=""/>
          <p:cNvSpPr/>
          <p:nvPr/>
        </p:nvSpPr>
        <p:spPr>
          <a:xfrm>
            <a:off x="6553080" y="4267080"/>
            <a:ext cx="1981440" cy="1981440"/>
          </a:xfrm>
          <a:prstGeom prst="octagon">
            <a:avLst>
              <a:gd name="adj" fmla="val 2928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125000" y="4254480"/>
            <a:ext cx="3688920" cy="233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: k = k1||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: h1 = H(k1||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: h = H(k2||h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HMAC(k||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HMA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unzione hash “con chiav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304920" y="187200"/>
            <a:ext cx="8610480" cy="6213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ent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erva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protocollo sfida/rispos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1371600" y="1635120"/>
            <a:ext cx="1752480" cy="609480"/>
            <a:chOff x="1371600" y="1635120"/>
            <a:chExt cx="1752480" cy="609480"/>
          </a:xfrm>
        </p:grpSpPr>
        <p:sp>
          <p:nvSpPr>
            <p:cNvPr id="1109" name=""/>
            <p:cNvSpPr/>
            <p:nvPr/>
          </p:nvSpPr>
          <p:spPr>
            <a:xfrm>
              <a:off x="1371600" y="22446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81080" y="1635120"/>
              <a:ext cx="533520" cy="53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74880" y="1219320"/>
            <a:ext cx="4400640" cy="5064120"/>
            <a:chOff x="74880" y="1219320"/>
            <a:chExt cx="4400640" cy="5064120"/>
          </a:xfrm>
        </p:grpSpPr>
        <p:grpSp>
          <p:nvGrpSpPr>
            <p:cNvPr id="1112" name=""/>
            <p:cNvGrpSpPr/>
            <p:nvPr/>
          </p:nvGrpSpPr>
          <p:grpSpPr>
            <a:xfrm>
              <a:off x="304920" y="1940040"/>
              <a:ext cx="3886200" cy="4343400"/>
              <a:chOff x="304920" y="1940040"/>
              <a:chExt cx="3886200" cy="4343400"/>
            </a:xfrm>
          </p:grpSpPr>
          <p:sp>
            <p:nvSpPr>
              <p:cNvPr id="1113" name=""/>
              <p:cNvSpPr/>
              <p:nvPr/>
            </p:nvSpPr>
            <p:spPr>
              <a:xfrm>
                <a:off x="304920" y="1940040"/>
                <a:ext cx="1066680" cy="43434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124080" y="1940040"/>
                <a:ext cx="1067040" cy="43434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74880" y="1219320"/>
              <a:ext cx="44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entificand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ifica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1371600" y="3159000"/>
            <a:ext cx="2457360" cy="914400"/>
            <a:chOff x="1371600" y="3159000"/>
            <a:chExt cx="2457360" cy="914400"/>
          </a:xfrm>
        </p:grpSpPr>
        <p:sp>
          <p:nvSpPr>
            <p:cNvPr id="1117" name=""/>
            <p:cNvSpPr/>
            <p:nvPr/>
          </p:nvSpPr>
          <p:spPr>
            <a:xfrm>
              <a:off x="1828800" y="3159000"/>
              <a:ext cx="838080" cy="53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f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00400" y="3387600"/>
              <a:ext cx="628560" cy="685800"/>
            </a:xfrm>
            <a:prstGeom prst="octagon">
              <a:avLst>
                <a:gd name="adj" fmla="val 2928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1371600" y="376884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33520" y="3768840"/>
            <a:ext cx="838080" cy="1523880"/>
            <a:chOff x="533520" y="3768840"/>
            <a:chExt cx="838080" cy="1523880"/>
          </a:xfrm>
        </p:grpSpPr>
        <p:sp>
          <p:nvSpPr>
            <p:cNvPr id="1121" name=""/>
            <p:cNvSpPr/>
            <p:nvPr/>
          </p:nvSpPr>
          <p:spPr>
            <a:xfrm>
              <a:off x="533520" y="4149720"/>
              <a:ext cx="628560" cy="685800"/>
            </a:xfrm>
            <a:prstGeom prst="octagon">
              <a:avLst>
                <a:gd name="adj" fmla="val 2928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38080" y="3768840"/>
              <a:ext cx="533520" cy="38088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288" y="0"/>
                  </a:moveTo>
                  <a:lnTo>
                    <a:pt x="0" y="0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38080" y="48355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0"/>
                  </a:moveTo>
                  <a:lnTo>
                    <a:pt x="0" y="288"/>
                  </a:lnTo>
                  <a:lnTo>
                    <a:pt x="33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200400" y="2244600"/>
            <a:ext cx="914400" cy="3048120"/>
            <a:chOff x="3200400" y="2244600"/>
            <a:chExt cx="914400" cy="3048120"/>
          </a:xfrm>
        </p:grpSpPr>
        <p:sp>
          <p:nvSpPr>
            <p:cNvPr id="1125" name=""/>
            <p:cNvSpPr/>
            <p:nvPr/>
          </p:nvSpPr>
          <p:spPr>
            <a:xfrm flipH="1">
              <a:off x="3809520" y="376884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3200400" y="2244600"/>
              <a:ext cx="914400" cy="3048120"/>
              <a:chOff x="3200400" y="2244600"/>
              <a:chExt cx="914400" cy="3048120"/>
            </a:xfrm>
          </p:grpSpPr>
          <p:sp>
            <p:nvSpPr>
              <p:cNvPr id="1127" name=""/>
              <p:cNvSpPr/>
              <p:nvPr/>
            </p:nvSpPr>
            <p:spPr>
              <a:xfrm>
                <a:off x="3200400" y="2244600"/>
                <a:ext cx="628560" cy="685800"/>
              </a:xfrm>
              <a:prstGeom prst="octagon">
                <a:avLst>
                  <a:gd name="adj" fmla="val 29287"/>
                </a:avLst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09880" y="2625840"/>
                <a:ext cx="304920" cy="2666880"/>
              </a:xfrm>
              <a:custGeom>
                <a:avLst/>
                <a:gdLst/>
                <a:ahLst/>
                <a:rect l="l" t="t" r="r" b="b"/>
                <a:pathLst>
                  <a:path w="192" h="158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584"/>
                    </a:lnTo>
                    <a:lnTo>
                      <a:pt x="48" y="1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11320" y="22446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0" name=""/>
          <p:cNvGrpSpPr/>
          <p:nvPr/>
        </p:nvGrpSpPr>
        <p:grpSpPr>
          <a:xfrm>
            <a:off x="1371600" y="4683240"/>
            <a:ext cx="2646360" cy="1526400"/>
            <a:chOff x="1371600" y="4683240"/>
            <a:chExt cx="2646360" cy="1526400"/>
          </a:xfrm>
        </p:grpSpPr>
        <p:sp>
          <p:nvSpPr>
            <p:cNvPr id="1131" name=""/>
            <p:cNvSpPr/>
            <p:nvPr/>
          </p:nvSpPr>
          <p:spPr>
            <a:xfrm>
              <a:off x="1676520" y="4683240"/>
              <a:ext cx="1066680" cy="5331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spo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71600" y="52927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24080" y="5064120"/>
              <a:ext cx="762120" cy="507960"/>
            </a:xfrm>
            <a:prstGeom prst="flowChartDecision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505320" y="5597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25520" y="57499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/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4646880" y="1219320"/>
            <a:ext cx="4400640" cy="5064120"/>
            <a:chOff x="4646880" y="1219320"/>
            <a:chExt cx="4400640" cy="5064120"/>
          </a:xfrm>
        </p:grpSpPr>
        <p:sp>
          <p:nvSpPr>
            <p:cNvPr id="1137" name=""/>
            <p:cNvSpPr/>
            <p:nvPr/>
          </p:nvSpPr>
          <p:spPr>
            <a:xfrm>
              <a:off x="5943600" y="22446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53080" y="1635120"/>
              <a:ext cx="533520" cy="53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876920" y="1940040"/>
              <a:ext cx="1066680" cy="4343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96080" y="1940040"/>
              <a:ext cx="1067040" cy="4343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46880" y="1219320"/>
              <a:ext cx="44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entificand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ifica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772400" y="2244600"/>
              <a:ext cx="628560" cy="685800"/>
            </a:xfrm>
            <a:prstGeom prst="octagon">
              <a:avLst>
                <a:gd name="adj" fmla="val 29287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72400" y="4073400"/>
              <a:ext cx="628560" cy="685800"/>
            </a:xfrm>
            <a:prstGeom prst="octagon">
              <a:avLst>
                <a:gd name="adj" fmla="val 2928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05520" y="3311640"/>
              <a:ext cx="628560" cy="685800"/>
            </a:xfrm>
            <a:prstGeom prst="octagon">
              <a:avLst>
                <a:gd name="adj" fmla="val 2928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5943600" y="308304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43600" y="445464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81880" y="2625840"/>
              <a:ext cx="304920" cy="2666880"/>
            </a:xfrm>
            <a:custGeom>
              <a:avLst/>
              <a:gdLst/>
              <a:ahLst/>
              <a:rect l="l" t="t" r="r" b="b"/>
              <a:pathLst>
                <a:path w="192" h="1584">
                  <a:moveTo>
                    <a:pt x="0" y="0"/>
                  </a:moveTo>
                  <a:lnTo>
                    <a:pt x="192" y="0"/>
                  </a:lnTo>
                  <a:lnTo>
                    <a:pt x="192" y="1584"/>
                  </a:lnTo>
                  <a:lnTo>
                    <a:pt x="48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10080" y="3083040"/>
              <a:ext cx="53352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288" y="0"/>
                  </a:moveTo>
                  <a:lnTo>
                    <a:pt x="0" y="0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10080" y="399744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0"/>
                  </a:moveTo>
                  <a:lnTo>
                    <a:pt x="0" y="288"/>
                  </a:lnTo>
                  <a:lnTo>
                    <a:pt x="336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96080" y="5064120"/>
              <a:ext cx="762120" cy="507960"/>
            </a:xfrm>
            <a:prstGeom prst="flowChartDecision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83320" y="224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77320" y="5597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97520" y="57499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/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077320" y="475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00800" y="2473200"/>
              <a:ext cx="838080" cy="53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f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248520" y="3844800"/>
              <a:ext cx="1066680" cy="53352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spo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24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entificazione mutua &amp;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enticazione di un’informazione 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1676520" y="1828800"/>
            <a:ext cx="5790960" cy="914400"/>
            <a:chOff x="1676520" y="1828800"/>
            <a:chExt cx="5790960" cy="914400"/>
          </a:xfrm>
        </p:grpSpPr>
        <p:sp>
          <p:nvSpPr>
            <p:cNvPr id="1159" name=""/>
            <p:cNvSpPr/>
            <p:nvPr/>
          </p:nvSpPr>
          <p:spPr>
            <a:xfrm>
              <a:off x="1676520" y="18288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553080" y="18288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52480" y="2590920"/>
            <a:ext cx="5639040" cy="380880"/>
            <a:chOff x="1752480" y="2590920"/>
            <a:chExt cx="5639040" cy="380880"/>
          </a:xfrm>
        </p:grpSpPr>
        <p:sp>
          <p:nvSpPr>
            <p:cNvPr id="1162" name=""/>
            <p:cNvSpPr/>
            <p:nvPr/>
          </p:nvSpPr>
          <p:spPr>
            <a:xfrm>
              <a:off x="1752480" y="2590920"/>
              <a:ext cx="38124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010280" y="2590920"/>
              <a:ext cx="38124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2666880" y="2209680"/>
            <a:ext cx="3810240" cy="304920"/>
          </a:xfrm>
          <a:custGeom>
            <a:avLst/>
            <a:gdLst/>
            <a:ahLst/>
            <a:rect l="l" t="t" r="r" b="b"/>
            <a:pathLst>
              <a:path w="2400" h="192">
                <a:moveTo>
                  <a:pt x="0" y="0"/>
                </a:moveTo>
                <a:lnTo>
                  <a:pt x="2400" y="0"/>
                </a:lnTo>
                <a:lnTo>
                  <a:pt x="2400" y="96"/>
                </a:lnTo>
                <a:lnTo>
                  <a:pt x="0" y="96"/>
                </a:lnTo>
                <a:lnTo>
                  <a:pt x="0" y="192"/>
                </a:lnTo>
                <a:lnTo>
                  <a:pt x="240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419720" y="22096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49840" y="3327480"/>
            <a:ext cx="427716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generata d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: c = 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T||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decifra, controlla T, estra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: c = 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T||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decifra, controlla T, controll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785120" y="3327480"/>
            <a:ext cx="42199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generata d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: 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: c = 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T||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decifra, controlla T, estra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: c = 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T||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frari a flusso ed a blocch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3040" y="228600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Cifrario a fluss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stream cipher): trasforma, uno o pochi alla vol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bit del testo da cifrare e da decifr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4040" y="5334120"/>
            <a:ext cx="75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Cifrario a blocch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block cipher): trasforma, una alla vol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locchi di messaggio formati da molti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1066680"/>
            <a:ext cx="4343400" cy="838440"/>
          </a:xfrm>
          <a:prstGeom prst="cloudCallout">
            <a:avLst>
              <a:gd name="adj1" fmla="val -49305"/>
              <a:gd name="adj2" fmla="val 10606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ne time 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038480"/>
            <a:ext cx="4343400" cy="838440"/>
          </a:xfrm>
          <a:prstGeom prst="cloudCallout">
            <a:avLst>
              <a:gd name="adj1" fmla="val -49962"/>
              <a:gd name="adj2" fmla="val 107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frario poligra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frario comp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080" y="3352680"/>
            <a:ext cx="655416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zione dei singoli bit di una trasmissione se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960" y="6248520"/>
            <a:ext cx="632556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zione di pacchetti, di file e di strutture d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0120" y="3352680"/>
            <a:ext cx="16362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P,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46080" y="6172200"/>
            <a:ext cx="15523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PSec, S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pudio e Falsifica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676520" y="1295280"/>
            <a:ext cx="5790960" cy="914400"/>
            <a:chOff x="1676520" y="1295280"/>
            <a:chExt cx="5790960" cy="914400"/>
          </a:xfrm>
        </p:grpSpPr>
        <p:sp>
          <p:nvSpPr>
            <p:cNvPr id="1170" name=""/>
            <p:cNvSpPr/>
            <p:nvPr/>
          </p:nvSpPr>
          <p:spPr>
            <a:xfrm>
              <a:off x="1676520" y="12952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553080" y="12952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1752480" y="2057400"/>
            <a:ext cx="5639040" cy="380880"/>
            <a:chOff x="1752480" y="2057400"/>
            <a:chExt cx="5639040" cy="380880"/>
          </a:xfrm>
        </p:grpSpPr>
        <p:sp>
          <p:nvSpPr>
            <p:cNvPr id="1173" name=""/>
            <p:cNvSpPr/>
            <p:nvPr/>
          </p:nvSpPr>
          <p:spPr>
            <a:xfrm>
              <a:off x="1752480" y="2057400"/>
              <a:ext cx="38124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010280" y="2057400"/>
              <a:ext cx="38124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3581280" y="1219320"/>
            <a:ext cx="19814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*||H(m*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982440" y="3200400"/>
            <a:ext cx="724464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condivisione del segr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blemi di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pud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ffermando che B l’ha alterato o forg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 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g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ffermando che l’ha fatto 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81280" y="1905120"/>
            <a:ext cx="19814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*|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040400" y="5299200"/>
            <a:ext cx="7057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a digitale nel contesto della Crittografia simme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1295280"/>
            <a:ext cx="7925040" cy="914400"/>
            <a:chOff x="609480" y="1295280"/>
            <a:chExt cx="7925040" cy="914400"/>
          </a:xfrm>
        </p:grpSpPr>
        <p:sp>
          <p:nvSpPr>
            <p:cNvPr id="1180" name=""/>
            <p:cNvSpPr/>
            <p:nvPr/>
          </p:nvSpPr>
          <p:spPr>
            <a:xfrm>
              <a:off x="2590920" y="1752480"/>
              <a:ext cx="396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09480" y="129528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20120" y="129528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ma digit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6400" y="1523880"/>
            <a:ext cx="855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rma digitale di un documento informatico de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‑ consentir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un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identific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oca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firmatari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‑ non poter ess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it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un impost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‑ non poter ess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sport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un documento ad un altr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‑ non poter ess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udi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ll'aut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‑ rend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alterab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 documento in cui è stata appo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principio della terza parte fi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523880" y="3962520"/>
            <a:ext cx="6096240" cy="914400"/>
            <a:chOff x="1523880" y="3962520"/>
            <a:chExt cx="6096240" cy="914400"/>
          </a:xfrm>
        </p:grpSpPr>
        <p:sp>
          <p:nvSpPr>
            <p:cNvPr id="1187" name=""/>
            <p:cNvSpPr/>
            <p:nvPr/>
          </p:nvSpPr>
          <p:spPr>
            <a:xfrm>
              <a:off x="1523880" y="3962520"/>
              <a:ext cx="91440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05720" y="3962520"/>
              <a:ext cx="91440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362320" y="4191120"/>
              <a:ext cx="441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2362320" y="4648320"/>
              <a:ext cx="441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1828800" y="1600200"/>
            <a:ext cx="5486400" cy="2392200"/>
            <a:chOff x="1828800" y="1600200"/>
            <a:chExt cx="5486400" cy="2392200"/>
          </a:xfrm>
        </p:grpSpPr>
        <p:sp>
          <p:nvSpPr>
            <p:cNvPr id="1192" name=""/>
            <p:cNvSpPr/>
            <p:nvPr/>
          </p:nvSpPr>
          <p:spPr>
            <a:xfrm>
              <a:off x="4114800" y="1600200"/>
              <a:ext cx="91440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828800" y="1905120"/>
              <a:ext cx="2286000" cy="205740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3720" y="2133720"/>
              <a:ext cx="1981080" cy="185868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5029200" y="1905120"/>
              <a:ext cx="2286000" cy="205740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5028480" y="2133720"/>
              <a:ext cx="1981080" cy="185868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189720" y="5213520"/>
            <a:ext cx="88189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ocolli resi sicuri dalla partecipazione di una terza pa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“notaio” interviene durante lo svolgimento per impedire scorrettez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“giudice” interviene al termine per dirimere dis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ma digita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 un Cifrario simmetr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16002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1523880" y="3962520"/>
            <a:ext cx="6096240" cy="914400"/>
            <a:chOff x="1523880" y="3962520"/>
            <a:chExt cx="6096240" cy="914400"/>
          </a:xfrm>
        </p:grpSpPr>
        <p:sp>
          <p:nvSpPr>
            <p:cNvPr id="1201" name=""/>
            <p:cNvSpPr/>
            <p:nvPr/>
          </p:nvSpPr>
          <p:spPr>
            <a:xfrm>
              <a:off x="1523880" y="3962520"/>
              <a:ext cx="91440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705720" y="3962520"/>
              <a:ext cx="91440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38280" y="4419720"/>
              <a:ext cx="426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 flipH="1">
            <a:off x="5029200" y="1905120"/>
            <a:ext cx="2286000" cy="2057400"/>
          </a:xfrm>
          <a:custGeom>
            <a:avLst/>
            <a:gdLst/>
            <a:ahLst/>
            <a:rect l="l" t="t" r="r" b="b"/>
            <a:pathLst>
              <a:path w="1440" h="1296">
                <a:moveTo>
                  <a:pt x="0" y="129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1218960" y="1905120"/>
            <a:ext cx="2895840" cy="2057400"/>
            <a:chOff x="1218960" y="1905120"/>
            <a:chExt cx="2895840" cy="2057400"/>
          </a:xfrm>
        </p:grpSpPr>
        <p:sp>
          <p:nvSpPr>
            <p:cNvPr id="1206" name=""/>
            <p:cNvSpPr/>
            <p:nvPr/>
          </p:nvSpPr>
          <p:spPr>
            <a:xfrm>
              <a:off x="1828800" y="1905120"/>
              <a:ext cx="2286000" cy="205740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218960" y="2546280"/>
              <a:ext cx="153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:depos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 flipH="1">
            <a:off x="5028480" y="2133720"/>
            <a:ext cx="1981080" cy="1858680"/>
          </a:xfrm>
          <a:custGeom>
            <a:avLst/>
            <a:gdLst/>
            <a:ahLst/>
            <a:rect l="l" t="t" r="r" b="b"/>
            <a:pathLst>
              <a:path w="1440" h="1296">
                <a:moveTo>
                  <a:pt x="0" y="129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311880" y="2546280"/>
            <a:ext cx="15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: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982240" y="45720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documento &amp; ricev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2286000" y="2362320"/>
            <a:ext cx="4431960" cy="1894680"/>
            <a:chOff x="2286000" y="2362320"/>
            <a:chExt cx="4431960" cy="1894680"/>
          </a:xfrm>
        </p:grpSpPr>
        <p:sp>
          <p:nvSpPr>
            <p:cNvPr id="1212" name=""/>
            <p:cNvSpPr/>
            <p:nvPr/>
          </p:nvSpPr>
          <p:spPr>
            <a:xfrm flipV="1">
              <a:off x="2286000" y="2362320"/>
              <a:ext cx="1981080" cy="1752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279600" y="312408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 flipV="1">
              <a:off x="4788360" y="2448000"/>
              <a:ext cx="1929600" cy="1809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00120" y="31240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K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133720" y="2022480"/>
            <a:ext cx="1981080" cy="1969920"/>
            <a:chOff x="2133720" y="2022480"/>
            <a:chExt cx="1981080" cy="1969920"/>
          </a:xfrm>
        </p:grpSpPr>
        <p:sp>
          <p:nvSpPr>
            <p:cNvPr id="1217" name=""/>
            <p:cNvSpPr/>
            <p:nvPr/>
          </p:nvSpPr>
          <p:spPr>
            <a:xfrm>
              <a:off x="2133720" y="2133720"/>
              <a:ext cx="1981080" cy="185868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26640" y="20224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icevu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"/>
          <p:cNvGrpSpPr/>
          <p:nvPr/>
        </p:nvGrpSpPr>
        <p:grpSpPr>
          <a:xfrm>
            <a:off x="304920" y="533520"/>
            <a:ext cx="8534160" cy="6095880"/>
            <a:chOff x="304920" y="533520"/>
            <a:chExt cx="8534160" cy="6095880"/>
          </a:xfrm>
        </p:grpSpPr>
        <p:sp>
          <p:nvSpPr>
            <p:cNvPr id="1220" name=""/>
            <p:cNvSpPr/>
            <p:nvPr/>
          </p:nvSpPr>
          <p:spPr>
            <a:xfrm>
              <a:off x="3352680" y="533520"/>
              <a:ext cx="5486400" cy="6095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4920" y="1295280"/>
              <a:ext cx="1447560" cy="2438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04920" y="4191120"/>
              <a:ext cx="1447560" cy="24382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istro Atti Priv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553080" y="1752480"/>
            <a:ext cx="175284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||T||M||R||Fi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228600" y="1295280"/>
            <a:ext cx="3505320" cy="1052640"/>
            <a:chOff x="228600" y="1295280"/>
            <a:chExt cx="3505320" cy="1052640"/>
          </a:xfrm>
        </p:grpSpPr>
        <p:sp>
          <p:nvSpPr>
            <p:cNvPr id="1226" name=""/>
            <p:cNvSpPr/>
            <p:nvPr/>
          </p:nvSpPr>
          <p:spPr>
            <a:xfrm>
              <a:off x="1295280" y="204300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613160" y="1662120"/>
              <a:ext cx="1713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:A||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||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85800" y="1738080"/>
              <a:ext cx="609480" cy="60984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90720" y="150948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76320" y="12952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28600" y="204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06360" y="164628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3733920" y="1295280"/>
            <a:ext cx="893520" cy="1067040"/>
            <a:chOff x="3733920" y="1295280"/>
            <a:chExt cx="893520" cy="1067040"/>
          </a:xfrm>
        </p:grpSpPr>
        <p:sp>
          <p:nvSpPr>
            <p:cNvPr id="1234" name=""/>
            <p:cNvSpPr/>
            <p:nvPr/>
          </p:nvSpPr>
          <p:spPr>
            <a:xfrm>
              <a:off x="4343400" y="2057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920" y="1752480"/>
              <a:ext cx="609480" cy="60984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092480" y="150984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78080" y="12952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1295280" y="2362320"/>
            <a:ext cx="4953240" cy="1168200"/>
            <a:chOff x="1295280" y="2362320"/>
            <a:chExt cx="4953240" cy="1168200"/>
          </a:xfrm>
        </p:grpSpPr>
        <p:sp>
          <p:nvSpPr>
            <p:cNvPr id="1239" name=""/>
            <p:cNvSpPr/>
            <p:nvPr/>
          </p:nvSpPr>
          <p:spPr>
            <a:xfrm flipH="1">
              <a:off x="4343040" y="3124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1295280" y="2362320"/>
              <a:ext cx="4953240" cy="1168200"/>
              <a:chOff x="1295280" y="2362320"/>
              <a:chExt cx="4953240" cy="1168200"/>
            </a:xfrm>
          </p:grpSpPr>
          <p:sp>
            <p:nvSpPr>
              <p:cNvPr id="1241" name=""/>
              <p:cNvSpPr/>
              <p:nvPr/>
            </p:nvSpPr>
            <p:spPr>
              <a:xfrm flipH="1">
                <a:off x="1295280" y="31399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38480" y="2514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712520" y="2743200"/>
                <a:ext cx="176436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: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K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A||T||M||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||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E</a:t>
                </a:r>
                <a:r>
                  <a:rPr b="0" lang="en-US" sz="2000" spc="-1" strike="noStrike" baseline="-25000">
                    <a:solidFill>
                      <a:srgbClr val="ff33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(A||T||M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733920" y="2819520"/>
                <a:ext cx="609480" cy="60948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K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572000" y="2819520"/>
                <a:ext cx="609480" cy="60948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181480" y="2514600"/>
                <a:ext cx="1067040" cy="609480"/>
              </a:xfrm>
              <a:custGeom>
                <a:avLst/>
                <a:gdLst/>
                <a:ahLst/>
                <a:rect l="l" t="t" r="r" b="b"/>
                <a:pathLst>
                  <a:path w="672" h="672">
                    <a:moveTo>
                      <a:pt x="672" y="0"/>
                    </a:moveTo>
                    <a:lnTo>
                      <a:pt x="672" y="672"/>
                    </a:lnTo>
                    <a:lnTo>
                      <a:pt x="0" y="67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020840" y="236232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K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8" name=""/>
          <p:cNvGrpSpPr/>
          <p:nvPr/>
        </p:nvGrpSpPr>
        <p:grpSpPr>
          <a:xfrm>
            <a:off x="228600" y="2362320"/>
            <a:ext cx="2514600" cy="2438280"/>
            <a:chOff x="228600" y="2362320"/>
            <a:chExt cx="2514600" cy="2438280"/>
          </a:xfrm>
        </p:grpSpPr>
        <p:sp>
          <p:nvSpPr>
            <p:cNvPr id="1249" name=""/>
            <p:cNvSpPr/>
            <p:nvPr/>
          </p:nvSpPr>
          <p:spPr>
            <a:xfrm>
              <a:off x="228600" y="379404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:A||T||M||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(A||T||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85800" y="2819520"/>
              <a:ext cx="719280" cy="60948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90720" y="2590920"/>
              <a:ext cx="144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92160" y="23623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28600" y="3124080"/>
              <a:ext cx="628560" cy="167652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28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336" y="105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4495680" y="3124080"/>
            <a:ext cx="2895840" cy="1981440"/>
            <a:chOff x="4495680" y="3124080"/>
            <a:chExt cx="2895840" cy="1981440"/>
          </a:xfrm>
        </p:grpSpPr>
        <p:sp>
          <p:nvSpPr>
            <p:cNvPr id="1255" name=""/>
            <p:cNvSpPr/>
            <p:nvPr/>
          </p:nvSpPr>
          <p:spPr>
            <a:xfrm>
              <a:off x="4495680" y="4495680"/>
              <a:ext cx="609840" cy="60984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800600" y="429084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802400" y="41911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5520" y="3124080"/>
              <a:ext cx="2286000" cy="167652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56"/>
                  </a:moveTo>
                  <a:lnTo>
                    <a:pt x="1488" y="1056"/>
                  </a:lnTo>
                  <a:lnTo>
                    <a:pt x="148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762120" y="3124080"/>
            <a:ext cx="6858000" cy="3024360"/>
            <a:chOff x="762120" y="3124080"/>
            <a:chExt cx="6858000" cy="3024360"/>
          </a:xfrm>
        </p:grpSpPr>
        <p:sp>
          <p:nvSpPr>
            <p:cNvPr id="1260" name=""/>
            <p:cNvSpPr/>
            <p:nvPr/>
          </p:nvSpPr>
          <p:spPr>
            <a:xfrm>
              <a:off x="4495680" y="5538960"/>
              <a:ext cx="609840" cy="60948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21920" y="5462640"/>
              <a:ext cx="1677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: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||T||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00600" y="53341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802400" y="5181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2120" y="5538960"/>
              <a:ext cx="609480" cy="60948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066680" y="53341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068480" y="5181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371600" y="584352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05520" y="3124080"/>
              <a:ext cx="2514600" cy="274320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56"/>
                  </a:moveTo>
                  <a:lnTo>
                    <a:pt x="1488" y="1056"/>
                  </a:lnTo>
                  <a:lnTo>
                    <a:pt x="148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762120" y="4114800"/>
            <a:ext cx="3733560" cy="1050480"/>
            <a:chOff x="762120" y="4114800"/>
            <a:chExt cx="3733560" cy="1050480"/>
          </a:xfrm>
        </p:grpSpPr>
        <p:sp>
          <p:nvSpPr>
            <p:cNvPr id="1270" name=""/>
            <p:cNvSpPr/>
            <p:nvPr/>
          </p:nvSpPr>
          <p:spPr>
            <a:xfrm>
              <a:off x="1752480" y="4419720"/>
              <a:ext cx="15242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:B||A||T||M||   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(A||T||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2120" y="4495680"/>
              <a:ext cx="609480" cy="609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371600" y="48006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14480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066680" y="4191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4572000" y="914400"/>
            <a:ext cx="609480" cy="1905120"/>
            <a:chOff x="4572000" y="914400"/>
            <a:chExt cx="609480" cy="1905120"/>
          </a:xfrm>
        </p:grpSpPr>
        <p:sp>
          <p:nvSpPr>
            <p:cNvPr id="1276" name=""/>
            <p:cNvSpPr/>
            <p:nvPr/>
          </p:nvSpPr>
          <p:spPr>
            <a:xfrm>
              <a:off x="4572000" y="1752480"/>
              <a:ext cx="609480" cy="609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572000" y="914400"/>
              <a:ext cx="609480" cy="609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6920" y="152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876920" y="2362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4876920" y="914400"/>
            <a:ext cx="1676160" cy="1905120"/>
            <a:chOff x="4876920" y="914400"/>
            <a:chExt cx="1676160" cy="1905120"/>
          </a:xfrm>
        </p:grpSpPr>
        <p:grpSp>
          <p:nvGrpSpPr>
            <p:cNvPr id="1281" name=""/>
            <p:cNvGrpSpPr/>
            <p:nvPr/>
          </p:nvGrpSpPr>
          <p:grpSpPr>
            <a:xfrm>
              <a:off x="4876920" y="914400"/>
              <a:ext cx="1676160" cy="1905120"/>
              <a:chOff x="4876920" y="914400"/>
              <a:chExt cx="1676160" cy="190512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5410080" y="914400"/>
                <a:ext cx="1143000" cy="1295280"/>
                <a:chOff x="5410080" y="914400"/>
                <a:chExt cx="1143000" cy="12952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5410080" y="914400"/>
                  <a:ext cx="609840" cy="6094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N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850360" y="144792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715000" y="15238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715000" y="1981080"/>
                  <a:ext cx="83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7" name=""/>
              <p:cNvSpPr/>
              <p:nvPr/>
            </p:nvSpPr>
            <p:spPr>
              <a:xfrm>
                <a:off x="5410080" y="2209680"/>
                <a:ext cx="609840" cy="60984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876920" y="25146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6019920" y="25146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i risolti e nuovi proble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905760" y="2666880"/>
            <a:ext cx="72439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Autorità deve essere sempr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-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Autorità non deve costituire 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lo di bottig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Autorità non deve crear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cumenti fal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Autorità deve tenere le chiavi in un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moria sicu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563280" y="1413000"/>
            <a:ext cx="2001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304920" y="187200"/>
            <a:ext cx="8610480" cy="6213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Q: Ke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la master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il KD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il D-H key agre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ordo sulla chiave segr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81600" y="812880"/>
            <a:ext cx="165456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 a u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97240" y="1539720"/>
            <a:ext cx="1215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4280" y="2514600"/>
            <a:ext cx="203256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ti a molt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59520" y="3276720"/>
            <a:ext cx="1131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4942800" y="4328640"/>
            <a:ext cx="3695040" cy="2015640"/>
            <a:chOff x="4942800" y="4328640"/>
            <a:chExt cx="3695040" cy="2015640"/>
          </a:xfrm>
        </p:grpSpPr>
        <p:sp>
          <p:nvSpPr>
            <p:cNvPr id="1300" name=""/>
            <p:cNvSpPr/>
            <p:nvPr/>
          </p:nvSpPr>
          <p:spPr>
            <a:xfrm>
              <a:off x="4942800" y="5153040"/>
              <a:ext cx="3695040" cy="1191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NZA PRECEDENTE 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ff3300"/>
                  </a:solidFill>
                  <a:latin typeface="Times New Roman"/>
                </a:rPr>
                <a:t>Scambio di Diffie-Hell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ff3300"/>
                  </a:solidFill>
                  <a:latin typeface="Times New Roman"/>
                </a:rPr>
                <a:t>Cifrario asimmetr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1838400">
              <a:off x="5119200" y="4543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505800" y="4328640"/>
            <a:ext cx="3573720" cy="2015640"/>
            <a:chOff x="505800" y="4328640"/>
            <a:chExt cx="3573720" cy="2015640"/>
          </a:xfrm>
        </p:grpSpPr>
        <p:sp>
          <p:nvSpPr>
            <p:cNvPr id="1303" name=""/>
            <p:cNvSpPr/>
            <p:nvPr/>
          </p:nvSpPr>
          <p:spPr>
            <a:xfrm>
              <a:off x="505800" y="5153040"/>
              <a:ext cx="3356640" cy="1191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 PRECEDENTE 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Chiave in 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ff3300"/>
                  </a:solidFill>
                  <a:latin typeface="Times New Roman"/>
                </a:rPr>
                <a:t>Master key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rot="19761600">
              <a:off x="3047040" y="4543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6244560" y="1260360"/>
            <a:ext cx="27684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 frequ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17520" y="2063880"/>
            <a:ext cx="1851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ss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ne-tim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2076480" y="2973960"/>
            <a:ext cx="4989960" cy="1267200"/>
            <a:chOff x="2076480" y="2973960"/>
            <a:chExt cx="4989960" cy="1267200"/>
          </a:xfrm>
        </p:grpSpPr>
        <p:sp>
          <p:nvSpPr>
            <p:cNvPr id="1308" name=""/>
            <p:cNvSpPr/>
            <p:nvPr/>
          </p:nvSpPr>
          <p:spPr>
            <a:xfrm>
              <a:off x="3086640" y="3781440"/>
              <a:ext cx="29376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iave che cifra chia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1651800">
              <a:off x="2133360" y="317196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rot="19948200">
              <a:off x="6032880" y="32004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670200" y="1219320"/>
            <a:ext cx="1803600" cy="2361960"/>
            <a:chOff x="3670200" y="1219320"/>
            <a:chExt cx="1803600" cy="2361960"/>
          </a:xfrm>
        </p:grpSpPr>
        <p:grpSp>
          <p:nvGrpSpPr>
            <p:cNvPr id="1312" name=""/>
            <p:cNvGrpSpPr/>
            <p:nvPr/>
          </p:nvGrpSpPr>
          <p:grpSpPr>
            <a:xfrm>
              <a:off x="3670200" y="2209680"/>
              <a:ext cx="1803600" cy="1189080"/>
              <a:chOff x="3670200" y="2209680"/>
              <a:chExt cx="1803600" cy="1189080"/>
            </a:xfrm>
          </p:grpSpPr>
          <p:sp>
            <p:nvSpPr>
              <p:cNvPr id="1313" name=""/>
              <p:cNvSpPr/>
              <p:nvPr/>
            </p:nvSpPr>
            <p:spPr>
              <a:xfrm>
                <a:off x="3670200" y="2209680"/>
                <a:ext cx="1803600" cy="1189080"/>
              </a:xfrm>
              <a:custGeom>
                <a:avLst/>
                <a:gdLst/>
                <a:ahLst/>
                <a:rect l="l" t="t" r="r" b="b"/>
                <a:pathLst>
                  <a:path w="2272" h="1498">
                    <a:moveTo>
                      <a:pt x="77" y="1021"/>
                    </a:moveTo>
                    <a:lnTo>
                      <a:pt x="89" y="1040"/>
                    </a:lnTo>
                    <a:lnTo>
                      <a:pt x="100" y="1058"/>
                    </a:lnTo>
                    <a:lnTo>
                      <a:pt x="113" y="1075"/>
                    </a:lnTo>
                    <a:lnTo>
                      <a:pt x="127" y="1093"/>
                    </a:lnTo>
                    <a:lnTo>
                      <a:pt x="140" y="1110"/>
                    </a:lnTo>
                    <a:lnTo>
                      <a:pt x="154" y="1127"/>
                    </a:lnTo>
                    <a:lnTo>
                      <a:pt x="169" y="1145"/>
                    </a:lnTo>
                    <a:lnTo>
                      <a:pt x="185" y="1161"/>
                    </a:lnTo>
                    <a:lnTo>
                      <a:pt x="203" y="1177"/>
                    </a:lnTo>
                    <a:lnTo>
                      <a:pt x="220" y="1193"/>
                    </a:lnTo>
                    <a:lnTo>
                      <a:pt x="238" y="1209"/>
                    </a:lnTo>
                    <a:lnTo>
                      <a:pt x="258" y="1224"/>
                    </a:lnTo>
                    <a:lnTo>
                      <a:pt x="278" y="1240"/>
                    </a:lnTo>
                    <a:lnTo>
                      <a:pt x="297" y="1255"/>
                    </a:lnTo>
                    <a:lnTo>
                      <a:pt x="318" y="1269"/>
                    </a:lnTo>
                    <a:lnTo>
                      <a:pt x="340" y="1284"/>
                    </a:lnTo>
                    <a:lnTo>
                      <a:pt x="351" y="1292"/>
                    </a:lnTo>
                    <a:lnTo>
                      <a:pt x="364" y="1299"/>
                    </a:lnTo>
                    <a:lnTo>
                      <a:pt x="375" y="1306"/>
                    </a:lnTo>
                    <a:lnTo>
                      <a:pt x="388" y="1313"/>
                    </a:lnTo>
                    <a:lnTo>
                      <a:pt x="400" y="1320"/>
                    </a:lnTo>
                    <a:lnTo>
                      <a:pt x="412" y="1326"/>
                    </a:lnTo>
                    <a:lnTo>
                      <a:pt x="425" y="1333"/>
                    </a:lnTo>
                    <a:lnTo>
                      <a:pt x="438" y="1340"/>
                    </a:lnTo>
                    <a:lnTo>
                      <a:pt x="450" y="1346"/>
                    </a:lnTo>
                    <a:lnTo>
                      <a:pt x="464" y="1353"/>
                    </a:lnTo>
                    <a:lnTo>
                      <a:pt x="477" y="1359"/>
                    </a:lnTo>
                    <a:lnTo>
                      <a:pt x="491" y="1366"/>
                    </a:lnTo>
                    <a:lnTo>
                      <a:pt x="503" y="1371"/>
                    </a:lnTo>
                    <a:lnTo>
                      <a:pt x="517" y="1377"/>
                    </a:lnTo>
                    <a:lnTo>
                      <a:pt x="531" y="1383"/>
                    </a:lnTo>
                    <a:lnTo>
                      <a:pt x="545" y="1389"/>
                    </a:lnTo>
                    <a:lnTo>
                      <a:pt x="567" y="1398"/>
                    </a:lnTo>
                    <a:lnTo>
                      <a:pt x="588" y="1406"/>
                    </a:lnTo>
                    <a:lnTo>
                      <a:pt x="611" y="1414"/>
                    </a:lnTo>
                    <a:lnTo>
                      <a:pt x="635" y="1421"/>
                    </a:lnTo>
                    <a:lnTo>
                      <a:pt x="658" y="1429"/>
                    </a:lnTo>
                    <a:lnTo>
                      <a:pt x="681" y="1436"/>
                    </a:lnTo>
                    <a:lnTo>
                      <a:pt x="705" y="1443"/>
                    </a:lnTo>
                    <a:lnTo>
                      <a:pt x="728" y="1448"/>
                    </a:lnTo>
                    <a:lnTo>
                      <a:pt x="752" y="1454"/>
                    </a:lnTo>
                    <a:lnTo>
                      <a:pt x="777" y="1460"/>
                    </a:lnTo>
                    <a:lnTo>
                      <a:pt x="801" y="1466"/>
                    </a:lnTo>
                    <a:lnTo>
                      <a:pt x="827" y="1470"/>
                    </a:lnTo>
                    <a:lnTo>
                      <a:pt x="851" y="1475"/>
                    </a:lnTo>
                    <a:lnTo>
                      <a:pt x="876" y="1478"/>
                    </a:lnTo>
                    <a:lnTo>
                      <a:pt x="903" y="1482"/>
                    </a:lnTo>
                    <a:lnTo>
                      <a:pt x="928" y="1485"/>
                    </a:lnTo>
                    <a:lnTo>
                      <a:pt x="941" y="1486"/>
                    </a:lnTo>
                    <a:lnTo>
                      <a:pt x="953" y="1488"/>
                    </a:lnTo>
                    <a:lnTo>
                      <a:pt x="966" y="1490"/>
                    </a:lnTo>
                    <a:lnTo>
                      <a:pt x="979" y="1491"/>
                    </a:lnTo>
                    <a:lnTo>
                      <a:pt x="993" y="1492"/>
                    </a:lnTo>
                    <a:lnTo>
                      <a:pt x="1005" y="1493"/>
                    </a:lnTo>
                    <a:lnTo>
                      <a:pt x="1018" y="1493"/>
                    </a:lnTo>
                    <a:lnTo>
                      <a:pt x="1031" y="1495"/>
                    </a:lnTo>
                    <a:lnTo>
                      <a:pt x="1044" y="1496"/>
                    </a:lnTo>
                    <a:lnTo>
                      <a:pt x="1057" y="1496"/>
                    </a:lnTo>
                    <a:lnTo>
                      <a:pt x="1070" y="1497"/>
                    </a:lnTo>
                    <a:lnTo>
                      <a:pt x="1084" y="1497"/>
                    </a:lnTo>
                    <a:lnTo>
                      <a:pt x="1096" y="1498"/>
                    </a:lnTo>
                    <a:lnTo>
                      <a:pt x="1110" y="1498"/>
                    </a:lnTo>
                    <a:lnTo>
                      <a:pt x="1123" y="1498"/>
                    </a:lnTo>
                    <a:lnTo>
                      <a:pt x="1137" y="1498"/>
                    </a:lnTo>
                    <a:lnTo>
                      <a:pt x="1157" y="1498"/>
                    </a:lnTo>
                    <a:lnTo>
                      <a:pt x="1178" y="1498"/>
                    </a:lnTo>
                    <a:lnTo>
                      <a:pt x="1199" y="1497"/>
                    </a:lnTo>
                    <a:lnTo>
                      <a:pt x="1218" y="1496"/>
                    </a:lnTo>
                    <a:lnTo>
                      <a:pt x="1239" y="1495"/>
                    </a:lnTo>
                    <a:lnTo>
                      <a:pt x="1260" y="1493"/>
                    </a:lnTo>
                    <a:lnTo>
                      <a:pt x="1279" y="1492"/>
                    </a:lnTo>
                    <a:lnTo>
                      <a:pt x="1299" y="1490"/>
                    </a:lnTo>
                    <a:lnTo>
                      <a:pt x="1320" y="1489"/>
                    </a:lnTo>
                    <a:lnTo>
                      <a:pt x="1339" y="1486"/>
                    </a:lnTo>
                    <a:lnTo>
                      <a:pt x="1359" y="1484"/>
                    </a:lnTo>
                    <a:lnTo>
                      <a:pt x="1378" y="1481"/>
                    </a:lnTo>
                    <a:lnTo>
                      <a:pt x="1397" y="1478"/>
                    </a:lnTo>
                    <a:lnTo>
                      <a:pt x="1416" y="1475"/>
                    </a:lnTo>
                    <a:lnTo>
                      <a:pt x="1436" y="1472"/>
                    </a:lnTo>
                    <a:lnTo>
                      <a:pt x="1454" y="1468"/>
                    </a:lnTo>
                    <a:lnTo>
                      <a:pt x="1485" y="1462"/>
                    </a:lnTo>
                    <a:lnTo>
                      <a:pt x="1517" y="1455"/>
                    </a:lnTo>
                    <a:lnTo>
                      <a:pt x="1547" y="1447"/>
                    </a:lnTo>
                    <a:lnTo>
                      <a:pt x="1576" y="1439"/>
                    </a:lnTo>
                    <a:lnTo>
                      <a:pt x="1605" y="1431"/>
                    </a:lnTo>
                    <a:lnTo>
                      <a:pt x="1634" y="1422"/>
                    </a:lnTo>
                    <a:lnTo>
                      <a:pt x="1663" y="1413"/>
                    </a:lnTo>
                    <a:lnTo>
                      <a:pt x="1690" y="1402"/>
                    </a:lnTo>
                    <a:lnTo>
                      <a:pt x="1718" y="1392"/>
                    </a:lnTo>
                    <a:lnTo>
                      <a:pt x="1746" y="1381"/>
                    </a:lnTo>
                    <a:lnTo>
                      <a:pt x="1772" y="1369"/>
                    </a:lnTo>
                    <a:lnTo>
                      <a:pt x="1798" y="1358"/>
                    </a:lnTo>
                    <a:lnTo>
                      <a:pt x="1823" y="1345"/>
                    </a:lnTo>
                    <a:lnTo>
                      <a:pt x="1847" y="1332"/>
                    </a:lnTo>
                    <a:lnTo>
                      <a:pt x="1871" y="1320"/>
                    </a:lnTo>
                    <a:lnTo>
                      <a:pt x="1895" y="1306"/>
                    </a:lnTo>
                    <a:lnTo>
                      <a:pt x="1920" y="1291"/>
                    </a:lnTo>
                    <a:lnTo>
                      <a:pt x="1943" y="1277"/>
                    </a:lnTo>
                    <a:lnTo>
                      <a:pt x="1965" y="1261"/>
                    </a:lnTo>
                    <a:lnTo>
                      <a:pt x="1986" y="1246"/>
                    </a:lnTo>
                    <a:lnTo>
                      <a:pt x="2007" y="1230"/>
                    </a:lnTo>
                    <a:lnTo>
                      <a:pt x="2028" y="1212"/>
                    </a:lnTo>
                    <a:lnTo>
                      <a:pt x="2047" y="1196"/>
                    </a:lnTo>
                    <a:lnTo>
                      <a:pt x="2066" y="1179"/>
                    </a:lnTo>
                    <a:lnTo>
                      <a:pt x="2085" y="1161"/>
                    </a:lnTo>
                    <a:lnTo>
                      <a:pt x="2103" y="1142"/>
                    </a:lnTo>
                    <a:lnTo>
                      <a:pt x="2120" y="1123"/>
                    </a:lnTo>
                    <a:lnTo>
                      <a:pt x="2137" y="1103"/>
                    </a:lnTo>
                    <a:lnTo>
                      <a:pt x="2152" y="1083"/>
                    </a:lnTo>
                    <a:lnTo>
                      <a:pt x="2167" y="1064"/>
                    </a:lnTo>
                    <a:lnTo>
                      <a:pt x="2181" y="1043"/>
                    </a:lnTo>
                    <a:lnTo>
                      <a:pt x="2194" y="1022"/>
                    </a:lnTo>
                    <a:lnTo>
                      <a:pt x="2212" y="990"/>
                    </a:lnTo>
                    <a:lnTo>
                      <a:pt x="2227" y="957"/>
                    </a:lnTo>
                    <a:lnTo>
                      <a:pt x="2241" y="923"/>
                    </a:lnTo>
                    <a:lnTo>
                      <a:pt x="2252" y="890"/>
                    </a:lnTo>
                    <a:lnTo>
                      <a:pt x="2260" y="856"/>
                    </a:lnTo>
                    <a:lnTo>
                      <a:pt x="2267" y="820"/>
                    </a:lnTo>
                    <a:lnTo>
                      <a:pt x="2271" y="784"/>
                    </a:lnTo>
                    <a:lnTo>
                      <a:pt x="2272" y="748"/>
                    </a:lnTo>
                    <a:lnTo>
                      <a:pt x="2271" y="717"/>
                    </a:lnTo>
                    <a:lnTo>
                      <a:pt x="2269" y="687"/>
                    </a:lnTo>
                    <a:lnTo>
                      <a:pt x="2264" y="656"/>
                    </a:lnTo>
                    <a:lnTo>
                      <a:pt x="2257" y="626"/>
                    </a:lnTo>
                    <a:lnTo>
                      <a:pt x="2249" y="598"/>
                    </a:lnTo>
                    <a:lnTo>
                      <a:pt x="2239" y="568"/>
                    </a:lnTo>
                    <a:lnTo>
                      <a:pt x="2227" y="540"/>
                    </a:lnTo>
                    <a:lnTo>
                      <a:pt x="2213" y="511"/>
                    </a:lnTo>
                    <a:lnTo>
                      <a:pt x="2198" y="484"/>
                    </a:lnTo>
                    <a:lnTo>
                      <a:pt x="2181" y="456"/>
                    </a:lnTo>
                    <a:lnTo>
                      <a:pt x="2164" y="429"/>
                    </a:lnTo>
                    <a:lnTo>
                      <a:pt x="2144" y="403"/>
                    </a:lnTo>
                    <a:lnTo>
                      <a:pt x="2122" y="378"/>
                    </a:lnTo>
                    <a:lnTo>
                      <a:pt x="2100" y="353"/>
                    </a:lnTo>
                    <a:lnTo>
                      <a:pt x="2076" y="329"/>
                    </a:lnTo>
                    <a:lnTo>
                      <a:pt x="2051" y="305"/>
                    </a:lnTo>
                    <a:lnTo>
                      <a:pt x="2037" y="294"/>
                    </a:lnTo>
                    <a:lnTo>
                      <a:pt x="2023" y="281"/>
                    </a:lnTo>
                    <a:lnTo>
                      <a:pt x="2008" y="269"/>
                    </a:lnTo>
                    <a:lnTo>
                      <a:pt x="1994" y="258"/>
                    </a:lnTo>
                    <a:lnTo>
                      <a:pt x="1978" y="248"/>
                    </a:lnTo>
                    <a:lnTo>
                      <a:pt x="1963" y="236"/>
                    </a:lnTo>
                    <a:lnTo>
                      <a:pt x="1948" y="226"/>
                    </a:lnTo>
                    <a:lnTo>
                      <a:pt x="1932" y="214"/>
                    </a:lnTo>
                    <a:lnTo>
                      <a:pt x="1915" y="205"/>
                    </a:lnTo>
                    <a:lnTo>
                      <a:pt x="1899" y="195"/>
                    </a:lnTo>
                    <a:lnTo>
                      <a:pt x="1882" y="184"/>
                    </a:lnTo>
                    <a:lnTo>
                      <a:pt x="1864" y="175"/>
                    </a:lnTo>
                    <a:lnTo>
                      <a:pt x="1847" y="165"/>
                    </a:lnTo>
                    <a:lnTo>
                      <a:pt x="1830" y="155"/>
                    </a:lnTo>
                    <a:lnTo>
                      <a:pt x="1811" y="147"/>
                    </a:lnTo>
                    <a:lnTo>
                      <a:pt x="1793" y="138"/>
                    </a:lnTo>
                    <a:lnTo>
                      <a:pt x="1777" y="130"/>
                    </a:lnTo>
                    <a:lnTo>
                      <a:pt x="1760" y="123"/>
                    </a:lnTo>
                    <a:lnTo>
                      <a:pt x="1742" y="116"/>
                    </a:lnTo>
                    <a:lnTo>
                      <a:pt x="1725" y="108"/>
                    </a:lnTo>
                    <a:lnTo>
                      <a:pt x="1708" y="101"/>
                    </a:lnTo>
                    <a:lnTo>
                      <a:pt x="1689" y="94"/>
                    </a:lnTo>
                    <a:lnTo>
                      <a:pt x="1672" y="89"/>
                    </a:lnTo>
                    <a:lnTo>
                      <a:pt x="1654" y="82"/>
                    </a:lnTo>
                    <a:lnTo>
                      <a:pt x="1634" y="75"/>
                    </a:lnTo>
                    <a:lnTo>
                      <a:pt x="1614" y="69"/>
                    </a:lnTo>
                    <a:lnTo>
                      <a:pt x="1594" y="63"/>
                    </a:lnTo>
                    <a:lnTo>
                      <a:pt x="1573" y="58"/>
                    </a:lnTo>
                    <a:lnTo>
                      <a:pt x="1553" y="52"/>
                    </a:lnTo>
                    <a:lnTo>
                      <a:pt x="1533" y="47"/>
                    </a:lnTo>
                    <a:lnTo>
                      <a:pt x="1512" y="41"/>
                    </a:lnTo>
                    <a:lnTo>
                      <a:pt x="1490" y="37"/>
                    </a:lnTo>
                    <a:lnTo>
                      <a:pt x="1469" y="33"/>
                    </a:lnTo>
                    <a:lnTo>
                      <a:pt x="1447" y="29"/>
                    </a:lnTo>
                    <a:lnTo>
                      <a:pt x="1427" y="24"/>
                    </a:lnTo>
                    <a:lnTo>
                      <a:pt x="1405" y="21"/>
                    </a:lnTo>
                    <a:lnTo>
                      <a:pt x="1383" y="17"/>
                    </a:lnTo>
                    <a:lnTo>
                      <a:pt x="1361" y="15"/>
                    </a:lnTo>
                    <a:lnTo>
                      <a:pt x="1338" y="12"/>
                    </a:lnTo>
                    <a:lnTo>
                      <a:pt x="1316" y="9"/>
                    </a:lnTo>
                    <a:lnTo>
                      <a:pt x="1294" y="7"/>
                    </a:lnTo>
                    <a:lnTo>
                      <a:pt x="1272" y="5"/>
                    </a:lnTo>
                    <a:lnTo>
                      <a:pt x="1249" y="3"/>
                    </a:lnTo>
                    <a:lnTo>
                      <a:pt x="1228" y="2"/>
                    </a:lnTo>
                    <a:lnTo>
                      <a:pt x="1205" y="1"/>
                    </a:lnTo>
                    <a:lnTo>
                      <a:pt x="1183" y="0"/>
                    </a:lnTo>
                    <a:lnTo>
                      <a:pt x="1160" y="0"/>
                    </a:lnTo>
                    <a:lnTo>
                      <a:pt x="1137" y="0"/>
                    </a:lnTo>
                    <a:lnTo>
                      <a:pt x="1117" y="0"/>
                    </a:lnTo>
                    <a:lnTo>
                      <a:pt x="1099" y="0"/>
                    </a:lnTo>
                    <a:lnTo>
                      <a:pt x="1079" y="1"/>
                    </a:lnTo>
                    <a:lnTo>
                      <a:pt x="1061" y="1"/>
                    </a:lnTo>
                    <a:lnTo>
                      <a:pt x="1041" y="2"/>
                    </a:lnTo>
                    <a:lnTo>
                      <a:pt x="1023" y="3"/>
                    </a:lnTo>
                    <a:lnTo>
                      <a:pt x="1004" y="5"/>
                    </a:lnTo>
                    <a:lnTo>
                      <a:pt x="986" y="6"/>
                    </a:lnTo>
                    <a:lnTo>
                      <a:pt x="967" y="8"/>
                    </a:lnTo>
                    <a:lnTo>
                      <a:pt x="949" y="9"/>
                    </a:lnTo>
                    <a:lnTo>
                      <a:pt x="930" y="12"/>
                    </a:lnTo>
                    <a:lnTo>
                      <a:pt x="912" y="14"/>
                    </a:lnTo>
                    <a:lnTo>
                      <a:pt x="895" y="16"/>
                    </a:lnTo>
                    <a:lnTo>
                      <a:pt x="876" y="20"/>
                    </a:lnTo>
                    <a:lnTo>
                      <a:pt x="858" y="22"/>
                    </a:lnTo>
                    <a:lnTo>
                      <a:pt x="841" y="25"/>
                    </a:lnTo>
                    <a:lnTo>
                      <a:pt x="800" y="33"/>
                    </a:lnTo>
                    <a:lnTo>
                      <a:pt x="761" y="41"/>
                    </a:lnTo>
                    <a:lnTo>
                      <a:pt x="722" y="51"/>
                    </a:lnTo>
                    <a:lnTo>
                      <a:pt x="684" y="61"/>
                    </a:lnTo>
                    <a:lnTo>
                      <a:pt x="646" y="73"/>
                    </a:lnTo>
                    <a:lnTo>
                      <a:pt x="609" y="85"/>
                    </a:lnTo>
                    <a:lnTo>
                      <a:pt x="573" y="98"/>
                    </a:lnTo>
                    <a:lnTo>
                      <a:pt x="538" y="112"/>
                    </a:lnTo>
                    <a:lnTo>
                      <a:pt x="503" y="127"/>
                    </a:lnTo>
                    <a:lnTo>
                      <a:pt x="470" y="142"/>
                    </a:lnTo>
                    <a:lnTo>
                      <a:pt x="438" y="158"/>
                    </a:lnTo>
                    <a:lnTo>
                      <a:pt x="406" y="175"/>
                    </a:lnTo>
                    <a:lnTo>
                      <a:pt x="375" y="192"/>
                    </a:lnTo>
                    <a:lnTo>
                      <a:pt x="345" y="211"/>
                    </a:lnTo>
                    <a:lnTo>
                      <a:pt x="317" y="230"/>
                    </a:lnTo>
                    <a:lnTo>
                      <a:pt x="289" y="250"/>
                    </a:lnTo>
                    <a:lnTo>
                      <a:pt x="274" y="261"/>
                    </a:lnTo>
                    <a:lnTo>
                      <a:pt x="259" y="273"/>
                    </a:lnTo>
                    <a:lnTo>
                      <a:pt x="244" y="286"/>
                    </a:lnTo>
                    <a:lnTo>
                      <a:pt x="229" y="297"/>
                    </a:lnTo>
                    <a:lnTo>
                      <a:pt x="215" y="310"/>
                    </a:lnTo>
                    <a:lnTo>
                      <a:pt x="203" y="322"/>
                    </a:lnTo>
                    <a:lnTo>
                      <a:pt x="189" y="335"/>
                    </a:lnTo>
                    <a:lnTo>
                      <a:pt x="176" y="348"/>
                    </a:lnTo>
                    <a:lnTo>
                      <a:pt x="164" y="360"/>
                    </a:lnTo>
                    <a:lnTo>
                      <a:pt x="152" y="374"/>
                    </a:lnTo>
                    <a:lnTo>
                      <a:pt x="140" y="387"/>
                    </a:lnTo>
                    <a:lnTo>
                      <a:pt x="129" y="401"/>
                    </a:lnTo>
                    <a:lnTo>
                      <a:pt x="119" y="415"/>
                    </a:lnTo>
                    <a:lnTo>
                      <a:pt x="108" y="428"/>
                    </a:lnTo>
                    <a:lnTo>
                      <a:pt x="98" y="443"/>
                    </a:lnTo>
                    <a:lnTo>
                      <a:pt x="89" y="457"/>
                    </a:lnTo>
                    <a:lnTo>
                      <a:pt x="68" y="492"/>
                    </a:lnTo>
                    <a:lnTo>
                      <a:pt x="51" y="526"/>
                    </a:lnTo>
                    <a:lnTo>
                      <a:pt x="36" y="562"/>
                    </a:lnTo>
                    <a:lnTo>
                      <a:pt x="23" y="598"/>
                    </a:lnTo>
                    <a:lnTo>
                      <a:pt x="13" y="634"/>
                    </a:lnTo>
                    <a:lnTo>
                      <a:pt x="6" y="671"/>
                    </a:lnTo>
                    <a:lnTo>
                      <a:pt x="1" y="709"/>
                    </a:lnTo>
                    <a:lnTo>
                      <a:pt x="0" y="748"/>
                    </a:lnTo>
                    <a:lnTo>
                      <a:pt x="1" y="784"/>
                    </a:lnTo>
                    <a:lnTo>
                      <a:pt x="5" y="820"/>
                    </a:lnTo>
                    <a:lnTo>
                      <a:pt x="12" y="856"/>
                    </a:lnTo>
                    <a:lnTo>
                      <a:pt x="20" y="890"/>
                    </a:lnTo>
                    <a:lnTo>
                      <a:pt x="30" y="923"/>
                    </a:lnTo>
                    <a:lnTo>
                      <a:pt x="44" y="957"/>
                    </a:lnTo>
                    <a:lnTo>
                      <a:pt x="59" y="989"/>
                    </a:lnTo>
                    <a:lnTo>
                      <a:pt x="77" y="102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956120" y="2787480"/>
                <a:ext cx="479520" cy="481320"/>
              </a:xfrm>
              <a:custGeom>
                <a:avLst/>
                <a:gdLst/>
                <a:ahLst/>
                <a:rect l="l" t="t" r="r" b="b"/>
                <a:pathLst>
                  <a:path w="606" h="605">
                    <a:moveTo>
                      <a:pt x="439" y="15"/>
                    </a:moveTo>
                    <a:lnTo>
                      <a:pt x="203" y="0"/>
                    </a:lnTo>
                    <a:lnTo>
                      <a:pt x="50" y="25"/>
                    </a:lnTo>
                    <a:lnTo>
                      <a:pt x="0" y="133"/>
                    </a:lnTo>
                    <a:lnTo>
                      <a:pt x="30" y="579"/>
                    </a:lnTo>
                    <a:lnTo>
                      <a:pt x="226" y="605"/>
                    </a:lnTo>
                    <a:lnTo>
                      <a:pt x="259" y="587"/>
                    </a:lnTo>
                    <a:lnTo>
                      <a:pt x="290" y="569"/>
                    </a:lnTo>
                    <a:lnTo>
                      <a:pt x="321" y="549"/>
                    </a:lnTo>
                    <a:lnTo>
                      <a:pt x="351" y="528"/>
                    </a:lnTo>
                    <a:lnTo>
                      <a:pt x="380" y="508"/>
                    </a:lnTo>
                    <a:lnTo>
                      <a:pt x="407" y="486"/>
                    </a:lnTo>
                    <a:lnTo>
                      <a:pt x="433" y="463"/>
                    </a:lnTo>
                    <a:lnTo>
                      <a:pt x="457" y="440"/>
                    </a:lnTo>
                    <a:lnTo>
                      <a:pt x="481" y="417"/>
                    </a:lnTo>
                    <a:lnTo>
                      <a:pt x="503" y="392"/>
                    </a:lnTo>
                    <a:lnTo>
                      <a:pt x="524" y="367"/>
                    </a:lnTo>
                    <a:lnTo>
                      <a:pt x="544" y="342"/>
                    </a:lnTo>
                    <a:lnTo>
                      <a:pt x="561" y="315"/>
                    </a:lnTo>
                    <a:lnTo>
                      <a:pt x="578" y="289"/>
                    </a:lnTo>
                    <a:lnTo>
                      <a:pt x="592" y="262"/>
                    </a:lnTo>
                    <a:lnTo>
                      <a:pt x="606" y="235"/>
                    </a:lnTo>
                    <a:lnTo>
                      <a:pt x="606" y="154"/>
                    </a:lnTo>
                    <a:lnTo>
                      <a:pt x="439" y="1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729320" y="2808360"/>
                <a:ext cx="326880" cy="209520"/>
              </a:xfrm>
              <a:custGeom>
                <a:avLst/>
                <a:gdLst/>
                <a:ahLst/>
                <a:rect l="l" t="t" r="r" b="b"/>
                <a:pathLst>
                  <a:path w="413" h="264">
                    <a:moveTo>
                      <a:pt x="336" y="0"/>
                    </a:moveTo>
                    <a:lnTo>
                      <a:pt x="151" y="180"/>
                    </a:lnTo>
                    <a:lnTo>
                      <a:pt x="0" y="169"/>
                    </a:lnTo>
                    <a:lnTo>
                      <a:pt x="4" y="250"/>
                    </a:lnTo>
                    <a:lnTo>
                      <a:pt x="187" y="264"/>
                    </a:lnTo>
                    <a:lnTo>
                      <a:pt x="413" y="167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703760" y="3021120"/>
                <a:ext cx="139680" cy="114120"/>
              </a:xfrm>
              <a:custGeom>
                <a:avLst/>
                <a:gdLst/>
                <a:ahLst/>
                <a:rect l="l" t="t" r="r" b="b"/>
                <a:pathLst>
                  <a:path w="176" h="144">
                    <a:moveTo>
                      <a:pt x="97" y="29"/>
                    </a:moveTo>
                    <a:lnTo>
                      <a:pt x="45" y="0"/>
                    </a:lnTo>
                    <a:lnTo>
                      <a:pt x="58" y="23"/>
                    </a:lnTo>
                    <a:lnTo>
                      <a:pt x="0" y="87"/>
                    </a:lnTo>
                    <a:lnTo>
                      <a:pt x="31" y="74"/>
                    </a:lnTo>
                    <a:lnTo>
                      <a:pt x="1" y="117"/>
                    </a:lnTo>
                    <a:lnTo>
                      <a:pt x="37" y="93"/>
                    </a:lnTo>
                    <a:lnTo>
                      <a:pt x="16" y="144"/>
                    </a:lnTo>
                    <a:lnTo>
                      <a:pt x="62" y="95"/>
                    </a:lnTo>
                    <a:lnTo>
                      <a:pt x="65" y="95"/>
                    </a:lnTo>
                    <a:lnTo>
                      <a:pt x="70" y="96"/>
                    </a:lnTo>
                    <a:lnTo>
                      <a:pt x="81" y="97"/>
                    </a:lnTo>
                    <a:lnTo>
                      <a:pt x="92" y="97"/>
                    </a:lnTo>
                    <a:lnTo>
                      <a:pt x="106" y="97"/>
                    </a:lnTo>
                    <a:lnTo>
                      <a:pt x="120" y="94"/>
                    </a:lnTo>
                    <a:lnTo>
                      <a:pt x="134" y="88"/>
                    </a:lnTo>
                    <a:lnTo>
                      <a:pt x="148" y="80"/>
                    </a:lnTo>
                    <a:lnTo>
                      <a:pt x="166" y="79"/>
                    </a:lnTo>
                    <a:lnTo>
                      <a:pt x="176" y="41"/>
                    </a:lnTo>
                    <a:lnTo>
                      <a:pt x="97" y="29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830840" y="2884320"/>
                <a:ext cx="379440" cy="274680"/>
              </a:xfrm>
              <a:custGeom>
                <a:avLst/>
                <a:gdLst/>
                <a:ahLst/>
                <a:rect l="l" t="t" r="r" b="b"/>
                <a:pathLst>
                  <a:path w="478" h="345">
                    <a:moveTo>
                      <a:pt x="407" y="0"/>
                    </a:moveTo>
                    <a:lnTo>
                      <a:pt x="190" y="194"/>
                    </a:lnTo>
                    <a:lnTo>
                      <a:pt x="0" y="188"/>
                    </a:lnTo>
                    <a:lnTo>
                      <a:pt x="9" y="305"/>
                    </a:lnTo>
                    <a:lnTo>
                      <a:pt x="444" y="345"/>
                    </a:lnTo>
                    <a:lnTo>
                      <a:pt x="478" y="231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073480" y="2765520"/>
                <a:ext cx="233640" cy="223920"/>
              </a:xfrm>
              <a:custGeom>
                <a:avLst/>
                <a:gdLst/>
                <a:ahLst/>
                <a:rect l="l" t="t" r="r" b="b"/>
                <a:pathLst>
                  <a:path w="294" h="281">
                    <a:moveTo>
                      <a:pt x="54" y="1"/>
                    </a:moveTo>
                    <a:lnTo>
                      <a:pt x="46" y="55"/>
                    </a:lnTo>
                    <a:lnTo>
                      <a:pt x="0" y="281"/>
                    </a:lnTo>
                    <a:lnTo>
                      <a:pt x="294" y="46"/>
                    </a:lnTo>
                    <a:lnTo>
                      <a:pt x="289" y="0"/>
                    </a:lnTo>
                    <a:lnTo>
                      <a:pt x="99" y="32"/>
                    </a:lnTo>
                    <a:lnTo>
                      <a:pt x="5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005440" y="3021120"/>
                <a:ext cx="380880" cy="145800"/>
              </a:xfrm>
              <a:custGeom>
                <a:avLst/>
                <a:gdLst/>
                <a:ahLst/>
                <a:rect l="l" t="t" r="r" b="b"/>
                <a:pathLst>
                  <a:path w="479" h="185">
                    <a:moveTo>
                      <a:pt x="0" y="166"/>
                    </a:moveTo>
                    <a:lnTo>
                      <a:pt x="295" y="185"/>
                    </a:lnTo>
                    <a:lnTo>
                      <a:pt x="479" y="0"/>
                    </a:lnTo>
                    <a:lnTo>
                      <a:pt x="280" y="151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984920" y="2841480"/>
                <a:ext cx="28440" cy="155880"/>
              </a:xfrm>
              <a:custGeom>
                <a:avLst/>
                <a:gdLst/>
                <a:ahLst/>
                <a:rect l="l" t="t" r="r" b="b"/>
                <a:pathLst>
                  <a:path w="37" h="196">
                    <a:moveTo>
                      <a:pt x="14" y="19"/>
                    </a:moveTo>
                    <a:lnTo>
                      <a:pt x="0" y="196"/>
                    </a:lnTo>
                    <a:lnTo>
                      <a:pt x="37" y="0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005440" y="31924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4" y="27"/>
                    </a:moveTo>
                    <a:lnTo>
                      <a:pt x="20" y="26"/>
                    </a:lnTo>
                    <a:lnTo>
                      <a:pt x="24" y="24"/>
                    </a:lnTo>
                    <a:lnTo>
                      <a:pt x="28" y="19"/>
                    </a:lnTo>
                    <a:lnTo>
                      <a:pt x="29" y="14"/>
                    </a:lnTo>
                    <a:lnTo>
                      <a:pt x="28" y="9"/>
                    </a:lnTo>
                    <a:lnTo>
                      <a:pt x="24" y="4"/>
                    </a:lnTo>
                    <a:lnTo>
                      <a:pt x="20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4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5" y="24"/>
                    </a:lnTo>
                    <a:lnTo>
                      <a:pt x="9" y="26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981680" y="2898720"/>
                <a:ext cx="241200" cy="141480"/>
              </a:xfrm>
              <a:custGeom>
                <a:avLst/>
                <a:gdLst/>
                <a:ahLst/>
                <a:rect l="l" t="t" r="r" b="b"/>
                <a:pathLst>
                  <a:path w="304" h="178">
                    <a:moveTo>
                      <a:pt x="0" y="178"/>
                    </a:moveTo>
                    <a:lnTo>
                      <a:pt x="174" y="157"/>
                    </a:lnTo>
                    <a:lnTo>
                      <a:pt x="304" y="0"/>
                    </a:lnTo>
                    <a:lnTo>
                      <a:pt x="166" y="143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113440" y="3008160"/>
                <a:ext cx="75960" cy="51120"/>
              </a:xfrm>
              <a:custGeom>
                <a:avLst/>
                <a:gdLst/>
                <a:ahLst/>
                <a:rect l="l" t="t" r="r" b="b"/>
                <a:pathLst>
                  <a:path w="96" h="65">
                    <a:moveTo>
                      <a:pt x="0" y="14"/>
                    </a:moveTo>
                    <a:lnTo>
                      <a:pt x="96" y="65"/>
                    </a:lnTo>
                    <a:lnTo>
                      <a:pt x="18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194440" y="2979720"/>
                <a:ext cx="101520" cy="972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0" y="0"/>
                    </a:moveTo>
                    <a:lnTo>
                      <a:pt x="8" y="0"/>
                    </a:lnTo>
                    <a:lnTo>
                      <a:pt x="23" y="1"/>
                    </a:lnTo>
                    <a:lnTo>
                      <a:pt x="45" y="3"/>
                    </a:lnTo>
                    <a:lnTo>
                      <a:pt x="68" y="4"/>
                    </a:lnTo>
                    <a:lnTo>
                      <a:pt x="89" y="7"/>
                    </a:lnTo>
                    <a:lnTo>
                      <a:pt x="109" y="9"/>
                    </a:lnTo>
                    <a:lnTo>
                      <a:pt x="123" y="10"/>
                    </a:lnTo>
                    <a:lnTo>
                      <a:pt x="129" y="10"/>
                    </a:lnTo>
                    <a:lnTo>
                      <a:pt x="5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122800" y="2876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6" y="15"/>
                    </a:move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3" y="14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40360" y="3186000"/>
                <a:ext cx="120600" cy="30240"/>
              </a:xfrm>
              <a:custGeom>
                <a:avLst/>
                <a:gdLst/>
                <a:ahLst/>
                <a:rect l="l" t="t" r="r" b="b"/>
                <a:pathLst>
                  <a:path w="153" h="39">
                    <a:moveTo>
                      <a:pt x="0" y="4"/>
                    </a:moveTo>
                    <a:lnTo>
                      <a:pt x="153" y="39"/>
                    </a:lnTo>
                    <a:lnTo>
                      <a:pt x="150" y="37"/>
                    </a:lnTo>
                    <a:lnTo>
                      <a:pt x="139" y="31"/>
                    </a:lnTo>
                    <a:lnTo>
                      <a:pt x="124" y="22"/>
                    </a:lnTo>
                    <a:lnTo>
                      <a:pt x="105" y="14"/>
                    </a:lnTo>
                    <a:lnTo>
                      <a:pt x="82" y="5"/>
                    </a:lnTo>
                    <a:lnTo>
                      <a:pt x="55" y="1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873680" y="2844720"/>
                <a:ext cx="101520" cy="109440"/>
              </a:xfrm>
              <a:custGeom>
                <a:avLst/>
                <a:gdLst/>
                <a:ahLst/>
                <a:rect l="l" t="t" r="r" b="b"/>
                <a:pathLst>
                  <a:path w="127" h="138">
                    <a:moveTo>
                      <a:pt x="127" y="0"/>
                    </a:moveTo>
                    <a:lnTo>
                      <a:pt x="0" y="138"/>
                    </a:lnTo>
                    <a:lnTo>
                      <a:pt x="119" y="38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265720" y="2868480"/>
                <a:ext cx="133200" cy="30240"/>
              </a:xfrm>
              <a:custGeom>
                <a:avLst/>
                <a:gdLst/>
                <a:ahLst/>
                <a:rect l="l" t="t" r="r" b="b"/>
                <a:pathLst>
                  <a:path w="169" h="38">
                    <a:moveTo>
                      <a:pt x="0" y="27"/>
                    </a:moveTo>
                    <a:lnTo>
                      <a:pt x="12" y="27"/>
                    </a:lnTo>
                    <a:lnTo>
                      <a:pt x="33" y="29"/>
                    </a:lnTo>
                    <a:lnTo>
                      <a:pt x="60" y="30"/>
                    </a:lnTo>
                    <a:lnTo>
                      <a:pt x="90" y="32"/>
                    </a:lnTo>
                    <a:lnTo>
                      <a:pt x="119" y="35"/>
                    </a:lnTo>
                    <a:lnTo>
                      <a:pt x="144" y="36"/>
                    </a:lnTo>
                    <a:lnTo>
                      <a:pt x="162" y="38"/>
                    </a:lnTo>
                    <a:lnTo>
                      <a:pt x="169" y="38"/>
                    </a:lnTo>
                    <a:lnTo>
                      <a:pt x="1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06880" y="2481120"/>
                <a:ext cx="293760" cy="314640"/>
              </a:xfrm>
              <a:custGeom>
                <a:avLst/>
                <a:gdLst/>
                <a:ahLst/>
                <a:rect l="l" t="t" r="r" b="b"/>
                <a:pathLst>
                  <a:path w="369" h="396">
                    <a:moveTo>
                      <a:pt x="369" y="140"/>
                    </a:moveTo>
                    <a:lnTo>
                      <a:pt x="363" y="128"/>
                    </a:lnTo>
                    <a:lnTo>
                      <a:pt x="355" y="113"/>
                    </a:lnTo>
                    <a:lnTo>
                      <a:pt x="346" y="97"/>
                    </a:lnTo>
                    <a:lnTo>
                      <a:pt x="335" y="83"/>
                    </a:lnTo>
                    <a:lnTo>
                      <a:pt x="322" y="75"/>
                    </a:lnTo>
                    <a:lnTo>
                      <a:pt x="307" y="74"/>
                    </a:lnTo>
                    <a:lnTo>
                      <a:pt x="290" y="84"/>
                    </a:lnTo>
                    <a:lnTo>
                      <a:pt x="270" y="108"/>
                    </a:lnTo>
                    <a:lnTo>
                      <a:pt x="270" y="106"/>
                    </a:lnTo>
                    <a:lnTo>
                      <a:pt x="270" y="101"/>
                    </a:lnTo>
                    <a:lnTo>
                      <a:pt x="270" y="93"/>
                    </a:lnTo>
                    <a:lnTo>
                      <a:pt x="269" y="83"/>
                    </a:lnTo>
                    <a:lnTo>
                      <a:pt x="268" y="70"/>
                    </a:lnTo>
                    <a:lnTo>
                      <a:pt x="264" y="58"/>
                    </a:lnTo>
                    <a:lnTo>
                      <a:pt x="259" y="45"/>
                    </a:lnTo>
                    <a:lnTo>
                      <a:pt x="251" y="32"/>
                    </a:lnTo>
                    <a:lnTo>
                      <a:pt x="240" y="22"/>
                    </a:lnTo>
                    <a:lnTo>
                      <a:pt x="226" y="11"/>
                    </a:lnTo>
                    <a:lnTo>
                      <a:pt x="208" y="5"/>
                    </a:lnTo>
                    <a:lnTo>
                      <a:pt x="187" y="0"/>
                    </a:lnTo>
                    <a:lnTo>
                      <a:pt x="161" y="0"/>
                    </a:lnTo>
                    <a:lnTo>
                      <a:pt x="131" y="3"/>
                    </a:lnTo>
                    <a:lnTo>
                      <a:pt x="95" y="13"/>
                    </a:lnTo>
                    <a:lnTo>
                      <a:pt x="54" y="26"/>
                    </a:lnTo>
                    <a:lnTo>
                      <a:pt x="41" y="48"/>
                    </a:lnTo>
                    <a:lnTo>
                      <a:pt x="31" y="73"/>
                    </a:lnTo>
                    <a:lnTo>
                      <a:pt x="25" y="99"/>
                    </a:lnTo>
                    <a:lnTo>
                      <a:pt x="24" y="127"/>
                    </a:lnTo>
                    <a:lnTo>
                      <a:pt x="24" y="132"/>
                    </a:lnTo>
                    <a:lnTo>
                      <a:pt x="26" y="144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0" y="214"/>
                    </a:lnTo>
                    <a:lnTo>
                      <a:pt x="31" y="228"/>
                    </a:lnTo>
                    <a:lnTo>
                      <a:pt x="24" y="314"/>
                    </a:lnTo>
                    <a:lnTo>
                      <a:pt x="17" y="319"/>
                    </a:lnTo>
                    <a:lnTo>
                      <a:pt x="12" y="325"/>
                    </a:lnTo>
                    <a:lnTo>
                      <a:pt x="9" y="332"/>
                    </a:lnTo>
                    <a:lnTo>
                      <a:pt x="8" y="340"/>
                    </a:lnTo>
                    <a:lnTo>
                      <a:pt x="10" y="350"/>
                    </a:lnTo>
                    <a:lnTo>
                      <a:pt x="17" y="359"/>
                    </a:lnTo>
                    <a:lnTo>
                      <a:pt x="26" y="365"/>
                    </a:lnTo>
                    <a:lnTo>
                      <a:pt x="38" y="367"/>
                    </a:lnTo>
                    <a:lnTo>
                      <a:pt x="44" y="366"/>
                    </a:lnTo>
                    <a:lnTo>
                      <a:pt x="50" y="365"/>
                    </a:lnTo>
                    <a:lnTo>
                      <a:pt x="56" y="362"/>
                    </a:lnTo>
                    <a:lnTo>
                      <a:pt x="61" y="357"/>
                    </a:lnTo>
                    <a:lnTo>
                      <a:pt x="63" y="358"/>
                    </a:lnTo>
                    <a:lnTo>
                      <a:pt x="65" y="368"/>
                    </a:lnTo>
                    <a:lnTo>
                      <a:pt x="71" y="378"/>
                    </a:lnTo>
                    <a:lnTo>
                      <a:pt x="80" y="383"/>
                    </a:lnTo>
                    <a:lnTo>
                      <a:pt x="92" y="386"/>
                    </a:lnTo>
                    <a:lnTo>
                      <a:pt x="99" y="385"/>
                    </a:lnTo>
                    <a:lnTo>
                      <a:pt x="104" y="383"/>
                    </a:lnTo>
                    <a:lnTo>
                      <a:pt x="109" y="380"/>
                    </a:lnTo>
                    <a:lnTo>
                      <a:pt x="114" y="376"/>
                    </a:lnTo>
                    <a:lnTo>
                      <a:pt x="114" y="376"/>
                    </a:lnTo>
                    <a:lnTo>
                      <a:pt x="149" y="362"/>
                    </a:lnTo>
                    <a:lnTo>
                      <a:pt x="177" y="396"/>
                    </a:lnTo>
                    <a:lnTo>
                      <a:pt x="358" y="372"/>
                    </a:lnTo>
                    <a:lnTo>
                      <a:pt x="363" y="249"/>
                    </a:lnTo>
                    <a:lnTo>
                      <a:pt x="369" y="14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26040" y="2655720"/>
                <a:ext cx="95400" cy="14292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0" y="142"/>
                    </a:moveTo>
                    <a:lnTo>
                      <a:pt x="22" y="181"/>
                    </a:lnTo>
                    <a:lnTo>
                      <a:pt x="69" y="176"/>
                    </a:lnTo>
                    <a:lnTo>
                      <a:pt x="73" y="166"/>
                    </a:lnTo>
                    <a:lnTo>
                      <a:pt x="81" y="140"/>
                    </a:lnTo>
                    <a:lnTo>
                      <a:pt x="91" y="105"/>
                    </a:lnTo>
                    <a:lnTo>
                      <a:pt x="104" y="67"/>
                    </a:lnTo>
                    <a:lnTo>
                      <a:pt x="114" y="32"/>
                    </a:lnTo>
                    <a:lnTo>
                      <a:pt x="120" y="8"/>
                    </a:lnTo>
                    <a:lnTo>
                      <a:pt x="121" y="0"/>
                    </a:lnTo>
                    <a:lnTo>
                      <a:pt x="114" y="15"/>
                    </a:lnTo>
                    <a:lnTo>
                      <a:pt x="100" y="42"/>
                    </a:lnTo>
                    <a:lnTo>
                      <a:pt x="84" y="68"/>
                    </a:lnTo>
                    <a:lnTo>
                      <a:pt x="65" y="90"/>
                    </a:lnTo>
                    <a:lnTo>
                      <a:pt x="46" y="107"/>
                    </a:lnTo>
                    <a:lnTo>
                      <a:pt x="28" y="122"/>
                    </a:lnTo>
                    <a:lnTo>
                      <a:pt x="14" y="132"/>
                    </a:lnTo>
                    <a:lnTo>
                      <a:pt x="4" y="139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8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051520" y="2585880"/>
                <a:ext cx="88920" cy="39960"/>
              </a:xfrm>
              <a:custGeom>
                <a:avLst/>
                <a:gdLst/>
                <a:ahLst/>
                <a:rect l="l" t="t" r="r" b="b"/>
                <a:pathLst>
                  <a:path w="113" h="51">
                    <a:moveTo>
                      <a:pt x="56" y="0"/>
                    </a:moveTo>
                    <a:lnTo>
                      <a:pt x="66" y="0"/>
                    </a:lnTo>
                    <a:lnTo>
                      <a:pt x="74" y="1"/>
                    </a:lnTo>
                    <a:lnTo>
                      <a:pt x="82" y="4"/>
                    </a:lnTo>
                    <a:lnTo>
                      <a:pt x="90" y="6"/>
                    </a:lnTo>
                    <a:lnTo>
                      <a:pt x="97" y="9"/>
                    </a:lnTo>
                    <a:lnTo>
                      <a:pt x="104" y="14"/>
                    </a:lnTo>
                    <a:lnTo>
                      <a:pt x="108" y="19"/>
                    </a:lnTo>
                    <a:lnTo>
                      <a:pt x="113" y="24"/>
                    </a:lnTo>
                    <a:lnTo>
                      <a:pt x="108" y="30"/>
                    </a:lnTo>
                    <a:lnTo>
                      <a:pt x="104" y="35"/>
                    </a:lnTo>
                    <a:lnTo>
                      <a:pt x="97" y="39"/>
                    </a:lnTo>
                    <a:lnTo>
                      <a:pt x="90" y="43"/>
                    </a:lnTo>
                    <a:lnTo>
                      <a:pt x="83" y="46"/>
                    </a:lnTo>
                    <a:lnTo>
                      <a:pt x="75" y="49"/>
                    </a:lnTo>
                    <a:lnTo>
                      <a:pt x="66" y="51"/>
                    </a:lnTo>
                    <a:lnTo>
                      <a:pt x="56" y="51"/>
                    </a:lnTo>
                    <a:lnTo>
                      <a:pt x="47" y="51"/>
                    </a:lnTo>
                    <a:lnTo>
                      <a:pt x="39" y="50"/>
                    </a:lnTo>
                    <a:lnTo>
                      <a:pt x="31" y="47"/>
                    </a:lnTo>
                    <a:lnTo>
                      <a:pt x="23" y="44"/>
                    </a:lnTo>
                    <a:lnTo>
                      <a:pt x="16" y="41"/>
                    </a:lnTo>
                    <a:lnTo>
                      <a:pt x="10" y="37"/>
                    </a:lnTo>
                    <a:lnTo>
                      <a:pt x="5" y="32"/>
                    </a:lnTo>
                    <a:lnTo>
                      <a:pt x="0" y="27"/>
                    </a:lnTo>
                    <a:lnTo>
                      <a:pt x="5" y="21"/>
                    </a:lnTo>
                    <a:lnTo>
                      <a:pt x="9" y="15"/>
                    </a:lnTo>
                    <a:lnTo>
                      <a:pt x="16" y="12"/>
                    </a:lnTo>
                    <a:lnTo>
                      <a:pt x="23" y="7"/>
                    </a:lnTo>
                    <a:lnTo>
                      <a:pt x="30" y="5"/>
                    </a:lnTo>
                    <a:lnTo>
                      <a:pt x="38" y="3"/>
                    </a:lnTo>
                    <a:lnTo>
                      <a:pt x="47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048280" y="255096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17" y="45"/>
                    </a:moveTo>
                    <a:lnTo>
                      <a:pt x="117" y="45"/>
                    </a:lnTo>
                    <a:lnTo>
                      <a:pt x="116" y="43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3" y="30"/>
                    </a:lnTo>
                    <a:lnTo>
                      <a:pt x="96" y="24"/>
                    </a:lnTo>
                    <a:lnTo>
                      <a:pt x="88" y="18"/>
                    </a:lnTo>
                    <a:lnTo>
                      <a:pt x="78" y="15"/>
                    </a:lnTo>
                    <a:lnTo>
                      <a:pt x="67" y="11"/>
                    </a:lnTo>
                    <a:lnTo>
                      <a:pt x="61" y="11"/>
                    </a:lnTo>
                    <a:lnTo>
                      <a:pt x="54" y="11"/>
                    </a:lnTo>
                    <a:lnTo>
                      <a:pt x="46" y="12"/>
                    </a:lnTo>
                    <a:lnTo>
                      <a:pt x="39" y="13"/>
                    </a:lnTo>
                    <a:lnTo>
                      <a:pt x="31" y="17"/>
                    </a:lnTo>
                    <a:lnTo>
                      <a:pt x="24" y="20"/>
                    </a:lnTo>
                    <a:lnTo>
                      <a:pt x="16" y="24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5" y="31"/>
                    </a:lnTo>
                    <a:lnTo>
                      <a:pt x="3" y="30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10" y="15"/>
                    </a:lnTo>
                    <a:lnTo>
                      <a:pt x="19" y="10"/>
                    </a:lnTo>
                    <a:lnTo>
                      <a:pt x="27" y="5"/>
                    </a:lnTo>
                    <a:lnTo>
                      <a:pt x="36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70" y="1"/>
                    </a:lnTo>
                    <a:lnTo>
                      <a:pt x="82" y="4"/>
                    </a:lnTo>
                    <a:lnTo>
                      <a:pt x="93" y="9"/>
                    </a:lnTo>
                    <a:lnTo>
                      <a:pt x="102" y="15"/>
                    </a:lnTo>
                    <a:lnTo>
                      <a:pt x="110" y="20"/>
                    </a:lnTo>
                    <a:lnTo>
                      <a:pt x="117" y="27"/>
                    </a:lnTo>
                    <a:lnTo>
                      <a:pt x="122" y="32"/>
                    </a:lnTo>
                    <a:lnTo>
                      <a:pt x="125" y="36"/>
                    </a:lnTo>
                    <a:lnTo>
                      <a:pt x="126" y="38"/>
                    </a:lnTo>
                    <a:lnTo>
                      <a:pt x="126" y="38"/>
                    </a:lnTo>
                    <a:lnTo>
                      <a:pt x="127" y="40"/>
                    </a:lnTo>
                    <a:lnTo>
                      <a:pt x="127" y="41"/>
                    </a:lnTo>
                    <a:lnTo>
                      <a:pt x="126" y="43"/>
                    </a:lnTo>
                    <a:lnTo>
                      <a:pt x="124" y="46"/>
                    </a:lnTo>
                    <a:lnTo>
                      <a:pt x="122" y="47"/>
                    </a:lnTo>
                    <a:lnTo>
                      <a:pt x="120" y="47"/>
                    </a:lnTo>
                    <a:lnTo>
                      <a:pt x="118" y="46"/>
                    </a:lnTo>
                    <a:lnTo>
                      <a:pt x="117" y="45"/>
                    </a:lnTo>
                    <a:lnTo>
                      <a:pt x="11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230800" y="2595600"/>
                <a:ext cx="42840" cy="6012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29" y="1"/>
                    </a:moveTo>
                    <a:lnTo>
                      <a:pt x="34" y="6"/>
                    </a:lnTo>
                    <a:lnTo>
                      <a:pt x="42" y="15"/>
                    </a:lnTo>
                    <a:lnTo>
                      <a:pt x="51" y="28"/>
                    </a:lnTo>
                    <a:lnTo>
                      <a:pt x="53" y="43"/>
                    </a:lnTo>
                    <a:lnTo>
                      <a:pt x="51" y="48"/>
                    </a:lnTo>
                    <a:lnTo>
                      <a:pt x="48" y="53"/>
                    </a:lnTo>
                    <a:lnTo>
                      <a:pt x="44" y="57"/>
                    </a:lnTo>
                    <a:lnTo>
                      <a:pt x="39" y="62"/>
                    </a:lnTo>
                    <a:lnTo>
                      <a:pt x="33" y="66"/>
                    </a:lnTo>
                    <a:lnTo>
                      <a:pt x="25" y="69"/>
                    </a:lnTo>
                    <a:lnTo>
                      <a:pt x="17" y="72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6" y="76"/>
                    </a:lnTo>
                    <a:lnTo>
                      <a:pt x="3" y="75"/>
                    </a:lnTo>
                    <a:lnTo>
                      <a:pt x="1" y="74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1" y="67"/>
                    </a:lnTo>
                    <a:lnTo>
                      <a:pt x="2" y="64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13" y="61"/>
                    </a:lnTo>
                    <a:lnTo>
                      <a:pt x="19" y="59"/>
                    </a:lnTo>
                    <a:lnTo>
                      <a:pt x="25" y="56"/>
                    </a:lnTo>
                    <a:lnTo>
                      <a:pt x="30" y="53"/>
                    </a:lnTo>
                    <a:lnTo>
                      <a:pt x="34" y="51"/>
                    </a:lnTo>
                    <a:lnTo>
                      <a:pt x="37" y="47"/>
                    </a:lnTo>
                    <a:lnTo>
                      <a:pt x="39" y="45"/>
                    </a:lnTo>
                    <a:lnTo>
                      <a:pt x="40" y="41"/>
                    </a:lnTo>
                    <a:lnTo>
                      <a:pt x="39" y="32"/>
                    </a:lnTo>
                    <a:lnTo>
                      <a:pt x="34" y="24"/>
                    </a:lnTo>
                    <a:lnTo>
                      <a:pt x="26" y="16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9" y="2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d66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064120" y="258588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7" y="36"/>
                    </a:moveTo>
                    <a:lnTo>
                      <a:pt x="10" y="35"/>
                    </a:lnTo>
                    <a:lnTo>
                      <a:pt x="6" y="30"/>
                    </a:lnTo>
                    <a:lnTo>
                      <a:pt x="1" y="25"/>
                    </a:lnTo>
                    <a:lnTo>
                      <a:pt x="0" y="18"/>
                    </a:lnTo>
                    <a:lnTo>
                      <a:pt x="1" y="11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7" y="0"/>
                    </a:lnTo>
                    <a:lnTo>
                      <a:pt x="24" y="2"/>
                    </a:lnTo>
                    <a:lnTo>
                      <a:pt x="30" y="5"/>
                    </a:lnTo>
                    <a:lnTo>
                      <a:pt x="34" y="11"/>
                    </a:lnTo>
                    <a:lnTo>
                      <a:pt x="35" y="18"/>
                    </a:lnTo>
                    <a:lnTo>
                      <a:pt x="34" y="25"/>
                    </a:lnTo>
                    <a:lnTo>
                      <a:pt x="30" y="30"/>
                    </a:lnTo>
                    <a:lnTo>
                      <a:pt x="24" y="34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070600" y="25938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16"/>
                    </a:moveTo>
                    <a:lnTo>
                      <a:pt x="5" y="15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6" y="8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2" y="15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79960" y="2593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7"/>
                    </a:moveTo>
                    <a:lnTo>
                      <a:pt x="3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035680" y="2441520"/>
                <a:ext cx="277560" cy="236520"/>
              </a:xfrm>
              <a:custGeom>
                <a:avLst/>
                <a:gdLst/>
                <a:ahLst/>
                <a:rect l="l" t="t" r="r" b="b"/>
                <a:pathLst>
                  <a:path w="349" h="299">
                    <a:moveTo>
                      <a:pt x="158" y="0"/>
                    </a:moveTo>
                    <a:lnTo>
                      <a:pt x="141" y="2"/>
                    </a:lnTo>
                    <a:lnTo>
                      <a:pt x="124" y="4"/>
                    </a:lnTo>
                    <a:lnTo>
                      <a:pt x="108" y="9"/>
                    </a:lnTo>
                    <a:lnTo>
                      <a:pt x="93" y="14"/>
                    </a:lnTo>
                    <a:lnTo>
                      <a:pt x="78" y="21"/>
                    </a:lnTo>
                    <a:lnTo>
                      <a:pt x="64" y="30"/>
                    </a:lnTo>
                    <a:lnTo>
                      <a:pt x="51" y="40"/>
                    </a:lnTo>
                    <a:lnTo>
                      <a:pt x="40" y="51"/>
                    </a:lnTo>
                    <a:lnTo>
                      <a:pt x="36" y="49"/>
                    </a:lnTo>
                    <a:lnTo>
                      <a:pt x="32" y="47"/>
                    </a:lnTo>
                    <a:lnTo>
                      <a:pt x="28" y="45"/>
                    </a:lnTo>
                    <a:lnTo>
                      <a:pt x="23" y="45"/>
                    </a:lnTo>
                    <a:lnTo>
                      <a:pt x="14" y="48"/>
                    </a:lnTo>
                    <a:lnTo>
                      <a:pt x="7" y="52"/>
                    </a:lnTo>
                    <a:lnTo>
                      <a:pt x="3" y="59"/>
                    </a:lnTo>
                    <a:lnTo>
                      <a:pt x="0" y="68"/>
                    </a:lnTo>
                    <a:lnTo>
                      <a:pt x="3" y="76"/>
                    </a:lnTo>
                    <a:lnTo>
                      <a:pt x="7" y="83"/>
                    </a:lnTo>
                    <a:lnTo>
                      <a:pt x="15" y="88"/>
                    </a:lnTo>
                    <a:lnTo>
                      <a:pt x="25" y="90"/>
                    </a:lnTo>
                    <a:lnTo>
                      <a:pt x="33" y="89"/>
                    </a:lnTo>
                    <a:lnTo>
                      <a:pt x="40" y="85"/>
                    </a:lnTo>
                    <a:lnTo>
                      <a:pt x="45" y="78"/>
                    </a:lnTo>
                    <a:lnTo>
                      <a:pt x="48" y="71"/>
                    </a:lnTo>
                    <a:lnTo>
                      <a:pt x="56" y="70"/>
                    </a:lnTo>
                    <a:lnTo>
                      <a:pt x="64" y="70"/>
                    </a:lnTo>
                    <a:lnTo>
                      <a:pt x="72" y="70"/>
                    </a:lnTo>
                    <a:lnTo>
                      <a:pt x="80" y="71"/>
                    </a:lnTo>
                    <a:lnTo>
                      <a:pt x="87" y="72"/>
                    </a:lnTo>
                    <a:lnTo>
                      <a:pt x="95" y="73"/>
                    </a:lnTo>
                    <a:lnTo>
                      <a:pt x="102" y="74"/>
                    </a:lnTo>
                    <a:lnTo>
                      <a:pt x="109" y="76"/>
                    </a:lnTo>
                    <a:lnTo>
                      <a:pt x="114" y="75"/>
                    </a:lnTo>
                    <a:lnTo>
                      <a:pt x="124" y="73"/>
                    </a:lnTo>
                    <a:lnTo>
                      <a:pt x="135" y="71"/>
                    </a:lnTo>
                    <a:lnTo>
                      <a:pt x="148" y="67"/>
                    </a:lnTo>
                    <a:lnTo>
                      <a:pt x="159" y="65"/>
                    </a:lnTo>
                    <a:lnTo>
                      <a:pt x="170" y="63"/>
                    </a:lnTo>
                    <a:lnTo>
                      <a:pt x="177" y="61"/>
                    </a:lnTo>
                    <a:lnTo>
                      <a:pt x="179" y="60"/>
                    </a:lnTo>
                    <a:lnTo>
                      <a:pt x="131" y="85"/>
                    </a:lnTo>
                    <a:lnTo>
                      <a:pt x="148" y="95"/>
                    </a:lnTo>
                    <a:lnTo>
                      <a:pt x="164" y="106"/>
                    </a:lnTo>
                    <a:lnTo>
                      <a:pt x="179" y="119"/>
                    </a:lnTo>
                    <a:lnTo>
                      <a:pt x="192" y="132"/>
                    </a:lnTo>
                    <a:lnTo>
                      <a:pt x="203" y="146"/>
                    </a:lnTo>
                    <a:lnTo>
                      <a:pt x="212" y="159"/>
                    </a:lnTo>
                    <a:lnTo>
                      <a:pt x="220" y="171"/>
                    </a:lnTo>
                    <a:lnTo>
                      <a:pt x="227" y="182"/>
                    </a:lnTo>
                    <a:lnTo>
                      <a:pt x="197" y="265"/>
                    </a:lnTo>
                    <a:lnTo>
                      <a:pt x="230" y="262"/>
                    </a:lnTo>
                    <a:lnTo>
                      <a:pt x="240" y="202"/>
                    </a:lnTo>
                    <a:lnTo>
                      <a:pt x="262" y="188"/>
                    </a:lnTo>
                    <a:lnTo>
                      <a:pt x="280" y="187"/>
                    </a:lnTo>
                    <a:lnTo>
                      <a:pt x="295" y="196"/>
                    </a:lnTo>
                    <a:lnTo>
                      <a:pt x="308" y="212"/>
                    </a:lnTo>
                    <a:lnTo>
                      <a:pt x="316" y="234"/>
                    </a:lnTo>
                    <a:lnTo>
                      <a:pt x="323" y="257"/>
                    </a:lnTo>
                    <a:lnTo>
                      <a:pt x="326" y="280"/>
                    </a:lnTo>
                    <a:lnTo>
                      <a:pt x="327" y="299"/>
                    </a:lnTo>
                    <a:lnTo>
                      <a:pt x="349" y="174"/>
                    </a:lnTo>
                    <a:lnTo>
                      <a:pt x="348" y="154"/>
                    </a:lnTo>
                    <a:lnTo>
                      <a:pt x="346" y="135"/>
                    </a:lnTo>
                    <a:lnTo>
                      <a:pt x="341" y="117"/>
                    </a:lnTo>
                    <a:lnTo>
                      <a:pt x="334" y="99"/>
                    </a:lnTo>
                    <a:lnTo>
                      <a:pt x="325" y="85"/>
                    </a:lnTo>
                    <a:lnTo>
                      <a:pt x="315" y="70"/>
                    </a:lnTo>
                    <a:lnTo>
                      <a:pt x="303" y="57"/>
                    </a:lnTo>
                    <a:lnTo>
                      <a:pt x="291" y="45"/>
                    </a:lnTo>
                    <a:lnTo>
                      <a:pt x="277" y="35"/>
                    </a:lnTo>
                    <a:lnTo>
                      <a:pt x="262" y="26"/>
                    </a:lnTo>
                    <a:lnTo>
                      <a:pt x="246" y="18"/>
                    </a:lnTo>
                    <a:lnTo>
                      <a:pt x="228" y="12"/>
                    </a:lnTo>
                    <a:lnTo>
                      <a:pt x="211" y="6"/>
                    </a:lnTo>
                    <a:lnTo>
                      <a:pt x="194" y="3"/>
                    </a:lnTo>
                    <a:lnTo>
                      <a:pt x="177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202360" y="24969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10" y="0"/>
                    </a:moveTo>
                    <a:lnTo>
                      <a:pt x="7" y="1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8" y="4"/>
                    </a:lnTo>
                    <a:lnTo>
                      <a:pt x="15" y="8"/>
                    </a:lnTo>
                    <a:lnTo>
                      <a:pt x="18" y="13"/>
                    </a:lnTo>
                    <a:lnTo>
                      <a:pt x="21" y="20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8" y="33"/>
                    </a:lnTo>
                    <a:lnTo>
                      <a:pt x="15" y="36"/>
                    </a:lnTo>
                    <a:lnTo>
                      <a:pt x="22" y="34"/>
                    </a:lnTo>
                    <a:lnTo>
                      <a:pt x="28" y="29"/>
                    </a:lnTo>
                    <a:lnTo>
                      <a:pt x="31" y="23"/>
                    </a:lnTo>
                    <a:lnTo>
                      <a:pt x="31" y="16"/>
                    </a:lnTo>
                    <a:lnTo>
                      <a:pt x="29" y="9"/>
                    </a:lnTo>
                    <a:lnTo>
                      <a:pt x="24" y="4"/>
                    </a:lnTo>
                    <a:lnTo>
                      <a:pt x="17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221440" y="250524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10" y="0"/>
                    </a:moveTo>
                    <a:lnTo>
                      <a:pt x="8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9" y="5"/>
                    </a:lnTo>
                    <a:lnTo>
                      <a:pt x="15" y="8"/>
                    </a:lnTo>
                    <a:lnTo>
                      <a:pt x="20" y="14"/>
                    </a:lnTo>
                    <a:lnTo>
                      <a:pt x="22" y="21"/>
                    </a:lnTo>
                    <a:lnTo>
                      <a:pt x="22" y="25"/>
                    </a:lnTo>
                    <a:lnTo>
                      <a:pt x="21" y="30"/>
                    </a:lnTo>
                    <a:lnTo>
                      <a:pt x="20" y="33"/>
                    </a:lnTo>
                    <a:lnTo>
                      <a:pt x="16" y="37"/>
                    </a:lnTo>
                    <a:lnTo>
                      <a:pt x="23" y="34"/>
                    </a:lnTo>
                    <a:lnTo>
                      <a:pt x="29" y="30"/>
                    </a:lnTo>
                    <a:lnTo>
                      <a:pt x="32" y="24"/>
                    </a:lnTo>
                    <a:lnTo>
                      <a:pt x="32" y="17"/>
                    </a:lnTo>
                    <a:lnTo>
                      <a:pt x="30" y="10"/>
                    </a:lnTo>
                    <a:lnTo>
                      <a:pt x="25" y="5"/>
                    </a:lnTo>
                    <a:lnTo>
                      <a:pt x="18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214960" y="25225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1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9" y="3"/>
                    </a:lnTo>
                    <a:lnTo>
                      <a:pt x="15" y="7"/>
                    </a:lnTo>
                    <a:lnTo>
                      <a:pt x="20" y="13"/>
                    </a:lnTo>
                    <a:lnTo>
                      <a:pt x="22" y="20"/>
                    </a:lnTo>
                    <a:lnTo>
                      <a:pt x="22" y="24"/>
                    </a:lnTo>
                    <a:lnTo>
                      <a:pt x="21" y="29"/>
                    </a:lnTo>
                    <a:lnTo>
                      <a:pt x="19" y="33"/>
                    </a:lnTo>
                    <a:lnTo>
                      <a:pt x="15" y="37"/>
                    </a:lnTo>
                    <a:lnTo>
                      <a:pt x="23" y="33"/>
                    </a:lnTo>
                    <a:lnTo>
                      <a:pt x="29" y="29"/>
                    </a:lnTo>
                    <a:lnTo>
                      <a:pt x="31" y="23"/>
                    </a:lnTo>
                    <a:lnTo>
                      <a:pt x="32" y="16"/>
                    </a:lnTo>
                    <a:lnTo>
                      <a:pt x="30" y="9"/>
                    </a:lnTo>
                    <a:lnTo>
                      <a:pt x="25" y="3"/>
                    </a:lnTo>
                    <a:lnTo>
                      <a:pt x="19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192640" y="251316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11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10" y="5"/>
                    </a:lnTo>
                    <a:lnTo>
                      <a:pt x="15" y="8"/>
                    </a:lnTo>
                    <a:lnTo>
                      <a:pt x="20" y="13"/>
                    </a:lnTo>
                    <a:lnTo>
                      <a:pt x="22" y="20"/>
                    </a:lnTo>
                    <a:lnTo>
                      <a:pt x="22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5" y="37"/>
                    </a:lnTo>
                    <a:lnTo>
                      <a:pt x="23" y="35"/>
                    </a:lnTo>
                    <a:lnTo>
                      <a:pt x="29" y="30"/>
                    </a:lnTo>
                    <a:lnTo>
                      <a:pt x="31" y="23"/>
                    </a:lnTo>
                    <a:lnTo>
                      <a:pt x="33" y="16"/>
                    </a:lnTo>
                    <a:lnTo>
                      <a:pt x="30" y="9"/>
                    </a:lnTo>
                    <a:lnTo>
                      <a:pt x="26" y="4"/>
                    </a:lnTo>
                    <a:lnTo>
                      <a:pt x="1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241960" y="25239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10" y="0"/>
                    </a:moveTo>
                    <a:lnTo>
                      <a:pt x="7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8" y="5"/>
                    </a:lnTo>
                    <a:lnTo>
                      <a:pt x="15" y="8"/>
                    </a:lnTo>
                    <a:lnTo>
                      <a:pt x="18" y="14"/>
                    </a:lnTo>
                    <a:lnTo>
                      <a:pt x="20" y="21"/>
                    </a:lnTo>
                    <a:lnTo>
                      <a:pt x="20" y="25"/>
                    </a:lnTo>
                    <a:lnTo>
                      <a:pt x="19" y="30"/>
                    </a:lnTo>
                    <a:lnTo>
                      <a:pt x="18" y="33"/>
                    </a:lnTo>
                    <a:lnTo>
                      <a:pt x="15" y="37"/>
                    </a:lnTo>
                    <a:lnTo>
                      <a:pt x="22" y="35"/>
                    </a:lnTo>
                    <a:lnTo>
                      <a:pt x="27" y="30"/>
                    </a:lnTo>
                    <a:lnTo>
                      <a:pt x="31" y="24"/>
                    </a:lnTo>
                    <a:lnTo>
                      <a:pt x="31" y="17"/>
                    </a:lnTo>
                    <a:lnTo>
                      <a:pt x="28" y="10"/>
                    </a:lnTo>
                    <a:lnTo>
                      <a:pt x="24" y="5"/>
                    </a:lnTo>
                    <a:lnTo>
                      <a:pt x="17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237280" y="249084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10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9" y="5"/>
                    </a:lnTo>
                    <a:lnTo>
                      <a:pt x="15" y="9"/>
                    </a:lnTo>
                    <a:lnTo>
                      <a:pt x="19" y="13"/>
                    </a:lnTo>
                    <a:lnTo>
                      <a:pt x="22" y="20"/>
                    </a:lnTo>
                    <a:lnTo>
                      <a:pt x="22" y="25"/>
                    </a:lnTo>
                    <a:lnTo>
                      <a:pt x="21" y="29"/>
                    </a:lnTo>
                    <a:lnTo>
                      <a:pt x="18" y="34"/>
                    </a:lnTo>
                    <a:lnTo>
                      <a:pt x="15" y="37"/>
                    </a:lnTo>
                    <a:lnTo>
                      <a:pt x="23" y="35"/>
                    </a:lnTo>
                    <a:lnTo>
                      <a:pt x="29" y="30"/>
                    </a:lnTo>
                    <a:lnTo>
                      <a:pt x="31" y="24"/>
                    </a:lnTo>
                    <a:lnTo>
                      <a:pt x="32" y="17"/>
                    </a:lnTo>
                    <a:lnTo>
                      <a:pt x="30" y="10"/>
                    </a:lnTo>
                    <a:lnTo>
                      <a:pt x="25" y="4"/>
                    </a:lnTo>
                    <a:lnTo>
                      <a:pt x="1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207040" y="2476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10" y="0"/>
                    </a:moveTo>
                    <a:lnTo>
                      <a:pt x="8" y="1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9" y="5"/>
                    </a:lnTo>
                    <a:lnTo>
                      <a:pt x="15" y="8"/>
                    </a:lnTo>
                    <a:lnTo>
                      <a:pt x="19" y="14"/>
                    </a:lnTo>
                    <a:lnTo>
                      <a:pt x="22" y="21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6" y="37"/>
                    </a:lnTo>
                    <a:lnTo>
                      <a:pt x="23" y="35"/>
                    </a:lnTo>
                    <a:lnTo>
                      <a:pt x="29" y="30"/>
                    </a:lnTo>
                    <a:lnTo>
                      <a:pt x="32" y="23"/>
                    </a:lnTo>
                    <a:lnTo>
                      <a:pt x="32" y="16"/>
                    </a:lnTo>
                    <a:lnTo>
                      <a:pt x="30" y="9"/>
                    </a:lnTo>
                    <a:lnTo>
                      <a:pt x="25" y="5"/>
                    </a:lnTo>
                    <a:lnTo>
                      <a:pt x="18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24600" y="24591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7" y="4"/>
                    </a:moveTo>
                    <a:lnTo>
                      <a:pt x="5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7" y="8"/>
                    </a:lnTo>
                    <a:lnTo>
                      <a:pt x="13" y="8"/>
                    </a:lnTo>
                    <a:lnTo>
                      <a:pt x="20" y="11"/>
                    </a:lnTo>
                    <a:lnTo>
                      <a:pt x="24" y="15"/>
                    </a:lnTo>
                    <a:lnTo>
                      <a:pt x="27" y="19"/>
                    </a:lnTo>
                    <a:lnTo>
                      <a:pt x="27" y="23"/>
                    </a:lnTo>
                    <a:lnTo>
                      <a:pt x="27" y="27"/>
                    </a:lnTo>
                    <a:lnTo>
                      <a:pt x="25" y="31"/>
                    </a:lnTo>
                    <a:lnTo>
                      <a:pt x="30" y="27"/>
                    </a:lnTo>
                    <a:lnTo>
                      <a:pt x="34" y="20"/>
                    </a:lnTo>
                    <a:lnTo>
                      <a:pt x="32" y="14"/>
                    </a:lnTo>
                    <a:lnTo>
                      <a:pt x="30" y="8"/>
                    </a:lnTo>
                    <a:lnTo>
                      <a:pt x="25" y="4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108400" y="24670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7" y="2"/>
                    </a:moveTo>
                    <a:lnTo>
                      <a:pt x="5" y="4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8" y="7"/>
                    </a:lnTo>
                    <a:lnTo>
                      <a:pt x="14" y="7"/>
                    </a:lnTo>
                    <a:lnTo>
                      <a:pt x="20" y="9"/>
                    </a:lnTo>
                    <a:lnTo>
                      <a:pt x="25" y="14"/>
                    </a:lnTo>
                    <a:lnTo>
                      <a:pt x="27" y="18"/>
                    </a:lnTo>
                    <a:lnTo>
                      <a:pt x="27" y="22"/>
                    </a:lnTo>
                    <a:lnTo>
                      <a:pt x="27" y="26"/>
                    </a:lnTo>
                    <a:lnTo>
                      <a:pt x="26" y="30"/>
                    </a:lnTo>
                    <a:lnTo>
                      <a:pt x="30" y="25"/>
                    </a:lnTo>
                    <a:lnTo>
                      <a:pt x="34" y="18"/>
                    </a:lnTo>
                    <a:lnTo>
                      <a:pt x="34" y="12"/>
                    </a:lnTo>
                    <a:lnTo>
                      <a:pt x="31" y="7"/>
                    </a:lnTo>
                    <a:lnTo>
                      <a:pt x="27" y="2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246560" y="281772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154" h="88">
                    <a:moveTo>
                      <a:pt x="0" y="0"/>
                    </a:moveTo>
                    <a:lnTo>
                      <a:pt x="76" y="28"/>
                    </a:lnTo>
                    <a:lnTo>
                      <a:pt x="123" y="10"/>
                    </a:lnTo>
                    <a:lnTo>
                      <a:pt x="108" y="31"/>
                    </a:lnTo>
                    <a:lnTo>
                      <a:pt x="149" y="39"/>
                    </a:lnTo>
                    <a:lnTo>
                      <a:pt x="121" y="48"/>
                    </a:lnTo>
                    <a:lnTo>
                      <a:pt x="154" y="68"/>
                    </a:lnTo>
                    <a:lnTo>
                      <a:pt x="111" y="65"/>
                    </a:lnTo>
                    <a:lnTo>
                      <a:pt x="123" y="85"/>
                    </a:lnTo>
                    <a:lnTo>
                      <a:pt x="95" y="66"/>
                    </a:lnTo>
                    <a:lnTo>
                      <a:pt x="98" y="88"/>
                    </a:lnTo>
                    <a:lnTo>
                      <a:pt x="75" y="60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062240" y="2895480"/>
                <a:ext cx="149400" cy="88920"/>
              </a:xfrm>
              <a:custGeom>
                <a:avLst/>
                <a:gdLst/>
                <a:ahLst/>
                <a:rect l="l" t="t" r="r" b="b"/>
                <a:pathLst>
                  <a:path w="189" h="111">
                    <a:moveTo>
                      <a:pt x="0" y="41"/>
                    </a:moveTo>
                    <a:lnTo>
                      <a:pt x="94" y="70"/>
                    </a:lnTo>
                    <a:lnTo>
                      <a:pt x="134" y="110"/>
                    </a:lnTo>
                    <a:lnTo>
                      <a:pt x="124" y="89"/>
                    </a:lnTo>
                    <a:lnTo>
                      <a:pt x="170" y="111"/>
                    </a:lnTo>
                    <a:lnTo>
                      <a:pt x="145" y="82"/>
                    </a:lnTo>
                    <a:lnTo>
                      <a:pt x="189" y="87"/>
                    </a:lnTo>
                    <a:lnTo>
                      <a:pt x="153" y="59"/>
                    </a:lnTo>
                    <a:lnTo>
                      <a:pt x="177" y="55"/>
                    </a:lnTo>
                    <a:lnTo>
                      <a:pt x="139" y="47"/>
                    </a:lnTo>
                    <a:lnTo>
                      <a:pt x="159" y="27"/>
                    </a:lnTo>
                    <a:lnTo>
                      <a:pt x="115" y="38"/>
                    </a:lnTo>
                    <a:lnTo>
                      <a:pt x="32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703680" y="2514600"/>
                <a:ext cx="595440" cy="471600"/>
              </a:xfrm>
              <a:custGeom>
                <a:avLst/>
                <a:gdLst/>
                <a:ahLst/>
                <a:rect l="l" t="t" r="r" b="b"/>
                <a:pathLst>
                  <a:path w="751" h="595">
                    <a:moveTo>
                      <a:pt x="162" y="65"/>
                    </a:moveTo>
                    <a:lnTo>
                      <a:pt x="365" y="0"/>
                    </a:lnTo>
                    <a:lnTo>
                      <a:pt x="508" y="82"/>
                    </a:lnTo>
                    <a:lnTo>
                      <a:pt x="592" y="142"/>
                    </a:lnTo>
                    <a:lnTo>
                      <a:pt x="650" y="338"/>
                    </a:lnTo>
                    <a:lnTo>
                      <a:pt x="751" y="393"/>
                    </a:lnTo>
                    <a:lnTo>
                      <a:pt x="731" y="444"/>
                    </a:lnTo>
                    <a:lnTo>
                      <a:pt x="569" y="403"/>
                    </a:lnTo>
                    <a:lnTo>
                      <a:pt x="538" y="330"/>
                    </a:lnTo>
                    <a:lnTo>
                      <a:pt x="504" y="426"/>
                    </a:lnTo>
                    <a:lnTo>
                      <a:pt x="323" y="595"/>
                    </a:lnTo>
                    <a:lnTo>
                      <a:pt x="0" y="473"/>
                    </a:lnTo>
                    <a:lnTo>
                      <a:pt x="162" y="65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00680" y="2298600"/>
                <a:ext cx="295200" cy="322200"/>
              </a:xfrm>
              <a:custGeom>
                <a:avLst/>
                <a:gdLst/>
                <a:ahLst/>
                <a:rect l="l" t="t" r="r" b="b"/>
                <a:pathLst>
                  <a:path w="372" h="405">
                    <a:moveTo>
                      <a:pt x="342" y="158"/>
                    </a:moveTo>
                    <a:lnTo>
                      <a:pt x="345" y="154"/>
                    </a:lnTo>
                    <a:lnTo>
                      <a:pt x="355" y="145"/>
                    </a:lnTo>
                    <a:lnTo>
                      <a:pt x="363" y="136"/>
                    </a:lnTo>
                    <a:lnTo>
                      <a:pt x="366" y="131"/>
                    </a:lnTo>
                    <a:lnTo>
                      <a:pt x="372" y="106"/>
                    </a:lnTo>
                    <a:lnTo>
                      <a:pt x="371" y="82"/>
                    </a:lnTo>
                    <a:lnTo>
                      <a:pt x="366" y="57"/>
                    </a:lnTo>
                    <a:lnTo>
                      <a:pt x="359" y="33"/>
                    </a:lnTo>
                    <a:lnTo>
                      <a:pt x="335" y="19"/>
                    </a:lnTo>
                    <a:lnTo>
                      <a:pt x="311" y="10"/>
                    </a:lnTo>
                    <a:lnTo>
                      <a:pt x="289" y="3"/>
                    </a:lnTo>
                    <a:lnTo>
                      <a:pt x="267" y="0"/>
                    </a:lnTo>
                    <a:lnTo>
                      <a:pt x="246" y="0"/>
                    </a:lnTo>
                    <a:lnTo>
                      <a:pt x="228" y="1"/>
                    </a:lnTo>
                    <a:lnTo>
                      <a:pt x="209" y="4"/>
                    </a:lnTo>
                    <a:lnTo>
                      <a:pt x="193" y="9"/>
                    </a:lnTo>
                    <a:lnTo>
                      <a:pt x="180" y="15"/>
                    </a:lnTo>
                    <a:lnTo>
                      <a:pt x="166" y="22"/>
                    </a:lnTo>
                    <a:lnTo>
                      <a:pt x="154" y="27"/>
                    </a:lnTo>
                    <a:lnTo>
                      <a:pt x="145" y="34"/>
                    </a:lnTo>
                    <a:lnTo>
                      <a:pt x="138" y="40"/>
                    </a:lnTo>
                    <a:lnTo>
                      <a:pt x="132" y="44"/>
                    </a:lnTo>
                    <a:lnTo>
                      <a:pt x="129" y="47"/>
                    </a:lnTo>
                    <a:lnTo>
                      <a:pt x="128" y="48"/>
                    </a:lnTo>
                    <a:lnTo>
                      <a:pt x="116" y="19"/>
                    </a:lnTo>
                    <a:lnTo>
                      <a:pt x="102" y="4"/>
                    </a:lnTo>
                    <a:lnTo>
                      <a:pt x="87" y="1"/>
                    </a:lnTo>
                    <a:lnTo>
                      <a:pt x="72" y="6"/>
                    </a:lnTo>
                    <a:lnTo>
                      <a:pt x="57" y="15"/>
                    </a:lnTo>
                    <a:lnTo>
                      <a:pt x="44" y="29"/>
                    </a:lnTo>
                    <a:lnTo>
                      <a:pt x="32" y="41"/>
                    </a:lnTo>
                    <a:lnTo>
                      <a:pt x="22" y="51"/>
                    </a:lnTo>
                    <a:lnTo>
                      <a:pt x="32" y="182"/>
                    </a:lnTo>
                    <a:lnTo>
                      <a:pt x="0" y="280"/>
                    </a:lnTo>
                    <a:lnTo>
                      <a:pt x="71" y="405"/>
                    </a:lnTo>
                    <a:lnTo>
                      <a:pt x="132" y="352"/>
                    </a:lnTo>
                    <a:lnTo>
                      <a:pt x="168" y="285"/>
                    </a:lnTo>
                    <a:lnTo>
                      <a:pt x="169" y="287"/>
                    </a:lnTo>
                    <a:lnTo>
                      <a:pt x="170" y="288"/>
                    </a:lnTo>
                    <a:lnTo>
                      <a:pt x="174" y="290"/>
                    </a:lnTo>
                    <a:lnTo>
                      <a:pt x="178" y="293"/>
                    </a:lnTo>
                    <a:lnTo>
                      <a:pt x="183" y="298"/>
                    </a:lnTo>
                    <a:lnTo>
                      <a:pt x="189" y="302"/>
                    </a:lnTo>
                    <a:lnTo>
                      <a:pt x="196" y="306"/>
                    </a:lnTo>
                    <a:lnTo>
                      <a:pt x="203" y="311"/>
                    </a:lnTo>
                    <a:lnTo>
                      <a:pt x="211" y="315"/>
                    </a:lnTo>
                    <a:lnTo>
                      <a:pt x="220" y="319"/>
                    </a:lnTo>
                    <a:lnTo>
                      <a:pt x="230" y="322"/>
                    </a:lnTo>
                    <a:lnTo>
                      <a:pt x="242" y="325"/>
                    </a:lnTo>
                    <a:lnTo>
                      <a:pt x="252" y="326"/>
                    </a:lnTo>
                    <a:lnTo>
                      <a:pt x="261" y="326"/>
                    </a:lnTo>
                    <a:lnTo>
                      <a:pt x="269" y="325"/>
                    </a:lnTo>
                    <a:lnTo>
                      <a:pt x="276" y="321"/>
                    </a:lnTo>
                    <a:lnTo>
                      <a:pt x="284" y="313"/>
                    </a:lnTo>
                    <a:lnTo>
                      <a:pt x="294" y="302"/>
                    </a:lnTo>
                    <a:lnTo>
                      <a:pt x="302" y="287"/>
                    </a:lnTo>
                    <a:lnTo>
                      <a:pt x="310" y="270"/>
                    </a:lnTo>
                    <a:lnTo>
                      <a:pt x="315" y="254"/>
                    </a:lnTo>
                    <a:lnTo>
                      <a:pt x="321" y="242"/>
                    </a:lnTo>
                    <a:lnTo>
                      <a:pt x="325" y="232"/>
                    </a:lnTo>
                    <a:lnTo>
                      <a:pt x="326" y="229"/>
                    </a:lnTo>
                    <a:lnTo>
                      <a:pt x="357" y="226"/>
                    </a:lnTo>
                    <a:lnTo>
                      <a:pt x="342" y="158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170240" y="2394000"/>
                <a:ext cx="85680" cy="46080"/>
              </a:xfrm>
              <a:custGeom>
                <a:avLst/>
                <a:gdLst/>
                <a:ahLst/>
                <a:rect l="l" t="t" r="r" b="b"/>
                <a:pathLst>
                  <a:path w="108" h="58">
                    <a:moveTo>
                      <a:pt x="62" y="4"/>
                    </a:moveTo>
                    <a:lnTo>
                      <a:pt x="53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1" y="3"/>
                    </a:lnTo>
                    <a:lnTo>
                      <a:pt x="13" y="4"/>
                    </a:lnTo>
                    <a:lnTo>
                      <a:pt x="6" y="7"/>
                    </a:lnTo>
                    <a:lnTo>
                      <a:pt x="0" y="11"/>
                    </a:lnTo>
                    <a:lnTo>
                      <a:pt x="2" y="18"/>
                    </a:lnTo>
                    <a:lnTo>
                      <a:pt x="7" y="25"/>
                    </a:lnTo>
                    <a:lnTo>
                      <a:pt x="11" y="30"/>
                    </a:lnTo>
                    <a:lnTo>
                      <a:pt x="16" y="36"/>
                    </a:lnTo>
                    <a:lnTo>
                      <a:pt x="23" y="41"/>
                    </a:lnTo>
                    <a:lnTo>
                      <a:pt x="30" y="46"/>
                    </a:lnTo>
                    <a:lnTo>
                      <a:pt x="38" y="50"/>
                    </a:lnTo>
                    <a:lnTo>
                      <a:pt x="46" y="53"/>
                    </a:lnTo>
                    <a:lnTo>
                      <a:pt x="55" y="56"/>
                    </a:lnTo>
                    <a:lnTo>
                      <a:pt x="64" y="57"/>
                    </a:lnTo>
                    <a:lnTo>
                      <a:pt x="72" y="58"/>
                    </a:lnTo>
                    <a:lnTo>
                      <a:pt x="81" y="57"/>
                    </a:lnTo>
                    <a:lnTo>
                      <a:pt x="89" y="56"/>
                    </a:lnTo>
                    <a:lnTo>
                      <a:pt x="95" y="53"/>
                    </a:lnTo>
                    <a:lnTo>
                      <a:pt x="102" y="50"/>
                    </a:lnTo>
                    <a:lnTo>
                      <a:pt x="108" y="46"/>
                    </a:lnTo>
                    <a:lnTo>
                      <a:pt x="106" y="40"/>
                    </a:lnTo>
                    <a:lnTo>
                      <a:pt x="102" y="34"/>
                    </a:lnTo>
                    <a:lnTo>
                      <a:pt x="98" y="28"/>
                    </a:lnTo>
                    <a:lnTo>
                      <a:pt x="92" y="21"/>
                    </a:lnTo>
                    <a:lnTo>
                      <a:pt x="86" y="17"/>
                    </a:lnTo>
                    <a:lnTo>
                      <a:pt x="79" y="12"/>
                    </a:lnTo>
                    <a:lnTo>
                      <a:pt x="71" y="7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173480" y="2367000"/>
                <a:ext cx="79560" cy="3492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6" y="18"/>
                    </a:moveTo>
                    <a:lnTo>
                      <a:pt x="6" y="18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4" y="14"/>
                    </a:lnTo>
                    <a:lnTo>
                      <a:pt x="20" y="12"/>
                    </a:lnTo>
                    <a:lnTo>
                      <a:pt x="27" y="10"/>
                    </a:lnTo>
                    <a:lnTo>
                      <a:pt x="35" y="9"/>
                    </a:lnTo>
                    <a:lnTo>
                      <a:pt x="43" y="8"/>
                    </a:lnTo>
                    <a:lnTo>
                      <a:pt x="52" y="9"/>
                    </a:lnTo>
                    <a:lnTo>
                      <a:pt x="58" y="10"/>
                    </a:lnTo>
                    <a:lnTo>
                      <a:pt x="64" y="14"/>
                    </a:lnTo>
                    <a:lnTo>
                      <a:pt x="69" y="16"/>
                    </a:lnTo>
                    <a:lnTo>
                      <a:pt x="74" y="20"/>
                    </a:lnTo>
                    <a:lnTo>
                      <a:pt x="79" y="24"/>
                    </a:lnTo>
                    <a:lnTo>
                      <a:pt x="84" y="30"/>
                    </a:lnTo>
                    <a:lnTo>
                      <a:pt x="87" y="36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3"/>
                    </a:lnTo>
                    <a:lnTo>
                      <a:pt x="94" y="44"/>
                    </a:lnTo>
                    <a:lnTo>
                      <a:pt x="96" y="44"/>
                    </a:lnTo>
                    <a:lnTo>
                      <a:pt x="97" y="43"/>
                    </a:lnTo>
                    <a:lnTo>
                      <a:pt x="99" y="41"/>
                    </a:lnTo>
                    <a:lnTo>
                      <a:pt x="100" y="40"/>
                    </a:lnTo>
                    <a:lnTo>
                      <a:pt x="100" y="38"/>
                    </a:lnTo>
                    <a:lnTo>
                      <a:pt x="99" y="37"/>
                    </a:lnTo>
                    <a:lnTo>
                      <a:pt x="99" y="37"/>
                    </a:lnTo>
                    <a:lnTo>
                      <a:pt x="94" y="30"/>
                    </a:lnTo>
                    <a:lnTo>
                      <a:pt x="89" y="23"/>
                    </a:lnTo>
                    <a:lnTo>
                      <a:pt x="85" y="18"/>
                    </a:lnTo>
                    <a:lnTo>
                      <a:pt x="79" y="13"/>
                    </a:lnTo>
                    <a:lnTo>
                      <a:pt x="73" y="9"/>
                    </a:lnTo>
                    <a:lnTo>
                      <a:pt x="67" y="6"/>
                    </a:lnTo>
                    <a:lnTo>
                      <a:pt x="62" y="2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6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216320" y="240660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1" h="39">
                    <a:moveTo>
                      <a:pt x="14" y="39"/>
                    </a:moveTo>
                    <a:lnTo>
                      <a:pt x="22" y="39"/>
                    </a:lnTo>
                    <a:lnTo>
                      <a:pt x="29" y="36"/>
                    </a:lnTo>
                    <a:lnTo>
                      <a:pt x="36" y="32"/>
                    </a:lnTo>
                    <a:lnTo>
                      <a:pt x="40" y="25"/>
                    </a:lnTo>
                    <a:lnTo>
                      <a:pt x="41" y="17"/>
                    </a:lnTo>
                    <a:lnTo>
                      <a:pt x="38" y="10"/>
                    </a:lnTo>
                    <a:lnTo>
                      <a:pt x="34" y="4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5" y="6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39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226040" y="24145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7" y="18"/>
                    </a:moveTo>
                    <a:lnTo>
                      <a:pt x="11" y="19"/>
                    </a:lnTo>
                    <a:lnTo>
                      <a:pt x="14" y="18"/>
                    </a:lnTo>
                    <a:lnTo>
                      <a:pt x="17" y="16"/>
                    </a:lnTo>
                    <a:lnTo>
                      <a:pt x="19" y="13"/>
                    </a:lnTo>
                    <a:lnTo>
                      <a:pt x="20" y="9"/>
                    </a:lnTo>
                    <a:lnTo>
                      <a:pt x="19" y="6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3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4" y="17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224240" y="24145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6"/>
                    </a:moveTo>
                    <a:lnTo>
                      <a:pt x="4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943440" y="2230560"/>
                <a:ext cx="376200" cy="252360"/>
              </a:xfrm>
              <a:custGeom>
                <a:avLst/>
                <a:gdLst/>
                <a:ahLst/>
                <a:rect l="l" t="t" r="r" b="b"/>
                <a:pathLst>
                  <a:path w="475" h="318">
                    <a:moveTo>
                      <a:pt x="319" y="114"/>
                    </a:moveTo>
                    <a:lnTo>
                      <a:pt x="315" y="143"/>
                    </a:lnTo>
                    <a:lnTo>
                      <a:pt x="475" y="197"/>
                    </a:lnTo>
                    <a:lnTo>
                      <a:pt x="475" y="193"/>
                    </a:lnTo>
                    <a:lnTo>
                      <a:pt x="475" y="181"/>
                    </a:lnTo>
                    <a:lnTo>
                      <a:pt x="472" y="164"/>
                    </a:lnTo>
                    <a:lnTo>
                      <a:pt x="466" y="141"/>
                    </a:lnTo>
                    <a:lnTo>
                      <a:pt x="453" y="115"/>
                    </a:lnTo>
                    <a:lnTo>
                      <a:pt x="434" y="88"/>
                    </a:lnTo>
                    <a:lnTo>
                      <a:pt x="407" y="61"/>
                    </a:lnTo>
                    <a:lnTo>
                      <a:pt x="369" y="35"/>
                    </a:lnTo>
                    <a:lnTo>
                      <a:pt x="355" y="28"/>
                    </a:lnTo>
                    <a:lnTo>
                      <a:pt x="341" y="21"/>
                    </a:lnTo>
                    <a:lnTo>
                      <a:pt x="327" y="15"/>
                    </a:lnTo>
                    <a:lnTo>
                      <a:pt x="315" y="11"/>
                    </a:lnTo>
                    <a:lnTo>
                      <a:pt x="301" y="7"/>
                    </a:lnTo>
                    <a:lnTo>
                      <a:pt x="289" y="5"/>
                    </a:lnTo>
                    <a:lnTo>
                      <a:pt x="278" y="3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6" y="0"/>
                    </a:lnTo>
                    <a:lnTo>
                      <a:pt x="236" y="0"/>
                    </a:lnTo>
                    <a:lnTo>
                      <a:pt x="227" y="0"/>
                    </a:lnTo>
                    <a:lnTo>
                      <a:pt x="220" y="0"/>
                    </a:lnTo>
                    <a:lnTo>
                      <a:pt x="213" y="1"/>
                    </a:lnTo>
                    <a:lnTo>
                      <a:pt x="206" y="3"/>
                    </a:lnTo>
                    <a:lnTo>
                      <a:pt x="202" y="4"/>
                    </a:lnTo>
                    <a:lnTo>
                      <a:pt x="168" y="11"/>
                    </a:lnTo>
                    <a:lnTo>
                      <a:pt x="138" y="20"/>
                    </a:lnTo>
                    <a:lnTo>
                      <a:pt x="112" y="30"/>
                    </a:lnTo>
                    <a:lnTo>
                      <a:pt x="89" y="44"/>
                    </a:lnTo>
                    <a:lnTo>
                      <a:pt x="69" y="59"/>
                    </a:lnTo>
                    <a:lnTo>
                      <a:pt x="52" y="75"/>
                    </a:lnTo>
                    <a:lnTo>
                      <a:pt x="38" y="91"/>
                    </a:lnTo>
                    <a:lnTo>
                      <a:pt x="27" y="110"/>
                    </a:lnTo>
                    <a:lnTo>
                      <a:pt x="13" y="142"/>
                    </a:lnTo>
                    <a:lnTo>
                      <a:pt x="4" y="175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1" y="262"/>
                    </a:lnTo>
                    <a:lnTo>
                      <a:pt x="5" y="281"/>
                    </a:lnTo>
                    <a:lnTo>
                      <a:pt x="7" y="294"/>
                    </a:lnTo>
                    <a:lnTo>
                      <a:pt x="8" y="299"/>
                    </a:lnTo>
                    <a:lnTo>
                      <a:pt x="188" y="318"/>
                    </a:lnTo>
                    <a:lnTo>
                      <a:pt x="180" y="286"/>
                    </a:lnTo>
                    <a:lnTo>
                      <a:pt x="178" y="257"/>
                    </a:lnTo>
                    <a:lnTo>
                      <a:pt x="181" y="231"/>
                    </a:lnTo>
                    <a:lnTo>
                      <a:pt x="186" y="206"/>
                    </a:lnTo>
                    <a:lnTo>
                      <a:pt x="194" y="188"/>
                    </a:lnTo>
                    <a:lnTo>
                      <a:pt x="201" y="173"/>
                    </a:lnTo>
                    <a:lnTo>
                      <a:pt x="208" y="163"/>
                    </a:lnTo>
                    <a:lnTo>
                      <a:pt x="211" y="158"/>
                    </a:lnTo>
                    <a:lnTo>
                      <a:pt x="220" y="150"/>
                    </a:lnTo>
                    <a:lnTo>
                      <a:pt x="231" y="142"/>
                    </a:lnTo>
                    <a:lnTo>
                      <a:pt x="242" y="134"/>
                    </a:lnTo>
                    <a:lnTo>
                      <a:pt x="255" y="126"/>
                    </a:lnTo>
                    <a:lnTo>
                      <a:pt x="269" y="120"/>
                    </a:lnTo>
                    <a:lnTo>
                      <a:pt x="285" y="115"/>
                    </a:lnTo>
                    <a:lnTo>
                      <a:pt x="301" y="113"/>
                    </a:lnTo>
                    <a:lnTo>
                      <a:pt x="31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065480" y="2349360"/>
                <a:ext cx="47880" cy="49320"/>
              </a:xfrm>
              <a:custGeom>
                <a:avLst/>
                <a:gdLst/>
                <a:ahLst/>
                <a:rect l="l" t="t" r="r" b="b"/>
                <a:pathLst>
                  <a:path w="59" h="62">
                    <a:moveTo>
                      <a:pt x="20" y="61"/>
                    </a:moveTo>
                    <a:lnTo>
                      <a:pt x="10" y="55"/>
                    </a:lnTo>
                    <a:lnTo>
                      <a:pt x="3" y="46"/>
                    </a:lnTo>
                    <a:lnTo>
                      <a:pt x="0" y="35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50" y="7"/>
                    </a:lnTo>
                    <a:lnTo>
                      <a:pt x="56" y="17"/>
                    </a:lnTo>
                    <a:lnTo>
                      <a:pt x="59" y="28"/>
                    </a:lnTo>
                    <a:lnTo>
                      <a:pt x="57" y="40"/>
                    </a:lnTo>
                    <a:lnTo>
                      <a:pt x="55" y="46"/>
                    </a:lnTo>
                    <a:lnTo>
                      <a:pt x="51" y="52"/>
                    </a:lnTo>
                    <a:lnTo>
                      <a:pt x="48" y="56"/>
                    </a:lnTo>
                    <a:lnTo>
                      <a:pt x="42" y="59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2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083120" y="23814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6" y="15"/>
                    </a:moveTo>
                    <a:lnTo>
                      <a:pt x="3" y="14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2" y="15"/>
                    </a:lnTo>
                    <a:lnTo>
                      <a:pt x="8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14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240080" y="22766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70" h="111">
                    <a:moveTo>
                      <a:pt x="0" y="0"/>
                    </a:moveTo>
                    <a:lnTo>
                      <a:pt x="4" y="2"/>
                    </a:lnTo>
                    <a:lnTo>
                      <a:pt x="12" y="7"/>
                    </a:lnTo>
                    <a:lnTo>
                      <a:pt x="23" y="16"/>
                    </a:lnTo>
                    <a:lnTo>
                      <a:pt x="36" y="29"/>
                    </a:lnTo>
                    <a:lnTo>
                      <a:pt x="49" y="45"/>
                    </a:lnTo>
                    <a:lnTo>
                      <a:pt x="60" y="63"/>
                    </a:lnTo>
                    <a:lnTo>
                      <a:pt x="67" y="85"/>
                    </a:lnTo>
                    <a:lnTo>
                      <a:pt x="70" y="111"/>
                    </a:lnTo>
                    <a:lnTo>
                      <a:pt x="68" y="107"/>
                    </a:lnTo>
                    <a:lnTo>
                      <a:pt x="65" y="98"/>
                    </a:lnTo>
                    <a:lnTo>
                      <a:pt x="60" y="85"/>
                    </a:lnTo>
                    <a:lnTo>
                      <a:pt x="52" y="69"/>
                    </a:lnTo>
                    <a:lnTo>
                      <a:pt x="43" y="51"/>
                    </a:lnTo>
                    <a:lnTo>
                      <a:pt x="32" y="32"/>
                    </a:lnTo>
                    <a:lnTo>
                      <a:pt x="17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29280" y="2279520"/>
                <a:ext cx="44280" cy="79560"/>
              </a:xfrm>
              <a:custGeom>
                <a:avLst/>
                <a:gdLst/>
                <a:ahLst/>
                <a:rect l="l" t="t" r="r" b="b"/>
                <a:pathLst>
                  <a:path w="56" h="101">
                    <a:moveTo>
                      <a:pt x="0" y="0"/>
                    </a:moveTo>
                    <a:lnTo>
                      <a:pt x="2" y="2"/>
                    </a:lnTo>
                    <a:lnTo>
                      <a:pt x="9" y="6"/>
                    </a:lnTo>
                    <a:lnTo>
                      <a:pt x="18" y="14"/>
                    </a:lnTo>
                    <a:lnTo>
                      <a:pt x="28" y="26"/>
                    </a:lnTo>
                    <a:lnTo>
                      <a:pt x="38" y="41"/>
                    </a:lnTo>
                    <a:lnTo>
                      <a:pt x="47" y="58"/>
                    </a:lnTo>
                    <a:lnTo>
                      <a:pt x="54" y="78"/>
                    </a:lnTo>
                    <a:lnTo>
                      <a:pt x="56" y="101"/>
                    </a:lnTo>
                    <a:lnTo>
                      <a:pt x="55" y="97"/>
                    </a:lnTo>
                    <a:lnTo>
                      <a:pt x="51" y="88"/>
                    </a:lnTo>
                    <a:lnTo>
                      <a:pt x="47" y="76"/>
                    </a:lnTo>
                    <a:lnTo>
                      <a:pt x="40" y="61"/>
                    </a:lnTo>
                    <a:lnTo>
                      <a:pt x="31" y="43"/>
                    </a:lnTo>
                    <a:lnTo>
                      <a:pt x="21" y="26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16320" y="2284560"/>
                <a:ext cx="31680" cy="64800"/>
              </a:xfrm>
              <a:custGeom>
                <a:avLst/>
                <a:gdLst/>
                <a:ahLst/>
                <a:rect l="l" t="t" r="r" b="b"/>
                <a:pathLst>
                  <a:path w="39" h="82">
                    <a:moveTo>
                      <a:pt x="0" y="0"/>
                    </a:moveTo>
                    <a:lnTo>
                      <a:pt x="2" y="3"/>
                    </a:lnTo>
                    <a:lnTo>
                      <a:pt x="5" y="7"/>
                    </a:lnTo>
                    <a:lnTo>
                      <a:pt x="12" y="15"/>
                    </a:lnTo>
                    <a:lnTo>
                      <a:pt x="19" y="26"/>
                    </a:lnTo>
                    <a:lnTo>
                      <a:pt x="27" y="38"/>
                    </a:lnTo>
                    <a:lnTo>
                      <a:pt x="33" y="52"/>
                    </a:lnTo>
                    <a:lnTo>
                      <a:pt x="38" y="67"/>
                    </a:lnTo>
                    <a:lnTo>
                      <a:pt x="39" y="82"/>
                    </a:lnTo>
                    <a:lnTo>
                      <a:pt x="38" y="80"/>
                    </a:lnTo>
                    <a:lnTo>
                      <a:pt x="35" y="72"/>
                    </a:lnTo>
                    <a:lnTo>
                      <a:pt x="31" y="60"/>
                    </a:lnTo>
                    <a:lnTo>
                      <a:pt x="25" y="48"/>
                    </a:lnTo>
                    <a:lnTo>
                      <a:pt x="18" y="34"/>
                    </a:lnTo>
                    <a:lnTo>
                      <a:pt x="12" y="20"/>
                    </a:lnTo>
                    <a:lnTo>
                      <a:pt x="5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976560" y="2279520"/>
                <a:ext cx="61920" cy="157320"/>
              </a:xfrm>
              <a:custGeom>
                <a:avLst/>
                <a:gdLst/>
                <a:ahLst/>
                <a:rect l="l" t="t" r="r" b="b"/>
                <a:pathLst>
                  <a:path w="78" h="199">
                    <a:moveTo>
                      <a:pt x="78" y="0"/>
                    </a:moveTo>
                    <a:lnTo>
                      <a:pt x="73" y="3"/>
                    </a:lnTo>
                    <a:lnTo>
                      <a:pt x="63" y="11"/>
                    </a:lnTo>
                    <a:lnTo>
                      <a:pt x="47" y="26"/>
                    </a:lnTo>
                    <a:lnTo>
                      <a:pt x="31" y="47"/>
                    </a:lnTo>
                    <a:lnTo>
                      <a:pt x="16" y="76"/>
                    </a:lnTo>
                    <a:lnTo>
                      <a:pt x="4" y="109"/>
                    </a:lnTo>
                    <a:lnTo>
                      <a:pt x="0" y="150"/>
                    </a:lnTo>
                    <a:lnTo>
                      <a:pt x="4" y="199"/>
                    </a:lnTo>
                    <a:lnTo>
                      <a:pt x="4" y="193"/>
                    </a:lnTo>
                    <a:lnTo>
                      <a:pt x="4" y="178"/>
                    </a:lnTo>
                    <a:lnTo>
                      <a:pt x="7" y="155"/>
                    </a:lnTo>
                    <a:lnTo>
                      <a:pt x="11" y="126"/>
                    </a:lnTo>
                    <a:lnTo>
                      <a:pt x="19" y="95"/>
                    </a:lnTo>
                    <a:lnTo>
                      <a:pt x="32" y="62"/>
                    </a:lnTo>
                    <a:lnTo>
                      <a:pt x="52" y="29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006800" y="2305080"/>
                <a:ext cx="33480" cy="142920"/>
              </a:xfrm>
              <a:custGeom>
                <a:avLst/>
                <a:gdLst/>
                <a:ahLst/>
                <a:rect l="l" t="t" r="r" b="b"/>
                <a:pathLst>
                  <a:path w="41" h="179">
                    <a:moveTo>
                      <a:pt x="41" y="0"/>
                    </a:moveTo>
                    <a:lnTo>
                      <a:pt x="39" y="3"/>
                    </a:lnTo>
                    <a:lnTo>
                      <a:pt x="31" y="12"/>
                    </a:lnTo>
                    <a:lnTo>
                      <a:pt x="22" y="29"/>
                    </a:lnTo>
                    <a:lnTo>
                      <a:pt x="12" y="49"/>
                    </a:lnTo>
                    <a:lnTo>
                      <a:pt x="3" y="76"/>
                    </a:lnTo>
                    <a:lnTo>
                      <a:pt x="0" y="106"/>
                    </a:lnTo>
                    <a:lnTo>
                      <a:pt x="1" y="141"/>
                    </a:lnTo>
                    <a:lnTo>
                      <a:pt x="10" y="179"/>
                    </a:lnTo>
                    <a:lnTo>
                      <a:pt x="9" y="175"/>
                    </a:lnTo>
                    <a:lnTo>
                      <a:pt x="8" y="162"/>
                    </a:lnTo>
                    <a:lnTo>
                      <a:pt x="7" y="143"/>
                    </a:lnTo>
                    <a:lnTo>
                      <a:pt x="7" y="118"/>
                    </a:lnTo>
                    <a:lnTo>
                      <a:pt x="10" y="91"/>
                    </a:lnTo>
                    <a:lnTo>
                      <a:pt x="16" y="61"/>
                    </a:lnTo>
                    <a:lnTo>
                      <a:pt x="25" y="3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029120" y="2344680"/>
                <a:ext cx="17280" cy="108000"/>
              </a:xfrm>
              <a:custGeom>
                <a:avLst/>
                <a:gdLst/>
                <a:ahLst/>
                <a:rect l="l" t="t" r="r" b="b"/>
                <a:pathLst>
                  <a:path w="21" h="136">
                    <a:moveTo>
                      <a:pt x="21" y="0"/>
                    </a:moveTo>
                    <a:lnTo>
                      <a:pt x="19" y="3"/>
                    </a:lnTo>
                    <a:lnTo>
                      <a:pt x="15" y="8"/>
                    </a:lnTo>
                    <a:lnTo>
                      <a:pt x="9" y="20"/>
                    </a:lnTo>
                    <a:lnTo>
                      <a:pt x="3" y="34"/>
                    </a:lnTo>
                    <a:lnTo>
                      <a:pt x="0" y="53"/>
                    </a:lnTo>
                    <a:lnTo>
                      <a:pt x="0" y="76"/>
                    </a:lnTo>
                    <a:lnTo>
                      <a:pt x="4" y="104"/>
                    </a:lnTo>
                    <a:lnTo>
                      <a:pt x="17" y="136"/>
                    </a:lnTo>
                    <a:lnTo>
                      <a:pt x="13" y="121"/>
                    </a:lnTo>
                    <a:lnTo>
                      <a:pt x="8" y="85"/>
                    </a:lnTo>
                    <a:lnTo>
                      <a:pt x="8" y="4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052880" y="2397240"/>
                <a:ext cx="9360" cy="58680"/>
              </a:xfrm>
              <a:custGeom>
                <a:avLst/>
                <a:gdLst/>
                <a:ahLst/>
                <a:rect l="l" t="t" r="r" b="b"/>
                <a:pathLst>
                  <a:path w="13" h="74">
                    <a:moveTo>
                      <a:pt x="7" y="0"/>
                    </a:moveTo>
                    <a:lnTo>
                      <a:pt x="4" y="3"/>
                    </a:lnTo>
                    <a:lnTo>
                      <a:pt x="0" y="16"/>
                    </a:lnTo>
                    <a:lnTo>
                      <a:pt x="0" y="39"/>
                    </a:lnTo>
                    <a:lnTo>
                      <a:pt x="13" y="74"/>
                    </a:lnTo>
                    <a:lnTo>
                      <a:pt x="11" y="67"/>
                    </a:lnTo>
                    <a:lnTo>
                      <a:pt x="7" y="50"/>
                    </a:lnTo>
                    <a:lnTo>
                      <a:pt x="4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068800" y="2798640"/>
                <a:ext cx="82800" cy="193680"/>
              </a:xfrm>
              <a:custGeom>
                <a:avLst/>
                <a:gdLst/>
                <a:ahLst/>
                <a:rect l="l" t="t" r="r" b="b"/>
                <a:pathLst>
                  <a:path w="104" h="244">
                    <a:moveTo>
                      <a:pt x="93" y="0"/>
                    </a:moveTo>
                    <a:lnTo>
                      <a:pt x="70" y="33"/>
                    </a:lnTo>
                    <a:lnTo>
                      <a:pt x="78" y="51"/>
                    </a:lnTo>
                    <a:lnTo>
                      <a:pt x="17" y="159"/>
                    </a:lnTo>
                    <a:lnTo>
                      <a:pt x="0" y="244"/>
                    </a:lnTo>
                    <a:lnTo>
                      <a:pt x="85" y="180"/>
                    </a:lnTo>
                    <a:lnTo>
                      <a:pt x="89" y="55"/>
                    </a:lnTo>
                    <a:lnTo>
                      <a:pt x="102" y="49"/>
                    </a:lnTo>
                    <a:lnTo>
                      <a:pt x="104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022720" y="2676600"/>
                <a:ext cx="47880" cy="19080"/>
              </a:xfrm>
              <a:custGeom>
                <a:avLst/>
                <a:gdLst/>
                <a:ahLst/>
                <a:rect l="l" t="t" r="r" b="b"/>
                <a:pathLst>
                  <a:path w="60" h="26">
                    <a:moveTo>
                      <a:pt x="60" y="21"/>
                    </a:moveTo>
                    <a:lnTo>
                      <a:pt x="34" y="7"/>
                    </a:lnTo>
                    <a:lnTo>
                      <a:pt x="16" y="1"/>
                    </a:lnTo>
                    <a:lnTo>
                      <a:pt x="6" y="0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1" y="15"/>
                    </a:lnTo>
                    <a:lnTo>
                      <a:pt x="4" y="20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8" y="24"/>
                    </a:lnTo>
                    <a:lnTo>
                      <a:pt x="14" y="24"/>
                    </a:lnTo>
                    <a:lnTo>
                      <a:pt x="19" y="26"/>
                    </a:lnTo>
                    <a:lnTo>
                      <a:pt x="26" y="26"/>
                    </a:lnTo>
                    <a:lnTo>
                      <a:pt x="33" y="24"/>
                    </a:lnTo>
                    <a:lnTo>
                      <a:pt x="42" y="24"/>
                    </a:lnTo>
                    <a:lnTo>
                      <a:pt x="50" y="23"/>
                    </a:lnTo>
                    <a:lnTo>
                      <a:pt x="60" y="21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019840" y="2697120"/>
                <a:ext cx="52200" cy="2376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8" y="2"/>
                    </a:moveTo>
                    <a:lnTo>
                      <a:pt x="2" y="10"/>
                    </a:lnTo>
                    <a:lnTo>
                      <a:pt x="0" y="17"/>
                    </a:lnTo>
                    <a:lnTo>
                      <a:pt x="3" y="23"/>
                    </a:lnTo>
                    <a:lnTo>
                      <a:pt x="8" y="26"/>
                    </a:lnTo>
                    <a:lnTo>
                      <a:pt x="16" y="29"/>
                    </a:lnTo>
                    <a:lnTo>
                      <a:pt x="25" y="29"/>
                    </a:lnTo>
                    <a:lnTo>
                      <a:pt x="34" y="26"/>
                    </a:lnTo>
                    <a:lnTo>
                      <a:pt x="45" y="23"/>
                    </a:lnTo>
                    <a:lnTo>
                      <a:pt x="52" y="17"/>
                    </a:lnTo>
                    <a:lnTo>
                      <a:pt x="59" y="10"/>
                    </a:lnTo>
                    <a:lnTo>
                      <a:pt x="63" y="3"/>
                    </a:lnTo>
                    <a:lnTo>
                      <a:pt x="65" y="1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53" y="2"/>
                    </a:lnTo>
                    <a:lnTo>
                      <a:pt x="45" y="3"/>
                    </a:lnTo>
                    <a:lnTo>
                      <a:pt x="36" y="3"/>
                    </a:lnTo>
                    <a:lnTo>
                      <a:pt x="29" y="4"/>
                    </a:lnTo>
                    <a:lnTo>
                      <a:pt x="22" y="4"/>
                    </a:lnTo>
                    <a:lnTo>
                      <a:pt x="17" y="3"/>
                    </a:lnTo>
                    <a:lnTo>
                      <a:pt x="11" y="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857840" y="3214800"/>
                <a:ext cx="352440" cy="152280"/>
              </a:xfrm>
              <a:custGeom>
                <a:avLst/>
                <a:gdLst/>
                <a:ahLst/>
                <a:rect l="l" t="t" r="r" b="b"/>
                <a:pathLst>
                  <a:path w="444" h="194">
                    <a:moveTo>
                      <a:pt x="0" y="174"/>
                    </a:moveTo>
                    <a:lnTo>
                      <a:pt x="1" y="194"/>
                    </a:lnTo>
                    <a:lnTo>
                      <a:pt x="32" y="187"/>
                    </a:lnTo>
                    <a:lnTo>
                      <a:pt x="63" y="179"/>
                    </a:lnTo>
                    <a:lnTo>
                      <a:pt x="94" y="171"/>
                    </a:lnTo>
                    <a:lnTo>
                      <a:pt x="124" y="162"/>
                    </a:lnTo>
                    <a:lnTo>
                      <a:pt x="154" y="151"/>
                    </a:lnTo>
                    <a:lnTo>
                      <a:pt x="183" y="142"/>
                    </a:lnTo>
                    <a:lnTo>
                      <a:pt x="212" y="131"/>
                    </a:lnTo>
                    <a:lnTo>
                      <a:pt x="241" y="120"/>
                    </a:lnTo>
                    <a:lnTo>
                      <a:pt x="268" y="107"/>
                    </a:lnTo>
                    <a:lnTo>
                      <a:pt x="295" y="96"/>
                    </a:lnTo>
                    <a:lnTo>
                      <a:pt x="321" y="83"/>
                    </a:lnTo>
                    <a:lnTo>
                      <a:pt x="348" y="69"/>
                    </a:lnTo>
                    <a:lnTo>
                      <a:pt x="373" y="56"/>
                    </a:lnTo>
                    <a:lnTo>
                      <a:pt x="397" y="42"/>
                    </a:lnTo>
                    <a:lnTo>
                      <a:pt x="421" y="27"/>
                    </a:lnTo>
                    <a:lnTo>
                      <a:pt x="444" y="12"/>
                    </a:lnTo>
                    <a:lnTo>
                      <a:pt x="199" y="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208400" y="250668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59" h="37">
                    <a:moveTo>
                      <a:pt x="0" y="0"/>
                    </a:moveTo>
                    <a:lnTo>
                      <a:pt x="1" y="2"/>
                    </a:lnTo>
                    <a:lnTo>
                      <a:pt x="5" y="9"/>
                    </a:lnTo>
                    <a:lnTo>
                      <a:pt x="9" y="16"/>
                    </a:lnTo>
                    <a:lnTo>
                      <a:pt x="14" y="23"/>
                    </a:lnTo>
                    <a:lnTo>
                      <a:pt x="22" y="30"/>
                    </a:lnTo>
                    <a:lnTo>
                      <a:pt x="30" y="35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51" y="35"/>
                    </a:lnTo>
                    <a:lnTo>
                      <a:pt x="56" y="31"/>
                    </a:lnTo>
                    <a:lnTo>
                      <a:pt x="58" y="25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1" y="17"/>
                    </a:lnTo>
                    <a:lnTo>
                      <a:pt x="43" y="15"/>
                    </a:lnTo>
                    <a:lnTo>
                      <a:pt x="35" y="13"/>
                    </a:lnTo>
                    <a:lnTo>
                      <a:pt x="27" y="10"/>
                    </a:lnTo>
                    <a:lnTo>
                      <a:pt x="19" y="7"/>
                    </a:lnTo>
                    <a:lnTo>
                      <a:pt x="12" y="5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208400" y="249696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67" h="24">
                    <a:moveTo>
                      <a:pt x="0" y="5"/>
                    </a:moveTo>
                    <a:lnTo>
                      <a:pt x="6" y="8"/>
                    </a:lnTo>
                    <a:lnTo>
                      <a:pt x="12" y="10"/>
                    </a:lnTo>
                    <a:lnTo>
                      <a:pt x="19" y="13"/>
                    </a:lnTo>
                    <a:lnTo>
                      <a:pt x="27" y="16"/>
                    </a:lnTo>
                    <a:lnTo>
                      <a:pt x="35" y="18"/>
                    </a:lnTo>
                    <a:lnTo>
                      <a:pt x="43" y="20"/>
                    </a:lnTo>
                    <a:lnTo>
                      <a:pt x="51" y="23"/>
                    </a:lnTo>
                    <a:lnTo>
                      <a:pt x="59" y="24"/>
                    </a:lnTo>
                    <a:lnTo>
                      <a:pt x="62" y="20"/>
                    </a:lnTo>
                    <a:lnTo>
                      <a:pt x="65" y="16"/>
                    </a:lnTo>
                    <a:lnTo>
                      <a:pt x="67" y="10"/>
                    </a:lnTo>
                    <a:lnTo>
                      <a:pt x="66" y="5"/>
                    </a:lnTo>
                    <a:lnTo>
                      <a:pt x="61" y="1"/>
                    </a:lnTo>
                    <a:lnTo>
                      <a:pt x="49" y="0"/>
                    </a:lnTo>
                    <a:lnTo>
                      <a:pt x="29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965400" y="2489040"/>
                <a:ext cx="146160" cy="244800"/>
              </a:xfrm>
              <a:custGeom>
                <a:avLst/>
                <a:gdLst/>
                <a:ahLst/>
                <a:rect l="l" t="t" r="r" b="b"/>
                <a:pathLst>
                  <a:path w="184" h="308">
                    <a:moveTo>
                      <a:pt x="43" y="0"/>
                    </a:moveTo>
                    <a:lnTo>
                      <a:pt x="23" y="35"/>
                    </a:lnTo>
                    <a:lnTo>
                      <a:pt x="0" y="185"/>
                    </a:lnTo>
                    <a:lnTo>
                      <a:pt x="61" y="112"/>
                    </a:lnTo>
                    <a:lnTo>
                      <a:pt x="54" y="308"/>
                    </a:lnTo>
                    <a:lnTo>
                      <a:pt x="150" y="153"/>
                    </a:lnTo>
                    <a:lnTo>
                      <a:pt x="169" y="196"/>
                    </a:lnTo>
                    <a:lnTo>
                      <a:pt x="184" y="96"/>
                    </a:lnTo>
                    <a:lnTo>
                      <a:pt x="107" y="115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130640" y="2637000"/>
                <a:ext cx="12600" cy="104760"/>
              </a:xfrm>
              <a:custGeom>
                <a:avLst/>
                <a:gdLst/>
                <a:ahLst/>
                <a:rect l="l" t="t" r="r" b="b"/>
                <a:pathLst>
                  <a:path w="17" h="131">
                    <a:moveTo>
                      <a:pt x="6" y="2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037040" y="26128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6" y="15"/>
                    </a:moveTo>
                    <a:lnTo>
                      <a:pt x="8" y="14"/>
                    </a:lnTo>
                    <a:lnTo>
                      <a:pt x="10" y="12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029120" y="2647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3"/>
                    </a:moveTo>
                    <a:lnTo>
                      <a:pt x="8" y="12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91040" y="2674800"/>
                <a:ext cx="17280" cy="135000"/>
              </a:xfrm>
              <a:custGeom>
                <a:avLst/>
                <a:gdLst/>
                <a:ahLst/>
                <a:rect l="l" t="t" r="r" b="b"/>
                <a:pathLst>
                  <a:path w="23" h="169">
                    <a:moveTo>
                      <a:pt x="11" y="5"/>
                    </a:moveTo>
                    <a:lnTo>
                      <a:pt x="0" y="169"/>
                    </a:lnTo>
                    <a:lnTo>
                      <a:pt x="23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9e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175280" y="2720880"/>
                <a:ext cx="98280" cy="114480"/>
              </a:xfrm>
              <a:custGeom>
                <a:avLst/>
                <a:gdLst/>
                <a:ahLst/>
                <a:rect l="l" t="t" r="r" b="b"/>
                <a:pathLst>
                  <a:path w="123" h="144">
                    <a:moveTo>
                      <a:pt x="0" y="0"/>
                    </a:moveTo>
                    <a:lnTo>
                      <a:pt x="23" y="100"/>
                    </a:lnTo>
                    <a:lnTo>
                      <a:pt x="123" y="144"/>
                    </a:lnTo>
                    <a:lnTo>
                      <a:pt x="33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746520" y="2665440"/>
                <a:ext cx="68400" cy="193680"/>
              </a:xfrm>
              <a:custGeom>
                <a:avLst/>
                <a:gdLst/>
                <a:ahLst/>
                <a:rect l="l" t="t" r="r" b="b"/>
                <a:pathLst>
                  <a:path w="86" h="244">
                    <a:moveTo>
                      <a:pt x="86" y="0"/>
                    </a:moveTo>
                    <a:lnTo>
                      <a:pt x="0" y="244"/>
                    </a:lnTo>
                    <a:lnTo>
                      <a:pt x="3" y="238"/>
                    </a:lnTo>
                    <a:lnTo>
                      <a:pt x="13" y="221"/>
                    </a:lnTo>
                    <a:lnTo>
                      <a:pt x="27" y="194"/>
                    </a:lnTo>
                    <a:lnTo>
                      <a:pt x="43" y="161"/>
                    </a:lnTo>
                    <a:lnTo>
                      <a:pt x="58" y="123"/>
                    </a:lnTo>
                    <a:lnTo>
                      <a:pt x="72" y="81"/>
                    </a:lnTo>
                    <a:lnTo>
                      <a:pt x="82" y="4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79840" y="2830680"/>
                <a:ext cx="227160" cy="317160"/>
              </a:xfrm>
              <a:custGeom>
                <a:avLst/>
                <a:gdLst/>
                <a:ahLst/>
                <a:rect l="l" t="t" r="r" b="b"/>
                <a:pathLst>
                  <a:path w="287" h="400">
                    <a:moveTo>
                      <a:pt x="285" y="0"/>
                    </a:moveTo>
                    <a:lnTo>
                      <a:pt x="12" y="44"/>
                    </a:lnTo>
                    <a:lnTo>
                      <a:pt x="0" y="46"/>
                    </a:lnTo>
                    <a:lnTo>
                      <a:pt x="2" y="60"/>
                    </a:lnTo>
                    <a:lnTo>
                      <a:pt x="57" y="400"/>
                    </a:lnTo>
                    <a:lnTo>
                      <a:pt x="68" y="398"/>
                    </a:lnTo>
                    <a:lnTo>
                      <a:pt x="14" y="58"/>
                    </a:lnTo>
                    <a:lnTo>
                      <a:pt x="287" y="14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383000" y="280044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91" h="59">
                    <a:moveTo>
                      <a:pt x="91" y="53"/>
                    </a:moveTo>
                    <a:lnTo>
                      <a:pt x="88" y="50"/>
                    </a:lnTo>
                    <a:lnTo>
                      <a:pt x="77" y="44"/>
                    </a:lnTo>
                    <a:lnTo>
                      <a:pt x="62" y="36"/>
                    </a:lnTo>
                    <a:lnTo>
                      <a:pt x="46" y="25"/>
                    </a:lnTo>
                    <a:lnTo>
                      <a:pt x="29" y="15"/>
                    </a:lnTo>
                    <a:lnTo>
                      <a:pt x="14" y="7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13" y="10"/>
                    </a:lnTo>
                    <a:lnTo>
                      <a:pt x="26" y="19"/>
                    </a:lnTo>
                    <a:lnTo>
                      <a:pt x="39" y="30"/>
                    </a:lnTo>
                    <a:lnTo>
                      <a:pt x="53" y="40"/>
                    </a:lnTo>
                    <a:lnTo>
                      <a:pt x="66" y="49"/>
                    </a:lnTo>
                    <a:lnTo>
                      <a:pt x="74" y="56"/>
                    </a:lnTo>
                    <a:lnTo>
                      <a:pt x="77" y="59"/>
                    </a:lnTo>
                    <a:lnTo>
                      <a:pt x="91" y="5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859200" y="2644920"/>
                <a:ext cx="274680" cy="307800"/>
              </a:xfrm>
              <a:custGeom>
                <a:avLst/>
                <a:gdLst/>
                <a:ahLst/>
                <a:rect l="l" t="t" r="r" b="b"/>
                <a:pathLst>
                  <a:path w="348" h="388">
                    <a:moveTo>
                      <a:pt x="0" y="12"/>
                    </a:moveTo>
                    <a:lnTo>
                      <a:pt x="98" y="303"/>
                    </a:lnTo>
                    <a:lnTo>
                      <a:pt x="311" y="388"/>
                    </a:lnTo>
                    <a:lnTo>
                      <a:pt x="348" y="336"/>
                    </a:lnTo>
                    <a:lnTo>
                      <a:pt x="207" y="242"/>
                    </a:lnTo>
                    <a:lnTo>
                      <a:pt x="17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967200" y="2671920"/>
                <a:ext cx="82440" cy="185760"/>
              </a:xfrm>
              <a:custGeom>
                <a:avLst/>
                <a:gdLst/>
                <a:ahLst/>
                <a:rect l="l" t="t" r="r" b="b"/>
                <a:pathLst>
                  <a:path w="105" h="232">
                    <a:moveTo>
                      <a:pt x="0" y="0"/>
                    </a:moveTo>
                    <a:lnTo>
                      <a:pt x="48" y="194"/>
                    </a:lnTo>
                    <a:lnTo>
                      <a:pt x="105" y="232"/>
                    </a:lnTo>
                    <a:lnTo>
                      <a:pt x="59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840120" y="2635200"/>
                <a:ext cx="204840" cy="293760"/>
              </a:xfrm>
              <a:custGeom>
                <a:avLst/>
                <a:gdLst/>
                <a:ahLst/>
                <a:rect l="l" t="t" r="r" b="b"/>
                <a:pathLst>
                  <a:path w="258" h="368">
                    <a:moveTo>
                      <a:pt x="0" y="0"/>
                    </a:moveTo>
                    <a:lnTo>
                      <a:pt x="83" y="276"/>
                    </a:lnTo>
                    <a:lnTo>
                      <a:pt x="258" y="368"/>
                    </a:lnTo>
                    <a:lnTo>
                      <a:pt x="68" y="2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4" name=""/>
              <p:cNvGrpSpPr/>
              <p:nvPr/>
            </p:nvGrpSpPr>
            <p:grpSpPr>
              <a:xfrm>
                <a:off x="3962520" y="2438280"/>
                <a:ext cx="966600" cy="812880"/>
                <a:chOff x="3962520" y="2438280"/>
                <a:chExt cx="966600" cy="81288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3962520" y="2438280"/>
                  <a:ext cx="966600" cy="797400"/>
                </a:xfrm>
                <a:custGeom>
                  <a:avLst/>
                  <a:gdLst/>
                  <a:ahLst/>
                  <a:rect l="l" t="t" r="r" b="b"/>
                  <a:pathLst>
                    <a:path w="1373" h="1132">
                      <a:moveTo>
                        <a:pt x="1242" y="130"/>
                      </a:moveTo>
                      <a:lnTo>
                        <a:pt x="1373" y="326"/>
                      </a:lnTo>
                      <a:lnTo>
                        <a:pt x="1286" y="326"/>
                      </a:lnTo>
                      <a:lnTo>
                        <a:pt x="1221" y="196"/>
                      </a:lnTo>
                      <a:lnTo>
                        <a:pt x="1112" y="217"/>
                      </a:lnTo>
                      <a:lnTo>
                        <a:pt x="1242" y="413"/>
                      </a:lnTo>
                      <a:lnTo>
                        <a:pt x="1286" y="326"/>
                      </a:lnTo>
                      <a:lnTo>
                        <a:pt x="1373" y="326"/>
                      </a:lnTo>
                      <a:lnTo>
                        <a:pt x="1286" y="479"/>
                      </a:lnTo>
                      <a:lnTo>
                        <a:pt x="1308" y="522"/>
                      </a:lnTo>
                      <a:lnTo>
                        <a:pt x="1264" y="566"/>
                      </a:lnTo>
                      <a:lnTo>
                        <a:pt x="1308" y="610"/>
                      </a:lnTo>
                      <a:lnTo>
                        <a:pt x="1286" y="631"/>
                      </a:lnTo>
                      <a:lnTo>
                        <a:pt x="1286" y="653"/>
                      </a:lnTo>
                      <a:lnTo>
                        <a:pt x="1308" y="675"/>
                      </a:lnTo>
                      <a:lnTo>
                        <a:pt x="1133" y="806"/>
                      </a:lnTo>
                      <a:lnTo>
                        <a:pt x="1090" y="762"/>
                      </a:lnTo>
                      <a:lnTo>
                        <a:pt x="1068" y="784"/>
                      </a:lnTo>
                      <a:lnTo>
                        <a:pt x="1024" y="718"/>
                      </a:lnTo>
                      <a:lnTo>
                        <a:pt x="959" y="740"/>
                      </a:lnTo>
                      <a:lnTo>
                        <a:pt x="937" y="697"/>
                      </a:lnTo>
                      <a:lnTo>
                        <a:pt x="850" y="762"/>
                      </a:lnTo>
                      <a:lnTo>
                        <a:pt x="828" y="740"/>
                      </a:lnTo>
                      <a:lnTo>
                        <a:pt x="807" y="740"/>
                      </a:lnTo>
                      <a:lnTo>
                        <a:pt x="719" y="806"/>
                      </a:lnTo>
                      <a:lnTo>
                        <a:pt x="698" y="762"/>
                      </a:lnTo>
                      <a:lnTo>
                        <a:pt x="131" y="1132"/>
                      </a:lnTo>
                      <a:lnTo>
                        <a:pt x="0" y="1089"/>
                      </a:lnTo>
                      <a:lnTo>
                        <a:pt x="22" y="914"/>
                      </a:lnTo>
                      <a:lnTo>
                        <a:pt x="66" y="936"/>
                      </a:lnTo>
                      <a:lnTo>
                        <a:pt x="109" y="914"/>
                      </a:lnTo>
                      <a:lnTo>
                        <a:pt x="109" y="849"/>
                      </a:lnTo>
                      <a:lnTo>
                        <a:pt x="153" y="871"/>
                      </a:lnTo>
                      <a:lnTo>
                        <a:pt x="175" y="871"/>
                      </a:lnTo>
                      <a:lnTo>
                        <a:pt x="175" y="806"/>
                      </a:lnTo>
                      <a:lnTo>
                        <a:pt x="240" y="762"/>
                      </a:lnTo>
                      <a:lnTo>
                        <a:pt x="240" y="762"/>
                      </a:lnTo>
                      <a:lnTo>
                        <a:pt x="327" y="784"/>
                      </a:lnTo>
                      <a:lnTo>
                        <a:pt x="349" y="762"/>
                      </a:lnTo>
                      <a:lnTo>
                        <a:pt x="371" y="697"/>
                      </a:lnTo>
                      <a:lnTo>
                        <a:pt x="436" y="697"/>
                      </a:lnTo>
                      <a:lnTo>
                        <a:pt x="480" y="675"/>
                      </a:lnTo>
                      <a:lnTo>
                        <a:pt x="501" y="610"/>
                      </a:lnTo>
                      <a:lnTo>
                        <a:pt x="567" y="544"/>
                      </a:lnTo>
                      <a:lnTo>
                        <a:pt x="545" y="501"/>
                      </a:lnTo>
                      <a:lnTo>
                        <a:pt x="654" y="435"/>
                      </a:lnTo>
                      <a:lnTo>
                        <a:pt x="632" y="392"/>
                      </a:lnTo>
                      <a:lnTo>
                        <a:pt x="719" y="348"/>
                      </a:lnTo>
                      <a:lnTo>
                        <a:pt x="698" y="305"/>
                      </a:lnTo>
                      <a:lnTo>
                        <a:pt x="741" y="261"/>
                      </a:lnTo>
                      <a:lnTo>
                        <a:pt x="698" y="196"/>
                      </a:lnTo>
                      <a:lnTo>
                        <a:pt x="741" y="174"/>
                      </a:lnTo>
                      <a:lnTo>
                        <a:pt x="698" y="130"/>
                      </a:lnTo>
                      <a:lnTo>
                        <a:pt x="894" y="0"/>
                      </a:lnTo>
                      <a:lnTo>
                        <a:pt x="916" y="65"/>
                      </a:lnTo>
                      <a:lnTo>
                        <a:pt x="937" y="43"/>
                      </a:lnTo>
                      <a:lnTo>
                        <a:pt x="981" y="87"/>
                      </a:lnTo>
                      <a:lnTo>
                        <a:pt x="1003" y="109"/>
                      </a:lnTo>
                      <a:lnTo>
                        <a:pt x="1046" y="87"/>
                      </a:lnTo>
                      <a:lnTo>
                        <a:pt x="1068" y="130"/>
                      </a:lnTo>
                      <a:lnTo>
                        <a:pt x="1242" y="130"/>
                      </a:lnTo>
                      <a:close/>
                    </a:path>
                  </a:pathLst>
                </a:cu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3962520" y="2453040"/>
                  <a:ext cx="966600" cy="798120"/>
                </a:xfrm>
                <a:custGeom>
                  <a:avLst/>
                  <a:gdLst/>
                  <a:ahLst/>
                  <a:rect l="l" t="t" r="r" b="b"/>
                  <a:pathLst>
                    <a:path w="1373" h="1133">
                      <a:moveTo>
                        <a:pt x="1242" y="131"/>
                      </a:moveTo>
                      <a:lnTo>
                        <a:pt x="1373" y="327"/>
                      </a:lnTo>
                      <a:lnTo>
                        <a:pt x="1286" y="327"/>
                      </a:lnTo>
                      <a:lnTo>
                        <a:pt x="1221" y="196"/>
                      </a:lnTo>
                      <a:lnTo>
                        <a:pt x="1112" y="218"/>
                      </a:lnTo>
                      <a:lnTo>
                        <a:pt x="1242" y="414"/>
                      </a:lnTo>
                      <a:lnTo>
                        <a:pt x="1286" y="327"/>
                      </a:lnTo>
                      <a:lnTo>
                        <a:pt x="1373" y="327"/>
                      </a:lnTo>
                      <a:lnTo>
                        <a:pt x="1286" y="480"/>
                      </a:lnTo>
                      <a:lnTo>
                        <a:pt x="1308" y="523"/>
                      </a:lnTo>
                      <a:lnTo>
                        <a:pt x="1264" y="567"/>
                      </a:lnTo>
                      <a:lnTo>
                        <a:pt x="1308" y="632"/>
                      </a:lnTo>
                      <a:lnTo>
                        <a:pt x="1286" y="632"/>
                      </a:lnTo>
                      <a:lnTo>
                        <a:pt x="1286" y="676"/>
                      </a:lnTo>
                      <a:lnTo>
                        <a:pt x="1308" y="697"/>
                      </a:lnTo>
                      <a:lnTo>
                        <a:pt x="1133" y="806"/>
                      </a:lnTo>
                      <a:lnTo>
                        <a:pt x="1090" y="763"/>
                      </a:lnTo>
                      <a:lnTo>
                        <a:pt x="1046" y="785"/>
                      </a:lnTo>
                      <a:lnTo>
                        <a:pt x="1024" y="719"/>
                      </a:lnTo>
                      <a:lnTo>
                        <a:pt x="959" y="741"/>
                      </a:lnTo>
                      <a:lnTo>
                        <a:pt x="937" y="697"/>
                      </a:lnTo>
                      <a:lnTo>
                        <a:pt x="850" y="763"/>
                      </a:lnTo>
                      <a:lnTo>
                        <a:pt x="828" y="741"/>
                      </a:lnTo>
                      <a:lnTo>
                        <a:pt x="828" y="741"/>
                      </a:lnTo>
                      <a:lnTo>
                        <a:pt x="719" y="806"/>
                      </a:lnTo>
                      <a:lnTo>
                        <a:pt x="698" y="763"/>
                      </a:lnTo>
                      <a:lnTo>
                        <a:pt x="131" y="1133"/>
                      </a:lnTo>
                      <a:lnTo>
                        <a:pt x="0" y="1090"/>
                      </a:lnTo>
                      <a:lnTo>
                        <a:pt x="22" y="915"/>
                      </a:lnTo>
                      <a:lnTo>
                        <a:pt x="66" y="937"/>
                      </a:lnTo>
                      <a:lnTo>
                        <a:pt x="109" y="915"/>
                      </a:lnTo>
                      <a:lnTo>
                        <a:pt x="109" y="850"/>
                      </a:lnTo>
                      <a:lnTo>
                        <a:pt x="153" y="872"/>
                      </a:lnTo>
                      <a:lnTo>
                        <a:pt x="175" y="872"/>
                      </a:lnTo>
                      <a:lnTo>
                        <a:pt x="175" y="806"/>
                      </a:lnTo>
                      <a:lnTo>
                        <a:pt x="240" y="763"/>
                      </a:lnTo>
                      <a:lnTo>
                        <a:pt x="240" y="763"/>
                      </a:lnTo>
                      <a:lnTo>
                        <a:pt x="305" y="785"/>
                      </a:lnTo>
                      <a:lnTo>
                        <a:pt x="349" y="763"/>
                      </a:lnTo>
                      <a:lnTo>
                        <a:pt x="371" y="697"/>
                      </a:lnTo>
                      <a:lnTo>
                        <a:pt x="436" y="697"/>
                      </a:lnTo>
                      <a:lnTo>
                        <a:pt x="458" y="676"/>
                      </a:lnTo>
                      <a:lnTo>
                        <a:pt x="501" y="610"/>
                      </a:lnTo>
                      <a:lnTo>
                        <a:pt x="567" y="545"/>
                      </a:lnTo>
                      <a:lnTo>
                        <a:pt x="545" y="501"/>
                      </a:lnTo>
                      <a:lnTo>
                        <a:pt x="632" y="436"/>
                      </a:lnTo>
                      <a:lnTo>
                        <a:pt x="632" y="414"/>
                      </a:lnTo>
                      <a:lnTo>
                        <a:pt x="719" y="349"/>
                      </a:lnTo>
                      <a:lnTo>
                        <a:pt x="698" y="305"/>
                      </a:lnTo>
                      <a:lnTo>
                        <a:pt x="741" y="262"/>
                      </a:lnTo>
                      <a:lnTo>
                        <a:pt x="698" y="196"/>
                      </a:lnTo>
                      <a:lnTo>
                        <a:pt x="719" y="175"/>
                      </a:lnTo>
                      <a:lnTo>
                        <a:pt x="698" y="131"/>
                      </a:lnTo>
                      <a:lnTo>
                        <a:pt x="894" y="0"/>
                      </a:lnTo>
                      <a:lnTo>
                        <a:pt x="916" y="66"/>
                      </a:lnTo>
                      <a:lnTo>
                        <a:pt x="937" y="44"/>
                      </a:lnTo>
                      <a:lnTo>
                        <a:pt x="981" y="88"/>
                      </a:lnTo>
                      <a:lnTo>
                        <a:pt x="1003" y="109"/>
                      </a:lnTo>
                      <a:lnTo>
                        <a:pt x="1046" y="88"/>
                      </a:lnTo>
                      <a:lnTo>
                        <a:pt x="1068" y="131"/>
                      </a:lnTo>
                      <a:lnTo>
                        <a:pt x="1242" y="131"/>
                      </a:lnTo>
                      <a:close/>
                    </a:path>
                  </a:pathLst>
                </a:custGeom>
                <a:solidFill>
                  <a:srgbClr val="b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7" name=""/>
                <p:cNvGrpSpPr/>
                <p:nvPr/>
              </p:nvGrpSpPr>
              <p:grpSpPr>
                <a:xfrm>
                  <a:off x="4530600" y="2560680"/>
                  <a:ext cx="306000" cy="368280"/>
                  <a:chOff x="4530600" y="2560680"/>
                  <a:chExt cx="306000" cy="368280"/>
                </a:xfrm>
              </p:grpSpPr>
              <p:sp>
                <p:nvSpPr>
                  <p:cNvPr id="1388" name=""/>
                  <p:cNvSpPr/>
                  <p:nvPr/>
                </p:nvSpPr>
                <p:spPr>
                  <a:xfrm>
                    <a:off x="4530600" y="2560680"/>
                    <a:ext cx="30600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36">
                        <a:moveTo>
                          <a:pt x="43" y="0"/>
                        </a:moveTo>
                        <a:lnTo>
                          <a:pt x="152" y="0"/>
                        </a:lnTo>
                        <a:lnTo>
                          <a:pt x="435" y="436"/>
                        </a:lnTo>
                        <a:lnTo>
                          <a:pt x="414" y="436"/>
                        </a:lnTo>
                        <a:lnTo>
                          <a:pt x="152" y="0"/>
                        </a:lnTo>
                        <a:lnTo>
                          <a:pt x="43" y="0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4530600" y="2621880"/>
                    <a:ext cx="30600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36">
                        <a:moveTo>
                          <a:pt x="370" y="436"/>
                        </a:moveTo>
                        <a:lnTo>
                          <a:pt x="261" y="43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83" y="436"/>
                        </a:lnTo>
                        <a:lnTo>
                          <a:pt x="370" y="414"/>
                        </a:lnTo>
                        <a:lnTo>
                          <a:pt x="414" y="349"/>
                        </a:lnTo>
                        <a:lnTo>
                          <a:pt x="435" y="349"/>
                        </a:lnTo>
                        <a:lnTo>
                          <a:pt x="370" y="436"/>
                        </a:lnTo>
                        <a:close/>
                      </a:path>
                    </a:pathLst>
                  </a:cu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0" name=""/>
                <p:cNvSpPr/>
                <p:nvPr/>
              </p:nvSpPr>
              <p:spPr>
                <a:xfrm>
                  <a:off x="4607280" y="2499480"/>
                  <a:ext cx="260280" cy="398520"/>
                </a:xfrm>
                <a:custGeom>
                  <a:avLst/>
                  <a:gdLst/>
                  <a:ahLst/>
                  <a:rect l="l" t="t" r="r" b="b"/>
                  <a:pathLst>
                    <a:path w="370" h="56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0" y="566"/>
                      </a:lnTo>
                      <a:lnTo>
                        <a:pt x="370" y="5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653000" y="2514960"/>
                  <a:ext cx="214560" cy="321840"/>
                </a:xfrm>
                <a:custGeom>
                  <a:avLst/>
                  <a:gdLst/>
                  <a:ahLst/>
                  <a:rect l="l" t="t" r="r" b="b"/>
                  <a:pathLst>
                    <a:path w="305" h="45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83" y="457"/>
                      </a:lnTo>
                      <a:lnTo>
                        <a:pt x="305" y="4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2" name=""/>
                <p:cNvGrpSpPr/>
                <p:nvPr/>
              </p:nvGrpSpPr>
              <p:grpSpPr>
                <a:xfrm>
                  <a:off x="3962520" y="2576160"/>
                  <a:ext cx="767160" cy="659520"/>
                  <a:chOff x="3962520" y="2576160"/>
                  <a:chExt cx="767160" cy="659520"/>
                </a:xfrm>
              </p:grpSpPr>
              <p:sp>
                <p:nvSpPr>
                  <p:cNvPr id="1393" name=""/>
                  <p:cNvSpPr/>
                  <p:nvPr/>
                </p:nvSpPr>
                <p:spPr>
                  <a:xfrm>
                    <a:off x="3962520" y="2852280"/>
                    <a:ext cx="506160" cy="32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9" h="457">
                        <a:moveTo>
                          <a:pt x="719" y="0"/>
                        </a:moveTo>
                        <a:lnTo>
                          <a:pt x="0" y="457"/>
                        </a:lnTo>
                        <a:lnTo>
                          <a:pt x="0" y="435"/>
                        </a:lnTo>
                        <a:lnTo>
                          <a:pt x="698" y="0"/>
                        </a:lnTo>
                        <a:lnTo>
                          <a:pt x="719" y="0"/>
                        </a:lnTo>
                        <a:close/>
                      </a:path>
                    </a:pathLst>
                  </a:cu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3993480" y="2913840"/>
                    <a:ext cx="506160" cy="32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9" h="457">
                        <a:moveTo>
                          <a:pt x="719" y="0"/>
                        </a:moveTo>
                        <a:lnTo>
                          <a:pt x="22" y="457"/>
                        </a:lnTo>
                        <a:lnTo>
                          <a:pt x="0" y="436"/>
                        </a:lnTo>
                        <a:lnTo>
                          <a:pt x="654" y="22"/>
                        </a:lnTo>
                        <a:lnTo>
                          <a:pt x="719" y="0"/>
                        </a:lnTo>
                        <a:close/>
                      </a:path>
                    </a:pathLst>
                  </a:cu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95" name=""/>
                  <p:cNvGrpSpPr/>
                  <p:nvPr/>
                </p:nvGrpSpPr>
                <p:grpSpPr>
                  <a:xfrm>
                    <a:off x="3962520" y="2576160"/>
                    <a:ext cx="767160" cy="644760"/>
                    <a:chOff x="3962520" y="2576160"/>
                    <a:chExt cx="767160" cy="644760"/>
                  </a:xfrm>
                </p:grpSpPr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4468680" y="2576160"/>
                      <a:ext cx="26100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1" h="588">
                          <a:moveTo>
                            <a:pt x="0" y="0"/>
                          </a:moveTo>
                          <a:lnTo>
                            <a:pt x="0" y="21"/>
                          </a:lnTo>
                          <a:lnTo>
                            <a:pt x="371" y="588"/>
                          </a:lnTo>
                          <a:lnTo>
                            <a:pt x="371" y="58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4453920" y="2698560"/>
                      <a:ext cx="16812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" h="370">
                          <a:moveTo>
                            <a:pt x="21" y="0"/>
                          </a:moveTo>
                          <a:lnTo>
                            <a:pt x="0" y="22"/>
                          </a:lnTo>
                          <a:lnTo>
                            <a:pt x="218" y="370"/>
                          </a:lnTo>
                          <a:lnTo>
                            <a:pt x="239" y="348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8" name=""/>
                    <p:cNvSpPr/>
                    <p:nvPr/>
                  </p:nvSpPr>
                  <p:spPr>
                    <a:xfrm>
                      <a:off x="3962520" y="2913840"/>
                      <a:ext cx="537120" cy="30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3" h="436">
                          <a:moveTo>
                            <a:pt x="763" y="0"/>
                          </a:moveTo>
                          <a:lnTo>
                            <a:pt x="698" y="22"/>
                          </a:lnTo>
                          <a:lnTo>
                            <a:pt x="654" y="43"/>
                          </a:lnTo>
                          <a:lnTo>
                            <a:pt x="22" y="436"/>
                          </a:lnTo>
                          <a:lnTo>
                            <a:pt x="0" y="436"/>
                          </a:lnTo>
                          <a:lnTo>
                            <a:pt x="654" y="22"/>
                          </a:lnTo>
                          <a:lnTo>
                            <a:pt x="763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9" name=""/>
                    <p:cNvSpPr/>
                    <p:nvPr/>
                  </p:nvSpPr>
                  <p:spPr>
                    <a:xfrm>
                      <a:off x="4361760" y="2760120"/>
                      <a:ext cx="199080" cy="21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3" h="305">
                          <a:moveTo>
                            <a:pt x="0" y="109"/>
                          </a:moveTo>
                          <a:lnTo>
                            <a:pt x="22" y="87"/>
                          </a:lnTo>
                          <a:lnTo>
                            <a:pt x="87" y="44"/>
                          </a:lnTo>
                          <a:lnTo>
                            <a:pt x="65" y="0"/>
                          </a:lnTo>
                          <a:lnTo>
                            <a:pt x="87" y="0"/>
                          </a:lnTo>
                          <a:lnTo>
                            <a:pt x="283" y="305"/>
                          </a:lnTo>
                          <a:lnTo>
                            <a:pt x="261" y="305"/>
                          </a:lnTo>
                          <a:lnTo>
                            <a:pt x="152" y="131"/>
                          </a:lnTo>
                          <a:lnTo>
                            <a:pt x="131" y="131"/>
                          </a:lnTo>
                          <a:lnTo>
                            <a:pt x="87" y="87"/>
                          </a:lnTo>
                          <a:lnTo>
                            <a:pt x="0" y="109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0" name=""/>
                    <p:cNvSpPr/>
                    <p:nvPr/>
                  </p:nvSpPr>
                  <p:spPr>
                    <a:xfrm>
                      <a:off x="4468680" y="2637360"/>
                      <a:ext cx="214560" cy="32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457">
                          <a:moveTo>
                            <a:pt x="22" y="0"/>
                          </a:moveTo>
                          <a:lnTo>
                            <a:pt x="305" y="457"/>
                          </a:lnTo>
                          <a:lnTo>
                            <a:pt x="284" y="457"/>
                          </a:lnTo>
                          <a:lnTo>
                            <a:pt x="0" y="22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01" name=""/>
            <p:cNvSpPr/>
            <p:nvPr/>
          </p:nvSpPr>
          <p:spPr>
            <a:xfrm rot="5400000">
              <a:off x="4097520" y="146448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 txBox="1"/>
            <p:nvPr/>
          </p:nvSpPr>
          <p:spPr>
            <a:xfrm>
              <a:off x="3886200" y="3281400"/>
              <a:ext cx="1343160" cy="29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key agreemen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438360" y="914400"/>
            <a:ext cx="2267280" cy="62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hared secret 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a master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15000" y="2803680"/>
            <a:ext cx="657360" cy="657000"/>
          </a:xfrm>
          <a:prstGeom prst="octagon">
            <a:avLst>
              <a:gd name="adj" fmla="val 29287"/>
            </a:avLst>
          </a:prstGeom>
          <a:solidFill>
            <a:srgbClr val="99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6248520" y="3124080"/>
            <a:ext cx="2819160" cy="1905120"/>
            <a:chOff x="6248520" y="3124080"/>
            <a:chExt cx="2819160" cy="1905120"/>
          </a:xfrm>
        </p:grpSpPr>
        <p:sp>
          <p:nvSpPr>
            <p:cNvPr id="1407" name=""/>
            <p:cNvSpPr/>
            <p:nvPr/>
          </p:nvSpPr>
          <p:spPr>
            <a:xfrm>
              <a:off x="8229600" y="4000680"/>
              <a:ext cx="838080" cy="102852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34320" y="457200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56400" y="3427560"/>
              <a:ext cx="252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400800" y="3124080"/>
              <a:ext cx="15228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0" y="0"/>
                  </a:moveTo>
                  <a:lnTo>
                    <a:pt x="624" y="0"/>
                  </a:lnTo>
                  <a:lnTo>
                    <a:pt x="624" y="72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248520" y="4267080"/>
              <a:ext cx="657000" cy="65736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1219320" y="1066680"/>
            <a:ext cx="6566760" cy="459720"/>
            <a:chOff x="1219320" y="1066680"/>
            <a:chExt cx="6566760" cy="459720"/>
          </a:xfrm>
        </p:grpSpPr>
        <p:sp>
          <p:nvSpPr>
            <p:cNvPr id="1413" name=""/>
            <p:cNvSpPr/>
            <p:nvPr/>
          </p:nvSpPr>
          <p:spPr>
            <a:xfrm>
              <a:off x="5715720" y="106668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tinatario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219320" y="106668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ttent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4952880" y="3124080"/>
            <a:ext cx="1295640" cy="1752840"/>
            <a:chOff x="4952880" y="3124080"/>
            <a:chExt cx="1295640" cy="1752840"/>
          </a:xfrm>
        </p:grpSpPr>
        <p:sp>
          <p:nvSpPr>
            <p:cNvPr id="1416" name=""/>
            <p:cNvSpPr/>
            <p:nvPr/>
          </p:nvSpPr>
          <p:spPr>
            <a:xfrm>
              <a:off x="4952880" y="3124080"/>
              <a:ext cx="762120" cy="114300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0" y="720"/>
                  </a:moveTo>
                  <a:lnTo>
                    <a:pt x="240" y="720"/>
                  </a:lnTo>
                  <a:lnTo>
                    <a:pt x="240" y="0"/>
                  </a:lnTo>
                  <a:lnTo>
                    <a:pt x="48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952880" y="4572000"/>
              <a:ext cx="1295640" cy="304920"/>
            </a:xfrm>
            <a:custGeom>
              <a:avLst/>
              <a:gdLst/>
              <a:ahLst/>
              <a:rect l="l" t="t" r="r" b="b"/>
              <a:pathLst>
                <a:path w="1344" h="192">
                  <a:moveTo>
                    <a:pt x="0" y="192"/>
                  </a:moveTo>
                  <a:lnTo>
                    <a:pt x="816" y="192"/>
                  </a:lnTo>
                  <a:lnTo>
                    <a:pt x="816" y="0"/>
                  </a:lnTo>
                  <a:lnTo>
                    <a:pt x="1344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956120" y="434340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76320" y="4000680"/>
            <a:ext cx="838080" cy="10285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847800" y="3124080"/>
            <a:ext cx="1667880" cy="1907640"/>
            <a:chOff x="847800" y="3124080"/>
            <a:chExt cx="1667880" cy="1907640"/>
          </a:xfrm>
        </p:grpSpPr>
        <p:sp>
          <p:nvSpPr>
            <p:cNvPr id="1421" name=""/>
            <p:cNvSpPr/>
            <p:nvPr/>
          </p:nvSpPr>
          <p:spPr>
            <a:xfrm>
              <a:off x="2057760" y="457200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47800" y="45244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380960" y="4219560"/>
              <a:ext cx="657360" cy="65736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676520" y="3124080"/>
              <a:ext cx="9360" cy="1111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981080" y="2803680"/>
            <a:ext cx="1291320" cy="780120"/>
            <a:chOff x="1981080" y="2803680"/>
            <a:chExt cx="1291320" cy="780120"/>
          </a:xfrm>
        </p:grpSpPr>
        <p:sp>
          <p:nvSpPr>
            <p:cNvPr id="1426" name=""/>
            <p:cNvSpPr/>
            <p:nvPr/>
          </p:nvSpPr>
          <p:spPr>
            <a:xfrm>
              <a:off x="1981080" y="2803680"/>
              <a:ext cx="657360" cy="6570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22040" y="31240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2057400" y="3124080"/>
            <a:ext cx="2971800" cy="2288520"/>
            <a:chOff x="2057400" y="3124080"/>
            <a:chExt cx="2971800" cy="2288520"/>
          </a:xfrm>
        </p:grpSpPr>
        <p:sp>
          <p:nvSpPr>
            <p:cNvPr id="1429" name=""/>
            <p:cNvSpPr/>
            <p:nvPr/>
          </p:nvSpPr>
          <p:spPr>
            <a:xfrm>
              <a:off x="2666880" y="3124080"/>
              <a:ext cx="990720" cy="1143000"/>
            </a:xfrm>
            <a:custGeom>
              <a:avLst/>
              <a:gdLst/>
              <a:ahLst/>
              <a:rect l="l" t="t" r="r" b="b"/>
              <a:pathLst>
                <a:path w="336" h="720">
                  <a:moveTo>
                    <a:pt x="0" y="0"/>
                  </a:moveTo>
                  <a:lnTo>
                    <a:pt x="336" y="0"/>
                  </a:lnTo>
                  <a:lnTo>
                    <a:pt x="336" y="72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057400" y="457200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038480" y="45720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52680" y="4267080"/>
              <a:ext cx="657360" cy="657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504960" y="495288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191120" y="3886200"/>
              <a:ext cx="838080" cy="1371600"/>
            </a:xfrm>
            <a:prstGeom prst="vertic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2272680" y="1066680"/>
            <a:ext cx="4505040" cy="1752840"/>
            <a:chOff x="2272680" y="1066680"/>
            <a:chExt cx="4505040" cy="1752840"/>
          </a:xfrm>
        </p:grpSpPr>
        <p:sp>
          <p:nvSpPr>
            <p:cNvPr id="1436" name=""/>
            <p:cNvSpPr/>
            <p:nvPr/>
          </p:nvSpPr>
          <p:spPr>
            <a:xfrm>
              <a:off x="6067440" y="1981080"/>
              <a:ext cx="0" cy="838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174720" y="20574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2272680" y="1066680"/>
              <a:ext cx="3823200" cy="1752840"/>
              <a:chOff x="2272680" y="1066680"/>
              <a:chExt cx="3823200" cy="1752840"/>
            </a:xfrm>
          </p:grpSpPr>
          <p:sp>
            <p:nvSpPr>
              <p:cNvPr id="1439" name=""/>
              <p:cNvSpPr/>
              <p:nvPr/>
            </p:nvSpPr>
            <p:spPr>
              <a:xfrm>
                <a:off x="2272680" y="205740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286000" y="1981080"/>
                <a:ext cx="0" cy="8384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585600" y="1066680"/>
                <a:ext cx="121392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ccor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2286000" y="1523880"/>
                <a:ext cx="129528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800600" y="1523880"/>
                <a:ext cx="129528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4" name=""/>
          <p:cNvGrpSpPr/>
          <p:nvPr/>
        </p:nvGrpSpPr>
        <p:grpSpPr>
          <a:xfrm>
            <a:off x="228600" y="2666880"/>
            <a:ext cx="1752480" cy="916920"/>
            <a:chOff x="228600" y="2666880"/>
            <a:chExt cx="1752480" cy="916920"/>
          </a:xfrm>
        </p:grpSpPr>
        <p:sp>
          <p:nvSpPr>
            <p:cNvPr id="1445" name=""/>
            <p:cNvSpPr/>
            <p:nvPr/>
          </p:nvSpPr>
          <p:spPr>
            <a:xfrm>
              <a:off x="11131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914400" y="3108240"/>
              <a:ext cx="1066680" cy="158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69920" y="312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28600" y="2819520"/>
              <a:ext cx="657360" cy="65700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352080" y="5578560"/>
            <a:ext cx="8422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hiave AB cifra solo le chiavi k e può avere una vita “lung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hiave k cifra messaggi anche “lunghi” ed è usata una volta s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0" name=""/>
          <p:cNvGraphicFramePr/>
          <p:nvPr/>
        </p:nvGraphicFramePr>
        <p:xfrm>
          <a:off x="2297160" y="874800"/>
          <a:ext cx="4956120" cy="271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874800"/>
                    <a:ext cx="495612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l file system sic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600200" y="3200040"/>
            <a:ext cx="5992920" cy="3447000"/>
            <a:chOff x="1600200" y="3200040"/>
            <a:chExt cx="5992920" cy="3447000"/>
          </a:xfrm>
        </p:grpSpPr>
        <p:graphicFrame>
          <p:nvGraphicFramePr>
            <p:cNvPr id="1454" name=""/>
            <p:cNvGraphicFramePr/>
            <p:nvPr/>
          </p:nvGraphicFramePr>
          <p:xfrm>
            <a:off x="1600200" y="3594240"/>
            <a:ext cx="5992920" cy="3052800"/>
          </p:xfrm>
          <a:graphic>
            <a:graphicData uri="http://schemas.openxmlformats.org/presentationml/2006/ole">
              <p:oleObj progId="PowerPoint.Show.12" r:id="rId3" spid="">
                <p:embed/>
                <p:pic>
                  <p:nvPicPr>
                    <p:cNvPr id="1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3594240"/>
                      <a:ext cx="5992920" cy="30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6" name=""/>
            <p:cNvSpPr/>
            <p:nvPr/>
          </p:nvSpPr>
          <p:spPr>
            <a:xfrm flipV="1">
              <a:off x="3124080" y="3200040"/>
              <a:ext cx="1447920" cy="762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 flipV="1">
              <a:off x="4571640" y="3200040"/>
              <a:ext cx="1066680" cy="762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" name=""/>
          <p:cNvSpPr/>
          <p:nvPr/>
        </p:nvSpPr>
        <p:spPr>
          <a:xfrm>
            <a:off x="380880" y="843120"/>
            <a:ext cx="1727280" cy="368280"/>
          </a:xfrm>
          <a:prstGeom prst="borderCallout1">
            <a:avLst>
              <a:gd name="adj1" fmla="val 33667"/>
              <a:gd name="adj2" fmla="val 24637"/>
              <a:gd name="adj3" fmla="val 1429"/>
              <a:gd name="adj4" fmla="val 24129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o liv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52280" y="2133720"/>
            <a:ext cx="1575000" cy="368280"/>
          </a:xfrm>
          <a:prstGeom prst="borderCallout1">
            <a:avLst>
              <a:gd name="adj1" fmla="val 28915"/>
              <a:gd name="adj2" fmla="val -2573"/>
              <a:gd name="adj3" fmla="val 1568"/>
              <a:gd name="adj4" fmla="val -2529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o liv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320" y="4811760"/>
            <a:ext cx="1726920" cy="368280"/>
          </a:xfrm>
          <a:prstGeom prst="borderCallout1">
            <a:avLst>
              <a:gd name="adj1" fmla="val 54472"/>
              <a:gd name="adj2" fmla="val 26514"/>
              <a:gd name="adj3" fmla="val 1429"/>
              <a:gd name="adj4" fmla="val 25975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zo liv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87200"/>
            <a:ext cx="8610480" cy="6213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Q: Cifrari a flu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il flusso sincro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l’autosincronizzazi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mero di chiavi in circol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52960" y="1895400"/>
            <a:ext cx="4686120" cy="3057480"/>
            <a:chOff x="4152960" y="1895400"/>
            <a:chExt cx="4686120" cy="3057480"/>
          </a:xfrm>
        </p:grpSpPr>
        <p:sp>
          <p:nvSpPr>
            <p:cNvPr id="1463" name=""/>
            <p:cNvSpPr/>
            <p:nvPr/>
          </p:nvSpPr>
          <p:spPr>
            <a:xfrm>
              <a:off x="4152960" y="1895400"/>
              <a:ext cx="4686120" cy="3057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4249800" y="1981080"/>
              <a:ext cx="4446360" cy="2781720"/>
              <a:chOff x="4249800" y="1981080"/>
              <a:chExt cx="4446360" cy="2781720"/>
            </a:xfrm>
          </p:grpSpPr>
          <p:sp>
            <p:nvSpPr>
              <p:cNvPr id="1465" name=""/>
              <p:cNvSpPr/>
              <p:nvPr/>
            </p:nvSpPr>
            <p:spPr>
              <a:xfrm>
                <a:off x="4905360" y="2143080"/>
                <a:ext cx="3790800" cy="2143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905360" y="2143080"/>
                <a:ext cx="1440" cy="214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905360" y="4286160"/>
                <a:ext cx="3790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769640" y="4210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564800" y="38577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564800" y="34956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564800" y="31431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564800" y="27813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564800" y="24289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564800" y="20667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054040" y="439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434920" y="439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16160" y="439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187680" y="439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568560" y="439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949440" y="439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30680" y="439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711560" y="439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8083080" y="439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433720" y="4390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724800" y="46101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Arial"/>
                  </a:rPr>
                  <a:t>N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249800" y="19810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905360" y="2143080"/>
              <a:ext cx="3790800" cy="2143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67200" y="42861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867200" y="39337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67200" y="3571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67200" y="32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67200" y="28576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67200" y="25052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67200" y="21430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905360" y="4286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5286240" y="4286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5667480" y="4286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6039000" y="4286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6419880" y="4286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6800760" y="4286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182000" y="4286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7562880" y="4286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7934400" y="42861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8315280" y="4286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8696160" y="42861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152960" y="1895400"/>
              <a:ext cx="4686120" cy="3057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838080" y="1905120"/>
            <a:ext cx="762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1600200" y="1905120"/>
            <a:ext cx="1523880" cy="761760"/>
            <a:chOff x="1600200" y="1905120"/>
            <a:chExt cx="1523880" cy="761760"/>
          </a:xfrm>
        </p:grpSpPr>
        <p:sp>
          <p:nvSpPr>
            <p:cNvPr id="1509" name=""/>
            <p:cNvSpPr/>
            <p:nvPr/>
          </p:nvSpPr>
          <p:spPr>
            <a:xfrm>
              <a:off x="2362320" y="1905120"/>
              <a:ext cx="76176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600200" y="2286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1600200" y="2438280"/>
            <a:ext cx="2209680" cy="1447920"/>
            <a:chOff x="1600200" y="2438280"/>
            <a:chExt cx="2209680" cy="1447920"/>
          </a:xfrm>
        </p:grpSpPr>
        <p:sp>
          <p:nvSpPr>
            <p:cNvPr id="1512" name=""/>
            <p:cNvSpPr/>
            <p:nvPr/>
          </p:nvSpPr>
          <p:spPr>
            <a:xfrm>
              <a:off x="3048120" y="312408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600200" y="243828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1447920" y="2590920"/>
            <a:ext cx="1676160" cy="2514600"/>
            <a:chOff x="1447920" y="2590920"/>
            <a:chExt cx="1676160" cy="2514600"/>
          </a:xfrm>
        </p:grpSpPr>
        <p:sp>
          <p:nvSpPr>
            <p:cNvPr id="1515" name=""/>
            <p:cNvSpPr/>
            <p:nvPr/>
          </p:nvSpPr>
          <p:spPr>
            <a:xfrm>
              <a:off x="2362320" y="434340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447920" y="2590920"/>
              <a:ext cx="1143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838080" y="2666880"/>
            <a:ext cx="762120" cy="2438640"/>
            <a:chOff x="838080" y="2666880"/>
            <a:chExt cx="762120" cy="2438640"/>
          </a:xfrm>
        </p:grpSpPr>
        <p:sp>
          <p:nvSpPr>
            <p:cNvPr id="1518" name=""/>
            <p:cNvSpPr/>
            <p:nvPr/>
          </p:nvSpPr>
          <p:spPr>
            <a:xfrm>
              <a:off x="838080" y="434340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19320" y="26668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228600" y="2590920"/>
            <a:ext cx="838080" cy="1295280"/>
            <a:chOff x="228600" y="2590920"/>
            <a:chExt cx="838080" cy="1295280"/>
          </a:xfrm>
        </p:grpSpPr>
        <p:sp>
          <p:nvSpPr>
            <p:cNvPr id="1521" name=""/>
            <p:cNvSpPr/>
            <p:nvPr/>
          </p:nvSpPr>
          <p:spPr>
            <a:xfrm>
              <a:off x="228600" y="31240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762120" y="2590920"/>
              <a:ext cx="304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990360" y="2514600"/>
            <a:ext cx="2286360" cy="1905120"/>
            <a:chOff x="990360" y="2514600"/>
            <a:chExt cx="2286360" cy="1905120"/>
          </a:xfrm>
        </p:grpSpPr>
        <p:sp>
          <p:nvSpPr>
            <p:cNvPr id="1524" name=""/>
            <p:cNvSpPr/>
            <p:nvPr/>
          </p:nvSpPr>
          <p:spPr>
            <a:xfrm>
              <a:off x="2971800" y="2590920"/>
              <a:ext cx="304920" cy="609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19520" y="2666880"/>
              <a:ext cx="0" cy="1676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1447920" y="2666880"/>
              <a:ext cx="1218960" cy="1752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990360" y="2514600"/>
              <a:ext cx="144756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5410080" y="2895480"/>
            <a:ext cx="23338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(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-1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210280" y="1295280"/>
            <a:ext cx="2333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è scalabi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990360" y="3581280"/>
            <a:ext cx="2286000" cy="914400"/>
            <a:chOff x="990360" y="3581280"/>
            <a:chExt cx="2286000" cy="914400"/>
          </a:xfrm>
        </p:grpSpPr>
        <p:sp>
          <p:nvSpPr>
            <p:cNvPr id="1531" name=""/>
            <p:cNvSpPr/>
            <p:nvPr/>
          </p:nvSpPr>
          <p:spPr>
            <a:xfrm flipH="1">
              <a:off x="2971440" y="3809880"/>
              <a:ext cx="304920" cy="609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523520" y="3733920"/>
              <a:ext cx="160020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990360" y="3581280"/>
              <a:ext cx="20574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914040" y="3809520"/>
            <a:ext cx="1523880" cy="914760"/>
            <a:chOff x="914040" y="3809520"/>
            <a:chExt cx="1523880" cy="914760"/>
          </a:xfrm>
        </p:grpSpPr>
        <p:sp>
          <p:nvSpPr>
            <p:cNvPr id="1535" name=""/>
            <p:cNvSpPr/>
            <p:nvPr/>
          </p:nvSpPr>
          <p:spPr>
            <a:xfrm flipH="1">
              <a:off x="1599840" y="4724280"/>
              <a:ext cx="76212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 flipV="1">
              <a:off x="914040" y="3809520"/>
              <a:ext cx="1523880" cy="6858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 flipV="1">
            <a:off x="685440" y="3886200"/>
            <a:ext cx="304920" cy="5335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724280" y="5105520"/>
            <a:ext cx="373392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iettivo da persegui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chiave per ut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5095800" y="3657600"/>
            <a:ext cx="3409920" cy="628560"/>
            <a:chOff x="5095800" y="3657600"/>
            <a:chExt cx="3409920" cy="628560"/>
          </a:xfrm>
        </p:grpSpPr>
        <p:sp>
          <p:nvSpPr>
            <p:cNvPr id="1540" name=""/>
            <p:cNvSpPr/>
            <p:nvPr/>
          </p:nvSpPr>
          <p:spPr>
            <a:xfrm>
              <a:off x="7162920" y="3657600"/>
              <a:ext cx="1266840" cy="510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1" lang="it-IT" sz="24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 = N</a:t>
              </a:r>
              <a:r>
                <a:rPr b="1" lang="it-IT" sz="24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1" name=""/>
            <p:cNvGrpSpPr/>
            <p:nvPr/>
          </p:nvGrpSpPr>
          <p:grpSpPr>
            <a:xfrm>
              <a:off x="5095800" y="4247640"/>
              <a:ext cx="3409920" cy="38520"/>
              <a:chOff x="5095800" y="4247640"/>
              <a:chExt cx="3409920" cy="38520"/>
            </a:xfrm>
          </p:grpSpPr>
          <p:sp>
            <p:nvSpPr>
              <p:cNvPr id="1542" name=""/>
              <p:cNvSpPr/>
              <p:nvPr/>
            </p:nvSpPr>
            <p:spPr>
              <a:xfrm flipV="1">
                <a:off x="5095800" y="4276800"/>
                <a:ext cx="381240" cy="9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477040" y="4276800"/>
                <a:ext cx="380880" cy="1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857920" y="4276800"/>
                <a:ext cx="371520" cy="1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6229440" y="4266720"/>
                <a:ext cx="380880" cy="97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610320" y="4267080"/>
                <a:ext cx="380880" cy="180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6991200" y="4257720"/>
                <a:ext cx="381240" cy="93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372440" y="4257720"/>
                <a:ext cx="380880" cy="1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753320" y="4257720"/>
                <a:ext cx="371520" cy="144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8124840" y="4247640"/>
                <a:ext cx="380880" cy="97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1" name=""/>
          <p:cNvGrpSpPr/>
          <p:nvPr/>
        </p:nvGrpSpPr>
        <p:grpSpPr>
          <a:xfrm>
            <a:off x="5095800" y="2514240"/>
            <a:ext cx="3409920" cy="1752840"/>
            <a:chOff x="5095800" y="2514240"/>
            <a:chExt cx="3409920" cy="1752840"/>
          </a:xfrm>
        </p:grpSpPr>
        <p:sp>
          <p:nvSpPr>
            <p:cNvPr id="1552" name=""/>
            <p:cNvSpPr/>
            <p:nvPr/>
          </p:nvSpPr>
          <p:spPr>
            <a:xfrm flipV="1">
              <a:off x="5095800" y="4219560"/>
              <a:ext cx="381240" cy="475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5477040" y="4133880"/>
              <a:ext cx="380880" cy="85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5857920" y="4010040"/>
              <a:ext cx="371520" cy="1238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6229440" y="3848040"/>
              <a:ext cx="380880" cy="1620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6610320" y="3657240"/>
              <a:ext cx="380880" cy="190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991200" y="3419280"/>
              <a:ext cx="381240" cy="2379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7372440" y="3161880"/>
              <a:ext cx="380880" cy="2574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7753320" y="2857680"/>
              <a:ext cx="371520" cy="3045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8124840" y="2514240"/>
              <a:ext cx="380880" cy="3430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>
            <a:off x="732240" y="106668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tà di ut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26080" y="6172200"/>
            <a:ext cx="8687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zione: ogni utente concorda la sua chiave con una terza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’Autorità per la distribuzione chia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1523880" y="3962520"/>
            <a:ext cx="6096240" cy="914400"/>
            <a:chOff x="1523880" y="3962520"/>
            <a:chExt cx="6096240" cy="914400"/>
          </a:xfrm>
        </p:grpSpPr>
        <p:sp>
          <p:nvSpPr>
            <p:cNvPr id="1565" name=""/>
            <p:cNvSpPr/>
            <p:nvPr/>
          </p:nvSpPr>
          <p:spPr>
            <a:xfrm>
              <a:off x="1523880" y="3962520"/>
              <a:ext cx="91440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05720" y="3962520"/>
              <a:ext cx="914400" cy="914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362320" y="4191120"/>
              <a:ext cx="441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362320" y="4648320"/>
              <a:ext cx="441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2743200" y="3954600"/>
            <a:ext cx="3657600" cy="927000"/>
            <a:chOff x="2743200" y="3954600"/>
            <a:chExt cx="3657600" cy="927000"/>
          </a:xfrm>
        </p:grpSpPr>
        <p:grpSp>
          <p:nvGrpSpPr>
            <p:cNvPr id="1570" name=""/>
            <p:cNvGrpSpPr/>
            <p:nvPr/>
          </p:nvGrpSpPr>
          <p:grpSpPr>
            <a:xfrm>
              <a:off x="2743200" y="3954600"/>
              <a:ext cx="533160" cy="922320"/>
              <a:chOff x="2743200" y="3954600"/>
              <a:chExt cx="533160" cy="922320"/>
            </a:xfrm>
          </p:grpSpPr>
          <p:sp>
            <p:nvSpPr>
              <p:cNvPr id="1571" name=""/>
              <p:cNvSpPr/>
              <p:nvPr/>
            </p:nvSpPr>
            <p:spPr>
              <a:xfrm>
                <a:off x="2743200" y="3954600"/>
                <a:ext cx="533160" cy="461880"/>
              </a:xfrm>
              <a:prstGeom prst="hexagon">
                <a:avLst>
                  <a:gd name="adj" fmla="val 28858"/>
                  <a:gd name="vf" fmla="val 11547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743200" y="4414680"/>
                <a:ext cx="533160" cy="462240"/>
              </a:xfrm>
              <a:prstGeom prst="hexagon">
                <a:avLst>
                  <a:gd name="adj" fmla="val 28836"/>
                  <a:gd name="vf" fmla="val 11547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5867280" y="3962520"/>
              <a:ext cx="533520" cy="919080"/>
              <a:chOff x="5867280" y="3962520"/>
              <a:chExt cx="533520" cy="919080"/>
            </a:xfrm>
          </p:grpSpPr>
          <p:sp>
            <p:nvSpPr>
              <p:cNvPr id="1574" name=""/>
              <p:cNvSpPr/>
              <p:nvPr/>
            </p:nvSpPr>
            <p:spPr>
              <a:xfrm>
                <a:off x="5867280" y="4419720"/>
                <a:ext cx="533520" cy="461880"/>
              </a:xfrm>
              <a:prstGeom prst="hexagon">
                <a:avLst>
                  <a:gd name="adj" fmla="val 28878"/>
                  <a:gd name="vf" fmla="val 11547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67280" y="3962520"/>
                <a:ext cx="533520" cy="461880"/>
              </a:xfrm>
              <a:prstGeom prst="hexagon">
                <a:avLst>
                  <a:gd name="adj" fmla="val 28878"/>
                  <a:gd name="vf" fmla="val 11547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325520" y="1600200"/>
            <a:ext cx="6492960" cy="2362320"/>
            <a:chOff x="1325520" y="1600200"/>
            <a:chExt cx="6492960" cy="2362320"/>
          </a:xfrm>
        </p:grpSpPr>
        <p:sp>
          <p:nvSpPr>
            <p:cNvPr id="1577" name=""/>
            <p:cNvSpPr/>
            <p:nvPr/>
          </p:nvSpPr>
          <p:spPr>
            <a:xfrm>
              <a:off x="4114800" y="1600200"/>
              <a:ext cx="91440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81080" y="1905120"/>
              <a:ext cx="2133720" cy="205740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5028480" y="1905120"/>
              <a:ext cx="2133720" cy="205740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3255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8200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3962520" y="5019840"/>
            <a:ext cx="1266840" cy="510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= N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276720" y="2597040"/>
            <a:ext cx="259056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hiave di s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ne-tim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3048120" y="2057400"/>
            <a:ext cx="3123720" cy="1905120"/>
            <a:chOff x="3048120" y="2057400"/>
            <a:chExt cx="3123720" cy="1905120"/>
          </a:xfrm>
        </p:grpSpPr>
        <p:sp>
          <p:nvSpPr>
            <p:cNvPr id="1585" name=""/>
            <p:cNvSpPr/>
            <p:nvPr/>
          </p:nvSpPr>
          <p:spPr>
            <a:xfrm>
              <a:off x="3048120" y="2133720"/>
              <a:ext cx="1066680" cy="182880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028480" y="2133720"/>
              <a:ext cx="1143000" cy="1828800"/>
            </a:xfrm>
            <a:custGeom>
              <a:avLst/>
              <a:gdLst/>
              <a:ahLst/>
              <a:rect l="l" t="t" r="r" b="b"/>
              <a:pathLst>
                <a:path w="1440" h="1296">
                  <a:moveTo>
                    <a:pt x="0" y="1296"/>
                  </a:moveTo>
                  <a:lnTo>
                    <a:pt x="0" y="0"/>
                  </a:lnTo>
                  <a:lnTo>
                    <a:pt x="144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7036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0752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1066680" y="762120"/>
            <a:ext cx="6858000" cy="6019560"/>
            <a:chOff x="1066680" y="762120"/>
            <a:chExt cx="6858000" cy="6019560"/>
          </a:xfrm>
        </p:grpSpPr>
        <p:sp>
          <p:nvSpPr>
            <p:cNvPr id="1591" name=""/>
            <p:cNvSpPr/>
            <p:nvPr/>
          </p:nvSpPr>
          <p:spPr>
            <a:xfrm>
              <a:off x="3124080" y="990720"/>
              <a:ext cx="2971800" cy="228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066680" y="762120"/>
              <a:ext cx="1828800" cy="60195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00800" y="2971800"/>
              <a:ext cx="1523880" cy="37339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4065120" y="1660680"/>
            <a:ext cx="2023200" cy="440640"/>
            <a:chOff x="4065120" y="1660680"/>
            <a:chExt cx="2023200" cy="440640"/>
          </a:xfrm>
        </p:grpSpPr>
        <p:sp>
          <p:nvSpPr>
            <p:cNvPr id="1595" name=""/>
            <p:cNvSpPr/>
            <p:nvPr/>
          </p:nvSpPr>
          <p:spPr>
            <a:xfrm>
              <a:off x="4065120" y="1660680"/>
              <a:ext cx="95508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|B||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494320" y="1676520"/>
              <a:ext cx="594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||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1828800" y="928800"/>
            <a:ext cx="2514600" cy="440640"/>
            <a:chOff x="1828800" y="928800"/>
            <a:chExt cx="2514600" cy="440640"/>
          </a:xfrm>
        </p:grpSpPr>
        <p:sp>
          <p:nvSpPr>
            <p:cNvPr id="1598" name=""/>
            <p:cNvSpPr/>
            <p:nvPr/>
          </p:nvSpPr>
          <p:spPr>
            <a:xfrm>
              <a:off x="2559960" y="928800"/>
              <a:ext cx="1209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: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|A||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828800" y="129528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2286000" y="2286000"/>
            <a:ext cx="2742840" cy="939600"/>
            <a:chOff x="2286000" y="2286000"/>
            <a:chExt cx="2742840" cy="939600"/>
          </a:xfrm>
        </p:grpSpPr>
        <p:sp>
          <p:nvSpPr>
            <p:cNvPr id="1601" name=""/>
            <p:cNvSpPr/>
            <p:nvPr/>
          </p:nvSpPr>
          <p:spPr>
            <a:xfrm>
              <a:off x="2384280" y="2438280"/>
              <a:ext cx="17719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: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|B||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|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ff3300"/>
                  </a:solidFill>
                  <a:latin typeface="Times New Roman"/>
                </a:rPr>
                <a:t>KB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(A||k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4038480" y="2286000"/>
              <a:ext cx="990360" cy="838080"/>
              <a:chOff x="4038480" y="2286000"/>
              <a:chExt cx="990360" cy="838080"/>
            </a:xfrm>
          </p:grpSpPr>
          <p:sp>
            <p:nvSpPr>
              <p:cNvPr id="1603" name=""/>
              <p:cNvSpPr/>
              <p:nvPr/>
            </p:nvSpPr>
            <p:spPr>
              <a:xfrm>
                <a:off x="4191120" y="2514600"/>
                <a:ext cx="609480" cy="60948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038480" y="2286000"/>
                <a:ext cx="3049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4723920" y="2286000"/>
                <a:ext cx="3049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 flipH="1">
              <a:off x="2286000" y="281952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1447920" y="5241960"/>
            <a:ext cx="6019560" cy="1387440"/>
            <a:chOff x="1447920" y="5241960"/>
            <a:chExt cx="6019560" cy="1387440"/>
          </a:xfrm>
        </p:grpSpPr>
        <p:sp>
          <p:nvSpPr>
            <p:cNvPr id="1608" name=""/>
            <p:cNvSpPr/>
            <p:nvPr/>
          </p:nvSpPr>
          <p:spPr>
            <a:xfrm>
              <a:off x="2286000" y="63244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94480" y="5927760"/>
              <a:ext cx="1261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:E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-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76520" y="6019920"/>
              <a:ext cx="609480" cy="60948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58000" y="6019920"/>
              <a:ext cx="609480" cy="60948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981080" y="5715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77600" y="554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62920" y="57466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859080" y="5562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447920" y="5241960"/>
              <a:ext cx="228600" cy="1066680"/>
            </a:xfrm>
            <a:custGeom>
              <a:avLst/>
              <a:gdLst/>
              <a:ahLst/>
              <a:rect l="l" t="t" r="r" b="b"/>
              <a:pathLst>
                <a:path w="144" h="672">
                  <a:moveTo>
                    <a:pt x="144" y="0"/>
                  </a:moveTo>
                  <a:lnTo>
                    <a:pt x="0" y="0"/>
                  </a:lnTo>
                  <a:lnTo>
                    <a:pt x="0" y="672"/>
                  </a:lnTo>
                  <a:lnTo>
                    <a:pt x="144" y="6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1226520" y="4572000"/>
            <a:ext cx="6690960" cy="974880"/>
            <a:chOff x="1226520" y="4572000"/>
            <a:chExt cx="6690960" cy="974880"/>
          </a:xfrm>
        </p:grpSpPr>
        <p:sp>
          <p:nvSpPr>
            <p:cNvPr id="1618" name=""/>
            <p:cNvSpPr/>
            <p:nvPr/>
          </p:nvSpPr>
          <p:spPr>
            <a:xfrm>
              <a:off x="4033800" y="4861080"/>
              <a:ext cx="1047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:E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2286000" y="524196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858000" y="4937040"/>
              <a:ext cx="609480" cy="60984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676520" y="4937040"/>
              <a:ext cx="609480" cy="60984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981080" y="46641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68560" y="480060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7467120" y="5257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677600" y="4572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226520" y="487692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1676520" y="2057400"/>
            <a:ext cx="836280" cy="1066680"/>
            <a:chOff x="1676520" y="2057400"/>
            <a:chExt cx="836280" cy="1066680"/>
          </a:xfrm>
        </p:grpSpPr>
        <p:sp>
          <p:nvSpPr>
            <p:cNvPr id="1628" name=""/>
            <p:cNvSpPr/>
            <p:nvPr/>
          </p:nvSpPr>
          <p:spPr>
            <a:xfrm>
              <a:off x="1676520" y="2514600"/>
              <a:ext cx="609480" cy="60948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998720" y="22096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963440" y="20574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1142640" y="3124080"/>
            <a:ext cx="6545160" cy="1828800"/>
            <a:chOff x="1142640" y="3124080"/>
            <a:chExt cx="6545160" cy="1828800"/>
          </a:xfrm>
        </p:grpSpPr>
        <p:sp>
          <p:nvSpPr>
            <p:cNvPr id="1632" name=""/>
            <p:cNvSpPr/>
            <p:nvPr/>
          </p:nvSpPr>
          <p:spPr>
            <a:xfrm>
              <a:off x="3908520" y="3794040"/>
              <a:ext cx="132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: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||k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858000" y="3886200"/>
              <a:ext cx="609480" cy="60948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162920" y="4495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981080" y="3733920"/>
              <a:ext cx="4876920" cy="457200"/>
            </a:xfrm>
            <a:custGeom>
              <a:avLst/>
              <a:gdLst/>
              <a:ahLst/>
              <a:rect l="l" t="t" r="r" b="b"/>
              <a:pathLst>
                <a:path w="3072" h="480">
                  <a:moveTo>
                    <a:pt x="0" y="0"/>
                  </a:moveTo>
                  <a:lnTo>
                    <a:pt x="0" y="480"/>
                  </a:lnTo>
                  <a:lnTo>
                    <a:pt x="3072" y="4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59080" y="441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676520" y="3124080"/>
              <a:ext cx="609480" cy="609840"/>
            </a:xfrm>
            <a:prstGeom prst="octagon">
              <a:avLst>
                <a:gd name="adj" fmla="val 2928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142640" y="3184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1447560" y="3429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161120" y="359712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153560" y="344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3522600" y="1295280"/>
            <a:ext cx="2274480" cy="1067040"/>
            <a:chOff x="3522600" y="1295280"/>
            <a:chExt cx="2274480" cy="1067040"/>
          </a:xfrm>
        </p:grpSpPr>
        <p:sp>
          <p:nvSpPr>
            <p:cNvPr id="1643" name=""/>
            <p:cNvSpPr/>
            <p:nvPr/>
          </p:nvSpPr>
          <p:spPr>
            <a:xfrm flipH="1">
              <a:off x="4132080" y="2057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5568480" y="2057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5" name=""/>
            <p:cNvGrpSpPr/>
            <p:nvPr/>
          </p:nvGrpSpPr>
          <p:grpSpPr>
            <a:xfrm>
              <a:off x="3522600" y="1295280"/>
              <a:ext cx="2190240" cy="1067040"/>
              <a:chOff x="3522600" y="1295280"/>
              <a:chExt cx="2190240" cy="1067040"/>
            </a:xfrm>
          </p:grpSpPr>
          <p:sp>
            <p:nvSpPr>
              <p:cNvPr id="1646" name=""/>
              <p:cNvSpPr/>
              <p:nvPr/>
            </p:nvSpPr>
            <p:spPr>
              <a:xfrm>
                <a:off x="3522600" y="1752480"/>
                <a:ext cx="609840" cy="60984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827520" y="144792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792240" y="12952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K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959360" y="1752480"/>
                <a:ext cx="609480" cy="609840"/>
              </a:xfrm>
              <a:prstGeom prst="octagon">
                <a:avLst>
                  <a:gd name="adj" fmla="val 29287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257800" y="144792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178600" y="129528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K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2" name=""/>
          <p:cNvGrpSpPr/>
          <p:nvPr/>
        </p:nvGrpSpPr>
        <p:grpSpPr>
          <a:xfrm>
            <a:off x="5317560" y="3089160"/>
            <a:ext cx="1012680" cy="1101960"/>
            <a:chOff x="5317560" y="3089160"/>
            <a:chExt cx="1012680" cy="1101960"/>
          </a:xfrm>
        </p:grpSpPr>
        <p:sp>
          <p:nvSpPr>
            <p:cNvPr id="1653" name=""/>
            <p:cNvSpPr/>
            <p:nvPr/>
          </p:nvSpPr>
          <p:spPr>
            <a:xfrm>
              <a:off x="5638680" y="3581280"/>
              <a:ext cx="609840" cy="609840"/>
            </a:xfrm>
            <a:prstGeom prst="lightningBol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17560" y="3089160"/>
              <a:ext cx="1012680" cy="45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pl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7086600" y="1981080"/>
            <a:ext cx="2057400" cy="43200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5476"/>
              <a:gd name="adj5" fmla="val 261763"/>
              <a:gd name="adj6" fmla="val -1180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rius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086600" y="304920"/>
            <a:ext cx="2057400" cy="53316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18902"/>
              <a:gd name="adj5" fmla="val 179462"/>
              <a:gd name="adj6" fmla="val -7214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 limit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i di K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llo di bottiglia (n° max di uten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emoria sic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nte degno di 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895560" y="4572000"/>
            <a:ext cx="515952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KryptoKnight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Kerberos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Distributed Computing Environment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Windows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304920" y="187200"/>
            <a:ext cx="8610480" cy="6213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Q: Crittografia asimme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le scambio D-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un campo fini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l’esponenziazi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il logaritmo discre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l contesto “tutti con tutti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54320" y="251460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tri &amp; Corr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892320" y="2514600"/>
            <a:ext cx="528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508920" y="1600200"/>
            <a:ext cx="145332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956840" y="1600200"/>
            <a:ext cx="124128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chia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011920" y="2498760"/>
            <a:ext cx="12232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or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56480" y="350532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e mondiale di K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935400" y="1971720"/>
            <a:ext cx="186156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za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472160" y="2514600"/>
            <a:ext cx="6958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892320" y="3505320"/>
            <a:ext cx="528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183280" y="3489480"/>
            <a:ext cx="8010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7080" y="3505320"/>
            <a:ext cx="12261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458280" y="4479840"/>
            <a:ext cx="7617240" cy="475560"/>
            <a:chOff x="458280" y="4479840"/>
            <a:chExt cx="7617240" cy="475560"/>
          </a:xfrm>
        </p:grpSpPr>
        <p:sp>
          <p:nvSpPr>
            <p:cNvPr id="1674" name=""/>
            <p:cNvSpPr/>
            <p:nvPr/>
          </p:nvSpPr>
          <p:spPr>
            <a:xfrm>
              <a:off x="458280" y="449568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mbio D-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893760" y="4495680"/>
              <a:ext cx="695880" cy="4597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18280" y="4479840"/>
              <a:ext cx="409320" cy="4597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547040" y="4495680"/>
              <a:ext cx="528480" cy="4597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goritmo DH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nonim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er l’accord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 una chiave di sessione tra gli utenti A e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061280" y="1469880"/>
            <a:ext cx="72583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Numero primo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generatore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refissati e n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. Generazione delle chiavi segre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X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X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celti a caso &gt; 1 e &lt; p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. Generazione e comunicazione delle chiavi pubbl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it-IT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= g </a:t>
            </a:r>
            <a:r>
              <a:rPr b="1" lang="it-IT" sz="2400" spc="-1" strike="noStrike" baseline="30000">
                <a:solidFill>
                  <a:srgbClr val="3333cc"/>
                </a:solidFill>
                <a:latin typeface="Times New Roman"/>
              </a:rPr>
              <a:t>XA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it-IT" sz="2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= g </a:t>
            </a:r>
            <a:r>
              <a:rPr b="1" lang="it-IT" sz="2400" spc="-1" strike="noStrike" baseline="30000">
                <a:solidFill>
                  <a:srgbClr val="3333cc"/>
                </a:solidFill>
                <a:latin typeface="Times New Roman"/>
              </a:rPr>
              <a:t>XB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. Calcolo della chiave del Cifrario simmetric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 = (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XB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XB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 = (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X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XB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                                    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= K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dimensione è grande (quella di p): occorre scegli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644640" y="624852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H ano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o scambio di Diffie-Hell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981080" y="914400"/>
            <a:ext cx="5257800" cy="838080"/>
          </a:xfrm>
          <a:custGeom>
            <a:avLst/>
            <a:gdLst>
              <a:gd name="textAreaLeft" fmla="*/ 1314360 w 5257800"/>
              <a:gd name="textAreaRight" fmla="*/ 3943440 w 5257800"/>
              <a:gd name="textAreaTop" fmla="*/ 1155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747" stAng="16200000" swAng="5400000"/>
                <a:lnTo>
                  <a:pt x="8100" y="2986"/>
                </a:lnTo>
                <a:lnTo>
                  <a:pt x="13500" y="2986"/>
                </a:lnTo>
                <a:lnTo>
                  <a:pt x="13500" y="747"/>
                </a:lnTo>
                <a:arcTo wR="675" hR="747" stAng="10800000" swAng="5400000"/>
                <a:lnTo>
                  <a:pt x="21600" y="0"/>
                </a:lnTo>
                <a:lnTo>
                  <a:pt x="18900" y="9307"/>
                </a:lnTo>
                <a:lnTo>
                  <a:pt x="21600" y="18614"/>
                </a:lnTo>
                <a:lnTo>
                  <a:pt x="16200" y="18614"/>
                </a:lnTo>
                <a:lnTo>
                  <a:pt x="16200" y="20854"/>
                </a:lnTo>
                <a:arcTo wR="675" hR="747" stAng="0" swAng="5400000"/>
                <a:lnTo>
                  <a:pt x="6075" y="21600"/>
                </a:lnTo>
                <a:arcTo wR="675" hR="747" stAng="5400000" swAng="5400000"/>
                <a:lnTo>
                  <a:pt x="5400" y="18614"/>
                </a:lnTo>
                <a:lnTo>
                  <a:pt x="0" y="18614"/>
                </a:lnTo>
                <a:lnTo>
                  <a:pt x="2700" y="9307"/>
                </a:lnTo>
                <a:close/>
              </a:path>
              <a:path fill="none" w="21600" h="21600">
                <a:moveTo>
                  <a:pt x="8100" y="747"/>
                </a:moveTo>
                <a:arcTo wR="675" hR="747" stAng="0" swAng="5400000"/>
                <a:lnTo>
                  <a:pt x="6075" y="1493"/>
                </a:lnTo>
                <a:arcTo wR="675" hR="747" stAng="16200000" swAng="-5400000"/>
                <a:arcTo wR="675" hR="747" stAng="10800000" swAng="-5400000"/>
                <a:lnTo>
                  <a:pt x="8100" y="2986"/>
                </a:lnTo>
              </a:path>
              <a:path fill="none" w="21600" h="21600">
                <a:moveTo>
                  <a:pt x="13500" y="747"/>
                </a:moveTo>
                <a:arcTo wR="675" hR="747" stAng="10800000" swAng="-5400000"/>
                <a:lnTo>
                  <a:pt x="15525" y="1493"/>
                </a:lnTo>
                <a:arcTo wR="675" hR="747" stAng="16200000" swAng="5400000"/>
                <a:arcTo wR="675" hR="747" stAng="0" swAng="5400000"/>
                <a:lnTo>
                  <a:pt x="13500" y="2986"/>
                </a:lnTo>
              </a:path>
              <a:path fill="none" w="21600" h="21600">
                <a:moveTo>
                  <a:pt x="5400" y="2240"/>
                </a:moveTo>
                <a:lnTo>
                  <a:pt x="5400" y="18614"/>
                </a:lnTo>
              </a:path>
              <a:path fill="none" w="21600" h="21600">
                <a:moveTo>
                  <a:pt x="16200" y="2240"/>
                </a:moveTo>
                <a:lnTo>
                  <a:pt x="16200" y="18614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: numer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r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enerat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od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52280" y="266688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380880" y="3962520"/>
            <a:ext cx="8382240" cy="2286000"/>
            <a:chOff x="380880" y="3962520"/>
            <a:chExt cx="8382240" cy="2286000"/>
          </a:xfrm>
        </p:grpSpPr>
        <p:sp>
          <p:nvSpPr>
            <p:cNvPr id="1685" name=""/>
            <p:cNvSpPr/>
            <p:nvPr/>
          </p:nvSpPr>
          <p:spPr>
            <a:xfrm>
              <a:off x="1143000" y="4952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058240" y="4952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38200" y="5638680"/>
              <a:ext cx="1214280" cy="609840"/>
            </a:xfrm>
            <a:custGeom>
              <a:avLst/>
              <a:gdLst>
                <a:gd name="textAreaLeft" fmla="*/ 303480 w 1214280"/>
                <a:gd name="textAreaRight" fmla="*/ 910800 w 1214280"/>
                <a:gd name="textAreaTop" fmla="*/ 0 h 609840"/>
                <a:gd name="textAreaBottom" fmla="*/ 5338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67480" y="5638680"/>
              <a:ext cx="1214640" cy="609840"/>
            </a:xfrm>
            <a:custGeom>
              <a:avLst/>
              <a:gdLst>
                <a:gd name="textAreaLeft" fmla="*/ 303480 w 1214640"/>
                <a:gd name="textAreaRight" fmla="*/ 911160 w 1214640"/>
                <a:gd name="textAreaTop" fmla="*/ 0 h 609840"/>
                <a:gd name="textAreaBottom" fmla="*/ 5338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0880" y="3962520"/>
              <a:ext cx="1600200" cy="99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(Y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mod p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162920" y="3962520"/>
              <a:ext cx="1600200" cy="99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(Y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mod p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380880" y="1828800"/>
            <a:ext cx="6705720" cy="3352680"/>
            <a:chOff x="380880" y="1828800"/>
            <a:chExt cx="6705720" cy="3352680"/>
          </a:xfrm>
        </p:grpSpPr>
        <p:grpSp>
          <p:nvGrpSpPr>
            <p:cNvPr id="1692" name=""/>
            <p:cNvGrpSpPr/>
            <p:nvPr/>
          </p:nvGrpSpPr>
          <p:grpSpPr>
            <a:xfrm>
              <a:off x="380880" y="1828800"/>
              <a:ext cx="6019920" cy="3352680"/>
              <a:chOff x="380880" y="1828800"/>
              <a:chExt cx="6019920" cy="3352680"/>
            </a:xfrm>
          </p:grpSpPr>
          <p:sp>
            <p:nvSpPr>
              <p:cNvPr id="1693" name=""/>
              <p:cNvSpPr/>
              <p:nvPr/>
            </p:nvSpPr>
            <p:spPr>
              <a:xfrm>
                <a:off x="5186520" y="4572000"/>
                <a:ext cx="1214280" cy="609480"/>
              </a:xfrm>
              <a:custGeom>
                <a:avLst/>
                <a:gdLst>
                  <a:gd name="textAreaLeft" fmla="*/ 303480 w 1214280"/>
                  <a:gd name="textAreaRight" fmla="*/ 910800 w 1214280"/>
                  <a:gd name="textAreaTop" fmla="*/ 0 h 609480"/>
                  <a:gd name="textAreaBottom" fmla="*/ 53352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100" y="18900"/>
                    </a:moveTo>
                    <a:lnTo>
                      <a:pt x="8100" y="20925"/>
                    </a:lnTo>
                    <a:cubicBezTo>
                      <a:pt x="8100" y="21263"/>
                      <a:pt x="7680" y="21600"/>
                      <a:pt x="7260" y="21600"/>
                    </a:cubicBezTo>
                    <a:lnTo>
                      <a:pt x="0" y="21600"/>
                    </a:lnTo>
                    <a:lnTo>
                      <a:pt x="2750" y="12150"/>
                    </a:lnTo>
                    <a:lnTo>
                      <a:pt x="0" y="2700"/>
                    </a:lnTo>
                    <a:lnTo>
                      <a:pt x="5400" y="2700"/>
                    </a:lnTo>
                    <a:lnTo>
                      <a:pt x="5400" y="675"/>
                    </a:lnTo>
                    <a:cubicBezTo>
                      <a:pt x="5400" y="338"/>
                      <a:pt x="5820" y="0"/>
                      <a:pt x="6240" y="0"/>
                    </a:cubicBezTo>
                    <a:lnTo>
                      <a:pt x="15360" y="0"/>
                    </a:lnTo>
                    <a:cubicBezTo>
                      <a:pt x="15780" y="0"/>
                      <a:pt x="16200" y="338"/>
                      <a:pt x="16200" y="675"/>
                    </a:cubicBezTo>
                    <a:lnTo>
                      <a:pt x="16200" y="2700"/>
                    </a:lnTo>
                    <a:lnTo>
                      <a:pt x="21600" y="2700"/>
                    </a:lnTo>
                    <a:lnTo>
                      <a:pt x="18850" y="12150"/>
                    </a:lnTo>
                    <a:lnTo>
                      <a:pt x="21600" y="21600"/>
                    </a:lnTo>
                    <a:lnTo>
                      <a:pt x="14340" y="21600"/>
                    </a:lnTo>
                    <a:cubicBezTo>
                      <a:pt x="13920" y="21600"/>
                      <a:pt x="13500" y="21263"/>
                      <a:pt x="13500" y="20925"/>
                    </a:cubicBezTo>
                    <a:lnTo>
                      <a:pt x="13500" y="18900"/>
                    </a:lnTo>
                    <a:close/>
                  </a:path>
                  <a:path fill="darkenLess" w="21600" h="21600">
                    <a:moveTo>
                      <a:pt x="8100" y="18900"/>
                    </a:moveTo>
                    <a:lnTo>
                      <a:pt x="8100" y="20925"/>
                    </a:lnTo>
                    <a:cubicBezTo>
                      <a:pt x="8100" y="20588"/>
                      <a:pt x="7680" y="20250"/>
                      <a:pt x="7260" y="20250"/>
                    </a:cubicBezTo>
                    <a:lnTo>
                      <a:pt x="6240" y="20250"/>
                    </a:lnTo>
                    <a:cubicBezTo>
                      <a:pt x="5820" y="20250"/>
                      <a:pt x="5400" y="19913"/>
                      <a:pt x="5400" y="19575"/>
                    </a:cubicBezTo>
                    <a:cubicBezTo>
                      <a:pt x="5400" y="19238"/>
                      <a:pt x="5820" y="18900"/>
                      <a:pt x="6240" y="18900"/>
                    </a:cubicBezTo>
                    <a:close/>
                  </a:path>
                  <a:path fill="darkenLess" w="21600" h="21600">
                    <a:moveTo>
                      <a:pt x="13500" y="18900"/>
                    </a:moveTo>
                    <a:lnTo>
                      <a:pt x="13500" y="20925"/>
                    </a:lnTo>
                    <a:cubicBezTo>
                      <a:pt x="13500" y="20588"/>
                      <a:pt x="13920" y="20250"/>
                      <a:pt x="14340" y="20250"/>
                    </a:cubicBezTo>
                    <a:lnTo>
                      <a:pt x="15360" y="20250"/>
                    </a:lnTo>
                    <a:cubicBezTo>
                      <a:pt x="15780" y="20250"/>
                      <a:pt x="16200" y="19913"/>
                      <a:pt x="16200" y="19575"/>
                    </a:cubicBezTo>
                    <a:cubicBezTo>
                      <a:pt x="16200" y="19238"/>
                      <a:pt x="15780" y="18900"/>
                      <a:pt x="15360" y="18900"/>
                    </a:cubicBezTo>
                    <a:close/>
                  </a:path>
                  <a:path fill="darkenLess" w="21600" h="21600">
                    <a:moveTo>
                      <a:pt x="5400" y="19575"/>
                    </a:moveTo>
                    <a:lnTo>
                      <a:pt x="5400" y="2700"/>
                    </a:lnTo>
                  </a:path>
                  <a:path fill="darkenLess" w="21600" h="21600">
                    <a:moveTo>
                      <a:pt x="16200" y="19575"/>
                    </a:moveTo>
                    <a:lnTo>
                      <a:pt x="16200" y="2700"/>
                    </a:lnTo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4" name=""/>
              <p:cNvGrpSpPr/>
              <p:nvPr/>
            </p:nvGrpSpPr>
            <p:grpSpPr>
              <a:xfrm>
                <a:off x="380880" y="1828800"/>
                <a:ext cx="4191120" cy="2057400"/>
                <a:chOff x="380880" y="1828800"/>
                <a:chExt cx="4191120" cy="205740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1752480" y="2666880"/>
                  <a:ext cx="1295640" cy="990720"/>
                </a:xfrm>
                <a:prstGeom prst="rect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g </a:t>
                  </a:r>
                  <a:r>
                    <a:rPr b="0" lang="it-IT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it-IT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 mod p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6" name=""/>
                <p:cNvGrpSpPr/>
                <p:nvPr/>
              </p:nvGrpSpPr>
              <p:grpSpPr>
                <a:xfrm>
                  <a:off x="380880" y="3352680"/>
                  <a:ext cx="1371600" cy="533520"/>
                  <a:chOff x="380880" y="3352680"/>
                  <a:chExt cx="1371600" cy="533520"/>
                </a:xfrm>
              </p:grpSpPr>
              <p:sp>
                <p:nvSpPr>
                  <p:cNvPr id="1697" name=""/>
                  <p:cNvSpPr/>
                  <p:nvPr/>
                </p:nvSpPr>
                <p:spPr>
                  <a:xfrm>
                    <a:off x="380880" y="335268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914400" y="3352680"/>
                    <a:ext cx="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9" name=""/>
                <p:cNvGrpSpPr/>
                <p:nvPr/>
              </p:nvGrpSpPr>
              <p:grpSpPr>
                <a:xfrm>
                  <a:off x="1447920" y="1828800"/>
                  <a:ext cx="3124080" cy="2057400"/>
                  <a:chOff x="1447920" y="1828800"/>
                  <a:chExt cx="3124080" cy="2057400"/>
                </a:xfrm>
              </p:grpSpPr>
              <p:sp>
                <p:nvSpPr>
                  <p:cNvPr id="1700" name=""/>
                  <p:cNvSpPr/>
                  <p:nvPr/>
                </p:nvSpPr>
                <p:spPr>
                  <a:xfrm>
                    <a:off x="1447920" y="1828800"/>
                    <a:ext cx="3124080" cy="20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8" h="1344">
                        <a:moveTo>
                          <a:pt x="1968" y="0"/>
                        </a:moveTo>
                        <a:lnTo>
                          <a:pt x="1968" y="192"/>
                        </a:lnTo>
                        <a:lnTo>
                          <a:pt x="0" y="192"/>
                        </a:lnTo>
                        <a:lnTo>
                          <a:pt x="0" y="134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1447920" y="285732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02" name=""/>
            <p:cNvSpPr/>
            <p:nvPr/>
          </p:nvSpPr>
          <p:spPr>
            <a:xfrm>
              <a:off x="3124080" y="3124080"/>
              <a:ext cx="3962520" cy="1371600"/>
            </a:xfrm>
            <a:custGeom>
              <a:avLst/>
              <a:gdLst/>
              <a:ahLst/>
              <a:rect l="l" t="t" r="r" b="b"/>
              <a:pathLst>
                <a:path w="2880" h="864">
                  <a:moveTo>
                    <a:pt x="0" y="0"/>
                  </a:moveTo>
                  <a:lnTo>
                    <a:pt x="720" y="0"/>
                  </a:lnTo>
                  <a:lnTo>
                    <a:pt x="1488" y="864"/>
                  </a:lnTo>
                  <a:lnTo>
                    <a:pt x="2880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393120" y="2197080"/>
            <a:ext cx="6591600" cy="2244240"/>
            <a:chOff x="393120" y="2197080"/>
            <a:chExt cx="6591600" cy="2244240"/>
          </a:xfrm>
        </p:grpSpPr>
        <p:sp>
          <p:nvSpPr>
            <p:cNvPr id="1704" name=""/>
            <p:cNvSpPr/>
            <p:nvPr/>
          </p:nvSpPr>
          <p:spPr>
            <a:xfrm>
              <a:off x="3889440" y="2209680"/>
              <a:ext cx="1434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 = 71, g = 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93120" y="2197080"/>
              <a:ext cx="801000" cy="40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91320" y="4035600"/>
              <a:ext cx="2093400" cy="40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= 7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mod 71 = 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2057040" y="1828800"/>
            <a:ext cx="6934680" cy="3352680"/>
            <a:chOff x="2057040" y="1828800"/>
            <a:chExt cx="6934680" cy="3352680"/>
          </a:xfrm>
        </p:grpSpPr>
        <p:sp>
          <p:nvSpPr>
            <p:cNvPr id="1708" name=""/>
            <p:cNvSpPr/>
            <p:nvPr/>
          </p:nvSpPr>
          <p:spPr>
            <a:xfrm>
              <a:off x="2747880" y="4572000"/>
              <a:ext cx="1214640" cy="609480"/>
            </a:xfrm>
            <a:custGeom>
              <a:avLst/>
              <a:gdLst>
                <a:gd name="textAreaLeft" fmla="*/ 303480 w 1214640"/>
                <a:gd name="textAreaRight" fmla="*/ 911160 w 1214640"/>
                <a:gd name="textAreaTop" fmla="*/ 0 h 609480"/>
                <a:gd name="textAreaBottom" fmla="*/ 533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9" name=""/>
            <p:cNvGrpSpPr/>
            <p:nvPr/>
          </p:nvGrpSpPr>
          <p:grpSpPr>
            <a:xfrm>
              <a:off x="2057040" y="1828800"/>
              <a:ext cx="6934680" cy="2666880"/>
              <a:chOff x="2057040" y="1828800"/>
              <a:chExt cx="6934680" cy="2666880"/>
            </a:xfrm>
          </p:grpSpPr>
          <p:sp>
            <p:nvSpPr>
              <p:cNvPr id="1710" name=""/>
              <p:cNvSpPr/>
              <p:nvPr/>
            </p:nvSpPr>
            <p:spPr>
              <a:xfrm flipH="1">
                <a:off x="7391520" y="335268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777080" y="2666880"/>
                <a:ext cx="1214640" cy="609840"/>
              </a:xfrm>
              <a:custGeom>
                <a:avLst/>
                <a:gdLst>
                  <a:gd name="textAreaLeft" fmla="*/ 303480 w 1214640"/>
                  <a:gd name="textAreaRight" fmla="*/ 911160 w 1214640"/>
                  <a:gd name="textAreaTop" fmla="*/ 75960 h 609840"/>
                  <a:gd name="textAreaBottom" fmla="*/ 610200 h 60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25" y="0"/>
                    </a:lnTo>
                    <a:arcTo wR="675" hR="675" stAng="16200000" swAng="5400000"/>
                    <a:lnTo>
                      <a:pt x="8100" y="2700"/>
                    </a:lnTo>
                    <a:lnTo>
                      <a:pt x="13500" y="2700"/>
                    </a:lnTo>
                    <a:lnTo>
                      <a:pt x="13500" y="675"/>
                    </a:lnTo>
                    <a:arcTo wR="675" hR="675" stAng="10800000" swAng="5400000"/>
                    <a:lnTo>
                      <a:pt x="21600" y="0"/>
                    </a:lnTo>
                    <a:lnTo>
                      <a:pt x="18900" y="9450"/>
                    </a:lnTo>
                    <a:lnTo>
                      <a:pt x="21600" y="18900"/>
                    </a:lnTo>
                    <a:lnTo>
                      <a:pt x="16200" y="18900"/>
                    </a:lnTo>
                    <a:lnTo>
                      <a:pt x="16200" y="20925"/>
                    </a:lnTo>
                    <a:arcTo wR="675" hR="675" stAng="0" swAng="5400000"/>
                    <a:lnTo>
                      <a:pt x="6075" y="21600"/>
                    </a:lnTo>
                    <a:arcTo wR="675" hR="675" stAng="5400000" swAng="5400000"/>
                    <a:lnTo>
                      <a:pt x="5400" y="18900"/>
                    </a:lnTo>
                    <a:lnTo>
                      <a:pt x="0" y="18900"/>
                    </a:lnTo>
                    <a:lnTo>
                      <a:pt x="2700" y="9450"/>
                    </a:lnTo>
                    <a:close/>
                  </a:path>
                  <a:path fill="none" w="21600" h="21600">
                    <a:moveTo>
                      <a:pt x="8100" y="675"/>
                    </a:moveTo>
                    <a:arcTo wR="675" hR="675" stAng="0" swAng="5400000"/>
                    <a:lnTo>
                      <a:pt x="6075" y="1350"/>
                    </a:lnTo>
                    <a:arcTo wR="675" hR="675" stAng="16200000" swAng="-5400000"/>
                    <a:arcTo wR="675" hR="675" stAng="10800000" swAng="-5400000"/>
                    <a:lnTo>
                      <a:pt x="8100" y="2700"/>
                    </a:lnTo>
                  </a:path>
                  <a:path fill="none" w="21600" h="21600">
                    <a:moveTo>
                      <a:pt x="13500" y="675"/>
                    </a:moveTo>
                    <a:arcTo wR="675" hR="675" stAng="10800000" swAng="-5400000"/>
                    <a:lnTo>
                      <a:pt x="15525" y="1350"/>
                    </a:lnTo>
                    <a:arcTo wR="675" hR="675" stAng="16200000" swAng="5400000"/>
                    <a:arcTo wR="675" hR="675" stAng="0" swAng="5400000"/>
                    <a:lnTo>
                      <a:pt x="13500" y="2700"/>
                    </a:lnTo>
                  </a:path>
                  <a:path fill="none" w="21600" h="21600">
                    <a:moveTo>
                      <a:pt x="5400" y="2025"/>
                    </a:moveTo>
                    <a:lnTo>
                      <a:pt x="5400" y="18900"/>
                    </a:lnTo>
                  </a:path>
                  <a:path fill="none" w="21600" h="21600">
                    <a:moveTo>
                      <a:pt x="16200" y="2025"/>
                    </a:moveTo>
                    <a:lnTo>
                      <a:pt x="16200" y="18900"/>
                    </a:ln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095880" y="2666880"/>
                <a:ext cx="1295640" cy="9907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g 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 mod p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2056680" y="3124080"/>
                <a:ext cx="3962520" cy="1371600"/>
              </a:xfrm>
              <a:custGeom>
                <a:avLst/>
                <a:gdLst/>
                <a:ahLst/>
                <a:rect l="l" t="t" r="r" b="b"/>
                <a:pathLst>
                  <a:path w="2880" h="864">
                    <a:moveTo>
                      <a:pt x="0" y="0"/>
                    </a:moveTo>
                    <a:lnTo>
                      <a:pt x="720" y="0"/>
                    </a:lnTo>
                    <a:lnTo>
                      <a:pt x="1488" y="864"/>
                    </a:lnTo>
                    <a:lnTo>
                      <a:pt x="2880" y="8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4572000" y="1828800"/>
                <a:ext cx="3124080" cy="2057400"/>
                <a:chOff x="4572000" y="1828800"/>
                <a:chExt cx="3124080" cy="2057400"/>
              </a:xfrm>
            </p:grpSpPr>
            <p:sp>
              <p:nvSpPr>
                <p:cNvPr id="1715" name=""/>
                <p:cNvSpPr/>
                <p:nvPr/>
              </p:nvSpPr>
              <p:spPr>
                <a:xfrm flipH="1">
                  <a:off x="4572000" y="1828800"/>
                  <a:ext cx="3124080" cy="2057400"/>
                </a:xfrm>
                <a:custGeom>
                  <a:avLst/>
                  <a:gdLst/>
                  <a:ahLst/>
                  <a:rect l="l" t="t" r="r" b="b"/>
                  <a:pathLst>
                    <a:path w="1968" h="1344">
                      <a:moveTo>
                        <a:pt x="1968" y="0"/>
                      </a:moveTo>
                      <a:lnTo>
                        <a:pt x="1968" y="192"/>
                      </a:lnTo>
                      <a:lnTo>
                        <a:pt x="0" y="192"/>
                      </a:lnTo>
                      <a:lnTo>
                        <a:pt x="0" y="134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>
                  <a:off x="7391520" y="285732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7" name=""/>
              <p:cNvSpPr/>
              <p:nvPr/>
            </p:nvSpPr>
            <p:spPr>
              <a:xfrm>
                <a:off x="8229600" y="335268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919280" y="2209680"/>
                <a:ext cx="907920" cy="40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152440" y="4043520"/>
                <a:ext cx="2038680" cy="40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 = 7</a:t>
                </a:r>
                <a:r>
                  <a:rPr b="0" lang="it-IT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 mod 71 =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0" name=""/>
          <p:cNvGrpSpPr/>
          <p:nvPr/>
        </p:nvGrpSpPr>
        <p:grpSpPr>
          <a:xfrm>
            <a:off x="1195200" y="5257800"/>
            <a:ext cx="6787080" cy="932400"/>
            <a:chOff x="1195200" y="5257800"/>
            <a:chExt cx="6787080" cy="932400"/>
          </a:xfrm>
        </p:grpSpPr>
        <p:sp>
          <p:nvSpPr>
            <p:cNvPr id="1721" name=""/>
            <p:cNvSpPr/>
            <p:nvPr/>
          </p:nvSpPr>
          <p:spPr>
            <a:xfrm>
              <a:off x="2767680" y="5791320"/>
              <a:ext cx="35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iave per il Cifrario simmetr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38880" y="5791320"/>
              <a:ext cx="747720" cy="371520"/>
            </a:xfrm>
            <a:custGeom>
              <a:avLst/>
              <a:gdLst>
                <a:gd name="textAreaLeft" fmla="*/ 116640 w 747720"/>
                <a:gd name="textAreaRight" fmla="*/ 654480 w 747720"/>
                <a:gd name="textAreaTop" fmla="*/ 92880 h 371520"/>
                <a:gd name="textAreaBottom" fmla="*/ 27864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1980360" y="5791320"/>
              <a:ext cx="747720" cy="371520"/>
            </a:xfrm>
            <a:custGeom>
              <a:avLst/>
              <a:gdLst>
                <a:gd name="textAreaLeft" fmla="*/ 116280 w 747720"/>
                <a:gd name="textAreaRight" fmla="*/ 654120 w 747720"/>
                <a:gd name="textAreaTop" fmla="*/ 92880 h 371520"/>
                <a:gd name="textAreaBottom" fmla="*/ 27864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195200" y="5262480"/>
              <a:ext cx="1997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 = 4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mod 71 = 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803200" y="5257800"/>
              <a:ext cx="2179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 = 51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mod 71 = 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6" name=""/>
          <p:cNvSpPr/>
          <p:nvPr/>
        </p:nvSpPr>
        <p:spPr>
          <a:xfrm>
            <a:off x="465120" y="6338880"/>
            <a:ext cx="80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tente A                                     Canale insicuro                                 Utent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"/>
          <p:cNvGrpSpPr/>
          <p:nvPr/>
        </p:nvGrpSpPr>
        <p:grpSpPr>
          <a:xfrm>
            <a:off x="380880" y="3276720"/>
            <a:ext cx="8382240" cy="2894760"/>
            <a:chOff x="380880" y="3276720"/>
            <a:chExt cx="8382240" cy="2894760"/>
          </a:xfrm>
        </p:grpSpPr>
        <p:grpSp>
          <p:nvGrpSpPr>
            <p:cNvPr id="1728" name=""/>
            <p:cNvGrpSpPr/>
            <p:nvPr/>
          </p:nvGrpSpPr>
          <p:grpSpPr>
            <a:xfrm>
              <a:off x="380880" y="3886200"/>
              <a:ext cx="8382240" cy="2285280"/>
              <a:chOff x="380880" y="3886200"/>
              <a:chExt cx="8382240" cy="2285280"/>
            </a:xfrm>
          </p:grpSpPr>
          <p:sp>
            <p:nvSpPr>
              <p:cNvPr id="1729" name=""/>
              <p:cNvSpPr/>
              <p:nvPr/>
            </p:nvSpPr>
            <p:spPr>
              <a:xfrm>
                <a:off x="1143000" y="48762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8058240" y="48762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38200" y="5562000"/>
                <a:ext cx="1214280" cy="609480"/>
              </a:xfrm>
              <a:custGeom>
                <a:avLst/>
                <a:gdLst>
                  <a:gd name="textAreaLeft" fmla="*/ 303480 w 1214280"/>
                  <a:gd name="textAreaRight" fmla="*/ 910800 w 1214280"/>
                  <a:gd name="textAreaTop" fmla="*/ 0 h 609480"/>
                  <a:gd name="textAreaBottom" fmla="*/ 53352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100" y="18900"/>
                    </a:moveTo>
                    <a:lnTo>
                      <a:pt x="8100" y="20925"/>
                    </a:lnTo>
                    <a:cubicBezTo>
                      <a:pt x="8100" y="21263"/>
                      <a:pt x="7680" y="21600"/>
                      <a:pt x="7260" y="21600"/>
                    </a:cubicBezTo>
                    <a:lnTo>
                      <a:pt x="0" y="21600"/>
                    </a:lnTo>
                    <a:lnTo>
                      <a:pt x="2750" y="12150"/>
                    </a:lnTo>
                    <a:lnTo>
                      <a:pt x="0" y="2700"/>
                    </a:lnTo>
                    <a:lnTo>
                      <a:pt x="5400" y="2700"/>
                    </a:lnTo>
                    <a:lnTo>
                      <a:pt x="5400" y="675"/>
                    </a:lnTo>
                    <a:cubicBezTo>
                      <a:pt x="5400" y="338"/>
                      <a:pt x="5820" y="0"/>
                      <a:pt x="6240" y="0"/>
                    </a:cubicBezTo>
                    <a:lnTo>
                      <a:pt x="15360" y="0"/>
                    </a:lnTo>
                    <a:cubicBezTo>
                      <a:pt x="15780" y="0"/>
                      <a:pt x="16200" y="338"/>
                      <a:pt x="16200" y="675"/>
                    </a:cubicBezTo>
                    <a:lnTo>
                      <a:pt x="16200" y="2700"/>
                    </a:lnTo>
                    <a:lnTo>
                      <a:pt x="21600" y="2700"/>
                    </a:lnTo>
                    <a:lnTo>
                      <a:pt x="18850" y="12150"/>
                    </a:lnTo>
                    <a:lnTo>
                      <a:pt x="21600" y="21600"/>
                    </a:lnTo>
                    <a:lnTo>
                      <a:pt x="14340" y="21600"/>
                    </a:lnTo>
                    <a:cubicBezTo>
                      <a:pt x="13920" y="21600"/>
                      <a:pt x="13500" y="21263"/>
                      <a:pt x="13500" y="20925"/>
                    </a:cubicBezTo>
                    <a:lnTo>
                      <a:pt x="13500" y="18900"/>
                    </a:lnTo>
                    <a:close/>
                  </a:path>
                  <a:path fill="darkenLess" w="21600" h="21600">
                    <a:moveTo>
                      <a:pt x="8100" y="18900"/>
                    </a:moveTo>
                    <a:lnTo>
                      <a:pt x="8100" y="20925"/>
                    </a:lnTo>
                    <a:cubicBezTo>
                      <a:pt x="8100" y="20588"/>
                      <a:pt x="7680" y="20250"/>
                      <a:pt x="7260" y="20250"/>
                    </a:cubicBezTo>
                    <a:lnTo>
                      <a:pt x="6240" y="20250"/>
                    </a:lnTo>
                    <a:cubicBezTo>
                      <a:pt x="5820" y="20250"/>
                      <a:pt x="5400" y="19913"/>
                      <a:pt x="5400" y="19575"/>
                    </a:cubicBezTo>
                    <a:cubicBezTo>
                      <a:pt x="5400" y="19238"/>
                      <a:pt x="5820" y="18900"/>
                      <a:pt x="6240" y="18900"/>
                    </a:cubicBezTo>
                    <a:close/>
                  </a:path>
                  <a:path fill="darkenLess" w="21600" h="21600">
                    <a:moveTo>
                      <a:pt x="13500" y="18900"/>
                    </a:moveTo>
                    <a:lnTo>
                      <a:pt x="13500" y="20925"/>
                    </a:lnTo>
                    <a:cubicBezTo>
                      <a:pt x="13500" y="20588"/>
                      <a:pt x="13920" y="20250"/>
                      <a:pt x="14340" y="20250"/>
                    </a:cubicBezTo>
                    <a:lnTo>
                      <a:pt x="15360" y="20250"/>
                    </a:lnTo>
                    <a:cubicBezTo>
                      <a:pt x="15780" y="20250"/>
                      <a:pt x="16200" y="19913"/>
                      <a:pt x="16200" y="19575"/>
                    </a:cubicBezTo>
                    <a:cubicBezTo>
                      <a:pt x="16200" y="19238"/>
                      <a:pt x="15780" y="18900"/>
                      <a:pt x="15360" y="18900"/>
                    </a:cubicBezTo>
                    <a:close/>
                  </a:path>
                  <a:path fill="darkenLess" w="21600" h="21600">
                    <a:moveTo>
                      <a:pt x="5400" y="19575"/>
                    </a:moveTo>
                    <a:lnTo>
                      <a:pt x="5400" y="2700"/>
                    </a:lnTo>
                  </a:path>
                  <a:path fill="darkenLess" w="21600" h="21600">
                    <a:moveTo>
                      <a:pt x="16200" y="19575"/>
                    </a:moveTo>
                    <a:lnTo>
                      <a:pt x="16200" y="2700"/>
                    </a:ln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467480" y="5562000"/>
                <a:ext cx="1214640" cy="609480"/>
              </a:xfrm>
              <a:custGeom>
                <a:avLst/>
                <a:gdLst>
                  <a:gd name="textAreaLeft" fmla="*/ 303480 w 1214640"/>
                  <a:gd name="textAreaRight" fmla="*/ 911160 w 1214640"/>
                  <a:gd name="textAreaTop" fmla="*/ 0 h 609480"/>
                  <a:gd name="textAreaBottom" fmla="*/ 53352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100" y="18900"/>
                    </a:moveTo>
                    <a:lnTo>
                      <a:pt x="8100" y="20925"/>
                    </a:lnTo>
                    <a:cubicBezTo>
                      <a:pt x="8100" y="21263"/>
                      <a:pt x="7680" y="21600"/>
                      <a:pt x="7260" y="21600"/>
                    </a:cubicBezTo>
                    <a:lnTo>
                      <a:pt x="0" y="21600"/>
                    </a:lnTo>
                    <a:lnTo>
                      <a:pt x="2750" y="12150"/>
                    </a:lnTo>
                    <a:lnTo>
                      <a:pt x="0" y="2700"/>
                    </a:lnTo>
                    <a:lnTo>
                      <a:pt x="5400" y="2700"/>
                    </a:lnTo>
                    <a:lnTo>
                      <a:pt x="5400" y="675"/>
                    </a:lnTo>
                    <a:cubicBezTo>
                      <a:pt x="5400" y="338"/>
                      <a:pt x="5820" y="0"/>
                      <a:pt x="6240" y="0"/>
                    </a:cubicBezTo>
                    <a:lnTo>
                      <a:pt x="15360" y="0"/>
                    </a:lnTo>
                    <a:cubicBezTo>
                      <a:pt x="15780" y="0"/>
                      <a:pt x="16200" y="338"/>
                      <a:pt x="16200" y="675"/>
                    </a:cubicBezTo>
                    <a:lnTo>
                      <a:pt x="16200" y="2700"/>
                    </a:lnTo>
                    <a:lnTo>
                      <a:pt x="21600" y="2700"/>
                    </a:lnTo>
                    <a:lnTo>
                      <a:pt x="18850" y="12150"/>
                    </a:lnTo>
                    <a:lnTo>
                      <a:pt x="21600" y="21600"/>
                    </a:lnTo>
                    <a:lnTo>
                      <a:pt x="14340" y="21600"/>
                    </a:lnTo>
                    <a:cubicBezTo>
                      <a:pt x="13920" y="21600"/>
                      <a:pt x="13500" y="21263"/>
                      <a:pt x="13500" y="20925"/>
                    </a:cubicBezTo>
                    <a:lnTo>
                      <a:pt x="13500" y="18900"/>
                    </a:lnTo>
                    <a:close/>
                  </a:path>
                  <a:path fill="darkenLess" w="21600" h="21600">
                    <a:moveTo>
                      <a:pt x="8100" y="18900"/>
                    </a:moveTo>
                    <a:lnTo>
                      <a:pt x="8100" y="20925"/>
                    </a:lnTo>
                    <a:cubicBezTo>
                      <a:pt x="8100" y="20588"/>
                      <a:pt x="7680" y="20250"/>
                      <a:pt x="7260" y="20250"/>
                    </a:cubicBezTo>
                    <a:lnTo>
                      <a:pt x="6240" y="20250"/>
                    </a:lnTo>
                    <a:cubicBezTo>
                      <a:pt x="5820" y="20250"/>
                      <a:pt x="5400" y="19913"/>
                      <a:pt x="5400" y="19575"/>
                    </a:cubicBezTo>
                    <a:cubicBezTo>
                      <a:pt x="5400" y="19238"/>
                      <a:pt x="5820" y="18900"/>
                      <a:pt x="6240" y="18900"/>
                    </a:cubicBezTo>
                    <a:close/>
                  </a:path>
                  <a:path fill="darkenLess" w="21600" h="21600">
                    <a:moveTo>
                      <a:pt x="13500" y="18900"/>
                    </a:moveTo>
                    <a:lnTo>
                      <a:pt x="13500" y="20925"/>
                    </a:lnTo>
                    <a:cubicBezTo>
                      <a:pt x="13500" y="20588"/>
                      <a:pt x="13920" y="20250"/>
                      <a:pt x="14340" y="20250"/>
                    </a:cubicBezTo>
                    <a:lnTo>
                      <a:pt x="15360" y="20250"/>
                    </a:lnTo>
                    <a:cubicBezTo>
                      <a:pt x="15780" y="20250"/>
                      <a:pt x="16200" y="19913"/>
                      <a:pt x="16200" y="19575"/>
                    </a:cubicBezTo>
                    <a:cubicBezTo>
                      <a:pt x="16200" y="19238"/>
                      <a:pt x="15780" y="18900"/>
                      <a:pt x="15360" y="18900"/>
                    </a:cubicBezTo>
                    <a:close/>
                  </a:path>
                  <a:path fill="darkenLess" w="21600" h="21600">
                    <a:moveTo>
                      <a:pt x="5400" y="19575"/>
                    </a:moveTo>
                    <a:lnTo>
                      <a:pt x="5400" y="2700"/>
                    </a:lnTo>
                  </a:path>
                  <a:path fill="darkenLess" w="21600" h="21600">
                    <a:moveTo>
                      <a:pt x="16200" y="19575"/>
                    </a:moveTo>
                    <a:lnTo>
                      <a:pt x="16200" y="2700"/>
                    </a:lnTo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80880" y="3886200"/>
                <a:ext cx="1600200" cy="9900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(Y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 mod p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162920" y="3886200"/>
                <a:ext cx="1600200" cy="9900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(g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 mod p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057040" y="42667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6" name=""/>
            <p:cNvSpPr/>
            <p:nvPr/>
          </p:nvSpPr>
          <p:spPr>
            <a:xfrm>
              <a:off x="8229600" y="3276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H/ElGa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52280" y="259092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9" name=""/>
          <p:cNvGrpSpPr/>
          <p:nvPr/>
        </p:nvGrpSpPr>
        <p:grpSpPr>
          <a:xfrm>
            <a:off x="380880" y="2590920"/>
            <a:ext cx="6705720" cy="1828800"/>
            <a:chOff x="380880" y="2590920"/>
            <a:chExt cx="6705720" cy="1828800"/>
          </a:xfrm>
        </p:grpSpPr>
        <p:sp>
          <p:nvSpPr>
            <p:cNvPr id="1740" name=""/>
            <p:cNvSpPr/>
            <p:nvPr/>
          </p:nvSpPr>
          <p:spPr>
            <a:xfrm>
              <a:off x="1447920" y="2781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1" name=""/>
            <p:cNvGrpSpPr/>
            <p:nvPr/>
          </p:nvGrpSpPr>
          <p:grpSpPr>
            <a:xfrm>
              <a:off x="380880" y="2590920"/>
              <a:ext cx="6705720" cy="1828800"/>
              <a:chOff x="380880" y="2590920"/>
              <a:chExt cx="6705720" cy="1828800"/>
            </a:xfrm>
          </p:grpSpPr>
          <p:sp>
            <p:nvSpPr>
              <p:cNvPr id="1742" name=""/>
              <p:cNvSpPr/>
              <p:nvPr/>
            </p:nvSpPr>
            <p:spPr>
              <a:xfrm>
                <a:off x="1752480" y="2590920"/>
                <a:ext cx="1295640" cy="9907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g 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 mod p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380880" y="3276720"/>
                <a:ext cx="1371600" cy="533520"/>
                <a:chOff x="380880" y="3276720"/>
                <a:chExt cx="1371600" cy="53352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380880" y="32767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914400" y="327672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6" name=""/>
              <p:cNvSpPr/>
              <p:nvPr/>
            </p:nvSpPr>
            <p:spPr>
              <a:xfrm>
                <a:off x="3124080" y="3048120"/>
                <a:ext cx="3962520" cy="1371600"/>
              </a:xfrm>
              <a:custGeom>
                <a:avLst/>
                <a:gdLst/>
                <a:ahLst/>
                <a:rect l="l" t="t" r="r" b="b"/>
                <a:pathLst>
                  <a:path w="2880" h="864">
                    <a:moveTo>
                      <a:pt x="0" y="0"/>
                    </a:moveTo>
                    <a:lnTo>
                      <a:pt x="720" y="0"/>
                    </a:lnTo>
                    <a:lnTo>
                      <a:pt x="1488" y="864"/>
                    </a:lnTo>
                    <a:lnTo>
                      <a:pt x="2880" y="8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7" name=""/>
          <p:cNvGrpSpPr/>
          <p:nvPr/>
        </p:nvGrpSpPr>
        <p:grpSpPr>
          <a:xfrm>
            <a:off x="1447920" y="838080"/>
            <a:ext cx="7543800" cy="3733920"/>
            <a:chOff x="1447920" y="838080"/>
            <a:chExt cx="7543800" cy="3733920"/>
          </a:xfrm>
        </p:grpSpPr>
        <p:sp>
          <p:nvSpPr>
            <p:cNvPr id="1748" name=""/>
            <p:cNvSpPr/>
            <p:nvPr/>
          </p:nvSpPr>
          <p:spPr>
            <a:xfrm>
              <a:off x="1981440" y="838080"/>
              <a:ext cx="5257800" cy="838080"/>
            </a:xfrm>
            <a:custGeom>
              <a:avLst/>
              <a:gdLst>
                <a:gd name="textAreaLeft" fmla="*/ 1314360 w 5257800"/>
                <a:gd name="textAreaRight" fmla="*/ 3943440 w 5257800"/>
                <a:gd name="textAreaTop" fmla="*/ 11556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747" stAng="16200000" swAng="5400000"/>
                  <a:lnTo>
                    <a:pt x="8100" y="2986"/>
                  </a:lnTo>
                  <a:lnTo>
                    <a:pt x="13500" y="2986"/>
                  </a:lnTo>
                  <a:lnTo>
                    <a:pt x="13500" y="747"/>
                  </a:lnTo>
                  <a:arcTo wR="675" hR="747" stAng="10800000" swAng="5400000"/>
                  <a:lnTo>
                    <a:pt x="21600" y="0"/>
                  </a:lnTo>
                  <a:lnTo>
                    <a:pt x="18900" y="9307"/>
                  </a:lnTo>
                  <a:lnTo>
                    <a:pt x="21600" y="18614"/>
                  </a:lnTo>
                  <a:lnTo>
                    <a:pt x="16200" y="18614"/>
                  </a:lnTo>
                  <a:lnTo>
                    <a:pt x="16200" y="20854"/>
                  </a:lnTo>
                  <a:arcTo wR="675" hR="747" stAng="0" swAng="5400000"/>
                  <a:lnTo>
                    <a:pt x="6075" y="21600"/>
                  </a:lnTo>
                  <a:arcTo wR="675" hR="747" stAng="5400000" swAng="5400000"/>
                  <a:lnTo>
                    <a:pt x="5400" y="18614"/>
                  </a:lnTo>
                  <a:lnTo>
                    <a:pt x="0" y="18614"/>
                  </a:lnTo>
                  <a:lnTo>
                    <a:pt x="2700" y="9307"/>
                  </a:lnTo>
                  <a:close/>
                </a:path>
                <a:path fill="none" w="21600" h="21600">
                  <a:moveTo>
                    <a:pt x="8100" y="747"/>
                  </a:moveTo>
                  <a:arcTo wR="675" hR="747" stAng="0" swAng="5400000"/>
                  <a:lnTo>
                    <a:pt x="6075" y="1493"/>
                  </a:lnTo>
                  <a:arcTo wR="675" hR="747" stAng="16200000" swAng="-5400000"/>
                  <a:arcTo wR="675" hR="747" stAng="10800000" swAng="-5400000"/>
                  <a:lnTo>
                    <a:pt x="8100" y="2986"/>
                  </a:lnTo>
                </a:path>
                <a:path fill="none" w="21600" h="21600">
                  <a:moveTo>
                    <a:pt x="13500" y="747"/>
                  </a:moveTo>
                  <a:arcTo wR="675" hR="747" stAng="10800000" swAng="-5400000"/>
                  <a:lnTo>
                    <a:pt x="15525" y="1493"/>
                  </a:lnTo>
                  <a:arcTo wR="675" hR="747" stAng="16200000" swAng="5400000"/>
                  <a:arcTo wR="675" hR="747" stAng="0" swAng="5400000"/>
                  <a:lnTo>
                    <a:pt x="13500" y="2986"/>
                  </a:lnTo>
                </a:path>
                <a:path fill="none" w="21600" h="21600">
                  <a:moveTo>
                    <a:pt x="5400" y="2240"/>
                  </a:moveTo>
                  <a:lnTo>
                    <a:pt x="5400" y="18614"/>
                  </a:lnTo>
                </a:path>
                <a:path fill="none" w="21600" h="21600">
                  <a:moveTo>
                    <a:pt x="16200" y="2240"/>
                  </a:moveTo>
                  <a:lnTo>
                    <a:pt x="16200" y="18614"/>
                  </a:ln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: numero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ri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generatore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mod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67240" y="3962160"/>
              <a:ext cx="1214280" cy="609840"/>
            </a:xfrm>
            <a:custGeom>
              <a:avLst/>
              <a:gdLst>
                <a:gd name="textAreaLeft" fmla="*/ 303480 w 1214280"/>
                <a:gd name="textAreaRight" fmla="*/ 910800 w 1214280"/>
                <a:gd name="textAreaTop" fmla="*/ 0 h 609840"/>
                <a:gd name="textAreaBottom" fmla="*/ 5338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777440" y="2590560"/>
              <a:ext cx="1214280" cy="609840"/>
            </a:xfrm>
            <a:custGeom>
              <a:avLst/>
              <a:gdLst>
                <a:gd name="textAreaLeft" fmla="*/ 303480 w 1214280"/>
                <a:gd name="textAreaRight" fmla="*/ 910800 w 1214280"/>
                <a:gd name="textAreaTop" fmla="*/ 7596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1" name=""/>
            <p:cNvGrpSpPr/>
            <p:nvPr/>
          </p:nvGrpSpPr>
          <p:grpSpPr>
            <a:xfrm>
              <a:off x="1447920" y="1752480"/>
              <a:ext cx="6248160" cy="2057400"/>
              <a:chOff x="1447920" y="1752480"/>
              <a:chExt cx="6248160" cy="2057400"/>
            </a:xfrm>
          </p:grpSpPr>
          <p:sp>
            <p:nvSpPr>
              <p:cNvPr id="1752" name=""/>
              <p:cNvSpPr/>
              <p:nvPr/>
            </p:nvSpPr>
            <p:spPr>
              <a:xfrm>
                <a:off x="1447920" y="1752480"/>
                <a:ext cx="3124080" cy="2057400"/>
              </a:xfrm>
              <a:custGeom>
                <a:avLst/>
                <a:gdLst/>
                <a:ahLst/>
                <a:rect l="l" t="t" r="r" b="b"/>
                <a:pathLst>
                  <a:path w="1968" h="1344">
                    <a:moveTo>
                      <a:pt x="1968" y="0"/>
                    </a:moveTo>
                    <a:lnTo>
                      <a:pt x="1968" y="192"/>
                    </a:lnTo>
                    <a:lnTo>
                      <a:pt x="0" y="192"/>
                    </a:lnTo>
                    <a:lnTo>
                      <a:pt x="0" y="13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>
                <a:off x="4571280" y="1752480"/>
                <a:ext cx="3124440" cy="2057400"/>
              </a:xfrm>
              <a:custGeom>
                <a:avLst/>
                <a:gdLst/>
                <a:ahLst/>
                <a:rect l="l" t="t" r="r" b="b"/>
                <a:pathLst>
                  <a:path w="1968" h="1344">
                    <a:moveTo>
                      <a:pt x="1968" y="0"/>
                    </a:moveTo>
                    <a:lnTo>
                      <a:pt x="1968" y="192"/>
                    </a:lnTo>
                    <a:lnTo>
                      <a:pt x="0" y="192"/>
                    </a:lnTo>
                    <a:lnTo>
                      <a:pt x="0" y="13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4" name=""/>
          <p:cNvSpPr/>
          <p:nvPr/>
        </p:nvSpPr>
        <p:spPr>
          <a:xfrm>
            <a:off x="465120" y="6262560"/>
            <a:ext cx="80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tente A                                     Canale insicuro                                 Utent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374200" y="4800600"/>
            <a:ext cx="4714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A conosce p, g, Y</a:t>
            </a:r>
            <a:r>
              <a:rPr b="1" lang="it-IT" sz="24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A sceglie a caso la chiave segreta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it-IT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B: g </a:t>
            </a:r>
            <a:r>
              <a:rPr b="1" lang="it-IT" sz="2400" spc="-1" strike="noStrike" baseline="30000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 mod 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Verifiche con Mathema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193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8" name=""/>
          <p:cNvGraphicFramePr/>
          <p:nvPr/>
        </p:nvGraphicFramePr>
        <p:xfrm>
          <a:off x="3914640" y="2500200"/>
          <a:ext cx="1266840" cy="16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4640" y="2500200"/>
                    <a:ext cx="126684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l meccanismo per la sostituzione di un 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71600" y="1219320"/>
            <a:ext cx="914400" cy="1981080"/>
            <a:chOff x="1371600" y="1219320"/>
            <a:chExt cx="914400" cy="1981080"/>
          </a:xfrm>
        </p:grpSpPr>
        <p:sp>
          <p:nvSpPr>
            <p:cNvPr id="82" name=""/>
            <p:cNvSpPr/>
            <p:nvPr/>
          </p:nvSpPr>
          <p:spPr>
            <a:xfrm>
              <a:off x="1371600" y="1219320"/>
              <a:ext cx="914400" cy="9144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2286000"/>
              <a:ext cx="914400" cy="9144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505320" y="1219320"/>
            <a:ext cx="914400" cy="1981080"/>
            <a:chOff x="3505320" y="1219320"/>
            <a:chExt cx="914400" cy="1981080"/>
          </a:xfrm>
        </p:grpSpPr>
        <p:sp>
          <p:nvSpPr>
            <p:cNvPr id="85" name=""/>
            <p:cNvSpPr/>
            <p:nvPr/>
          </p:nvSpPr>
          <p:spPr>
            <a:xfrm>
              <a:off x="3505320" y="121932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228600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438280" y="1523880"/>
            <a:ext cx="914400" cy="1524240"/>
            <a:chOff x="2438280" y="1523880"/>
            <a:chExt cx="914400" cy="1524240"/>
          </a:xfrm>
        </p:grpSpPr>
        <p:sp>
          <p:nvSpPr>
            <p:cNvPr id="88" name=""/>
            <p:cNvSpPr/>
            <p:nvPr/>
          </p:nvSpPr>
          <p:spPr>
            <a:xfrm>
              <a:off x="2438280" y="152388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304812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438280" y="1892160"/>
            <a:ext cx="838080" cy="711360"/>
            <a:chOff x="2438280" y="1892160"/>
            <a:chExt cx="838080" cy="711360"/>
          </a:xfrm>
        </p:grpSpPr>
        <p:sp>
          <p:nvSpPr>
            <p:cNvPr id="91" name=""/>
            <p:cNvSpPr/>
            <p:nvPr/>
          </p:nvSpPr>
          <p:spPr>
            <a:xfrm>
              <a:off x="2438280" y="1892160"/>
              <a:ext cx="838080" cy="6987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438280" y="1905120"/>
              <a:ext cx="838080" cy="698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3" name=""/>
          <p:cNvGraphicFramePr/>
          <p:nvPr/>
        </p:nvGraphicFramePr>
        <p:xfrm>
          <a:off x="2514600" y="4267080"/>
          <a:ext cx="2071800" cy="1955520"/>
        </p:xfrm>
        <a:graphic>
          <a:graphicData uri="http://schemas.openxmlformats.org/drawingml/2006/table">
            <a:tbl>
              <a:tblPr/>
              <a:tblGrid>
                <a:gridCol w="690480"/>
                <a:gridCol w="690480"/>
                <a:gridCol w="69084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" name=""/>
          <p:cNvGrpSpPr/>
          <p:nvPr/>
        </p:nvGrpSpPr>
        <p:grpSpPr>
          <a:xfrm>
            <a:off x="228600" y="3657600"/>
            <a:ext cx="1905120" cy="1981080"/>
            <a:chOff x="228600" y="3657600"/>
            <a:chExt cx="1905120" cy="1981080"/>
          </a:xfrm>
        </p:grpSpPr>
        <p:sp>
          <p:nvSpPr>
            <p:cNvPr id="95" name=""/>
            <p:cNvSpPr/>
            <p:nvPr/>
          </p:nvSpPr>
          <p:spPr>
            <a:xfrm>
              <a:off x="228600" y="3657600"/>
              <a:ext cx="1905120" cy="457200"/>
            </a:xfrm>
            <a:prstGeom prst="borderCallout2">
              <a:avLst>
                <a:gd name="adj1" fmla="val 18750"/>
                <a:gd name="adj2" fmla="val -8333"/>
                <a:gd name="adj3" fmla="val 25000"/>
                <a:gd name="adj4" fmla="val 122416"/>
                <a:gd name="adj5" fmla="val 128472"/>
                <a:gd name="adj6" fmla="val 18925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 di chi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600" y="5181480"/>
              <a:ext cx="1905120" cy="457200"/>
            </a:xfrm>
            <a:prstGeom prst="borderCallout2">
              <a:avLst>
                <a:gd name="adj1" fmla="val 18750"/>
                <a:gd name="adj2" fmla="val -8333"/>
                <a:gd name="adj3" fmla="val 25000"/>
                <a:gd name="adj4" fmla="val 107000"/>
                <a:gd name="adj5" fmla="val 77430"/>
                <a:gd name="adj6" fmla="val 11783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 di t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867280" y="3657600"/>
            <a:ext cx="2286000" cy="1523880"/>
            <a:chOff x="5867280" y="3657600"/>
            <a:chExt cx="2286000" cy="1523880"/>
          </a:xfrm>
        </p:grpSpPr>
        <p:sp>
          <p:nvSpPr>
            <p:cNvPr id="98" name="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29400" y="47242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867280" y="3657600"/>
              <a:ext cx="2286000" cy="1523880"/>
              <a:chOff x="5867280" y="3657600"/>
              <a:chExt cx="2286000" cy="1523880"/>
            </a:xfrm>
          </p:grpSpPr>
          <p:sp>
            <p:nvSpPr>
              <p:cNvPr id="101" name=""/>
              <p:cNvSpPr/>
              <p:nvPr/>
            </p:nvSpPr>
            <p:spPr>
              <a:xfrm>
                <a:off x="6553080" y="4267080"/>
                <a:ext cx="914400" cy="914400"/>
              </a:xfrm>
              <a:prstGeom prst="donut">
                <a:avLst>
                  <a:gd name="adj" fmla="val 6250"/>
                </a:avLst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010280" y="36576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7280" y="47242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67480" y="47242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5181480" y="3733920"/>
            <a:ext cx="1143000" cy="990360"/>
          </a:xfrm>
          <a:prstGeom prst="downArrowCallout">
            <a:avLst>
              <a:gd name="adj1" fmla="val 28856"/>
              <a:gd name="adj2" fmla="val 28853"/>
              <a:gd name="adj3" fmla="val 16667"/>
              <a:gd name="adj4" fmla="val 6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i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590920"/>
            <a:ext cx="1143000" cy="990360"/>
          </a:xfrm>
          <a:prstGeom prst="downArrowCallout">
            <a:avLst>
              <a:gd name="adj1" fmla="val 28856"/>
              <a:gd name="adj2" fmla="val 28853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3733920"/>
            <a:ext cx="1143000" cy="990360"/>
          </a:xfrm>
          <a:prstGeom prst="downArrowCallout">
            <a:avLst>
              <a:gd name="adj1" fmla="val 28856"/>
              <a:gd name="adj2" fmla="val 28853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curezza dello scambio D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1371600" y="914400"/>
            <a:ext cx="6400800" cy="914400"/>
            <a:chOff x="1371600" y="914400"/>
            <a:chExt cx="6400800" cy="914400"/>
          </a:xfrm>
        </p:grpSpPr>
        <p:sp>
          <p:nvSpPr>
            <p:cNvPr id="1762" name=""/>
            <p:cNvSpPr/>
            <p:nvPr/>
          </p:nvSpPr>
          <p:spPr>
            <a:xfrm>
              <a:off x="1371600" y="9144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858000" y="9144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2286000" y="838080"/>
            <a:ext cx="4648320" cy="510120"/>
            <a:chOff x="2286000" y="838080"/>
            <a:chExt cx="4648320" cy="510120"/>
          </a:xfrm>
        </p:grpSpPr>
        <p:sp>
          <p:nvSpPr>
            <p:cNvPr id="1765" name=""/>
            <p:cNvSpPr/>
            <p:nvPr/>
          </p:nvSpPr>
          <p:spPr>
            <a:xfrm>
              <a:off x="2286000" y="121896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821040" y="83808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2209680" y="1143000"/>
            <a:ext cx="4648320" cy="510120"/>
            <a:chOff x="2209680" y="1143000"/>
            <a:chExt cx="4648320" cy="510120"/>
          </a:xfrm>
        </p:grpSpPr>
        <p:sp>
          <p:nvSpPr>
            <p:cNvPr id="1768" name=""/>
            <p:cNvSpPr/>
            <p:nvPr/>
          </p:nvSpPr>
          <p:spPr>
            <a:xfrm flipH="1">
              <a:off x="2209680" y="152424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116320" y="11430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191120" y="1219320"/>
            <a:ext cx="914400" cy="2209680"/>
            <a:chOff x="4191120" y="1219320"/>
            <a:chExt cx="914400" cy="2209680"/>
          </a:xfrm>
        </p:grpSpPr>
        <p:sp>
          <p:nvSpPr>
            <p:cNvPr id="1771" name=""/>
            <p:cNvSpPr/>
            <p:nvPr/>
          </p:nvSpPr>
          <p:spPr>
            <a:xfrm>
              <a:off x="4191120" y="251460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419720" y="1219320"/>
              <a:ext cx="0" cy="1371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876920" y="1524240"/>
              <a:ext cx="0" cy="1066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4" name=""/>
          <p:cNvSpPr/>
          <p:nvPr/>
        </p:nvSpPr>
        <p:spPr>
          <a:xfrm>
            <a:off x="1371600" y="2743200"/>
            <a:ext cx="2666880" cy="27432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1&lt;X&lt;p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2666880" y="2743200"/>
            <a:ext cx="5562720" cy="2743200"/>
            <a:chOff x="2666880" y="2743200"/>
            <a:chExt cx="5562720" cy="2743200"/>
          </a:xfrm>
        </p:grpSpPr>
        <p:sp>
          <p:nvSpPr>
            <p:cNvPr id="1776" name=""/>
            <p:cNvSpPr/>
            <p:nvPr/>
          </p:nvSpPr>
          <p:spPr>
            <a:xfrm>
              <a:off x="5562720" y="2743200"/>
              <a:ext cx="2666880" cy="274320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1&lt;Y&lt;p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666880" y="4038840"/>
              <a:ext cx="419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896640" y="3719520"/>
              <a:ext cx="132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Y = g</a:t>
              </a:r>
              <a:r>
                <a:rPr b="1" lang="it-IT" sz="1600" spc="-1" strike="noStrike" baseline="30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 mod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3579480" y="4114800"/>
            <a:ext cx="1982520" cy="596880"/>
            <a:chOff x="3579480" y="4114800"/>
            <a:chExt cx="1982520" cy="596880"/>
          </a:xfrm>
        </p:grpSpPr>
        <p:sp>
          <p:nvSpPr>
            <p:cNvPr id="1780" name=""/>
            <p:cNvSpPr/>
            <p:nvPr/>
          </p:nvSpPr>
          <p:spPr>
            <a:xfrm flipH="1">
              <a:off x="3579120" y="4114800"/>
              <a:ext cx="1982520" cy="596880"/>
            </a:xfrm>
            <a:prstGeom prst="rect">
              <a:avLst/>
            </a:prstGeom>
            <a:solidFill>
              <a:srgbClr val="0066ff"/>
            </a:solidFill>
            <a:ln w="22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3733560" y="4182840"/>
              <a:ext cx="1727280" cy="490680"/>
            </a:xfrm>
            <a:custGeom>
              <a:avLst/>
              <a:gdLst/>
              <a:ahLst/>
              <a:rect l="l" t="t" r="r" b="b"/>
              <a:pathLst>
                <a:path w="1275" h="362">
                  <a:moveTo>
                    <a:pt x="1275" y="305"/>
                  </a:moveTo>
                  <a:lnTo>
                    <a:pt x="204" y="305"/>
                  </a:lnTo>
                  <a:lnTo>
                    <a:pt x="204" y="362"/>
                  </a:lnTo>
                  <a:lnTo>
                    <a:pt x="0" y="175"/>
                  </a:lnTo>
                  <a:lnTo>
                    <a:pt x="204" y="0"/>
                  </a:lnTo>
                  <a:lnTo>
                    <a:pt x="204" y="58"/>
                  </a:lnTo>
                  <a:lnTo>
                    <a:pt x="1275" y="58"/>
                  </a:lnTo>
                  <a:lnTo>
                    <a:pt x="1275" y="305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3670920" y="4260600"/>
              <a:ext cx="17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One-wa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666880" y="4800600"/>
            <a:ext cx="4191120" cy="391320"/>
            <a:chOff x="2666880" y="4800600"/>
            <a:chExt cx="4191120" cy="391320"/>
          </a:xfrm>
        </p:grpSpPr>
        <p:sp>
          <p:nvSpPr>
            <p:cNvPr id="1784" name=""/>
            <p:cNvSpPr/>
            <p:nvPr/>
          </p:nvSpPr>
          <p:spPr>
            <a:xfrm>
              <a:off x="3848400" y="4821120"/>
              <a:ext cx="105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X = log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2666880" y="4800600"/>
              <a:ext cx="419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-2880" y="5638680"/>
            <a:ext cx="9272520" cy="12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1: problema (difficile) del logaritmo discreto su un campo di Gal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“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in prim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un generato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d un inter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Z*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trovare l’inter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p-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tale ch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mod p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941160" y="3429000"/>
            <a:ext cx="14306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cif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5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058400" y="4222800"/>
            <a:ext cx="15188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cif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oria dei numeri (1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-34920" y="762120"/>
            <a:ext cx="91454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 divisore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e a = m.b con m i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 numero primo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i suoi divisori sono solo 1 e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fattorizz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 = 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e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e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..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e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co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… 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im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r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massimo comun divisore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CD(a,b) = k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k più grande divisore di a e di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 copr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CD(a,b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 mo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o della divisione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0 per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 congruo 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 modul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b (mod n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a mod n = b mo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oria dei numeri (2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09400" y="838080"/>
            <a:ext cx="82638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un intero positiv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i indica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{0,1, …, n-1}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l'insieme di tutti gli interi non negativi &lt;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Z*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{ a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CD(a,n) = 1}insieme dei coprimi co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Z*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{1, …, p-1}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pr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funzione di Eulero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° di inter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 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primi co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n) = n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1-1/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1-1/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n) = n-1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pr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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n) = (p-1)(q-1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prodotto di due prim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Gruppo finito di ordine q: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Z*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operazione associativ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elemento identità e co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Anello finito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gruppo con una seconda operazione associativ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elemento identità e distributiva rispetto alla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Campo finito GF(p</a:t>
            </a:r>
            <a:r>
              <a:rPr b="1" lang="it-IT" sz="2400" spc="-1" strike="noStrike" baseline="30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):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ello con p primo in cui ogni 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a il suo inverso moltiplicativo (recipro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F(p): operaz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61440" y="2470320"/>
            <a:ext cx="377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i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a+b) mod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tiplic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a.b) mod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135800" y="4648320"/>
            <a:ext cx="68392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+b) mod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(a mod m)+ (b mod m)) mo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.b) mod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(a mod m).(b mod m)) mo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713480" y="2530440"/>
            <a:ext cx="40428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(log p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zioni su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((log p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zioni su b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095640" y="1447920"/>
            <a:ext cx="2919240" cy="87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{1, …, p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metica mod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F(11): elemen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798640" y="2197080"/>
            <a:ext cx="3588120" cy="31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{0,1,2,3,4,5,6,7,8,9,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{1,2,3,4,5,6,7,8,9,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1) = p-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F(11): addi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2057400" y="990720"/>
            <a:ext cx="5257800" cy="3962160"/>
            <a:chOff x="2057400" y="990720"/>
            <a:chExt cx="5257800" cy="3962160"/>
          </a:xfrm>
        </p:grpSpPr>
        <p:grpSp>
          <p:nvGrpSpPr>
            <p:cNvPr id="1802" name=""/>
            <p:cNvGrpSpPr/>
            <p:nvPr/>
          </p:nvGrpSpPr>
          <p:grpSpPr>
            <a:xfrm>
              <a:off x="2061720" y="992880"/>
              <a:ext cx="5248080" cy="3957480"/>
              <a:chOff x="2061720" y="992880"/>
              <a:chExt cx="5248080" cy="3957480"/>
            </a:xfrm>
          </p:grpSpPr>
          <p:grpSp>
            <p:nvGrpSpPr>
              <p:cNvPr id="1803" name=""/>
              <p:cNvGrpSpPr/>
              <p:nvPr/>
            </p:nvGrpSpPr>
            <p:grpSpPr>
              <a:xfrm>
                <a:off x="2061720" y="992880"/>
                <a:ext cx="438120" cy="304200"/>
                <a:chOff x="2061720" y="992880"/>
                <a:chExt cx="438120" cy="304200"/>
              </a:xfrm>
            </p:grpSpPr>
            <p:sp>
              <p:nvSpPr>
                <p:cNvPr id="1804" name=""/>
                <p:cNvSpPr/>
                <p:nvPr/>
              </p:nvSpPr>
              <p:spPr>
                <a:xfrm>
                  <a:off x="2061720" y="992880"/>
                  <a:ext cx="438120" cy="30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5" name=""/>
                <p:cNvGrpSpPr/>
                <p:nvPr/>
              </p:nvGrpSpPr>
              <p:grpSpPr>
                <a:xfrm>
                  <a:off x="2061720" y="992880"/>
                  <a:ext cx="438120" cy="304200"/>
                  <a:chOff x="2061720" y="992880"/>
                  <a:chExt cx="438120" cy="304200"/>
                </a:xfrm>
              </p:grpSpPr>
              <p:sp>
                <p:nvSpPr>
                  <p:cNvPr id="1806" name=""/>
                  <p:cNvSpPr/>
                  <p:nvPr/>
                </p:nvSpPr>
                <p:spPr>
                  <a:xfrm>
                    <a:off x="2102760" y="992880"/>
                    <a:ext cx="355320" cy="30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2061720" y="99288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08" name=""/>
              <p:cNvGrpSpPr/>
              <p:nvPr/>
            </p:nvGrpSpPr>
            <p:grpSpPr>
              <a:xfrm>
                <a:off x="2499840" y="992880"/>
                <a:ext cx="4809960" cy="304200"/>
                <a:chOff x="2499840" y="992880"/>
                <a:chExt cx="4809960" cy="304200"/>
              </a:xfrm>
            </p:grpSpPr>
            <p:sp>
              <p:nvSpPr>
                <p:cNvPr id="1809" name=""/>
                <p:cNvSpPr/>
                <p:nvPr/>
              </p:nvSpPr>
              <p:spPr>
                <a:xfrm>
                  <a:off x="2499840" y="992880"/>
                  <a:ext cx="480996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0" name=""/>
                <p:cNvGrpSpPr/>
                <p:nvPr/>
              </p:nvGrpSpPr>
              <p:grpSpPr>
                <a:xfrm>
                  <a:off x="2499840" y="992880"/>
                  <a:ext cx="4809960" cy="304200"/>
                  <a:chOff x="2499840" y="992880"/>
                  <a:chExt cx="4809960" cy="304200"/>
                </a:xfrm>
              </p:grpSpPr>
              <p:sp>
                <p:nvSpPr>
                  <p:cNvPr id="1811" name=""/>
                  <p:cNvSpPr/>
                  <p:nvPr/>
                </p:nvSpPr>
                <p:spPr>
                  <a:xfrm>
                    <a:off x="2541240" y="992880"/>
                    <a:ext cx="472680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2499840" y="992880"/>
                    <a:ext cx="480996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13" name=""/>
              <p:cNvGrpSpPr/>
              <p:nvPr/>
            </p:nvGrpSpPr>
            <p:grpSpPr>
              <a:xfrm>
                <a:off x="2061720" y="1297080"/>
                <a:ext cx="438120" cy="304200"/>
                <a:chOff x="2061720" y="1297080"/>
                <a:chExt cx="438120" cy="304200"/>
              </a:xfrm>
            </p:grpSpPr>
            <p:sp>
              <p:nvSpPr>
                <p:cNvPr id="1814" name=""/>
                <p:cNvSpPr/>
                <p:nvPr/>
              </p:nvSpPr>
              <p:spPr>
                <a:xfrm>
                  <a:off x="2061720" y="129708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5" name=""/>
                <p:cNvGrpSpPr/>
                <p:nvPr/>
              </p:nvGrpSpPr>
              <p:grpSpPr>
                <a:xfrm>
                  <a:off x="2061720" y="1297080"/>
                  <a:ext cx="438120" cy="304200"/>
                  <a:chOff x="2061720" y="1297080"/>
                  <a:chExt cx="438120" cy="304200"/>
                </a:xfrm>
              </p:grpSpPr>
              <p:sp>
                <p:nvSpPr>
                  <p:cNvPr id="1816" name=""/>
                  <p:cNvSpPr/>
                  <p:nvPr/>
                </p:nvSpPr>
                <p:spPr>
                  <a:xfrm>
                    <a:off x="2102760" y="129708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2061720" y="129708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18" name=""/>
              <p:cNvGrpSpPr/>
              <p:nvPr/>
            </p:nvGrpSpPr>
            <p:grpSpPr>
              <a:xfrm>
                <a:off x="2499840" y="1297080"/>
                <a:ext cx="438480" cy="304200"/>
                <a:chOff x="2499840" y="1297080"/>
                <a:chExt cx="438480" cy="30420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2499840" y="129708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0" name=""/>
                <p:cNvGrpSpPr/>
                <p:nvPr/>
              </p:nvGrpSpPr>
              <p:grpSpPr>
                <a:xfrm>
                  <a:off x="2499840" y="1297080"/>
                  <a:ext cx="438480" cy="304200"/>
                  <a:chOff x="2499840" y="1297080"/>
                  <a:chExt cx="438480" cy="304200"/>
                </a:xfrm>
              </p:grpSpPr>
              <p:sp>
                <p:nvSpPr>
                  <p:cNvPr id="1821" name=""/>
                  <p:cNvSpPr/>
                  <p:nvPr/>
                </p:nvSpPr>
                <p:spPr>
                  <a:xfrm>
                    <a:off x="2541240" y="129708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2499840" y="129708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3" name=""/>
              <p:cNvGrpSpPr/>
              <p:nvPr/>
            </p:nvGrpSpPr>
            <p:grpSpPr>
              <a:xfrm>
                <a:off x="2938320" y="1297080"/>
                <a:ext cx="438120" cy="304200"/>
                <a:chOff x="2938320" y="1297080"/>
                <a:chExt cx="438120" cy="30420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2938320" y="129708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5" name=""/>
                <p:cNvGrpSpPr/>
                <p:nvPr/>
              </p:nvGrpSpPr>
              <p:grpSpPr>
                <a:xfrm>
                  <a:off x="2938320" y="1297080"/>
                  <a:ext cx="438120" cy="304200"/>
                  <a:chOff x="2938320" y="1297080"/>
                  <a:chExt cx="438120" cy="30420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>
                    <a:off x="2979360" y="129708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2938320" y="129708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8" name=""/>
              <p:cNvGrpSpPr/>
              <p:nvPr/>
            </p:nvGrpSpPr>
            <p:grpSpPr>
              <a:xfrm>
                <a:off x="3376440" y="1297080"/>
                <a:ext cx="436680" cy="304200"/>
                <a:chOff x="3376440" y="1297080"/>
                <a:chExt cx="436680" cy="30420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376440" y="12970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0" name=""/>
                <p:cNvGrpSpPr/>
                <p:nvPr/>
              </p:nvGrpSpPr>
              <p:grpSpPr>
                <a:xfrm>
                  <a:off x="3376440" y="1297080"/>
                  <a:ext cx="436680" cy="304200"/>
                  <a:chOff x="3376440" y="1297080"/>
                  <a:chExt cx="436680" cy="304200"/>
                </a:xfrm>
              </p:grpSpPr>
              <p:sp>
                <p:nvSpPr>
                  <p:cNvPr id="1831" name=""/>
                  <p:cNvSpPr/>
                  <p:nvPr/>
                </p:nvSpPr>
                <p:spPr>
                  <a:xfrm>
                    <a:off x="3417480" y="12970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3376440" y="12970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3" name=""/>
              <p:cNvGrpSpPr/>
              <p:nvPr/>
            </p:nvGrpSpPr>
            <p:grpSpPr>
              <a:xfrm>
                <a:off x="3813120" y="1297080"/>
                <a:ext cx="436680" cy="304200"/>
                <a:chOff x="3813120" y="1297080"/>
                <a:chExt cx="436680" cy="304200"/>
              </a:xfrm>
            </p:grpSpPr>
            <p:sp>
              <p:nvSpPr>
                <p:cNvPr id="1834" name=""/>
                <p:cNvSpPr/>
                <p:nvPr/>
              </p:nvSpPr>
              <p:spPr>
                <a:xfrm>
                  <a:off x="3813120" y="12970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5" name=""/>
                <p:cNvGrpSpPr/>
                <p:nvPr/>
              </p:nvGrpSpPr>
              <p:grpSpPr>
                <a:xfrm>
                  <a:off x="3813120" y="1297080"/>
                  <a:ext cx="436680" cy="304200"/>
                  <a:chOff x="3813120" y="1297080"/>
                  <a:chExt cx="436680" cy="30420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3854160" y="12970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3813120" y="12970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8" name=""/>
              <p:cNvGrpSpPr/>
              <p:nvPr/>
            </p:nvGrpSpPr>
            <p:grpSpPr>
              <a:xfrm>
                <a:off x="4249800" y="1297080"/>
                <a:ext cx="436320" cy="304200"/>
                <a:chOff x="4249800" y="1297080"/>
                <a:chExt cx="436320" cy="304200"/>
              </a:xfrm>
            </p:grpSpPr>
            <p:sp>
              <p:nvSpPr>
                <p:cNvPr id="1839" name=""/>
                <p:cNvSpPr/>
                <p:nvPr/>
              </p:nvSpPr>
              <p:spPr>
                <a:xfrm>
                  <a:off x="4249800" y="129708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0" name=""/>
                <p:cNvGrpSpPr/>
                <p:nvPr/>
              </p:nvGrpSpPr>
              <p:grpSpPr>
                <a:xfrm>
                  <a:off x="4249800" y="1297080"/>
                  <a:ext cx="436320" cy="304200"/>
                  <a:chOff x="4249800" y="1297080"/>
                  <a:chExt cx="436320" cy="304200"/>
                </a:xfrm>
              </p:grpSpPr>
              <p:sp>
                <p:nvSpPr>
                  <p:cNvPr id="1841" name=""/>
                  <p:cNvSpPr/>
                  <p:nvPr/>
                </p:nvSpPr>
                <p:spPr>
                  <a:xfrm>
                    <a:off x="4290840" y="12970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4249800" y="129708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43" name=""/>
              <p:cNvGrpSpPr/>
              <p:nvPr/>
            </p:nvGrpSpPr>
            <p:grpSpPr>
              <a:xfrm>
                <a:off x="4686480" y="1297080"/>
                <a:ext cx="438480" cy="304200"/>
                <a:chOff x="4686480" y="1297080"/>
                <a:chExt cx="438480" cy="304200"/>
              </a:xfrm>
            </p:grpSpPr>
            <p:sp>
              <p:nvSpPr>
                <p:cNvPr id="1844" name=""/>
                <p:cNvSpPr/>
                <p:nvPr/>
              </p:nvSpPr>
              <p:spPr>
                <a:xfrm>
                  <a:off x="4686480" y="129708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5" name=""/>
                <p:cNvGrpSpPr/>
                <p:nvPr/>
              </p:nvGrpSpPr>
              <p:grpSpPr>
                <a:xfrm>
                  <a:off x="4686480" y="1297080"/>
                  <a:ext cx="438480" cy="304200"/>
                  <a:chOff x="4686480" y="1297080"/>
                  <a:chExt cx="438480" cy="304200"/>
                </a:xfrm>
              </p:grpSpPr>
              <p:sp>
                <p:nvSpPr>
                  <p:cNvPr id="1846" name=""/>
                  <p:cNvSpPr/>
                  <p:nvPr/>
                </p:nvSpPr>
                <p:spPr>
                  <a:xfrm>
                    <a:off x="4727880" y="129708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4686480" y="129708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48" name=""/>
              <p:cNvGrpSpPr/>
              <p:nvPr/>
            </p:nvGrpSpPr>
            <p:grpSpPr>
              <a:xfrm>
                <a:off x="5124960" y="1297080"/>
                <a:ext cx="436680" cy="304200"/>
                <a:chOff x="5124960" y="1297080"/>
                <a:chExt cx="436680" cy="30420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5124960" y="12970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0" name=""/>
                <p:cNvGrpSpPr/>
                <p:nvPr/>
              </p:nvGrpSpPr>
              <p:grpSpPr>
                <a:xfrm>
                  <a:off x="5124960" y="1297080"/>
                  <a:ext cx="436680" cy="304200"/>
                  <a:chOff x="5124960" y="1297080"/>
                  <a:chExt cx="436680" cy="304200"/>
                </a:xfrm>
              </p:grpSpPr>
              <p:sp>
                <p:nvSpPr>
                  <p:cNvPr id="1851" name=""/>
                  <p:cNvSpPr/>
                  <p:nvPr/>
                </p:nvSpPr>
                <p:spPr>
                  <a:xfrm>
                    <a:off x="5166000" y="12970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5124960" y="12970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3" name=""/>
              <p:cNvGrpSpPr/>
              <p:nvPr/>
            </p:nvGrpSpPr>
            <p:grpSpPr>
              <a:xfrm>
                <a:off x="5561640" y="1297080"/>
                <a:ext cx="436320" cy="304200"/>
                <a:chOff x="5561640" y="1297080"/>
                <a:chExt cx="436320" cy="304200"/>
              </a:xfrm>
            </p:grpSpPr>
            <p:sp>
              <p:nvSpPr>
                <p:cNvPr id="1854" name=""/>
                <p:cNvSpPr/>
                <p:nvPr/>
              </p:nvSpPr>
              <p:spPr>
                <a:xfrm>
                  <a:off x="5561640" y="129708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5" name=""/>
                <p:cNvGrpSpPr/>
                <p:nvPr/>
              </p:nvGrpSpPr>
              <p:grpSpPr>
                <a:xfrm>
                  <a:off x="5561640" y="1297080"/>
                  <a:ext cx="436320" cy="304200"/>
                  <a:chOff x="5561640" y="1297080"/>
                  <a:chExt cx="436320" cy="304200"/>
                </a:xfrm>
              </p:grpSpPr>
              <p:sp>
                <p:nvSpPr>
                  <p:cNvPr id="1856" name=""/>
                  <p:cNvSpPr/>
                  <p:nvPr/>
                </p:nvSpPr>
                <p:spPr>
                  <a:xfrm>
                    <a:off x="5602680" y="12970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5561640" y="129708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8" name=""/>
              <p:cNvGrpSpPr/>
              <p:nvPr/>
            </p:nvGrpSpPr>
            <p:grpSpPr>
              <a:xfrm>
                <a:off x="5998320" y="1297080"/>
                <a:ext cx="436680" cy="304200"/>
                <a:chOff x="5998320" y="1297080"/>
                <a:chExt cx="436680" cy="304200"/>
              </a:xfrm>
            </p:grpSpPr>
            <p:sp>
              <p:nvSpPr>
                <p:cNvPr id="1859" name=""/>
                <p:cNvSpPr/>
                <p:nvPr/>
              </p:nvSpPr>
              <p:spPr>
                <a:xfrm>
                  <a:off x="5998320" y="12970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0" name=""/>
                <p:cNvGrpSpPr/>
                <p:nvPr/>
              </p:nvGrpSpPr>
              <p:grpSpPr>
                <a:xfrm>
                  <a:off x="5998320" y="1297080"/>
                  <a:ext cx="436680" cy="304200"/>
                  <a:chOff x="5998320" y="1297080"/>
                  <a:chExt cx="436680" cy="304200"/>
                </a:xfrm>
              </p:grpSpPr>
              <p:sp>
                <p:nvSpPr>
                  <p:cNvPr id="1861" name=""/>
                  <p:cNvSpPr/>
                  <p:nvPr/>
                </p:nvSpPr>
                <p:spPr>
                  <a:xfrm>
                    <a:off x="6039720" y="12970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5998320" y="12970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3" name=""/>
              <p:cNvGrpSpPr/>
              <p:nvPr/>
            </p:nvGrpSpPr>
            <p:grpSpPr>
              <a:xfrm>
                <a:off x="6435000" y="1297080"/>
                <a:ext cx="436680" cy="304200"/>
                <a:chOff x="6435000" y="1297080"/>
                <a:chExt cx="436680" cy="304200"/>
              </a:xfrm>
            </p:grpSpPr>
            <p:sp>
              <p:nvSpPr>
                <p:cNvPr id="1864" name=""/>
                <p:cNvSpPr/>
                <p:nvPr/>
              </p:nvSpPr>
              <p:spPr>
                <a:xfrm>
                  <a:off x="6435000" y="12970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5" name=""/>
                <p:cNvGrpSpPr/>
                <p:nvPr/>
              </p:nvGrpSpPr>
              <p:grpSpPr>
                <a:xfrm>
                  <a:off x="6435000" y="1297080"/>
                  <a:ext cx="436680" cy="304200"/>
                  <a:chOff x="6435000" y="1297080"/>
                  <a:chExt cx="436680" cy="304200"/>
                </a:xfrm>
              </p:grpSpPr>
              <p:sp>
                <p:nvSpPr>
                  <p:cNvPr id="1866" name=""/>
                  <p:cNvSpPr/>
                  <p:nvPr/>
                </p:nvSpPr>
                <p:spPr>
                  <a:xfrm>
                    <a:off x="6476400" y="12970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6435000" y="12970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8" name=""/>
              <p:cNvGrpSpPr/>
              <p:nvPr/>
            </p:nvGrpSpPr>
            <p:grpSpPr>
              <a:xfrm>
                <a:off x="6871680" y="1297080"/>
                <a:ext cx="438120" cy="304200"/>
                <a:chOff x="6871680" y="1297080"/>
                <a:chExt cx="438120" cy="30420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6871680" y="129708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0" name=""/>
                <p:cNvGrpSpPr/>
                <p:nvPr/>
              </p:nvGrpSpPr>
              <p:grpSpPr>
                <a:xfrm>
                  <a:off x="6871680" y="1297080"/>
                  <a:ext cx="438120" cy="304200"/>
                  <a:chOff x="6871680" y="1297080"/>
                  <a:chExt cx="438120" cy="304200"/>
                </a:xfrm>
              </p:grpSpPr>
              <p:sp>
                <p:nvSpPr>
                  <p:cNvPr id="1871" name=""/>
                  <p:cNvSpPr/>
                  <p:nvPr/>
                </p:nvSpPr>
                <p:spPr>
                  <a:xfrm>
                    <a:off x="6913080" y="129708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6871680" y="129708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73" name=""/>
              <p:cNvGrpSpPr/>
              <p:nvPr/>
            </p:nvGrpSpPr>
            <p:grpSpPr>
              <a:xfrm>
                <a:off x="2061720" y="1601640"/>
                <a:ext cx="438120" cy="304200"/>
                <a:chOff x="2061720" y="1601640"/>
                <a:chExt cx="438120" cy="304200"/>
              </a:xfrm>
            </p:grpSpPr>
            <p:sp>
              <p:nvSpPr>
                <p:cNvPr id="1874" name=""/>
                <p:cNvSpPr/>
                <p:nvPr/>
              </p:nvSpPr>
              <p:spPr>
                <a:xfrm>
                  <a:off x="2061720" y="160164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5" name=""/>
                <p:cNvGrpSpPr/>
                <p:nvPr/>
              </p:nvGrpSpPr>
              <p:grpSpPr>
                <a:xfrm>
                  <a:off x="2061720" y="1601640"/>
                  <a:ext cx="438120" cy="304200"/>
                  <a:chOff x="2061720" y="1601640"/>
                  <a:chExt cx="438120" cy="304200"/>
                </a:xfrm>
              </p:grpSpPr>
              <p:sp>
                <p:nvSpPr>
                  <p:cNvPr id="1876" name=""/>
                  <p:cNvSpPr/>
                  <p:nvPr/>
                </p:nvSpPr>
                <p:spPr>
                  <a:xfrm>
                    <a:off x="2102760" y="160164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2061720" y="160164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78" name=""/>
              <p:cNvGrpSpPr/>
              <p:nvPr/>
            </p:nvGrpSpPr>
            <p:grpSpPr>
              <a:xfrm>
                <a:off x="2499840" y="1601640"/>
                <a:ext cx="438480" cy="304200"/>
                <a:chOff x="2499840" y="1601640"/>
                <a:chExt cx="438480" cy="304200"/>
              </a:xfrm>
            </p:grpSpPr>
            <p:sp>
              <p:nvSpPr>
                <p:cNvPr id="1879" name=""/>
                <p:cNvSpPr/>
                <p:nvPr/>
              </p:nvSpPr>
              <p:spPr>
                <a:xfrm>
                  <a:off x="2499840" y="160164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0" name=""/>
                <p:cNvGrpSpPr/>
                <p:nvPr/>
              </p:nvGrpSpPr>
              <p:grpSpPr>
                <a:xfrm>
                  <a:off x="2499840" y="1601640"/>
                  <a:ext cx="438480" cy="304200"/>
                  <a:chOff x="2499840" y="1601640"/>
                  <a:chExt cx="438480" cy="304200"/>
                </a:xfrm>
              </p:grpSpPr>
              <p:sp>
                <p:nvSpPr>
                  <p:cNvPr id="1881" name=""/>
                  <p:cNvSpPr/>
                  <p:nvPr/>
                </p:nvSpPr>
                <p:spPr>
                  <a:xfrm>
                    <a:off x="2541240" y="16016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2499840" y="160164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3" name=""/>
              <p:cNvGrpSpPr/>
              <p:nvPr/>
            </p:nvGrpSpPr>
            <p:grpSpPr>
              <a:xfrm>
                <a:off x="2938320" y="1601640"/>
                <a:ext cx="438120" cy="304200"/>
                <a:chOff x="2938320" y="1601640"/>
                <a:chExt cx="438120" cy="30420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2938320" y="160164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5" name=""/>
                <p:cNvGrpSpPr/>
                <p:nvPr/>
              </p:nvGrpSpPr>
              <p:grpSpPr>
                <a:xfrm>
                  <a:off x="2938320" y="1601640"/>
                  <a:ext cx="438120" cy="304200"/>
                  <a:chOff x="2938320" y="1601640"/>
                  <a:chExt cx="438120" cy="304200"/>
                </a:xfrm>
              </p:grpSpPr>
              <p:sp>
                <p:nvSpPr>
                  <p:cNvPr id="1886" name=""/>
                  <p:cNvSpPr/>
                  <p:nvPr/>
                </p:nvSpPr>
                <p:spPr>
                  <a:xfrm>
                    <a:off x="2979360" y="16016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2938320" y="160164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8" name=""/>
              <p:cNvGrpSpPr/>
              <p:nvPr/>
            </p:nvGrpSpPr>
            <p:grpSpPr>
              <a:xfrm>
                <a:off x="3376440" y="1601640"/>
                <a:ext cx="436680" cy="304200"/>
                <a:chOff x="3376440" y="1601640"/>
                <a:chExt cx="436680" cy="304200"/>
              </a:xfrm>
            </p:grpSpPr>
            <p:sp>
              <p:nvSpPr>
                <p:cNvPr id="1889" name=""/>
                <p:cNvSpPr/>
                <p:nvPr/>
              </p:nvSpPr>
              <p:spPr>
                <a:xfrm>
                  <a:off x="3376440" y="16016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0" name=""/>
                <p:cNvGrpSpPr/>
                <p:nvPr/>
              </p:nvGrpSpPr>
              <p:grpSpPr>
                <a:xfrm>
                  <a:off x="3376440" y="1601640"/>
                  <a:ext cx="436680" cy="304200"/>
                  <a:chOff x="3376440" y="1601640"/>
                  <a:chExt cx="436680" cy="304200"/>
                </a:xfrm>
              </p:grpSpPr>
              <p:sp>
                <p:nvSpPr>
                  <p:cNvPr id="1891" name=""/>
                  <p:cNvSpPr/>
                  <p:nvPr/>
                </p:nvSpPr>
                <p:spPr>
                  <a:xfrm>
                    <a:off x="3417480" y="16016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3376440" y="16016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3" name=""/>
              <p:cNvGrpSpPr/>
              <p:nvPr/>
            </p:nvGrpSpPr>
            <p:grpSpPr>
              <a:xfrm>
                <a:off x="3813120" y="1601640"/>
                <a:ext cx="436680" cy="304200"/>
                <a:chOff x="3813120" y="1601640"/>
                <a:chExt cx="436680" cy="30420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813120" y="16016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5" name=""/>
                <p:cNvGrpSpPr/>
                <p:nvPr/>
              </p:nvGrpSpPr>
              <p:grpSpPr>
                <a:xfrm>
                  <a:off x="3813120" y="1601640"/>
                  <a:ext cx="436680" cy="304200"/>
                  <a:chOff x="3813120" y="1601640"/>
                  <a:chExt cx="436680" cy="304200"/>
                </a:xfrm>
              </p:grpSpPr>
              <p:sp>
                <p:nvSpPr>
                  <p:cNvPr id="1896" name=""/>
                  <p:cNvSpPr/>
                  <p:nvPr/>
                </p:nvSpPr>
                <p:spPr>
                  <a:xfrm>
                    <a:off x="3854160" y="16016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3813120" y="16016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8" name=""/>
              <p:cNvGrpSpPr/>
              <p:nvPr/>
            </p:nvGrpSpPr>
            <p:grpSpPr>
              <a:xfrm>
                <a:off x="4249800" y="1601640"/>
                <a:ext cx="436320" cy="304200"/>
                <a:chOff x="4249800" y="1601640"/>
                <a:chExt cx="436320" cy="30420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4249800" y="160164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0" name=""/>
                <p:cNvGrpSpPr/>
                <p:nvPr/>
              </p:nvGrpSpPr>
              <p:grpSpPr>
                <a:xfrm>
                  <a:off x="4249800" y="1601640"/>
                  <a:ext cx="436320" cy="304200"/>
                  <a:chOff x="4249800" y="1601640"/>
                  <a:chExt cx="436320" cy="304200"/>
                </a:xfrm>
              </p:grpSpPr>
              <p:sp>
                <p:nvSpPr>
                  <p:cNvPr id="1901" name=""/>
                  <p:cNvSpPr/>
                  <p:nvPr/>
                </p:nvSpPr>
                <p:spPr>
                  <a:xfrm>
                    <a:off x="4290840" y="16016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4249800" y="160164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03" name=""/>
              <p:cNvGrpSpPr/>
              <p:nvPr/>
            </p:nvGrpSpPr>
            <p:grpSpPr>
              <a:xfrm>
                <a:off x="4686480" y="1601640"/>
                <a:ext cx="438480" cy="304200"/>
                <a:chOff x="4686480" y="1601640"/>
                <a:chExt cx="438480" cy="30420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4686480" y="160164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5" name=""/>
                <p:cNvGrpSpPr/>
                <p:nvPr/>
              </p:nvGrpSpPr>
              <p:grpSpPr>
                <a:xfrm>
                  <a:off x="4686480" y="1601640"/>
                  <a:ext cx="438480" cy="304200"/>
                  <a:chOff x="4686480" y="1601640"/>
                  <a:chExt cx="438480" cy="304200"/>
                </a:xfrm>
              </p:grpSpPr>
              <p:sp>
                <p:nvSpPr>
                  <p:cNvPr id="1906" name=""/>
                  <p:cNvSpPr/>
                  <p:nvPr/>
                </p:nvSpPr>
                <p:spPr>
                  <a:xfrm>
                    <a:off x="4727880" y="16016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4686480" y="160164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08" name=""/>
              <p:cNvGrpSpPr/>
              <p:nvPr/>
            </p:nvGrpSpPr>
            <p:grpSpPr>
              <a:xfrm>
                <a:off x="5124960" y="1601640"/>
                <a:ext cx="436680" cy="304200"/>
                <a:chOff x="5124960" y="1601640"/>
                <a:chExt cx="436680" cy="30420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5124960" y="16016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0" name=""/>
                <p:cNvGrpSpPr/>
                <p:nvPr/>
              </p:nvGrpSpPr>
              <p:grpSpPr>
                <a:xfrm>
                  <a:off x="5124960" y="1601640"/>
                  <a:ext cx="436680" cy="304200"/>
                  <a:chOff x="5124960" y="1601640"/>
                  <a:chExt cx="436680" cy="304200"/>
                </a:xfrm>
              </p:grpSpPr>
              <p:sp>
                <p:nvSpPr>
                  <p:cNvPr id="1911" name=""/>
                  <p:cNvSpPr/>
                  <p:nvPr/>
                </p:nvSpPr>
                <p:spPr>
                  <a:xfrm>
                    <a:off x="5166000" y="16016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5124960" y="16016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3" name=""/>
              <p:cNvGrpSpPr/>
              <p:nvPr/>
            </p:nvGrpSpPr>
            <p:grpSpPr>
              <a:xfrm>
                <a:off x="5561640" y="1601640"/>
                <a:ext cx="436320" cy="304200"/>
                <a:chOff x="5561640" y="1601640"/>
                <a:chExt cx="436320" cy="304200"/>
              </a:xfrm>
            </p:grpSpPr>
            <p:sp>
              <p:nvSpPr>
                <p:cNvPr id="1914" name=""/>
                <p:cNvSpPr/>
                <p:nvPr/>
              </p:nvSpPr>
              <p:spPr>
                <a:xfrm>
                  <a:off x="5561640" y="160164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5" name=""/>
                <p:cNvGrpSpPr/>
                <p:nvPr/>
              </p:nvGrpSpPr>
              <p:grpSpPr>
                <a:xfrm>
                  <a:off x="5561640" y="1601640"/>
                  <a:ext cx="436320" cy="304200"/>
                  <a:chOff x="5561640" y="1601640"/>
                  <a:chExt cx="436320" cy="304200"/>
                </a:xfrm>
              </p:grpSpPr>
              <p:sp>
                <p:nvSpPr>
                  <p:cNvPr id="1916" name=""/>
                  <p:cNvSpPr/>
                  <p:nvPr/>
                </p:nvSpPr>
                <p:spPr>
                  <a:xfrm>
                    <a:off x="5602680" y="16016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5561640" y="160164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8" name=""/>
              <p:cNvGrpSpPr/>
              <p:nvPr/>
            </p:nvGrpSpPr>
            <p:grpSpPr>
              <a:xfrm>
                <a:off x="5998320" y="1601640"/>
                <a:ext cx="436680" cy="304200"/>
                <a:chOff x="5998320" y="1601640"/>
                <a:chExt cx="436680" cy="304200"/>
              </a:xfrm>
            </p:grpSpPr>
            <p:sp>
              <p:nvSpPr>
                <p:cNvPr id="1919" name=""/>
                <p:cNvSpPr/>
                <p:nvPr/>
              </p:nvSpPr>
              <p:spPr>
                <a:xfrm>
                  <a:off x="5998320" y="16016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0" name=""/>
                <p:cNvGrpSpPr/>
                <p:nvPr/>
              </p:nvGrpSpPr>
              <p:grpSpPr>
                <a:xfrm>
                  <a:off x="5998320" y="1601640"/>
                  <a:ext cx="436680" cy="304200"/>
                  <a:chOff x="5998320" y="1601640"/>
                  <a:chExt cx="436680" cy="304200"/>
                </a:xfrm>
              </p:grpSpPr>
              <p:sp>
                <p:nvSpPr>
                  <p:cNvPr id="1921" name=""/>
                  <p:cNvSpPr/>
                  <p:nvPr/>
                </p:nvSpPr>
                <p:spPr>
                  <a:xfrm>
                    <a:off x="6039720" y="16016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5998320" y="16016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3" name=""/>
              <p:cNvGrpSpPr/>
              <p:nvPr/>
            </p:nvGrpSpPr>
            <p:grpSpPr>
              <a:xfrm>
                <a:off x="6435000" y="1601640"/>
                <a:ext cx="436680" cy="304200"/>
                <a:chOff x="6435000" y="1601640"/>
                <a:chExt cx="436680" cy="304200"/>
              </a:xfrm>
            </p:grpSpPr>
            <p:sp>
              <p:nvSpPr>
                <p:cNvPr id="1924" name=""/>
                <p:cNvSpPr/>
                <p:nvPr/>
              </p:nvSpPr>
              <p:spPr>
                <a:xfrm>
                  <a:off x="6435000" y="16016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5" name=""/>
                <p:cNvGrpSpPr/>
                <p:nvPr/>
              </p:nvGrpSpPr>
              <p:grpSpPr>
                <a:xfrm>
                  <a:off x="6435000" y="1601640"/>
                  <a:ext cx="436680" cy="304200"/>
                  <a:chOff x="6435000" y="1601640"/>
                  <a:chExt cx="436680" cy="304200"/>
                </a:xfrm>
              </p:grpSpPr>
              <p:sp>
                <p:nvSpPr>
                  <p:cNvPr id="1926" name=""/>
                  <p:cNvSpPr/>
                  <p:nvPr/>
                </p:nvSpPr>
                <p:spPr>
                  <a:xfrm>
                    <a:off x="6476400" y="16016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6435000" y="16016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8" name=""/>
              <p:cNvGrpSpPr/>
              <p:nvPr/>
            </p:nvGrpSpPr>
            <p:grpSpPr>
              <a:xfrm>
                <a:off x="6871680" y="1601640"/>
                <a:ext cx="438120" cy="304200"/>
                <a:chOff x="6871680" y="1601640"/>
                <a:chExt cx="438120" cy="30420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6871680" y="160164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0" name=""/>
                <p:cNvGrpSpPr/>
                <p:nvPr/>
              </p:nvGrpSpPr>
              <p:grpSpPr>
                <a:xfrm>
                  <a:off x="6871680" y="1601640"/>
                  <a:ext cx="438120" cy="304200"/>
                  <a:chOff x="6871680" y="1601640"/>
                  <a:chExt cx="438120" cy="304200"/>
                </a:xfrm>
              </p:grpSpPr>
              <p:sp>
                <p:nvSpPr>
                  <p:cNvPr id="1931" name=""/>
                  <p:cNvSpPr/>
                  <p:nvPr/>
                </p:nvSpPr>
                <p:spPr>
                  <a:xfrm>
                    <a:off x="6913080" y="16016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6871680" y="160164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3" name=""/>
              <p:cNvGrpSpPr/>
              <p:nvPr/>
            </p:nvGrpSpPr>
            <p:grpSpPr>
              <a:xfrm>
                <a:off x="2061720" y="1906200"/>
                <a:ext cx="438120" cy="304200"/>
                <a:chOff x="2061720" y="1906200"/>
                <a:chExt cx="438120" cy="30420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061720" y="190620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5" name=""/>
                <p:cNvGrpSpPr/>
                <p:nvPr/>
              </p:nvGrpSpPr>
              <p:grpSpPr>
                <a:xfrm>
                  <a:off x="2061720" y="1906200"/>
                  <a:ext cx="438120" cy="304200"/>
                  <a:chOff x="2061720" y="1906200"/>
                  <a:chExt cx="438120" cy="304200"/>
                </a:xfrm>
              </p:grpSpPr>
              <p:sp>
                <p:nvSpPr>
                  <p:cNvPr id="1936" name=""/>
                  <p:cNvSpPr/>
                  <p:nvPr/>
                </p:nvSpPr>
                <p:spPr>
                  <a:xfrm>
                    <a:off x="2102760" y="190620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2061720" y="190620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8" name=""/>
              <p:cNvGrpSpPr/>
              <p:nvPr/>
            </p:nvGrpSpPr>
            <p:grpSpPr>
              <a:xfrm>
                <a:off x="2499840" y="1906200"/>
                <a:ext cx="438480" cy="304200"/>
                <a:chOff x="2499840" y="1906200"/>
                <a:chExt cx="438480" cy="304200"/>
              </a:xfrm>
            </p:grpSpPr>
            <p:sp>
              <p:nvSpPr>
                <p:cNvPr id="1939" name=""/>
                <p:cNvSpPr/>
                <p:nvPr/>
              </p:nvSpPr>
              <p:spPr>
                <a:xfrm>
                  <a:off x="2499840" y="190620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0" name=""/>
                <p:cNvGrpSpPr/>
                <p:nvPr/>
              </p:nvGrpSpPr>
              <p:grpSpPr>
                <a:xfrm>
                  <a:off x="2499840" y="1906200"/>
                  <a:ext cx="438480" cy="304200"/>
                  <a:chOff x="2499840" y="1906200"/>
                  <a:chExt cx="438480" cy="304200"/>
                </a:xfrm>
              </p:grpSpPr>
              <p:sp>
                <p:nvSpPr>
                  <p:cNvPr id="1941" name=""/>
                  <p:cNvSpPr/>
                  <p:nvPr/>
                </p:nvSpPr>
                <p:spPr>
                  <a:xfrm>
                    <a:off x="2541240" y="19062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2499840" y="190620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3" name=""/>
              <p:cNvGrpSpPr/>
              <p:nvPr/>
            </p:nvGrpSpPr>
            <p:grpSpPr>
              <a:xfrm>
                <a:off x="2938320" y="1906200"/>
                <a:ext cx="438120" cy="304200"/>
                <a:chOff x="2938320" y="1906200"/>
                <a:chExt cx="438120" cy="30420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2938320" y="190620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5" name=""/>
                <p:cNvGrpSpPr/>
                <p:nvPr/>
              </p:nvGrpSpPr>
              <p:grpSpPr>
                <a:xfrm>
                  <a:off x="2938320" y="1906200"/>
                  <a:ext cx="438120" cy="304200"/>
                  <a:chOff x="2938320" y="1906200"/>
                  <a:chExt cx="438120" cy="304200"/>
                </a:xfrm>
              </p:grpSpPr>
              <p:sp>
                <p:nvSpPr>
                  <p:cNvPr id="1946" name=""/>
                  <p:cNvSpPr/>
                  <p:nvPr/>
                </p:nvSpPr>
                <p:spPr>
                  <a:xfrm>
                    <a:off x="2979360" y="19062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2938320" y="190620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8" name=""/>
              <p:cNvGrpSpPr/>
              <p:nvPr/>
            </p:nvGrpSpPr>
            <p:grpSpPr>
              <a:xfrm>
                <a:off x="3376440" y="1906200"/>
                <a:ext cx="436680" cy="304200"/>
                <a:chOff x="3376440" y="1906200"/>
                <a:chExt cx="436680" cy="304200"/>
              </a:xfrm>
            </p:grpSpPr>
            <p:sp>
              <p:nvSpPr>
                <p:cNvPr id="1949" name=""/>
                <p:cNvSpPr/>
                <p:nvPr/>
              </p:nvSpPr>
              <p:spPr>
                <a:xfrm>
                  <a:off x="3376440" y="19062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0" name=""/>
                <p:cNvGrpSpPr/>
                <p:nvPr/>
              </p:nvGrpSpPr>
              <p:grpSpPr>
                <a:xfrm>
                  <a:off x="3376440" y="1906200"/>
                  <a:ext cx="436680" cy="304200"/>
                  <a:chOff x="3376440" y="1906200"/>
                  <a:chExt cx="436680" cy="30420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>
                    <a:off x="3417480" y="19062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3376440" y="19062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53" name=""/>
              <p:cNvGrpSpPr/>
              <p:nvPr/>
            </p:nvGrpSpPr>
            <p:grpSpPr>
              <a:xfrm>
                <a:off x="3813120" y="1906200"/>
                <a:ext cx="436680" cy="304200"/>
                <a:chOff x="3813120" y="1906200"/>
                <a:chExt cx="436680" cy="30420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3813120" y="19062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3813120" y="1906200"/>
                  <a:ext cx="436680" cy="304200"/>
                  <a:chOff x="3813120" y="1906200"/>
                  <a:chExt cx="436680" cy="30420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3854160" y="19062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813120" y="19062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58" name=""/>
              <p:cNvGrpSpPr/>
              <p:nvPr/>
            </p:nvGrpSpPr>
            <p:grpSpPr>
              <a:xfrm>
                <a:off x="4249800" y="1906200"/>
                <a:ext cx="436320" cy="304200"/>
                <a:chOff x="4249800" y="1906200"/>
                <a:chExt cx="436320" cy="30420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4249800" y="190620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0" name=""/>
                <p:cNvGrpSpPr/>
                <p:nvPr/>
              </p:nvGrpSpPr>
              <p:grpSpPr>
                <a:xfrm>
                  <a:off x="4249800" y="1906200"/>
                  <a:ext cx="436320" cy="304200"/>
                  <a:chOff x="4249800" y="1906200"/>
                  <a:chExt cx="436320" cy="304200"/>
                </a:xfrm>
              </p:grpSpPr>
              <p:sp>
                <p:nvSpPr>
                  <p:cNvPr id="1961" name=""/>
                  <p:cNvSpPr/>
                  <p:nvPr/>
                </p:nvSpPr>
                <p:spPr>
                  <a:xfrm>
                    <a:off x="4290840" y="19062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4249800" y="190620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3" name=""/>
              <p:cNvGrpSpPr/>
              <p:nvPr/>
            </p:nvGrpSpPr>
            <p:grpSpPr>
              <a:xfrm>
                <a:off x="4686480" y="1906200"/>
                <a:ext cx="438480" cy="304200"/>
                <a:chOff x="4686480" y="1906200"/>
                <a:chExt cx="438480" cy="30420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4686480" y="190620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5" name=""/>
                <p:cNvGrpSpPr/>
                <p:nvPr/>
              </p:nvGrpSpPr>
              <p:grpSpPr>
                <a:xfrm>
                  <a:off x="4686480" y="1906200"/>
                  <a:ext cx="438480" cy="304200"/>
                  <a:chOff x="4686480" y="1906200"/>
                  <a:chExt cx="438480" cy="304200"/>
                </a:xfrm>
              </p:grpSpPr>
              <p:sp>
                <p:nvSpPr>
                  <p:cNvPr id="1966" name=""/>
                  <p:cNvSpPr/>
                  <p:nvPr/>
                </p:nvSpPr>
                <p:spPr>
                  <a:xfrm>
                    <a:off x="4727880" y="19062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4686480" y="190620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8" name=""/>
              <p:cNvGrpSpPr/>
              <p:nvPr/>
            </p:nvGrpSpPr>
            <p:grpSpPr>
              <a:xfrm>
                <a:off x="5124960" y="1906200"/>
                <a:ext cx="436680" cy="304200"/>
                <a:chOff x="5124960" y="1906200"/>
                <a:chExt cx="436680" cy="304200"/>
              </a:xfrm>
            </p:grpSpPr>
            <p:sp>
              <p:nvSpPr>
                <p:cNvPr id="1969" name=""/>
                <p:cNvSpPr/>
                <p:nvPr/>
              </p:nvSpPr>
              <p:spPr>
                <a:xfrm>
                  <a:off x="5124960" y="19062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0" name=""/>
                <p:cNvGrpSpPr/>
                <p:nvPr/>
              </p:nvGrpSpPr>
              <p:grpSpPr>
                <a:xfrm>
                  <a:off x="5124960" y="1906200"/>
                  <a:ext cx="436680" cy="304200"/>
                  <a:chOff x="5124960" y="1906200"/>
                  <a:chExt cx="436680" cy="304200"/>
                </a:xfrm>
              </p:grpSpPr>
              <p:sp>
                <p:nvSpPr>
                  <p:cNvPr id="1971" name=""/>
                  <p:cNvSpPr/>
                  <p:nvPr/>
                </p:nvSpPr>
                <p:spPr>
                  <a:xfrm>
                    <a:off x="5166000" y="19062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5124960" y="19062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3" name=""/>
              <p:cNvGrpSpPr/>
              <p:nvPr/>
            </p:nvGrpSpPr>
            <p:grpSpPr>
              <a:xfrm>
                <a:off x="5561640" y="1906200"/>
                <a:ext cx="436320" cy="304200"/>
                <a:chOff x="5561640" y="1906200"/>
                <a:chExt cx="436320" cy="304200"/>
              </a:xfrm>
            </p:grpSpPr>
            <p:sp>
              <p:nvSpPr>
                <p:cNvPr id="1974" name=""/>
                <p:cNvSpPr/>
                <p:nvPr/>
              </p:nvSpPr>
              <p:spPr>
                <a:xfrm>
                  <a:off x="5561640" y="190620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5" name=""/>
                <p:cNvGrpSpPr/>
                <p:nvPr/>
              </p:nvGrpSpPr>
              <p:grpSpPr>
                <a:xfrm>
                  <a:off x="5561640" y="1906200"/>
                  <a:ext cx="436320" cy="304200"/>
                  <a:chOff x="5561640" y="1906200"/>
                  <a:chExt cx="436320" cy="304200"/>
                </a:xfrm>
              </p:grpSpPr>
              <p:sp>
                <p:nvSpPr>
                  <p:cNvPr id="1976" name=""/>
                  <p:cNvSpPr/>
                  <p:nvPr/>
                </p:nvSpPr>
                <p:spPr>
                  <a:xfrm>
                    <a:off x="5602680" y="19062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5561640" y="190620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8" name=""/>
              <p:cNvGrpSpPr/>
              <p:nvPr/>
            </p:nvGrpSpPr>
            <p:grpSpPr>
              <a:xfrm>
                <a:off x="5998320" y="1906200"/>
                <a:ext cx="436680" cy="304200"/>
                <a:chOff x="5998320" y="1906200"/>
                <a:chExt cx="436680" cy="30420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5998320" y="19062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0" name=""/>
                <p:cNvGrpSpPr/>
                <p:nvPr/>
              </p:nvGrpSpPr>
              <p:grpSpPr>
                <a:xfrm>
                  <a:off x="5998320" y="1906200"/>
                  <a:ext cx="436680" cy="304200"/>
                  <a:chOff x="5998320" y="1906200"/>
                  <a:chExt cx="436680" cy="304200"/>
                </a:xfrm>
              </p:grpSpPr>
              <p:sp>
                <p:nvSpPr>
                  <p:cNvPr id="1981" name=""/>
                  <p:cNvSpPr/>
                  <p:nvPr/>
                </p:nvSpPr>
                <p:spPr>
                  <a:xfrm>
                    <a:off x="6039720" y="19062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5998320" y="19062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3" name=""/>
              <p:cNvGrpSpPr/>
              <p:nvPr/>
            </p:nvGrpSpPr>
            <p:grpSpPr>
              <a:xfrm>
                <a:off x="6435000" y="1906200"/>
                <a:ext cx="436680" cy="304200"/>
                <a:chOff x="6435000" y="1906200"/>
                <a:chExt cx="436680" cy="30420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6435000" y="19062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5" name=""/>
                <p:cNvGrpSpPr/>
                <p:nvPr/>
              </p:nvGrpSpPr>
              <p:grpSpPr>
                <a:xfrm>
                  <a:off x="6435000" y="1906200"/>
                  <a:ext cx="436680" cy="304200"/>
                  <a:chOff x="6435000" y="1906200"/>
                  <a:chExt cx="436680" cy="304200"/>
                </a:xfrm>
              </p:grpSpPr>
              <p:sp>
                <p:nvSpPr>
                  <p:cNvPr id="1986" name=""/>
                  <p:cNvSpPr/>
                  <p:nvPr/>
                </p:nvSpPr>
                <p:spPr>
                  <a:xfrm>
                    <a:off x="6476400" y="19062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6435000" y="19062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8" name=""/>
              <p:cNvGrpSpPr/>
              <p:nvPr/>
            </p:nvGrpSpPr>
            <p:grpSpPr>
              <a:xfrm>
                <a:off x="6871680" y="1906200"/>
                <a:ext cx="438120" cy="304200"/>
                <a:chOff x="6871680" y="1906200"/>
                <a:chExt cx="438120" cy="304200"/>
              </a:xfrm>
            </p:grpSpPr>
            <p:sp>
              <p:nvSpPr>
                <p:cNvPr id="1989" name=""/>
                <p:cNvSpPr/>
                <p:nvPr/>
              </p:nvSpPr>
              <p:spPr>
                <a:xfrm>
                  <a:off x="6871680" y="190620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0" name=""/>
                <p:cNvGrpSpPr/>
                <p:nvPr/>
              </p:nvGrpSpPr>
              <p:grpSpPr>
                <a:xfrm>
                  <a:off x="6871680" y="1906200"/>
                  <a:ext cx="438120" cy="304200"/>
                  <a:chOff x="6871680" y="1906200"/>
                  <a:chExt cx="438120" cy="304200"/>
                </a:xfrm>
              </p:grpSpPr>
              <p:sp>
                <p:nvSpPr>
                  <p:cNvPr id="1991" name=""/>
                  <p:cNvSpPr/>
                  <p:nvPr/>
                </p:nvSpPr>
                <p:spPr>
                  <a:xfrm>
                    <a:off x="6913080" y="19062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6871680" y="190620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3" name=""/>
              <p:cNvGrpSpPr/>
              <p:nvPr/>
            </p:nvGrpSpPr>
            <p:grpSpPr>
              <a:xfrm>
                <a:off x="2061720" y="2210400"/>
                <a:ext cx="438120" cy="304200"/>
                <a:chOff x="2061720" y="2210400"/>
                <a:chExt cx="438120" cy="30420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2061720" y="221040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5" name=""/>
                <p:cNvGrpSpPr/>
                <p:nvPr/>
              </p:nvGrpSpPr>
              <p:grpSpPr>
                <a:xfrm>
                  <a:off x="2061720" y="2210400"/>
                  <a:ext cx="438120" cy="304200"/>
                  <a:chOff x="2061720" y="2210400"/>
                  <a:chExt cx="438120" cy="304200"/>
                </a:xfrm>
              </p:grpSpPr>
              <p:sp>
                <p:nvSpPr>
                  <p:cNvPr id="1996" name=""/>
                  <p:cNvSpPr/>
                  <p:nvPr/>
                </p:nvSpPr>
                <p:spPr>
                  <a:xfrm>
                    <a:off x="2102760" y="221040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2061720" y="221040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2499840" y="2210400"/>
                <a:ext cx="438480" cy="304200"/>
                <a:chOff x="2499840" y="2210400"/>
                <a:chExt cx="438480" cy="30420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2499840" y="221040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2499840" y="2210400"/>
                  <a:ext cx="438480" cy="304200"/>
                  <a:chOff x="2499840" y="2210400"/>
                  <a:chExt cx="438480" cy="304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2541240" y="22104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2499840" y="221040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3" name=""/>
              <p:cNvGrpSpPr/>
              <p:nvPr/>
            </p:nvGrpSpPr>
            <p:grpSpPr>
              <a:xfrm>
                <a:off x="2938320" y="2210400"/>
                <a:ext cx="438120" cy="304200"/>
                <a:chOff x="2938320" y="2210400"/>
                <a:chExt cx="438120" cy="30420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2938320" y="221040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5" name=""/>
                <p:cNvGrpSpPr/>
                <p:nvPr/>
              </p:nvGrpSpPr>
              <p:grpSpPr>
                <a:xfrm>
                  <a:off x="2938320" y="2210400"/>
                  <a:ext cx="438120" cy="304200"/>
                  <a:chOff x="2938320" y="2210400"/>
                  <a:chExt cx="438120" cy="304200"/>
                </a:xfrm>
              </p:grpSpPr>
              <p:sp>
                <p:nvSpPr>
                  <p:cNvPr id="2006" name=""/>
                  <p:cNvSpPr/>
                  <p:nvPr/>
                </p:nvSpPr>
                <p:spPr>
                  <a:xfrm>
                    <a:off x="2979360" y="22104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2938320" y="221040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8" name=""/>
              <p:cNvGrpSpPr/>
              <p:nvPr/>
            </p:nvGrpSpPr>
            <p:grpSpPr>
              <a:xfrm>
                <a:off x="3376440" y="2210400"/>
                <a:ext cx="436680" cy="304200"/>
                <a:chOff x="3376440" y="2210400"/>
                <a:chExt cx="436680" cy="304200"/>
              </a:xfrm>
            </p:grpSpPr>
            <p:sp>
              <p:nvSpPr>
                <p:cNvPr id="2009" name=""/>
                <p:cNvSpPr/>
                <p:nvPr/>
              </p:nvSpPr>
              <p:spPr>
                <a:xfrm>
                  <a:off x="3376440" y="22104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0" name=""/>
                <p:cNvGrpSpPr/>
                <p:nvPr/>
              </p:nvGrpSpPr>
              <p:grpSpPr>
                <a:xfrm>
                  <a:off x="3376440" y="2210400"/>
                  <a:ext cx="436680" cy="304200"/>
                  <a:chOff x="3376440" y="2210400"/>
                  <a:chExt cx="436680" cy="304200"/>
                </a:xfrm>
              </p:grpSpPr>
              <p:sp>
                <p:nvSpPr>
                  <p:cNvPr id="2011" name=""/>
                  <p:cNvSpPr/>
                  <p:nvPr/>
                </p:nvSpPr>
                <p:spPr>
                  <a:xfrm>
                    <a:off x="3417480" y="22104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3376440" y="22104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3" name=""/>
              <p:cNvGrpSpPr/>
              <p:nvPr/>
            </p:nvGrpSpPr>
            <p:grpSpPr>
              <a:xfrm>
                <a:off x="3813120" y="2210400"/>
                <a:ext cx="436680" cy="304200"/>
                <a:chOff x="3813120" y="2210400"/>
                <a:chExt cx="436680" cy="30420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3813120" y="22104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5" name=""/>
                <p:cNvGrpSpPr/>
                <p:nvPr/>
              </p:nvGrpSpPr>
              <p:grpSpPr>
                <a:xfrm>
                  <a:off x="3813120" y="2210400"/>
                  <a:ext cx="436680" cy="304200"/>
                  <a:chOff x="3813120" y="2210400"/>
                  <a:chExt cx="436680" cy="30420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>
                    <a:off x="3854160" y="22104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3813120" y="22104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8" name=""/>
              <p:cNvGrpSpPr/>
              <p:nvPr/>
            </p:nvGrpSpPr>
            <p:grpSpPr>
              <a:xfrm>
                <a:off x="4249800" y="2210400"/>
                <a:ext cx="436320" cy="304200"/>
                <a:chOff x="4249800" y="2210400"/>
                <a:chExt cx="436320" cy="304200"/>
              </a:xfrm>
            </p:grpSpPr>
            <p:sp>
              <p:nvSpPr>
                <p:cNvPr id="2019" name=""/>
                <p:cNvSpPr/>
                <p:nvPr/>
              </p:nvSpPr>
              <p:spPr>
                <a:xfrm>
                  <a:off x="4249800" y="221040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0" name=""/>
                <p:cNvGrpSpPr/>
                <p:nvPr/>
              </p:nvGrpSpPr>
              <p:grpSpPr>
                <a:xfrm>
                  <a:off x="4249800" y="2210400"/>
                  <a:ext cx="436320" cy="304200"/>
                  <a:chOff x="4249800" y="2210400"/>
                  <a:chExt cx="436320" cy="304200"/>
                </a:xfrm>
              </p:grpSpPr>
              <p:sp>
                <p:nvSpPr>
                  <p:cNvPr id="2021" name=""/>
                  <p:cNvSpPr/>
                  <p:nvPr/>
                </p:nvSpPr>
                <p:spPr>
                  <a:xfrm>
                    <a:off x="4290840" y="22104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4249800" y="221040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3" name=""/>
              <p:cNvGrpSpPr/>
              <p:nvPr/>
            </p:nvGrpSpPr>
            <p:grpSpPr>
              <a:xfrm>
                <a:off x="4686480" y="2210400"/>
                <a:ext cx="438480" cy="304200"/>
                <a:chOff x="4686480" y="2210400"/>
                <a:chExt cx="438480" cy="30420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4686480" y="221040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5" name=""/>
                <p:cNvGrpSpPr/>
                <p:nvPr/>
              </p:nvGrpSpPr>
              <p:grpSpPr>
                <a:xfrm>
                  <a:off x="4686480" y="2210400"/>
                  <a:ext cx="438480" cy="304200"/>
                  <a:chOff x="4686480" y="2210400"/>
                  <a:chExt cx="438480" cy="304200"/>
                </a:xfrm>
              </p:grpSpPr>
              <p:sp>
                <p:nvSpPr>
                  <p:cNvPr id="2026" name=""/>
                  <p:cNvSpPr/>
                  <p:nvPr/>
                </p:nvSpPr>
                <p:spPr>
                  <a:xfrm>
                    <a:off x="4727880" y="22104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4686480" y="221040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8" name=""/>
              <p:cNvGrpSpPr/>
              <p:nvPr/>
            </p:nvGrpSpPr>
            <p:grpSpPr>
              <a:xfrm>
                <a:off x="5124960" y="2210400"/>
                <a:ext cx="436680" cy="304200"/>
                <a:chOff x="5124960" y="2210400"/>
                <a:chExt cx="436680" cy="30420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5124960" y="22104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0" name=""/>
                <p:cNvGrpSpPr/>
                <p:nvPr/>
              </p:nvGrpSpPr>
              <p:grpSpPr>
                <a:xfrm>
                  <a:off x="5124960" y="2210400"/>
                  <a:ext cx="436680" cy="304200"/>
                  <a:chOff x="5124960" y="2210400"/>
                  <a:chExt cx="436680" cy="304200"/>
                </a:xfrm>
              </p:grpSpPr>
              <p:sp>
                <p:nvSpPr>
                  <p:cNvPr id="2031" name=""/>
                  <p:cNvSpPr/>
                  <p:nvPr/>
                </p:nvSpPr>
                <p:spPr>
                  <a:xfrm>
                    <a:off x="5166000" y="22104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5124960" y="22104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3" name=""/>
              <p:cNvGrpSpPr/>
              <p:nvPr/>
            </p:nvGrpSpPr>
            <p:grpSpPr>
              <a:xfrm>
                <a:off x="5561640" y="2210400"/>
                <a:ext cx="436320" cy="304200"/>
                <a:chOff x="5561640" y="2210400"/>
                <a:chExt cx="436320" cy="304200"/>
              </a:xfrm>
            </p:grpSpPr>
            <p:sp>
              <p:nvSpPr>
                <p:cNvPr id="2034" name=""/>
                <p:cNvSpPr/>
                <p:nvPr/>
              </p:nvSpPr>
              <p:spPr>
                <a:xfrm>
                  <a:off x="5561640" y="221040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5" name=""/>
                <p:cNvGrpSpPr/>
                <p:nvPr/>
              </p:nvGrpSpPr>
              <p:grpSpPr>
                <a:xfrm>
                  <a:off x="5561640" y="2210400"/>
                  <a:ext cx="436320" cy="304200"/>
                  <a:chOff x="5561640" y="2210400"/>
                  <a:chExt cx="436320" cy="304200"/>
                </a:xfrm>
              </p:grpSpPr>
              <p:sp>
                <p:nvSpPr>
                  <p:cNvPr id="2036" name=""/>
                  <p:cNvSpPr/>
                  <p:nvPr/>
                </p:nvSpPr>
                <p:spPr>
                  <a:xfrm>
                    <a:off x="5602680" y="22104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5561640" y="221040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8" name=""/>
              <p:cNvGrpSpPr/>
              <p:nvPr/>
            </p:nvGrpSpPr>
            <p:grpSpPr>
              <a:xfrm>
                <a:off x="5998320" y="2210400"/>
                <a:ext cx="436680" cy="304200"/>
                <a:chOff x="5998320" y="2210400"/>
                <a:chExt cx="436680" cy="30420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5998320" y="22104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0" name=""/>
                <p:cNvGrpSpPr/>
                <p:nvPr/>
              </p:nvGrpSpPr>
              <p:grpSpPr>
                <a:xfrm>
                  <a:off x="5998320" y="2210400"/>
                  <a:ext cx="436680" cy="304200"/>
                  <a:chOff x="5998320" y="2210400"/>
                  <a:chExt cx="436680" cy="30420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6039720" y="22104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5998320" y="22104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3" name=""/>
              <p:cNvGrpSpPr/>
              <p:nvPr/>
            </p:nvGrpSpPr>
            <p:grpSpPr>
              <a:xfrm>
                <a:off x="6435000" y="2210400"/>
                <a:ext cx="436680" cy="304200"/>
                <a:chOff x="6435000" y="2210400"/>
                <a:chExt cx="436680" cy="30420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6435000" y="22104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5" name=""/>
                <p:cNvGrpSpPr/>
                <p:nvPr/>
              </p:nvGrpSpPr>
              <p:grpSpPr>
                <a:xfrm>
                  <a:off x="6435000" y="2210400"/>
                  <a:ext cx="436680" cy="304200"/>
                  <a:chOff x="6435000" y="2210400"/>
                  <a:chExt cx="436680" cy="304200"/>
                </a:xfrm>
              </p:grpSpPr>
              <p:sp>
                <p:nvSpPr>
                  <p:cNvPr id="2046" name=""/>
                  <p:cNvSpPr/>
                  <p:nvPr/>
                </p:nvSpPr>
                <p:spPr>
                  <a:xfrm>
                    <a:off x="6476400" y="22104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6435000" y="22104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8" name=""/>
              <p:cNvGrpSpPr/>
              <p:nvPr/>
            </p:nvGrpSpPr>
            <p:grpSpPr>
              <a:xfrm>
                <a:off x="6871680" y="2210400"/>
                <a:ext cx="438120" cy="304200"/>
                <a:chOff x="6871680" y="2210400"/>
                <a:chExt cx="438120" cy="304200"/>
              </a:xfrm>
            </p:grpSpPr>
            <p:sp>
              <p:nvSpPr>
                <p:cNvPr id="2049" name=""/>
                <p:cNvSpPr/>
                <p:nvPr/>
              </p:nvSpPr>
              <p:spPr>
                <a:xfrm>
                  <a:off x="6871680" y="221040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0" name=""/>
                <p:cNvGrpSpPr/>
                <p:nvPr/>
              </p:nvGrpSpPr>
              <p:grpSpPr>
                <a:xfrm>
                  <a:off x="6871680" y="2210400"/>
                  <a:ext cx="438120" cy="304200"/>
                  <a:chOff x="6871680" y="2210400"/>
                  <a:chExt cx="438120" cy="304200"/>
                </a:xfrm>
              </p:grpSpPr>
              <p:sp>
                <p:nvSpPr>
                  <p:cNvPr id="2051" name=""/>
                  <p:cNvSpPr/>
                  <p:nvPr/>
                </p:nvSpPr>
                <p:spPr>
                  <a:xfrm>
                    <a:off x="6913080" y="22104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6871680" y="221040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"/>
              <p:cNvGrpSpPr/>
              <p:nvPr/>
            </p:nvGrpSpPr>
            <p:grpSpPr>
              <a:xfrm>
                <a:off x="2061720" y="2514960"/>
                <a:ext cx="438120" cy="304200"/>
                <a:chOff x="2061720" y="2514960"/>
                <a:chExt cx="438120" cy="304200"/>
              </a:xfrm>
            </p:grpSpPr>
            <p:sp>
              <p:nvSpPr>
                <p:cNvPr id="2054" name=""/>
                <p:cNvSpPr/>
                <p:nvPr/>
              </p:nvSpPr>
              <p:spPr>
                <a:xfrm>
                  <a:off x="2061720" y="251496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5" name=""/>
                <p:cNvGrpSpPr/>
                <p:nvPr/>
              </p:nvGrpSpPr>
              <p:grpSpPr>
                <a:xfrm>
                  <a:off x="2061720" y="2514960"/>
                  <a:ext cx="438120" cy="304200"/>
                  <a:chOff x="2061720" y="2514960"/>
                  <a:chExt cx="438120" cy="30420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>
                    <a:off x="2102760" y="251496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2061720" y="251496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8" name=""/>
              <p:cNvGrpSpPr/>
              <p:nvPr/>
            </p:nvGrpSpPr>
            <p:grpSpPr>
              <a:xfrm>
                <a:off x="2499840" y="2514960"/>
                <a:ext cx="438480" cy="304200"/>
                <a:chOff x="2499840" y="2514960"/>
                <a:chExt cx="438480" cy="30420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2499840" y="251496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0" name=""/>
                <p:cNvGrpSpPr/>
                <p:nvPr/>
              </p:nvGrpSpPr>
              <p:grpSpPr>
                <a:xfrm>
                  <a:off x="2499840" y="2514960"/>
                  <a:ext cx="438480" cy="304200"/>
                  <a:chOff x="2499840" y="2514960"/>
                  <a:chExt cx="438480" cy="304200"/>
                </a:xfrm>
              </p:grpSpPr>
              <p:sp>
                <p:nvSpPr>
                  <p:cNvPr id="2061" name=""/>
                  <p:cNvSpPr/>
                  <p:nvPr/>
                </p:nvSpPr>
                <p:spPr>
                  <a:xfrm>
                    <a:off x="2541240" y="251496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2499840" y="251496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3" name=""/>
              <p:cNvGrpSpPr/>
              <p:nvPr/>
            </p:nvGrpSpPr>
            <p:grpSpPr>
              <a:xfrm>
                <a:off x="2938320" y="2514960"/>
                <a:ext cx="438120" cy="304200"/>
                <a:chOff x="2938320" y="2514960"/>
                <a:chExt cx="438120" cy="30420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2938320" y="251496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5" name=""/>
                <p:cNvGrpSpPr/>
                <p:nvPr/>
              </p:nvGrpSpPr>
              <p:grpSpPr>
                <a:xfrm>
                  <a:off x="2938320" y="2514960"/>
                  <a:ext cx="438120" cy="304200"/>
                  <a:chOff x="2938320" y="2514960"/>
                  <a:chExt cx="438120" cy="304200"/>
                </a:xfrm>
              </p:grpSpPr>
              <p:sp>
                <p:nvSpPr>
                  <p:cNvPr id="2066" name=""/>
                  <p:cNvSpPr/>
                  <p:nvPr/>
                </p:nvSpPr>
                <p:spPr>
                  <a:xfrm>
                    <a:off x="2979360" y="251496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2938320" y="251496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8" name=""/>
              <p:cNvGrpSpPr/>
              <p:nvPr/>
            </p:nvGrpSpPr>
            <p:grpSpPr>
              <a:xfrm>
                <a:off x="3376440" y="2514960"/>
                <a:ext cx="436680" cy="304200"/>
                <a:chOff x="3376440" y="2514960"/>
                <a:chExt cx="436680" cy="304200"/>
              </a:xfrm>
            </p:grpSpPr>
            <p:sp>
              <p:nvSpPr>
                <p:cNvPr id="2069" name=""/>
                <p:cNvSpPr/>
                <p:nvPr/>
              </p:nvSpPr>
              <p:spPr>
                <a:xfrm>
                  <a:off x="3376440" y="25149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0" name=""/>
                <p:cNvGrpSpPr/>
                <p:nvPr/>
              </p:nvGrpSpPr>
              <p:grpSpPr>
                <a:xfrm>
                  <a:off x="3376440" y="2514960"/>
                  <a:ext cx="436680" cy="304200"/>
                  <a:chOff x="3376440" y="2514960"/>
                  <a:chExt cx="436680" cy="30420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>
                    <a:off x="3417480" y="25149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3376440" y="25149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3" name=""/>
              <p:cNvGrpSpPr/>
              <p:nvPr/>
            </p:nvGrpSpPr>
            <p:grpSpPr>
              <a:xfrm>
                <a:off x="3813120" y="2514960"/>
                <a:ext cx="436680" cy="304200"/>
                <a:chOff x="3813120" y="2514960"/>
                <a:chExt cx="436680" cy="304200"/>
              </a:xfrm>
            </p:grpSpPr>
            <p:sp>
              <p:nvSpPr>
                <p:cNvPr id="2074" name=""/>
                <p:cNvSpPr/>
                <p:nvPr/>
              </p:nvSpPr>
              <p:spPr>
                <a:xfrm>
                  <a:off x="3813120" y="25149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5" name=""/>
                <p:cNvGrpSpPr/>
                <p:nvPr/>
              </p:nvGrpSpPr>
              <p:grpSpPr>
                <a:xfrm>
                  <a:off x="3813120" y="2514960"/>
                  <a:ext cx="436680" cy="304200"/>
                  <a:chOff x="3813120" y="2514960"/>
                  <a:chExt cx="436680" cy="304200"/>
                </a:xfrm>
              </p:grpSpPr>
              <p:sp>
                <p:nvSpPr>
                  <p:cNvPr id="2076" name=""/>
                  <p:cNvSpPr/>
                  <p:nvPr/>
                </p:nvSpPr>
                <p:spPr>
                  <a:xfrm>
                    <a:off x="3854160" y="25149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3813120" y="25149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8" name=""/>
              <p:cNvGrpSpPr/>
              <p:nvPr/>
            </p:nvGrpSpPr>
            <p:grpSpPr>
              <a:xfrm>
                <a:off x="4249800" y="2514960"/>
                <a:ext cx="436320" cy="304200"/>
                <a:chOff x="4249800" y="2514960"/>
                <a:chExt cx="436320" cy="304200"/>
              </a:xfrm>
            </p:grpSpPr>
            <p:sp>
              <p:nvSpPr>
                <p:cNvPr id="2079" name=""/>
                <p:cNvSpPr/>
                <p:nvPr/>
              </p:nvSpPr>
              <p:spPr>
                <a:xfrm>
                  <a:off x="4249800" y="251496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0" name=""/>
                <p:cNvGrpSpPr/>
                <p:nvPr/>
              </p:nvGrpSpPr>
              <p:grpSpPr>
                <a:xfrm>
                  <a:off x="4249800" y="2514960"/>
                  <a:ext cx="436320" cy="304200"/>
                  <a:chOff x="4249800" y="2514960"/>
                  <a:chExt cx="436320" cy="304200"/>
                </a:xfrm>
              </p:grpSpPr>
              <p:sp>
                <p:nvSpPr>
                  <p:cNvPr id="2081" name=""/>
                  <p:cNvSpPr/>
                  <p:nvPr/>
                </p:nvSpPr>
                <p:spPr>
                  <a:xfrm>
                    <a:off x="4290840" y="25149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4249800" y="251496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3" name=""/>
              <p:cNvGrpSpPr/>
              <p:nvPr/>
            </p:nvGrpSpPr>
            <p:grpSpPr>
              <a:xfrm>
                <a:off x="4686480" y="2514960"/>
                <a:ext cx="438480" cy="304200"/>
                <a:chOff x="4686480" y="2514960"/>
                <a:chExt cx="438480" cy="30420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4686480" y="251496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5" name=""/>
                <p:cNvGrpSpPr/>
                <p:nvPr/>
              </p:nvGrpSpPr>
              <p:grpSpPr>
                <a:xfrm>
                  <a:off x="4686480" y="2514960"/>
                  <a:ext cx="438480" cy="304200"/>
                  <a:chOff x="4686480" y="2514960"/>
                  <a:chExt cx="438480" cy="304200"/>
                </a:xfrm>
              </p:grpSpPr>
              <p:sp>
                <p:nvSpPr>
                  <p:cNvPr id="2086" name=""/>
                  <p:cNvSpPr/>
                  <p:nvPr/>
                </p:nvSpPr>
                <p:spPr>
                  <a:xfrm>
                    <a:off x="4727880" y="251496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4686480" y="251496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8" name=""/>
              <p:cNvGrpSpPr/>
              <p:nvPr/>
            </p:nvGrpSpPr>
            <p:grpSpPr>
              <a:xfrm>
                <a:off x="5124960" y="2514960"/>
                <a:ext cx="436680" cy="304200"/>
                <a:chOff x="5124960" y="2514960"/>
                <a:chExt cx="436680" cy="30420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5124960" y="25149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0" name=""/>
                <p:cNvGrpSpPr/>
                <p:nvPr/>
              </p:nvGrpSpPr>
              <p:grpSpPr>
                <a:xfrm>
                  <a:off x="5124960" y="2514960"/>
                  <a:ext cx="436680" cy="304200"/>
                  <a:chOff x="5124960" y="2514960"/>
                  <a:chExt cx="436680" cy="304200"/>
                </a:xfrm>
              </p:grpSpPr>
              <p:sp>
                <p:nvSpPr>
                  <p:cNvPr id="2091" name=""/>
                  <p:cNvSpPr/>
                  <p:nvPr/>
                </p:nvSpPr>
                <p:spPr>
                  <a:xfrm>
                    <a:off x="5166000" y="25149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5124960" y="25149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3" name=""/>
              <p:cNvGrpSpPr/>
              <p:nvPr/>
            </p:nvGrpSpPr>
            <p:grpSpPr>
              <a:xfrm>
                <a:off x="5561640" y="2514960"/>
                <a:ext cx="436320" cy="304200"/>
                <a:chOff x="5561640" y="2514960"/>
                <a:chExt cx="436320" cy="304200"/>
              </a:xfrm>
            </p:grpSpPr>
            <p:sp>
              <p:nvSpPr>
                <p:cNvPr id="2094" name=""/>
                <p:cNvSpPr/>
                <p:nvPr/>
              </p:nvSpPr>
              <p:spPr>
                <a:xfrm>
                  <a:off x="5561640" y="251496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5" name=""/>
                <p:cNvGrpSpPr/>
                <p:nvPr/>
              </p:nvGrpSpPr>
              <p:grpSpPr>
                <a:xfrm>
                  <a:off x="5561640" y="2514960"/>
                  <a:ext cx="436320" cy="304200"/>
                  <a:chOff x="5561640" y="2514960"/>
                  <a:chExt cx="436320" cy="30420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5602680" y="25149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5561640" y="251496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8" name=""/>
              <p:cNvGrpSpPr/>
              <p:nvPr/>
            </p:nvGrpSpPr>
            <p:grpSpPr>
              <a:xfrm>
                <a:off x="5998320" y="2514960"/>
                <a:ext cx="436680" cy="304200"/>
                <a:chOff x="5998320" y="2514960"/>
                <a:chExt cx="436680" cy="304200"/>
              </a:xfrm>
            </p:grpSpPr>
            <p:sp>
              <p:nvSpPr>
                <p:cNvPr id="2099" name=""/>
                <p:cNvSpPr/>
                <p:nvPr/>
              </p:nvSpPr>
              <p:spPr>
                <a:xfrm>
                  <a:off x="5998320" y="25149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0" name=""/>
                <p:cNvGrpSpPr/>
                <p:nvPr/>
              </p:nvGrpSpPr>
              <p:grpSpPr>
                <a:xfrm>
                  <a:off x="5998320" y="2514960"/>
                  <a:ext cx="436680" cy="304200"/>
                  <a:chOff x="5998320" y="2514960"/>
                  <a:chExt cx="436680" cy="304200"/>
                </a:xfrm>
              </p:grpSpPr>
              <p:sp>
                <p:nvSpPr>
                  <p:cNvPr id="2101" name=""/>
                  <p:cNvSpPr/>
                  <p:nvPr/>
                </p:nvSpPr>
                <p:spPr>
                  <a:xfrm>
                    <a:off x="6039720" y="25149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5998320" y="25149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3" name=""/>
              <p:cNvGrpSpPr/>
              <p:nvPr/>
            </p:nvGrpSpPr>
            <p:grpSpPr>
              <a:xfrm>
                <a:off x="6435000" y="2514960"/>
                <a:ext cx="436680" cy="304200"/>
                <a:chOff x="6435000" y="2514960"/>
                <a:chExt cx="436680" cy="30420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6435000" y="25149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5" name=""/>
                <p:cNvGrpSpPr/>
                <p:nvPr/>
              </p:nvGrpSpPr>
              <p:grpSpPr>
                <a:xfrm>
                  <a:off x="6435000" y="2514960"/>
                  <a:ext cx="436680" cy="304200"/>
                  <a:chOff x="6435000" y="2514960"/>
                  <a:chExt cx="436680" cy="304200"/>
                </a:xfrm>
              </p:grpSpPr>
              <p:sp>
                <p:nvSpPr>
                  <p:cNvPr id="2106" name=""/>
                  <p:cNvSpPr/>
                  <p:nvPr/>
                </p:nvSpPr>
                <p:spPr>
                  <a:xfrm>
                    <a:off x="6476400" y="25149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6435000" y="25149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8" name=""/>
              <p:cNvGrpSpPr/>
              <p:nvPr/>
            </p:nvGrpSpPr>
            <p:grpSpPr>
              <a:xfrm>
                <a:off x="6871680" y="2514960"/>
                <a:ext cx="438120" cy="304200"/>
                <a:chOff x="6871680" y="2514960"/>
                <a:chExt cx="438120" cy="30420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6871680" y="251496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0" name=""/>
                <p:cNvGrpSpPr/>
                <p:nvPr/>
              </p:nvGrpSpPr>
              <p:grpSpPr>
                <a:xfrm>
                  <a:off x="6871680" y="2514960"/>
                  <a:ext cx="438120" cy="304200"/>
                  <a:chOff x="6871680" y="2514960"/>
                  <a:chExt cx="438120" cy="304200"/>
                </a:xfrm>
              </p:grpSpPr>
              <p:sp>
                <p:nvSpPr>
                  <p:cNvPr id="2111" name=""/>
                  <p:cNvSpPr/>
                  <p:nvPr/>
                </p:nvSpPr>
                <p:spPr>
                  <a:xfrm>
                    <a:off x="6913080" y="251496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6871680" y="251496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3" name=""/>
              <p:cNvGrpSpPr/>
              <p:nvPr/>
            </p:nvGrpSpPr>
            <p:grpSpPr>
              <a:xfrm>
                <a:off x="2061720" y="2819520"/>
                <a:ext cx="438120" cy="304200"/>
                <a:chOff x="2061720" y="2819520"/>
                <a:chExt cx="438120" cy="304200"/>
              </a:xfrm>
            </p:grpSpPr>
            <p:sp>
              <p:nvSpPr>
                <p:cNvPr id="2114" name=""/>
                <p:cNvSpPr/>
                <p:nvPr/>
              </p:nvSpPr>
              <p:spPr>
                <a:xfrm>
                  <a:off x="2061720" y="281952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5" name=""/>
                <p:cNvGrpSpPr/>
                <p:nvPr/>
              </p:nvGrpSpPr>
              <p:grpSpPr>
                <a:xfrm>
                  <a:off x="2061720" y="2819520"/>
                  <a:ext cx="438120" cy="304200"/>
                  <a:chOff x="2061720" y="2819520"/>
                  <a:chExt cx="438120" cy="304200"/>
                </a:xfrm>
              </p:grpSpPr>
              <p:sp>
                <p:nvSpPr>
                  <p:cNvPr id="2116" name=""/>
                  <p:cNvSpPr/>
                  <p:nvPr/>
                </p:nvSpPr>
                <p:spPr>
                  <a:xfrm>
                    <a:off x="2102760" y="281952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2061720" y="281952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8" name=""/>
              <p:cNvGrpSpPr/>
              <p:nvPr/>
            </p:nvGrpSpPr>
            <p:grpSpPr>
              <a:xfrm>
                <a:off x="2499840" y="2819520"/>
                <a:ext cx="438480" cy="304200"/>
                <a:chOff x="2499840" y="2819520"/>
                <a:chExt cx="438480" cy="304200"/>
              </a:xfrm>
            </p:grpSpPr>
            <p:sp>
              <p:nvSpPr>
                <p:cNvPr id="2119" name=""/>
                <p:cNvSpPr/>
                <p:nvPr/>
              </p:nvSpPr>
              <p:spPr>
                <a:xfrm>
                  <a:off x="2499840" y="281952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0" name=""/>
                <p:cNvGrpSpPr/>
                <p:nvPr/>
              </p:nvGrpSpPr>
              <p:grpSpPr>
                <a:xfrm>
                  <a:off x="2499840" y="2819520"/>
                  <a:ext cx="438480" cy="304200"/>
                  <a:chOff x="2499840" y="2819520"/>
                  <a:chExt cx="438480" cy="304200"/>
                </a:xfrm>
              </p:grpSpPr>
              <p:sp>
                <p:nvSpPr>
                  <p:cNvPr id="2121" name=""/>
                  <p:cNvSpPr/>
                  <p:nvPr/>
                </p:nvSpPr>
                <p:spPr>
                  <a:xfrm>
                    <a:off x="2541240" y="281952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>
                    <a:off x="2499840" y="281952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3" name=""/>
              <p:cNvGrpSpPr/>
              <p:nvPr/>
            </p:nvGrpSpPr>
            <p:grpSpPr>
              <a:xfrm>
                <a:off x="2938320" y="2819520"/>
                <a:ext cx="438120" cy="304200"/>
                <a:chOff x="2938320" y="2819520"/>
                <a:chExt cx="438120" cy="30420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2938320" y="281952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5" name=""/>
                <p:cNvGrpSpPr/>
                <p:nvPr/>
              </p:nvGrpSpPr>
              <p:grpSpPr>
                <a:xfrm>
                  <a:off x="2938320" y="2819520"/>
                  <a:ext cx="438120" cy="304200"/>
                  <a:chOff x="2938320" y="2819520"/>
                  <a:chExt cx="438120" cy="304200"/>
                </a:xfrm>
              </p:grpSpPr>
              <p:sp>
                <p:nvSpPr>
                  <p:cNvPr id="2126" name=""/>
                  <p:cNvSpPr/>
                  <p:nvPr/>
                </p:nvSpPr>
                <p:spPr>
                  <a:xfrm>
                    <a:off x="2979360" y="281952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2938320" y="281952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8" name=""/>
              <p:cNvGrpSpPr/>
              <p:nvPr/>
            </p:nvGrpSpPr>
            <p:grpSpPr>
              <a:xfrm>
                <a:off x="3376440" y="2819520"/>
                <a:ext cx="436680" cy="304200"/>
                <a:chOff x="3376440" y="2819520"/>
                <a:chExt cx="436680" cy="30420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3376440" y="28195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0" name=""/>
                <p:cNvGrpSpPr/>
                <p:nvPr/>
              </p:nvGrpSpPr>
              <p:grpSpPr>
                <a:xfrm>
                  <a:off x="3376440" y="2819520"/>
                  <a:ext cx="436680" cy="304200"/>
                  <a:chOff x="3376440" y="2819520"/>
                  <a:chExt cx="436680" cy="304200"/>
                </a:xfrm>
              </p:grpSpPr>
              <p:sp>
                <p:nvSpPr>
                  <p:cNvPr id="2131" name=""/>
                  <p:cNvSpPr/>
                  <p:nvPr/>
                </p:nvSpPr>
                <p:spPr>
                  <a:xfrm>
                    <a:off x="3417480" y="28195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3376440" y="28195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3" name=""/>
              <p:cNvGrpSpPr/>
              <p:nvPr/>
            </p:nvGrpSpPr>
            <p:grpSpPr>
              <a:xfrm>
                <a:off x="3813120" y="2819520"/>
                <a:ext cx="436680" cy="304200"/>
                <a:chOff x="3813120" y="2819520"/>
                <a:chExt cx="436680" cy="30420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3813120" y="28195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5" name=""/>
                <p:cNvGrpSpPr/>
                <p:nvPr/>
              </p:nvGrpSpPr>
              <p:grpSpPr>
                <a:xfrm>
                  <a:off x="3813120" y="2819520"/>
                  <a:ext cx="436680" cy="304200"/>
                  <a:chOff x="3813120" y="2819520"/>
                  <a:chExt cx="436680" cy="304200"/>
                </a:xfrm>
              </p:grpSpPr>
              <p:sp>
                <p:nvSpPr>
                  <p:cNvPr id="2136" name=""/>
                  <p:cNvSpPr/>
                  <p:nvPr/>
                </p:nvSpPr>
                <p:spPr>
                  <a:xfrm>
                    <a:off x="3854160" y="28195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3813120" y="28195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8" name=""/>
              <p:cNvGrpSpPr/>
              <p:nvPr/>
            </p:nvGrpSpPr>
            <p:grpSpPr>
              <a:xfrm>
                <a:off x="4249800" y="2819520"/>
                <a:ext cx="436320" cy="304200"/>
                <a:chOff x="4249800" y="2819520"/>
                <a:chExt cx="436320" cy="304200"/>
              </a:xfrm>
            </p:grpSpPr>
            <p:sp>
              <p:nvSpPr>
                <p:cNvPr id="2139" name=""/>
                <p:cNvSpPr/>
                <p:nvPr/>
              </p:nvSpPr>
              <p:spPr>
                <a:xfrm>
                  <a:off x="4249800" y="281952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0" name=""/>
                <p:cNvGrpSpPr/>
                <p:nvPr/>
              </p:nvGrpSpPr>
              <p:grpSpPr>
                <a:xfrm>
                  <a:off x="4249800" y="2819520"/>
                  <a:ext cx="436320" cy="304200"/>
                  <a:chOff x="4249800" y="2819520"/>
                  <a:chExt cx="436320" cy="304200"/>
                </a:xfrm>
              </p:grpSpPr>
              <p:sp>
                <p:nvSpPr>
                  <p:cNvPr id="2141" name=""/>
                  <p:cNvSpPr/>
                  <p:nvPr/>
                </p:nvSpPr>
                <p:spPr>
                  <a:xfrm>
                    <a:off x="4290840" y="28195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4249800" y="281952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3" name=""/>
              <p:cNvGrpSpPr/>
              <p:nvPr/>
            </p:nvGrpSpPr>
            <p:grpSpPr>
              <a:xfrm>
                <a:off x="4686480" y="2819520"/>
                <a:ext cx="438480" cy="304200"/>
                <a:chOff x="4686480" y="2819520"/>
                <a:chExt cx="438480" cy="304200"/>
              </a:xfrm>
            </p:grpSpPr>
            <p:sp>
              <p:nvSpPr>
                <p:cNvPr id="2144" name=""/>
                <p:cNvSpPr/>
                <p:nvPr/>
              </p:nvSpPr>
              <p:spPr>
                <a:xfrm>
                  <a:off x="4686480" y="281952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5" name=""/>
                <p:cNvGrpSpPr/>
                <p:nvPr/>
              </p:nvGrpSpPr>
              <p:grpSpPr>
                <a:xfrm>
                  <a:off x="4686480" y="2819520"/>
                  <a:ext cx="438480" cy="304200"/>
                  <a:chOff x="4686480" y="2819520"/>
                  <a:chExt cx="438480" cy="304200"/>
                </a:xfrm>
              </p:grpSpPr>
              <p:sp>
                <p:nvSpPr>
                  <p:cNvPr id="2146" name=""/>
                  <p:cNvSpPr/>
                  <p:nvPr/>
                </p:nvSpPr>
                <p:spPr>
                  <a:xfrm>
                    <a:off x="4727880" y="281952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4686480" y="281952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8" name=""/>
              <p:cNvGrpSpPr/>
              <p:nvPr/>
            </p:nvGrpSpPr>
            <p:grpSpPr>
              <a:xfrm>
                <a:off x="5124960" y="2819520"/>
                <a:ext cx="436680" cy="304200"/>
                <a:chOff x="5124960" y="2819520"/>
                <a:chExt cx="436680" cy="30420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5124960" y="28195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0" name=""/>
                <p:cNvGrpSpPr/>
                <p:nvPr/>
              </p:nvGrpSpPr>
              <p:grpSpPr>
                <a:xfrm>
                  <a:off x="5124960" y="2819520"/>
                  <a:ext cx="436680" cy="304200"/>
                  <a:chOff x="5124960" y="2819520"/>
                  <a:chExt cx="436680" cy="304200"/>
                </a:xfrm>
              </p:grpSpPr>
              <p:sp>
                <p:nvSpPr>
                  <p:cNvPr id="2151" name=""/>
                  <p:cNvSpPr/>
                  <p:nvPr/>
                </p:nvSpPr>
                <p:spPr>
                  <a:xfrm>
                    <a:off x="5166000" y="28195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5124960" y="28195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3" name=""/>
              <p:cNvGrpSpPr/>
              <p:nvPr/>
            </p:nvGrpSpPr>
            <p:grpSpPr>
              <a:xfrm>
                <a:off x="5561640" y="2819520"/>
                <a:ext cx="436320" cy="304200"/>
                <a:chOff x="5561640" y="2819520"/>
                <a:chExt cx="436320" cy="304200"/>
              </a:xfrm>
            </p:grpSpPr>
            <p:sp>
              <p:nvSpPr>
                <p:cNvPr id="2154" name=""/>
                <p:cNvSpPr/>
                <p:nvPr/>
              </p:nvSpPr>
              <p:spPr>
                <a:xfrm>
                  <a:off x="5561640" y="281952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5" name=""/>
                <p:cNvGrpSpPr/>
                <p:nvPr/>
              </p:nvGrpSpPr>
              <p:grpSpPr>
                <a:xfrm>
                  <a:off x="5561640" y="2819520"/>
                  <a:ext cx="436320" cy="304200"/>
                  <a:chOff x="5561640" y="2819520"/>
                  <a:chExt cx="436320" cy="304200"/>
                </a:xfrm>
              </p:grpSpPr>
              <p:sp>
                <p:nvSpPr>
                  <p:cNvPr id="2156" name=""/>
                  <p:cNvSpPr/>
                  <p:nvPr/>
                </p:nvSpPr>
                <p:spPr>
                  <a:xfrm>
                    <a:off x="5602680" y="28195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5561640" y="281952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8" name=""/>
              <p:cNvGrpSpPr/>
              <p:nvPr/>
            </p:nvGrpSpPr>
            <p:grpSpPr>
              <a:xfrm>
                <a:off x="5998320" y="2819520"/>
                <a:ext cx="436680" cy="304200"/>
                <a:chOff x="5998320" y="2819520"/>
                <a:chExt cx="436680" cy="304200"/>
              </a:xfrm>
            </p:grpSpPr>
            <p:sp>
              <p:nvSpPr>
                <p:cNvPr id="2159" name=""/>
                <p:cNvSpPr/>
                <p:nvPr/>
              </p:nvSpPr>
              <p:spPr>
                <a:xfrm>
                  <a:off x="5998320" y="28195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0" name=""/>
                <p:cNvGrpSpPr/>
                <p:nvPr/>
              </p:nvGrpSpPr>
              <p:grpSpPr>
                <a:xfrm>
                  <a:off x="5998320" y="2819520"/>
                  <a:ext cx="436680" cy="304200"/>
                  <a:chOff x="5998320" y="2819520"/>
                  <a:chExt cx="436680" cy="304200"/>
                </a:xfrm>
              </p:grpSpPr>
              <p:sp>
                <p:nvSpPr>
                  <p:cNvPr id="2161" name=""/>
                  <p:cNvSpPr/>
                  <p:nvPr/>
                </p:nvSpPr>
                <p:spPr>
                  <a:xfrm>
                    <a:off x="6039720" y="28195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5998320" y="28195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3" name=""/>
              <p:cNvGrpSpPr/>
              <p:nvPr/>
            </p:nvGrpSpPr>
            <p:grpSpPr>
              <a:xfrm>
                <a:off x="6435000" y="2819520"/>
                <a:ext cx="436680" cy="304200"/>
                <a:chOff x="6435000" y="2819520"/>
                <a:chExt cx="436680" cy="30420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6435000" y="28195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5" name=""/>
                <p:cNvGrpSpPr/>
                <p:nvPr/>
              </p:nvGrpSpPr>
              <p:grpSpPr>
                <a:xfrm>
                  <a:off x="6435000" y="2819520"/>
                  <a:ext cx="436680" cy="304200"/>
                  <a:chOff x="6435000" y="2819520"/>
                  <a:chExt cx="436680" cy="304200"/>
                </a:xfrm>
              </p:grpSpPr>
              <p:sp>
                <p:nvSpPr>
                  <p:cNvPr id="2166" name=""/>
                  <p:cNvSpPr/>
                  <p:nvPr/>
                </p:nvSpPr>
                <p:spPr>
                  <a:xfrm>
                    <a:off x="6476400" y="28195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6435000" y="28195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8" name=""/>
              <p:cNvGrpSpPr/>
              <p:nvPr/>
            </p:nvGrpSpPr>
            <p:grpSpPr>
              <a:xfrm>
                <a:off x="6871680" y="2819520"/>
                <a:ext cx="438120" cy="304200"/>
                <a:chOff x="6871680" y="2819520"/>
                <a:chExt cx="438120" cy="30420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6871680" y="281952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0" name=""/>
                <p:cNvGrpSpPr/>
                <p:nvPr/>
              </p:nvGrpSpPr>
              <p:grpSpPr>
                <a:xfrm>
                  <a:off x="6871680" y="2819520"/>
                  <a:ext cx="438120" cy="304200"/>
                  <a:chOff x="6871680" y="2819520"/>
                  <a:chExt cx="438120" cy="304200"/>
                </a:xfrm>
              </p:grpSpPr>
              <p:sp>
                <p:nvSpPr>
                  <p:cNvPr id="2171" name=""/>
                  <p:cNvSpPr/>
                  <p:nvPr/>
                </p:nvSpPr>
                <p:spPr>
                  <a:xfrm>
                    <a:off x="6913080" y="281952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6871680" y="281952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3" name=""/>
              <p:cNvGrpSpPr/>
              <p:nvPr/>
            </p:nvGrpSpPr>
            <p:grpSpPr>
              <a:xfrm>
                <a:off x="2061720" y="3123720"/>
                <a:ext cx="438120" cy="304200"/>
                <a:chOff x="2061720" y="3123720"/>
                <a:chExt cx="438120" cy="30420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2061720" y="312372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5" name=""/>
                <p:cNvGrpSpPr/>
                <p:nvPr/>
              </p:nvGrpSpPr>
              <p:grpSpPr>
                <a:xfrm>
                  <a:off x="2061720" y="3123720"/>
                  <a:ext cx="438120" cy="304200"/>
                  <a:chOff x="2061720" y="3123720"/>
                  <a:chExt cx="438120" cy="304200"/>
                </a:xfrm>
              </p:grpSpPr>
              <p:sp>
                <p:nvSpPr>
                  <p:cNvPr id="2176" name=""/>
                  <p:cNvSpPr/>
                  <p:nvPr/>
                </p:nvSpPr>
                <p:spPr>
                  <a:xfrm>
                    <a:off x="2102760" y="312372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2061720" y="312372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8" name=""/>
              <p:cNvGrpSpPr/>
              <p:nvPr/>
            </p:nvGrpSpPr>
            <p:grpSpPr>
              <a:xfrm>
                <a:off x="2499840" y="3123720"/>
                <a:ext cx="438480" cy="304200"/>
                <a:chOff x="2499840" y="3123720"/>
                <a:chExt cx="438480" cy="30420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2499840" y="312372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0" name=""/>
                <p:cNvGrpSpPr/>
                <p:nvPr/>
              </p:nvGrpSpPr>
              <p:grpSpPr>
                <a:xfrm>
                  <a:off x="2499840" y="3123720"/>
                  <a:ext cx="438480" cy="304200"/>
                  <a:chOff x="2499840" y="3123720"/>
                  <a:chExt cx="438480" cy="304200"/>
                </a:xfrm>
              </p:grpSpPr>
              <p:sp>
                <p:nvSpPr>
                  <p:cNvPr id="2181" name=""/>
                  <p:cNvSpPr/>
                  <p:nvPr/>
                </p:nvSpPr>
                <p:spPr>
                  <a:xfrm>
                    <a:off x="2541240" y="312372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2499840" y="312372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3" name=""/>
              <p:cNvGrpSpPr/>
              <p:nvPr/>
            </p:nvGrpSpPr>
            <p:grpSpPr>
              <a:xfrm>
                <a:off x="2938320" y="3123720"/>
                <a:ext cx="438120" cy="304200"/>
                <a:chOff x="2938320" y="3123720"/>
                <a:chExt cx="438120" cy="30420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2938320" y="312372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5" name=""/>
                <p:cNvGrpSpPr/>
                <p:nvPr/>
              </p:nvGrpSpPr>
              <p:grpSpPr>
                <a:xfrm>
                  <a:off x="2938320" y="3123720"/>
                  <a:ext cx="438120" cy="304200"/>
                  <a:chOff x="2938320" y="3123720"/>
                  <a:chExt cx="438120" cy="304200"/>
                </a:xfrm>
              </p:grpSpPr>
              <p:sp>
                <p:nvSpPr>
                  <p:cNvPr id="2186" name=""/>
                  <p:cNvSpPr/>
                  <p:nvPr/>
                </p:nvSpPr>
                <p:spPr>
                  <a:xfrm>
                    <a:off x="2979360" y="312372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2938320" y="312372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8" name=""/>
              <p:cNvGrpSpPr/>
              <p:nvPr/>
            </p:nvGrpSpPr>
            <p:grpSpPr>
              <a:xfrm>
                <a:off x="3376440" y="3123720"/>
                <a:ext cx="436680" cy="304200"/>
                <a:chOff x="3376440" y="3123720"/>
                <a:chExt cx="436680" cy="304200"/>
              </a:xfrm>
            </p:grpSpPr>
            <p:sp>
              <p:nvSpPr>
                <p:cNvPr id="2189" name=""/>
                <p:cNvSpPr/>
                <p:nvPr/>
              </p:nvSpPr>
              <p:spPr>
                <a:xfrm>
                  <a:off x="3376440" y="31237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0" name=""/>
                <p:cNvGrpSpPr/>
                <p:nvPr/>
              </p:nvGrpSpPr>
              <p:grpSpPr>
                <a:xfrm>
                  <a:off x="3376440" y="3123720"/>
                  <a:ext cx="436680" cy="304200"/>
                  <a:chOff x="3376440" y="3123720"/>
                  <a:chExt cx="436680" cy="304200"/>
                </a:xfrm>
              </p:grpSpPr>
              <p:sp>
                <p:nvSpPr>
                  <p:cNvPr id="2191" name=""/>
                  <p:cNvSpPr/>
                  <p:nvPr/>
                </p:nvSpPr>
                <p:spPr>
                  <a:xfrm>
                    <a:off x="3417480" y="31237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3376440" y="31237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3" name=""/>
              <p:cNvGrpSpPr/>
              <p:nvPr/>
            </p:nvGrpSpPr>
            <p:grpSpPr>
              <a:xfrm>
                <a:off x="3813120" y="3123720"/>
                <a:ext cx="436680" cy="304200"/>
                <a:chOff x="3813120" y="3123720"/>
                <a:chExt cx="436680" cy="304200"/>
              </a:xfrm>
            </p:grpSpPr>
            <p:sp>
              <p:nvSpPr>
                <p:cNvPr id="2194" name=""/>
                <p:cNvSpPr/>
                <p:nvPr/>
              </p:nvSpPr>
              <p:spPr>
                <a:xfrm>
                  <a:off x="3813120" y="31237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5" name=""/>
                <p:cNvGrpSpPr/>
                <p:nvPr/>
              </p:nvGrpSpPr>
              <p:grpSpPr>
                <a:xfrm>
                  <a:off x="3813120" y="3123720"/>
                  <a:ext cx="436680" cy="304200"/>
                  <a:chOff x="3813120" y="3123720"/>
                  <a:chExt cx="436680" cy="304200"/>
                </a:xfrm>
              </p:grpSpPr>
              <p:sp>
                <p:nvSpPr>
                  <p:cNvPr id="2196" name=""/>
                  <p:cNvSpPr/>
                  <p:nvPr/>
                </p:nvSpPr>
                <p:spPr>
                  <a:xfrm>
                    <a:off x="3854160" y="31237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3813120" y="31237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8" name=""/>
              <p:cNvGrpSpPr/>
              <p:nvPr/>
            </p:nvGrpSpPr>
            <p:grpSpPr>
              <a:xfrm>
                <a:off x="4249800" y="3123720"/>
                <a:ext cx="436320" cy="304200"/>
                <a:chOff x="4249800" y="3123720"/>
                <a:chExt cx="436320" cy="30420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4249800" y="312372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0" name=""/>
                <p:cNvGrpSpPr/>
                <p:nvPr/>
              </p:nvGrpSpPr>
              <p:grpSpPr>
                <a:xfrm>
                  <a:off x="4249800" y="3123720"/>
                  <a:ext cx="436320" cy="304200"/>
                  <a:chOff x="4249800" y="3123720"/>
                  <a:chExt cx="436320" cy="304200"/>
                </a:xfrm>
              </p:grpSpPr>
              <p:sp>
                <p:nvSpPr>
                  <p:cNvPr id="2201" name=""/>
                  <p:cNvSpPr/>
                  <p:nvPr/>
                </p:nvSpPr>
                <p:spPr>
                  <a:xfrm>
                    <a:off x="4290840" y="31237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4249800" y="312372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3" name=""/>
              <p:cNvGrpSpPr/>
              <p:nvPr/>
            </p:nvGrpSpPr>
            <p:grpSpPr>
              <a:xfrm>
                <a:off x="4686480" y="3123720"/>
                <a:ext cx="438480" cy="304200"/>
                <a:chOff x="4686480" y="3123720"/>
                <a:chExt cx="438480" cy="304200"/>
              </a:xfrm>
            </p:grpSpPr>
            <p:sp>
              <p:nvSpPr>
                <p:cNvPr id="2204" name=""/>
                <p:cNvSpPr/>
                <p:nvPr/>
              </p:nvSpPr>
              <p:spPr>
                <a:xfrm>
                  <a:off x="4686480" y="312372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5" name=""/>
                <p:cNvGrpSpPr/>
                <p:nvPr/>
              </p:nvGrpSpPr>
              <p:grpSpPr>
                <a:xfrm>
                  <a:off x="4686480" y="3123720"/>
                  <a:ext cx="438480" cy="304200"/>
                  <a:chOff x="4686480" y="3123720"/>
                  <a:chExt cx="438480" cy="304200"/>
                </a:xfrm>
              </p:grpSpPr>
              <p:sp>
                <p:nvSpPr>
                  <p:cNvPr id="2206" name=""/>
                  <p:cNvSpPr/>
                  <p:nvPr/>
                </p:nvSpPr>
                <p:spPr>
                  <a:xfrm>
                    <a:off x="4727880" y="312372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4686480" y="312372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8" name=""/>
              <p:cNvGrpSpPr/>
              <p:nvPr/>
            </p:nvGrpSpPr>
            <p:grpSpPr>
              <a:xfrm>
                <a:off x="5124960" y="3123720"/>
                <a:ext cx="436680" cy="304200"/>
                <a:chOff x="5124960" y="3123720"/>
                <a:chExt cx="436680" cy="30420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5124960" y="31237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0" name=""/>
                <p:cNvGrpSpPr/>
                <p:nvPr/>
              </p:nvGrpSpPr>
              <p:grpSpPr>
                <a:xfrm>
                  <a:off x="5124960" y="3123720"/>
                  <a:ext cx="436680" cy="304200"/>
                  <a:chOff x="5124960" y="3123720"/>
                  <a:chExt cx="436680" cy="304200"/>
                </a:xfrm>
              </p:grpSpPr>
              <p:sp>
                <p:nvSpPr>
                  <p:cNvPr id="2211" name=""/>
                  <p:cNvSpPr/>
                  <p:nvPr/>
                </p:nvSpPr>
                <p:spPr>
                  <a:xfrm>
                    <a:off x="5166000" y="31237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5124960" y="31237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3" name=""/>
              <p:cNvGrpSpPr/>
              <p:nvPr/>
            </p:nvGrpSpPr>
            <p:grpSpPr>
              <a:xfrm>
                <a:off x="5561640" y="3123720"/>
                <a:ext cx="436320" cy="304200"/>
                <a:chOff x="5561640" y="3123720"/>
                <a:chExt cx="436320" cy="30420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5561640" y="312372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5" name=""/>
                <p:cNvGrpSpPr/>
                <p:nvPr/>
              </p:nvGrpSpPr>
              <p:grpSpPr>
                <a:xfrm>
                  <a:off x="5561640" y="3123720"/>
                  <a:ext cx="436320" cy="304200"/>
                  <a:chOff x="5561640" y="3123720"/>
                  <a:chExt cx="436320" cy="304200"/>
                </a:xfrm>
              </p:grpSpPr>
              <p:sp>
                <p:nvSpPr>
                  <p:cNvPr id="2216" name=""/>
                  <p:cNvSpPr/>
                  <p:nvPr/>
                </p:nvSpPr>
                <p:spPr>
                  <a:xfrm>
                    <a:off x="5602680" y="31237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5561640" y="312372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8" name=""/>
              <p:cNvGrpSpPr/>
              <p:nvPr/>
            </p:nvGrpSpPr>
            <p:grpSpPr>
              <a:xfrm>
                <a:off x="5998320" y="3123720"/>
                <a:ext cx="436680" cy="304200"/>
                <a:chOff x="5998320" y="3123720"/>
                <a:chExt cx="436680" cy="30420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5998320" y="31237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0" name=""/>
                <p:cNvGrpSpPr/>
                <p:nvPr/>
              </p:nvGrpSpPr>
              <p:grpSpPr>
                <a:xfrm>
                  <a:off x="5998320" y="3123720"/>
                  <a:ext cx="436680" cy="304200"/>
                  <a:chOff x="5998320" y="3123720"/>
                  <a:chExt cx="436680" cy="304200"/>
                </a:xfrm>
              </p:grpSpPr>
              <p:sp>
                <p:nvSpPr>
                  <p:cNvPr id="2221" name=""/>
                  <p:cNvSpPr/>
                  <p:nvPr/>
                </p:nvSpPr>
                <p:spPr>
                  <a:xfrm>
                    <a:off x="6039720" y="31237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5998320" y="31237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3" name=""/>
              <p:cNvGrpSpPr/>
              <p:nvPr/>
            </p:nvGrpSpPr>
            <p:grpSpPr>
              <a:xfrm>
                <a:off x="6435000" y="3123720"/>
                <a:ext cx="436680" cy="304200"/>
                <a:chOff x="6435000" y="3123720"/>
                <a:chExt cx="436680" cy="304200"/>
              </a:xfrm>
            </p:grpSpPr>
            <p:sp>
              <p:nvSpPr>
                <p:cNvPr id="2224" name=""/>
                <p:cNvSpPr/>
                <p:nvPr/>
              </p:nvSpPr>
              <p:spPr>
                <a:xfrm>
                  <a:off x="6435000" y="312372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5" name=""/>
                <p:cNvGrpSpPr/>
                <p:nvPr/>
              </p:nvGrpSpPr>
              <p:grpSpPr>
                <a:xfrm>
                  <a:off x="6435000" y="3123720"/>
                  <a:ext cx="436680" cy="304200"/>
                  <a:chOff x="6435000" y="3123720"/>
                  <a:chExt cx="436680" cy="30420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>
                    <a:off x="6476400" y="312372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6435000" y="312372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8" name=""/>
              <p:cNvGrpSpPr/>
              <p:nvPr/>
            </p:nvGrpSpPr>
            <p:grpSpPr>
              <a:xfrm>
                <a:off x="6871680" y="3123720"/>
                <a:ext cx="438120" cy="304200"/>
                <a:chOff x="6871680" y="3123720"/>
                <a:chExt cx="438120" cy="304200"/>
              </a:xfrm>
            </p:grpSpPr>
            <p:sp>
              <p:nvSpPr>
                <p:cNvPr id="2229" name=""/>
                <p:cNvSpPr/>
                <p:nvPr/>
              </p:nvSpPr>
              <p:spPr>
                <a:xfrm>
                  <a:off x="6871680" y="312372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0" name=""/>
                <p:cNvGrpSpPr/>
                <p:nvPr/>
              </p:nvGrpSpPr>
              <p:grpSpPr>
                <a:xfrm>
                  <a:off x="6871680" y="3123720"/>
                  <a:ext cx="438120" cy="304200"/>
                  <a:chOff x="6871680" y="3123720"/>
                  <a:chExt cx="438120" cy="304200"/>
                </a:xfrm>
              </p:grpSpPr>
              <p:sp>
                <p:nvSpPr>
                  <p:cNvPr id="2231" name=""/>
                  <p:cNvSpPr/>
                  <p:nvPr/>
                </p:nvSpPr>
                <p:spPr>
                  <a:xfrm>
                    <a:off x="6913080" y="312372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6871680" y="312372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33" name=""/>
              <p:cNvGrpSpPr/>
              <p:nvPr/>
            </p:nvGrpSpPr>
            <p:grpSpPr>
              <a:xfrm>
                <a:off x="2061720" y="3428280"/>
                <a:ext cx="438120" cy="304200"/>
                <a:chOff x="2061720" y="3428280"/>
                <a:chExt cx="438120" cy="304200"/>
              </a:xfrm>
            </p:grpSpPr>
            <p:sp>
              <p:nvSpPr>
                <p:cNvPr id="2234" name=""/>
                <p:cNvSpPr/>
                <p:nvPr/>
              </p:nvSpPr>
              <p:spPr>
                <a:xfrm>
                  <a:off x="2061720" y="342828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5" name=""/>
                <p:cNvGrpSpPr/>
                <p:nvPr/>
              </p:nvGrpSpPr>
              <p:grpSpPr>
                <a:xfrm>
                  <a:off x="2061720" y="3428280"/>
                  <a:ext cx="438120" cy="304200"/>
                  <a:chOff x="2061720" y="3428280"/>
                  <a:chExt cx="438120" cy="304200"/>
                </a:xfrm>
              </p:grpSpPr>
              <p:sp>
                <p:nvSpPr>
                  <p:cNvPr id="2236" name=""/>
                  <p:cNvSpPr/>
                  <p:nvPr/>
                </p:nvSpPr>
                <p:spPr>
                  <a:xfrm>
                    <a:off x="2102760" y="342828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2061720" y="342828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38" name=""/>
              <p:cNvGrpSpPr/>
              <p:nvPr/>
            </p:nvGrpSpPr>
            <p:grpSpPr>
              <a:xfrm>
                <a:off x="2499840" y="3428280"/>
                <a:ext cx="438480" cy="304200"/>
                <a:chOff x="2499840" y="3428280"/>
                <a:chExt cx="438480" cy="30420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2499840" y="342828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0" name=""/>
                <p:cNvGrpSpPr/>
                <p:nvPr/>
              </p:nvGrpSpPr>
              <p:grpSpPr>
                <a:xfrm>
                  <a:off x="2499840" y="3428280"/>
                  <a:ext cx="438480" cy="304200"/>
                  <a:chOff x="2499840" y="3428280"/>
                  <a:chExt cx="438480" cy="304200"/>
                </a:xfrm>
              </p:grpSpPr>
              <p:sp>
                <p:nvSpPr>
                  <p:cNvPr id="2241" name=""/>
                  <p:cNvSpPr/>
                  <p:nvPr/>
                </p:nvSpPr>
                <p:spPr>
                  <a:xfrm>
                    <a:off x="2541240" y="342828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2499840" y="342828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3" name=""/>
              <p:cNvGrpSpPr/>
              <p:nvPr/>
            </p:nvGrpSpPr>
            <p:grpSpPr>
              <a:xfrm>
                <a:off x="2938320" y="3428280"/>
                <a:ext cx="438120" cy="304200"/>
                <a:chOff x="2938320" y="3428280"/>
                <a:chExt cx="438120" cy="304200"/>
              </a:xfrm>
            </p:grpSpPr>
            <p:sp>
              <p:nvSpPr>
                <p:cNvPr id="2244" name=""/>
                <p:cNvSpPr/>
                <p:nvPr/>
              </p:nvSpPr>
              <p:spPr>
                <a:xfrm>
                  <a:off x="2938320" y="342828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5" name=""/>
                <p:cNvGrpSpPr/>
                <p:nvPr/>
              </p:nvGrpSpPr>
              <p:grpSpPr>
                <a:xfrm>
                  <a:off x="2938320" y="3428280"/>
                  <a:ext cx="438120" cy="304200"/>
                  <a:chOff x="2938320" y="3428280"/>
                  <a:chExt cx="438120" cy="304200"/>
                </a:xfrm>
              </p:grpSpPr>
              <p:sp>
                <p:nvSpPr>
                  <p:cNvPr id="2246" name=""/>
                  <p:cNvSpPr/>
                  <p:nvPr/>
                </p:nvSpPr>
                <p:spPr>
                  <a:xfrm>
                    <a:off x="2979360" y="342828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2938320" y="342828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8" name=""/>
              <p:cNvGrpSpPr/>
              <p:nvPr/>
            </p:nvGrpSpPr>
            <p:grpSpPr>
              <a:xfrm>
                <a:off x="3376440" y="3428280"/>
                <a:ext cx="436680" cy="304200"/>
                <a:chOff x="3376440" y="3428280"/>
                <a:chExt cx="436680" cy="304200"/>
              </a:xfrm>
            </p:grpSpPr>
            <p:sp>
              <p:nvSpPr>
                <p:cNvPr id="2249" name=""/>
                <p:cNvSpPr/>
                <p:nvPr/>
              </p:nvSpPr>
              <p:spPr>
                <a:xfrm>
                  <a:off x="3376440" y="34282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0" name=""/>
                <p:cNvGrpSpPr/>
                <p:nvPr/>
              </p:nvGrpSpPr>
              <p:grpSpPr>
                <a:xfrm>
                  <a:off x="3376440" y="3428280"/>
                  <a:ext cx="436680" cy="304200"/>
                  <a:chOff x="3376440" y="3428280"/>
                  <a:chExt cx="436680" cy="304200"/>
                </a:xfrm>
              </p:grpSpPr>
              <p:sp>
                <p:nvSpPr>
                  <p:cNvPr id="2251" name=""/>
                  <p:cNvSpPr/>
                  <p:nvPr/>
                </p:nvSpPr>
                <p:spPr>
                  <a:xfrm>
                    <a:off x="3417480" y="34282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3376440" y="34282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3" name=""/>
              <p:cNvGrpSpPr/>
              <p:nvPr/>
            </p:nvGrpSpPr>
            <p:grpSpPr>
              <a:xfrm>
                <a:off x="3813120" y="3428280"/>
                <a:ext cx="436680" cy="304200"/>
                <a:chOff x="3813120" y="3428280"/>
                <a:chExt cx="436680" cy="30420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3813120" y="34282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5" name=""/>
                <p:cNvGrpSpPr/>
                <p:nvPr/>
              </p:nvGrpSpPr>
              <p:grpSpPr>
                <a:xfrm>
                  <a:off x="3813120" y="3428280"/>
                  <a:ext cx="436680" cy="304200"/>
                  <a:chOff x="3813120" y="3428280"/>
                  <a:chExt cx="436680" cy="304200"/>
                </a:xfrm>
              </p:grpSpPr>
              <p:sp>
                <p:nvSpPr>
                  <p:cNvPr id="2256" name=""/>
                  <p:cNvSpPr/>
                  <p:nvPr/>
                </p:nvSpPr>
                <p:spPr>
                  <a:xfrm>
                    <a:off x="3854160" y="34282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3813120" y="34282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8" name=""/>
              <p:cNvGrpSpPr/>
              <p:nvPr/>
            </p:nvGrpSpPr>
            <p:grpSpPr>
              <a:xfrm>
                <a:off x="4249800" y="3428280"/>
                <a:ext cx="436320" cy="304200"/>
                <a:chOff x="4249800" y="3428280"/>
                <a:chExt cx="436320" cy="304200"/>
              </a:xfrm>
            </p:grpSpPr>
            <p:sp>
              <p:nvSpPr>
                <p:cNvPr id="2259" name=""/>
                <p:cNvSpPr/>
                <p:nvPr/>
              </p:nvSpPr>
              <p:spPr>
                <a:xfrm>
                  <a:off x="4249800" y="342828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0" name=""/>
                <p:cNvGrpSpPr/>
                <p:nvPr/>
              </p:nvGrpSpPr>
              <p:grpSpPr>
                <a:xfrm>
                  <a:off x="4249800" y="3428280"/>
                  <a:ext cx="436320" cy="304200"/>
                  <a:chOff x="4249800" y="3428280"/>
                  <a:chExt cx="436320" cy="304200"/>
                </a:xfrm>
              </p:grpSpPr>
              <p:sp>
                <p:nvSpPr>
                  <p:cNvPr id="2261" name=""/>
                  <p:cNvSpPr/>
                  <p:nvPr/>
                </p:nvSpPr>
                <p:spPr>
                  <a:xfrm>
                    <a:off x="4290840" y="34282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4249800" y="342828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3" name=""/>
              <p:cNvGrpSpPr/>
              <p:nvPr/>
            </p:nvGrpSpPr>
            <p:grpSpPr>
              <a:xfrm>
                <a:off x="4686480" y="3428280"/>
                <a:ext cx="438480" cy="304200"/>
                <a:chOff x="4686480" y="3428280"/>
                <a:chExt cx="438480" cy="3042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4686480" y="342828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5" name=""/>
                <p:cNvGrpSpPr/>
                <p:nvPr/>
              </p:nvGrpSpPr>
              <p:grpSpPr>
                <a:xfrm>
                  <a:off x="4686480" y="3428280"/>
                  <a:ext cx="438480" cy="304200"/>
                  <a:chOff x="4686480" y="3428280"/>
                  <a:chExt cx="438480" cy="304200"/>
                </a:xfrm>
              </p:grpSpPr>
              <p:sp>
                <p:nvSpPr>
                  <p:cNvPr id="2266" name=""/>
                  <p:cNvSpPr/>
                  <p:nvPr/>
                </p:nvSpPr>
                <p:spPr>
                  <a:xfrm>
                    <a:off x="4727880" y="342828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4686480" y="342828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8" name=""/>
              <p:cNvGrpSpPr/>
              <p:nvPr/>
            </p:nvGrpSpPr>
            <p:grpSpPr>
              <a:xfrm>
                <a:off x="5124960" y="3428280"/>
                <a:ext cx="436680" cy="304200"/>
                <a:chOff x="5124960" y="3428280"/>
                <a:chExt cx="436680" cy="30420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5124960" y="34282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0" name=""/>
                <p:cNvGrpSpPr/>
                <p:nvPr/>
              </p:nvGrpSpPr>
              <p:grpSpPr>
                <a:xfrm>
                  <a:off x="5124960" y="3428280"/>
                  <a:ext cx="436680" cy="304200"/>
                  <a:chOff x="5124960" y="3428280"/>
                  <a:chExt cx="436680" cy="304200"/>
                </a:xfrm>
              </p:grpSpPr>
              <p:sp>
                <p:nvSpPr>
                  <p:cNvPr id="2271" name=""/>
                  <p:cNvSpPr/>
                  <p:nvPr/>
                </p:nvSpPr>
                <p:spPr>
                  <a:xfrm>
                    <a:off x="5166000" y="34282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5124960" y="34282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3" name=""/>
              <p:cNvGrpSpPr/>
              <p:nvPr/>
            </p:nvGrpSpPr>
            <p:grpSpPr>
              <a:xfrm>
                <a:off x="5561640" y="3428280"/>
                <a:ext cx="436320" cy="304200"/>
                <a:chOff x="5561640" y="3428280"/>
                <a:chExt cx="436320" cy="304200"/>
              </a:xfrm>
            </p:grpSpPr>
            <p:sp>
              <p:nvSpPr>
                <p:cNvPr id="2274" name=""/>
                <p:cNvSpPr/>
                <p:nvPr/>
              </p:nvSpPr>
              <p:spPr>
                <a:xfrm>
                  <a:off x="5561640" y="342828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5" name=""/>
                <p:cNvGrpSpPr/>
                <p:nvPr/>
              </p:nvGrpSpPr>
              <p:grpSpPr>
                <a:xfrm>
                  <a:off x="5561640" y="3428280"/>
                  <a:ext cx="436320" cy="304200"/>
                  <a:chOff x="5561640" y="3428280"/>
                  <a:chExt cx="436320" cy="304200"/>
                </a:xfrm>
              </p:grpSpPr>
              <p:sp>
                <p:nvSpPr>
                  <p:cNvPr id="2276" name=""/>
                  <p:cNvSpPr/>
                  <p:nvPr/>
                </p:nvSpPr>
                <p:spPr>
                  <a:xfrm>
                    <a:off x="5602680" y="34282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5561640" y="342828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8" name=""/>
              <p:cNvGrpSpPr/>
              <p:nvPr/>
            </p:nvGrpSpPr>
            <p:grpSpPr>
              <a:xfrm>
                <a:off x="5998320" y="3428280"/>
                <a:ext cx="436680" cy="304200"/>
                <a:chOff x="5998320" y="3428280"/>
                <a:chExt cx="436680" cy="304200"/>
              </a:xfrm>
            </p:grpSpPr>
            <p:sp>
              <p:nvSpPr>
                <p:cNvPr id="2279" name=""/>
                <p:cNvSpPr/>
                <p:nvPr/>
              </p:nvSpPr>
              <p:spPr>
                <a:xfrm>
                  <a:off x="5998320" y="34282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0" name=""/>
                <p:cNvGrpSpPr/>
                <p:nvPr/>
              </p:nvGrpSpPr>
              <p:grpSpPr>
                <a:xfrm>
                  <a:off x="5998320" y="3428280"/>
                  <a:ext cx="436680" cy="304200"/>
                  <a:chOff x="5998320" y="3428280"/>
                  <a:chExt cx="436680" cy="304200"/>
                </a:xfrm>
              </p:grpSpPr>
              <p:sp>
                <p:nvSpPr>
                  <p:cNvPr id="2281" name=""/>
                  <p:cNvSpPr/>
                  <p:nvPr/>
                </p:nvSpPr>
                <p:spPr>
                  <a:xfrm>
                    <a:off x="6039720" y="34282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5998320" y="34282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83" name=""/>
              <p:cNvGrpSpPr/>
              <p:nvPr/>
            </p:nvGrpSpPr>
            <p:grpSpPr>
              <a:xfrm>
                <a:off x="6435000" y="3428280"/>
                <a:ext cx="436680" cy="304200"/>
                <a:chOff x="6435000" y="3428280"/>
                <a:chExt cx="436680" cy="30420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6435000" y="342828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5" name=""/>
                <p:cNvGrpSpPr/>
                <p:nvPr/>
              </p:nvGrpSpPr>
              <p:grpSpPr>
                <a:xfrm>
                  <a:off x="6435000" y="3428280"/>
                  <a:ext cx="436680" cy="304200"/>
                  <a:chOff x="6435000" y="3428280"/>
                  <a:chExt cx="436680" cy="304200"/>
                </a:xfrm>
              </p:grpSpPr>
              <p:sp>
                <p:nvSpPr>
                  <p:cNvPr id="2286" name=""/>
                  <p:cNvSpPr/>
                  <p:nvPr/>
                </p:nvSpPr>
                <p:spPr>
                  <a:xfrm>
                    <a:off x="6476400" y="342828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6435000" y="342828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88" name=""/>
              <p:cNvGrpSpPr/>
              <p:nvPr/>
            </p:nvGrpSpPr>
            <p:grpSpPr>
              <a:xfrm>
                <a:off x="6871680" y="3428280"/>
                <a:ext cx="438120" cy="304200"/>
                <a:chOff x="6871680" y="3428280"/>
                <a:chExt cx="438120" cy="304200"/>
              </a:xfrm>
            </p:grpSpPr>
            <p:sp>
              <p:nvSpPr>
                <p:cNvPr id="2289" name=""/>
                <p:cNvSpPr/>
                <p:nvPr/>
              </p:nvSpPr>
              <p:spPr>
                <a:xfrm>
                  <a:off x="6871680" y="342828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0" name=""/>
                <p:cNvGrpSpPr/>
                <p:nvPr/>
              </p:nvGrpSpPr>
              <p:grpSpPr>
                <a:xfrm>
                  <a:off x="6871680" y="3428280"/>
                  <a:ext cx="438120" cy="304200"/>
                  <a:chOff x="6871680" y="3428280"/>
                  <a:chExt cx="438120" cy="304200"/>
                </a:xfrm>
              </p:grpSpPr>
              <p:sp>
                <p:nvSpPr>
                  <p:cNvPr id="2291" name=""/>
                  <p:cNvSpPr/>
                  <p:nvPr/>
                </p:nvSpPr>
                <p:spPr>
                  <a:xfrm>
                    <a:off x="6913080" y="342828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6871680" y="342828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3" name=""/>
              <p:cNvGrpSpPr/>
              <p:nvPr/>
            </p:nvGrpSpPr>
            <p:grpSpPr>
              <a:xfrm>
                <a:off x="2061720" y="3732840"/>
                <a:ext cx="438120" cy="304200"/>
                <a:chOff x="2061720" y="3732840"/>
                <a:chExt cx="438120" cy="30420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2061720" y="373284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5" name=""/>
                <p:cNvGrpSpPr/>
                <p:nvPr/>
              </p:nvGrpSpPr>
              <p:grpSpPr>
                <a:xfrm>
                  <a:off x="2061720" y="3732840"/>
                  <a:ext cx="438120" cy="304200"/>
                  <a:chOff x="2061720" y="3732840"/>
                  <a:chExt cx="438120" cy="304200"/>
                </a:xfrm>
              </p:grpSpPr>
              <p:sp>
                <p:nvSpPr>
                  <p:cNvPr id="2296" name=""/>
                  <p:cNvSpPr/>
                  <p:nvPr/>
                </p:nvSpPr>
                <p:spPr>
                  <a:xfrm>
                    <a:off x="2102760" y="373284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2061720" y="373284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8" name=""/>
              <p:cNvGrpSpPr/>
              <p:nvPr/>
            </p:nvGrpSpPr>
            <p:grpSpPr>
              <a:xfrm>
                <a:off x="2499840" y="3732840"/>
                <a:ext cx="438480" cy="304200"/>
                <a:chOff x="2499840" y="3732840"/>
                <a:chExt cx="438480" cy="304200"/>
              </a:xfrm>
            </p:grpSpPr>
            <p:sp>
              <p:nvSpPr>
                <p:cNvPr id="2299" name=""/>
                <p:cNvSpPr/>
                <p:nvPr/>
              </p:nvSpPr>
              <p:spPr>
                <a:xfrm>
                  <a:off x="2499840" y="373284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0" name=""/>
                <p:cNvGrpSpPr/>
                <p:nvPr/>
              </p:nvGrpSpPr>
              <p:grpSpPr>
                <a:xfrm>
                  <a:off x="2499840" y="3732840"/>
                  <a:ext cx="438480" cy="304200"/>
                  <a:chOff x="2499840" y="3732840"/>
                  <a:chExt cx="438480" cy="304200"/>
                </a:xfrm>
              </p:grpSpPr>
              <p:sp>
                <p:nvSpPr>
                  <p:cNvPr id="2301" name=""/>
                  <p:cNvSpPr/>
                  <p:nvPr/>
                </p:nvSpPr>
                <p:spPr>
                  <a:xfrm>
                    <a:off x="2541240" y="37328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2499840" y="373284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3" name=""/>
              <p:cNvGrpSpPr/>
              <p:nvPr/>
            </p:nvGrpSpPr>
            <p:grpSpPr>
              <a:xfrm>
                <a:off x="2938320" y="3732840"/>
                <a:ext cx="438120" cy="304200"/>
                <a:chOff x="2938320" y="3732840"/>
                <a:chExt cx="438120" cy="30420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2938320" y="373284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5" name=""/>
                <p:cNvGrpSpPr/>
                <p:nvPr/>
              </p:nvGrpSpPr>
              <p:grpSpPr>
                <a:xfrm>
                  <a:off x="2938320" y="3732840"/>
                  <a:ext cx="438120" cy="304200"/>
                  <a:chOff x="2938320" y="3732840"/>
                  <a:chExt cx="438120" cy="304200"/>
                </a:xfrm>
              </p:grpSpPr>
              <p:sp>
                <p:nvSpPr>
                  <p:cNvPr id="2306" name=""/>
                  <p:cNvSpPr/>
                  <p:nvPr/>
                </p:nvSpPr>
                <p:spPr>
                  <a:xfrm>
                    <a:off x="2979360" y="37328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2938320" y="373284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8" name=""/>
              <p:cNvGrpSpPr/>
              <p:nvPr/>
            </p:nvGrpSpPr>
            <p:grpSpPr>
              <a:xfrm>
                <a:off x="3376440" y="3732840"/>
                <a:ext cx="436680" cy="304200"/>
                <a:chOff x="3376440" y="3732840"/>
                <a:chExt cx="436680" cy="304200"/>
              </a:xfrm>
            </p:grpSpPr>
            <p:sp>
              <p:nvSpPr>
                <p:cNvPr id="2309" name=""/>
                <p:cNvSpPr/>
                <p:nvPr/>
              </p:nvSpPr>
              <p:spPr>
                <a:xfrm>
                  <a:off x="3376440" y="37328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0" name=""/>
                <p:cNvGrpSpPr/>
                <p:nvPr/>
              </p:nvGrpSpPr>
              <p:grpSpPr>
                <a:xfrm>
                  <a:off x="3376440" y="3732840"/>
                  <a:ext cx="436680" cy="304200"/>
                  <a:chOff x="3376440" y="3732840"/>
                  <a:chExt cx="436680" cy="304200"/>
                </a:xfrm>
              </p:grpSpPr>
              <p:sp>
                <p:nvSpPr>
                  <p:cNvPr id="2311" name=""/>
                  <p:cNvSpPr/>
                  <p:nvPr/>
                </p:nvSpPr>
                <p:spPr>
                  <a:xfrm>
                    <a:off x="3417480" y="37328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3376440" y="37328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3" name=""/>
              <p:cNvGrpSpPr/>
              <p:nvPr/>
            </p:nvGrpSpPr>
            <p:grpSpPr>
              <a:xfrm>
                <a:off x="3813120" y="3732840"/>
                <a:ext cx="436680" cy="304200"/>
                <a:chOff x="3813120" y="3732840"/>
                <a:chExt cx="436680" cy="304200"/>
              </a:xfrm>
            </p:grpSpPr>
            <p:sp>
              <p:nvSpPr>
                <p:cNvPr id="2314" name=""/>
                <p:cNvSpPr/>
                <p:nvPr/>
              </p:nvSpPr>
              <p:spPr>
                <a:xfrm>
                  <a:off x="3813120" y="37328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5" name=""/>
                <p:cNvGrpSpPr/>
                <p:nvPr/>
              </p:nvGrpSpPr>
              <p:grpSpPr>
                <a:xfrm>
                  <a:off x="3813120" y="3732840"/>
                  <a:ext cx="436680" cy="304200"/>
                  <a:chOff x="3813120" y="3732840"/>
                  <a:chExt cx="436680" cy="304200"/>
                </a:xfrm>
              </p:grpSpPr>
              <p:sp>
                <p:nvSpPr>
                  <p:cNvPr id="2316" name=""/>
                  <p:cNvSpPr/>
                  <p:nvPr/>
                </p:nvSpPr>
                <p:spPr>
                  <a:xfrm>
                    <a:off x="3854160" y="37328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3813120" y="37328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8" name=""/>
              <p:cNvGrpSpPr/>
              <p:nvPr/>
            </p:nvGrpSpPr>
            <p:grpSpPr>
              <a:xfrm>
                <a:off x="4249800" y="3732840"/>
                <a:ext cx="436320" cy="304200"/>
                <a:chOff x="4249800" y="3732840"/>
                <a:chExt cx="436320" cy="304200"/>
              </a:xfrm>
            </p:grpSpPr>
            <p:sp>
              <p:nvSpPr>
                <p:cNvPr id="2319" name=""/>
                <p:cNvSpPr/>
                <p:nvPr/>
              </p:nvSpPr>
              <p:spPr>
                <a:xfrm>
                  <a:off x="4249800" y="373284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0" name=""/>
                <p:cNvGrpSpPr/>
                <p:nvPr/>
              </p:nvGrpSpPr>
              <p:grpSpPr>
                <a:xfrm>
                  <a:off x="4249800" y="3732840"/>
                  <a:ext cx="436320" cy="304200"/>
                  <a:chOff x="4249800" y="3732840"/>
                  <a:chExt cx="436320" cy="304200"/>
                </a:xfrm>
              </p:grpSpPr>
              <p:sp>
                <p:nvSpPr>
                  <p:cNvPr id="2321" name=""/>
                  <p:cNvSpPr/>
                  <p:nvPr/>
                </p:nvSpPr>
                <p:spPr>
                  <a:xfrm>
                    <a:off x="4290840" y="37328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4249800" y="373284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3" name=""/>
              <p:cNvGrpSpPr/>
              <p:nvPr/>
            </p:nvGrpSpPr>
            <p:grpSpPr>
              <a:xfrm>
                <a:off x="4686480" y="3732840"/>
                <a:ext cx="438480" cy="304200"/>
                <a:chOff x="4686480" y="3732840"/>
                <a:chExt cx="438480" cy="304200"/>
              </a:xfrm>
            </p:grpSpPr>
            <p:sp>
              <p:nvSpPr>
                <p:cNvPr id="2324" name=""/>
                <p:cNvSpPr/>
                <p:nvPr/>
              </p:nvSpPr>
              <p:spPr>
                <a:xfrm>
                  <a:off x="4686480" y="373284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5" name=""/>
                <p:cNvGrpSpPr/>
                <p:nvPr/>
              </p:nvGrpSpPr>
              <p:grpSpPr>
                <a:xfrm>
                  <a:off x="4686480" y="3732840"/>
                  <a:ext cx="438480" cy="304200"/>
                  <a:chOff x="4686480" y="3732840"/>
                  <a:chExt cx="438480" cy="304200"/>
                </a:xfrm>
              </p:grpSpPr>
              <p:sp>
                <p:nvSpPr>
                  <p:cNvPr id="2326" name=""/>
                  <p:cNvSpPr/>
                  <p:nvPr/>
                </p:nvSpPr>
                <p:spPr>
                  <a:xfrm>
                    <a:off x="4727880" y="37328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4686480" y="373284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8" name=""/>
              <p:cNvGrpSpPr/>
              <p:nvPr/>
            </p:nvGrpSpPr>
            <p:grpSpPr>
              <a:xfrm>
                <a:off x="5124960" y="3732840"/>
                <a:ext cx="436680" cy="304200"/>
                <a:chOff x="5124960" y="3732840"/>
                <a:chExt cx="436680" cy="30420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5124960" y="37328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0" name=""/>
                <p:cNvGrpSpPr/>
                <p:nvPr/>
              </p:nvGrpSpPr>
              <p:grpSpPr>
                <a:xfrm>
                  <a:off x="5124960" y="3732840"/>
                  <a:ext cx="436680" cy="304200"/>
                  <a:chOff x="5124960" y="3732840"/>
                  <a:chExt cx="436680" cy="304200"/>
                </a:xfrm>
              </p:grpSpPr>
              <p:sp>
                <p:nvSpPr>
                  <p:cNvPr id="2331" name=""/>
                  <p:cNvSpPr/>
                  <p:nvPr/>
                </p:nvSpPr>
                <p:spPr>
                  <a:xfrm>
                    <a:off x="5166000" y="37328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5124960" y="37328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33" name=""/>
              <p:cNvGrpSpPr/>
              <p:nvPr/>
            </p:nvGrpSpPr>
            <p:grpSpPr>
              <a:xfrm>
                <a:off x="5561640" y="3732840"/>
                <a:ext cx="436320" cy="304200"/>
                <a:chOff x="5561640" y="3732840"/>
                <a:chExt cx="436320" cy="304200"/>
              </a:xfrm>
            </p:grpSpPr>
            <p:sp>
              <p:nvSpPr>
                <p:cNvPr id="2334" name=""/>
                <p:cNvSpPr/>
                <p:nvPr/>
              </p:nvSpPr>
              <p:spPr>
                <a:xfrm>
                  <a:off x="5561640" y="373284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5" name=""/>
                <p:cNvGrpSpPr/>
                <p:nvPr/>
              </p:nvGrpSpPr>
              <p:grpSpPr>
                <a:xfrm>
                  <a:off x="5561640" y="3732840"/>
                  <a:ext cx="436320" cy="304200"/>
                  <a:chOff x="5561640" y="3732840"/>
                  <a:chExt cx="436320" cy="304200"/>
                </a:xfrm>
              </p:grpSpPr>
              <p:sp>
                <p:nvSpPr>
                  <p:cNvPr id="2336" name=""/>
                  <p:cNvSpPr/>
                  <p:nvPr/>
                </p:nvSpPr>
                <p:spPr>
                  <a:xfrm>
                    <a:off x="5602680" y="37328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5561640" y="373284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38" name=""/>
              <p:cNvGrpSpPr/>
              <p:nvPr/>
            </p:nvGrpSpPr>
            <p:grpSpPr>
              <a:xfrm>
                <a:off x="5998320" y="3732840"/>
                <a:ext cx="436680" cy="304200"/>
                <a:chOff x="5998320" y="3732840"/>
                <a:chExt cx="436680" cy="304200"/>
              </a:xfrm>
            </p:grpSpPr>
            <p:sp>
              <p:nvSpPr>
                <p:cNvPr id="2339" name=""/>
                <p:cNvSpPr/>
                <p:nvPr/>
              </p:nvSpPr>
              <p:spPr>
                <a:xfrm>
                  <a:off x="5998320" y="37328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0" name=""/>
                <p:cNvGrpSpPr/>
                <p:nvPr/>
              </p:nvGrpSpPr>
              <p:grpSpPr>
                <a:xfrm>
                  <a:off x="5998320" y="3732840"/>
                  <a:ext cx="436680" cy="304200"/>
                  <a:chOff x="5998320" y="3732840"/>
                  <a:chExt cx="436680" cy="304200"/>
                </a:xfrm>
              </p:grpSpPr>
              <p:sp>
                <p:nvSpPr>
                  <p:cNvPr id="2341" name=""/>
                  <p:cNvSpPr/>
                  <p:nvPr/>
                </p:nvSpPr>
                <p:spPr>
                  <a:xfrm>
                    <a:off x="6039720" y="37328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5998320" y="37328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3" name=""/>
              <p:cNvGrpSpPr/>
              <p:nvPr/>
            </p:nvGrpSpPr>
            <p:grpSpPr>
              <a:xfrm>
                <a:off x="6435000" y="3732840"/>
                <a:ext cx="436680" cy="304200"/>
                <a:chOff x="6435000" y="3732840"/>
                <a:chExt cx="436680" cy="304200"/>
              </a:xfrm>
            </p:grpSpPr>
            <p:sp>
              <p:nvSpPr>
                <p:cNvPr id="2344" name=""/>
                <p:cNvSpPr/>
                <p:nvPr/>
              </p:nvSpPr>
              <p:spPr>
                <a:xfrm>
                  <a:off x="6435000" y="37328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5" name=""/>
                <p:cNvGrpSpPr/>
                <p:nvPr/>
              </p:nvGrpSpPr>
              <p:grpSpPr>
                <a:xfrm>
                  <a:off x="6435000" y="3732840"/>
                  <a:ext cx="436680" cy="304200"/>
                  <a:chOff x="6435000" y="3732840"/>
                  <a:chExt cx="436680" cy="304200"/>
                </a:xfrm>
              </p:grpSpPr>
              <p:sp>
                <p:nvSpPr>
                  <p:cNvPr id="2346" name=""/>
                  <p:cNvSpPr/>
                  <p:nvPr/>
                </p:nvSpPr>
                <p:spPr>
                  <a:xfrm>
                    <a:off x="6476400" y="37328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6435000" y="37328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8" name=""/>
              <p:cNvGrpSpPr/>
              <p:nvPr/>
            </p:nvGrpSpPr>
            <p:grpSpPr>
              <a:xfrm>
                <a:off x="6871680" y="3732840"/>
                <a:ext cx="438120" cy="304200"/>
                <a:chOff x="6871680" y="3732840"/>
                <a:chExt cx="438120" cy="304200"/>
              </a:xfrm>
            </p:grpSpPr>
            <p:sp>
              <p:nvSpPr>
                <p:cNvPr id="2349" name=""/>
                <p:cNvSpPr/>
                <p:nvPr/>
              </p:nvSpPr>
              <p:spPr>
                <a:xfrm>
                  <a:off x="6871680" y="373284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0" name=""/>
                <p:cNvGrpSpPr/>
                <p:nvPr/>
              </p:nvGrpSpPr>
              <p:grpSpPr>
                <a:xfrm>
                  <a:off x="6871680" y="3732840"/>
                  <a:ext cx="438120" cy="304200"/>
                  <a:chOff x="6871680" y="3732840"/>
                  <a:chExt cx="438120" cy="304200"/>
                </a:xfrm>
              </p:grpSpPr>
              <p:sp>
                <p:nvSpPr>
                  <p:cNvPr id="2351" name=""/>
                  <p:cNvSpPr/>
                  <p:nvPr/>
                </p:nvSpPr>
                <p:spPr>
                  <a:xfrm>
                    <a:off x="6913080" y="37328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6871680" y="373284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53" name=""/>
              <p:cNvGrpSpPr/>
              <p:nvPr/>
            </p:nvGrpSpPr>
            <p:grpSpPr>
              <a:xfrm>
                <a:off x="2061720" y="4037040"/>
                <a:ext cx="438120" cy="304200"/>
                <a:chOff x="2061720" y="4037040"/>
                <a:chExt cx="438120" cy="304200"/>
              </a:xfrm>
            </p:grpSpPr>
            <p:sp>
              <p:nvSpPr>
                <p:cNvPr id="2354" name=""/>
                <p:cNvSpPr/>
                <p:nvPr/>
              </p:nvSpPr>
              <p:spPr>
                <a:xfrm>
                  <a:off x="2061720" y="403704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5" name=""/>
                <p:cNvGrpSpPr/>
                <p:nvPr/>
              </p:nvGrpSpPr>
              <p:grpSpPr>
                <a:xfrm>
                  <a:off x="2061720" y="4037040"/>
                  <a:ext cx="438120" cy="304200"/>
                  <a:chOff x="2061720" y="4037040"/>
                  <a:chExt cx="438120" cy="304200"/>
                </a:xfrm>
              </p:grpSpPr>
              <p:sp>
                <p:nvSpPr>
                  <p:cNvPr id="2356" name=""/>
                  <p:cNvSpPr/>
                  <p:nvPr/>
                </p:nvSpPr>
                <p:spPr>
                  <a:xfrm>
                    <a:off x="2102760" y="403704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2061720" y="403704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58" name=""/>
              <p:cNvGrpSpPr/>
              <p:nvPr/>
            </p:nvGrpSpPr>
            <p:grpSpPr>
              <a:xfrm>
                <a:off x="2499840" y="4037040"/>
                <a:ext cx="438480" cy="304200"/>
                <a:chOff x="2499840" y="4037040"/>
                <a:chExt cx="438480" cy="304200"/>
              </a:xfrm>
            </p:grpSpPr>
            <p:sp>
              <p:nvSpPr>
                <p:cNvPr id="2359" name=""/>
                <p:cNvSpPr/>
                <p:nvPr/>
              </p:nvSpPr>
              <p:spPr>
                <a:xfrm>
                  <a:off x="2499840" y="403704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0" name=""/>
                <p:cNvGrpSpPr/>
                <p:nvPr/>
              </p:nvGrpSpPr>
              <p:grpSpPr>
                <a:xfrm>
                  <a:off x="2499840" y="4037040"/>
                  <a:ext cx="438480" cy="304200"/>
                  <a:chOff x="2499840" y="4037040"/>
                  <a:chExt cx="438480" cy="304200"/>
                </a:xfrm>
              </p:grpSpPr>
              <p:sp>
                <p:nvSpPr>
                  <p:cNvPr id="2361" name=""/>
                  <p:cNvSpPr/>
                  <p:nvPr/>
                </p:nvSpPr>
                <p:spPr>
                  <a:xfrm>
                    <a:off x="2541240" y="40370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2499840" y="403704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3" name=""/>
              <p:cNvGrpSpPr/>
              <p:nvPr/>
            </p:nvGrpSpPr>
            <p:grpSpPr>
              <a:xfrm>
                <a:off x="2938320" y="4037040"/>
                <a:ext cx="438120" cy="304200"/>
                <a:chOff x="2938320" y="4037040"/>
                <a:chExt cx="438120" cy="304200"/>
              </a:xfrm>
            </p:grpSpPr>
            <p:sp>
              <p:nvSpPr>
                <p:cNvPr id="2364" name=""/>
                <p:cNvSpPr/>
                <p:nvPr/>
              </p:nvSpPr>
              <p:spPr>
                <a:xfrm>
                  <a:off x="2938320" y="403704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5" name=""/>
                <p:cNvGrpSpPr/>
                <p:nvPr/>
              </p:nvGrpSpPr>
              <p:grpSpPr>
                <a:xfrm>
                  <a:off x="2938320" y="4037040"/>
                  <a:ext cx="438120" cy="304200"/>
                  <a:chOff x="2938320" y="4037040"/>
                  <a:chExt cx="438120" cy="304200"/>
                </a:xfrm>
              </p:grpSpPr>
              <p:sp>
                <p:nvSpPr>
                  <p:cNvPr id="2366" name=""/>
                  <p:cNvSpPr/>
                  <p:nvPr/>
                </p:nvSpPr>
                <p:spPr>
                  <a:xfrm>
                    <a:off x="2979360" y="40370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2938320" y="403704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8" name=""/>
              <p:cNvGrpSpPr/>
              <p:nvPr/>
            </p:nvGrpSpPr>
            <p:grpSpPr>
              <a:xfrm>
                <a:off x="3376440" y="4037040"/>
                <a:ext cx="436680" cy="304200"/>
                <a:chOff x="3376440" y="4037040"/>
                <a:chExt cx="436680" cy="30420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3376440" y="40370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0" name=""/>
                <p:cNvGrpSpPr/>
                <p:nvPr/>
              </p:nvGrpSpPr>
              <p:grpSpPr>
                <a:xfrm>
                  <a:off x="3376440" y="4037040"/>
                  <a:ext cx="436680" cy="304200"/>
                  <a:chOff x="3376440" y="4037040"/>
                  <a:chExt cx="436680" cy="304200"/>
                </a:xfrm>
              </p:grpSpPr>
              <p:sp>
                <p:nvSpPr>
                  <p:cNvPr id="2371" name=""/>
                  <p:cNvSpPr/>
                  <p:nvPr/>
                </p:nvSpPr>
                <p:spPr>
                  <a:xfrm>
                    <a:off x="3417480" y="40370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3376440" y="40370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3" name=""/>
              <p:cNvGrpSpPr/>
              <p:nvPr/>
            </p:nvGrpSpPr>
            <p:grpSpPr>
              <a:xfrm>
                <a:off x="3813120" y="4037040"/>
                <a:ext cx="436680" cy="304200"/>
                <a:chOff x="3813120" y="4037040"/>
                <a:chExt cx="436680" cy="30420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3813120" y="40370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5" name=""/>
                <p:cNvGrpSpPr/>
                <p:nvPr/>
              </p:nvGrpSpPr>
              <p:grpSpPr>
                <a:xfrm>
                  <a:off x="3813120" y="4037040"/>
                  <a:ext cx="436680" cy="304200"/>
                  <a:chOff x="3813120" y="4037040"/>
                  <a:chExt cx="436680" cy="304200"/>
                </a:xfrm>
              </p:grpSpPr>
              <p:sp>
                <p:nvSpPr>
                  <p:cNvPr id="2376" name=""/>
                  <p:cNvSpPr/>
                  <p:nvPr/>
                </p:nvSpPr>
                <p:spPr>
                  <a:xfrm>
                    <a:off x="3854160" y="40370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3813120" y="40370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8" name=""/>
              <p:cNvGrpSpPr/>
              <p:nvPr/>
            </p:nvGrpSpPr>
            <p:grpSpPr>
              <a:xfrm>
                <a:off x="4249800" y="4037040"/>
                <a:ext cx="436320" cy="304200"/>
                <a:chOff x="4249800" y="4037040"/>
                <a:chExt cx="436320" cy="30420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4249800" y="403704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0" name=""/>
                <p:cNvGrpSpPr/>
                <p:nvPr/>
              </p:nvGrpSpPr>
              <p:grpSpPr>
                <a:xfrm>
                  <a:off x="4249800" y="4037040"/>
                  <a:ext cx="436320" cy="304200"/>
                  <a:chOff x="4249800" y="4037040"/>
                  <a:chExt cx="436320" cy="304200"/>
                </a:xfrm>
              </p:grpSpPr>
              <p:sp>
                <p:nvSpPr>
                  <p:cNvPr id="2381" name=""/>
                  <p:cNvSpPr/>
                  <p:nvPr/>
                </p:nvSpPr>
                <p:spPr>
                  <a:xfrm>
                    <a:off x="4290840" y="40370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4249800" y="403704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3" name=""/>
              <p:cNvGrpSpPr/>
              <p:nvPr/>
            </p:nvGrpSpPr>
            <p:grpSpPr>
              <a:xfrm>
                <a:off x="4686480" y="4037040"/>
                <a:ext cx="438480" cy="304200"/>
                <a:chOff x="4686480" y="4037040"/>
                <a:chExt cx="438480" cy="304200"/>
              </a:xfrm>
            </p:grpSpPr>
            <p:sp>
              <p:nvSpPr>
                <p:cNvPr id="2384" name=""/>
                <p:cNvSpPr/>
                <p:nvPr/>
              </p:nvSpPr>
              <p:spPr>
                <a:xfrm>
                  <a:off x="4686480" y="403704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5" name=""/>
                <p:cNvGrpSpPr/>
                <p:nvPr/>
              </p:nvGrpSpPr>
              <p:grpSpPr>
                <a:xfrm>
                  <a:off x="4686480" y="4037040"/>
                  <a:ext cx="438480" cy="304200"/>
                  <a:chOff x="4686480" y="4037040"/>
                  <a:chExt cx="438480" cy="304200"/>
                </a:xfrm>
              </p:grpSpPr>
              <p:sp>
                <p:nvSpPr>
                  <p:cNvPr id="2386" name=""/>
                  <p:cNvSpPr/>
                  <p:nvPr/>
                </p:nvSpPr>
                <p:spPr>
                  <a:xfrm>
                    <a:off x="4727880" y="40370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>
                    <a:off x="4686480" y="403704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8" name=""/>
              <p:cNvGrpSpPr/>
              <p:nvPr/>
            </p:nvGrpSpPr>
            <p:grpSpPr>
              <a:xfrm>
                <a:off x="5124960" y="4037040"/>
                <a:ext cx="436680" cy="304200"/>
                <a:chOff x="5124960" y="4037040"/>
                <a:chExt cx="436680" cy="30420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5124960" y="40370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0" name=""/>
                <p:cNvGrpSpPr/>
                <p:nvPr/>
              </p:nvGrpSpPr>
              <p:grpSpPr>
                <a:xfrm>
                  <a:off x="5124960" y="4037040"/>
                  <a:ext cx="436680" cy="304200"/>
                  <a:chOff x="5124960" y="4037040"/>
                  <a:chExt cx="436680" cy="304200"/>
                </a:xfrm>
              </p:grpSpPr>
              <p:sp>
                <p:nvSpPr>
                  <p:cNvPr id="2391" name=""/>
                  <p:cNvSpPr/>
                  <p:nvPr/>
                </p:nvSpPr>
                <p:spPr>
                  <a:xfrm>
                    <a:off x="5166000" y="40370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5124960" y="40370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3" name=""/>
              <p:cNvGrpSpPr/>
              <p:nvPr/>
            </p:nvGrpSpPr>
            <p:grpSpPr>
              <a:xfrm>
                <a:off x="5561640" y="4037040"/>
                <a:ext cx="436320" cy="304200"/>
                <a:chOff x="5561640" y="4037040"/>
                <a:chExt cx="436320" cy="304200"/>
              </a:xfrm>
            </p:grpSpPr>
            <p:sp>
              <p:nvSpPr>
                <p:cNvPr id="2394" name=""/>
                <p:cNvSpPr/>
                <p:nvPr/>
              </p:nvSpPr>
              <p:spPr>
                <a:xfrm>
                  <a:off x="5561640" y="403704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5" name=""/>
                <p:cNvGrpSpPr/>
                <p:nvPr/>
              </p:nvGrpSpPr>
              <p:grpSpPr>
                <a:xfrm>
                  <a:off x="5561640" y="4037040"/>
                  <a:ext cx="436320" cy="304200"/>
                  <a:chOff x="5561640" y="4037040"/>
                  <a:chExt cx="436320" cy="304200"/>
                </a:xfrm>
              </p:grpSpPr>
              <p:sp>
                <p:nvSpPr>
                  <p:cNvPr id="2396" name=""/>
                  <p:cNvSpPr/>
                  <p:nvPr/>
                </p:nvSpPr>
                <p:spPr>
                  <a:xfrm>
                    <a:off x="5602680" y="40370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5561640" y="403704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8" name=""/>
              <p:cNvGrpSpPr/>
              <p:nvPr/>
            </p:nvGrpSpPr>
            <p:grpSpPr>
              <a:xfrm>
                <a:off x="5998320" y="4037040"/>
                <a:ext cx="436680" cy="304200"/>
                <a:chOff x="5998320" y="4037040"/>
                <a:chExt cx="436680" cy="304200"/>
              </a:xfrm>
            </p:grpSpPr>
            <p:sp>
              <p:nvSpPr>
                <p:cNvPr id="2399" name=""/>
                <p:cNvSpPr/>
                <p:nvPr/>
              </p:nvSpPr>
              <p:spPr>
                <a:xfrm>
                  <a:off x="5998320" y="40370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0" name=""/>
                <p:cNvGrpSpPr/>
                <p:nvPr/>
              </p:nvGrpSpPr>
              <p:grpSpPr>
                <a:xfrm>
                  <a:off x="5998320" y="4037040"/>
                  <a:ext cx="436680" cy="304200"/>
                  <a:chOff x="5998320" y="4037040"/>
                  <a:chExt cx="436680" cy="304200"/>
                </a:xfrm>
              </p:grpSpPr>
              <p:sp>
                <p:nvSpPr>
                  <p:cNvPr id="2401" name=""/>
                  <p:cNvSpPr/>
                  <p:nvPr/>
                </p:nvSpPr>
                <p:spPr>
                  <a:xfrm>
                    <a:off x="6039720" y="40370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5998320" y="40370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3" name=""/>
              <p:cNvGrpSpPr/>
              <p:nvPr/>
            </p:nvGrpSpPr>
            <p:grpSpPr>
              <a:xfrm>
                <a:off x="6435000" y="4037040"/>
                <a:ext cx="436680" cy="304200"/>
                <a:chOff x="6435000" y="4037040"/>
                <a:chExt cx="436680" cy="30420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6435000" y="403704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5" name=""/>
                <p:cNvGrpSpPr/>
                <p:nvPr/>
              </p:nvGrpSpPr>
              <p:grpSpPr>
                <a:xfrm>
                  <a:off x="6435000" y="4037040"/>
                  <a:ext cx="436680" cy="304200"/>
                  <a:chOff x="6435000" y="4037040"/>
                  <a:chExt cx="436680" cy="304200"/>
                </a:xfrm>
              </p:grpSpPr>
              <p:sp>
                <p:nvSpPr>
                  <p:cNvPr id="2406" name=""/>
                  <p:cNvSpPr/>
                  <p:nvPr/>
                </p:nvSpPr>
                <p:spPr>
                  <a:xfrm>
                    <a:off x="6476400" y="403704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6435000" y="403704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8" name=""/>
              <p:cNvGrpSpPr/>
              <p:nvPr/>
            </p:nvGrpSpPr>
            <p:grpSpPr>
              <a:xfrm>
                <a:off x="6871680" y="4037040"/>
                <a:ext cx="438120" cy="304200"/>
                <a:chOff x="6871680" y="4037040"/>
                <a:chExt cx="438120" cy="304200"/>
              </a:xfrm>
            </p:grpSpPr>
            <p:sp>
              <p:nvSpPr>
                <p:cNvPr id="2409" name=""/>
                <p:cNvSpPr/>
                <p:nvPr/>
              </p:nvSpPr>
              <p:spPr>
                <a:xfrm>
                  <a:off x="6871680" y="403704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0" name=""/>
                <p:cNvGrpSpPr/>
                <p:nvPr/>
              </p:nvGrpSpPr>
              <p:grpSpPr>
                <a:xfrm>
                  <a:off x="6871680" y="4037040"/>
                  <a:ext cx="438120" cy="304200"/>
                  <a:chOff x="6871680" y="4037040"/>
                  <a:chExt cx="438120" cy="304200"/>
                </a:xfrm>
              </p:grpSpPr>
              <p:sp>
                <p:nvSpPr>
                  <p:cNvPr id="2411" name=""/>
                  <p:cNvSpPr/>
                  <p:nvPr/>
                </p:nvSpPr>
                <p:spPr>
                  <a:xfrm>
                    <a:off x="6913080" y="403704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6871680" y="403704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13" name=""/>
              <p:cNvGrpSpPr/>
              <p:nvPr/>
            </p:nvGrpSpPr>
            <p:grpSpPr>
              <a:xfrm>
                <a:off x="2061720" y="4341600"/>
                <a:ext cx="438120" cy="304200"/>
                <a:chOff x="2061720" y="4341600"/>
                <a:chExt cx="438120" cy="30420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2061720" y="434160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5" name=""/>
                <p:cNvGrpSpPr/>
                <p:nvPr/>
              </p:nvGrpSpPr>
              <p:grpSpPr>
                <a:xfrm>
                  <a:off x="2061720" y="4341600"/>
                  <a:ext cx="438120" cy="304200"/>
                  <a:chOff x="2061720" y="4341600"/>
                  <a:chExt cx="438120" cy="304200"/>
                </a:xfrm>
              </p:grpSpPr>
              <p:sp>
                <p:nvSpPr>
                  <p:cNvPr id="2416" name=""/>
                  <p:cNvSpPr/>
                  <p:nvPr/>
                </p:nvSpPr>
                <p:spPr>
                  <a:xfrm>
                    <a:off x="2102760" y="434160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>
                    <a:off x="2061720" y="434160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18" name=""/>
              <p:cNvGrpSpPr/>
              <p:nvPr/>
            </p:nvGrpSpPr>
            <p:grpSpPr>
              <a:xfrm>
                <a:off x="2499840" y="4341600"/>
                <a:ext cx="438480" cy="304200"/>
                <a:chOff x="2499840" y="4341600"/>
                <a:chExt cx="438480" cy="30420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2499840" y="434160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0" name=""/>
                <p:cNvGrpSpPr/>
                <p:nvPr/>
              </p:nvGrpSpPr>
              <p:grpSpPr>
                <a:xfrm>
                  <a:off x="2499840" y="4341600"/>
                  <a:ext cx="438480" cy="304200"/>
                  <a:chOff x="2499840" y="4341600"/>
                  <a:chExt cx="438480" cy="304200"/>
                </a:xfrm>
              </p:grpSpPr>
              <p:sp>
                <p:nvSpPr>
                  <p:cNvPr id="2421" name=""/>
                  <p:cNvSpPr/>
                  <p:nvPr/>
                </p:nvSpPr>
                <p:spPr>
                  <a:xfrm>
                    <a:off x="2541240" y="43416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2499840" y="434160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3" name=""/>
              <p:cNvGrpSpPr/>
              <p:nvPr/>
            </p:nvGrpSpPr>
            <p:grpSpPr>
              <a:xfrm>
                <a:off x="2938320" y="4341600"/>
                <a:ext cx="438120" cy="304200"/>
                <a:chOff x="2938320" y="4341600"/>
                <a:chExt cx="438120" cy="304200"/>
              </a:xfrm>
            </p:grpSpPr>
            <p:sp>
              <p:nvSpPr>
                <p:cNvPr id="2424" name=""/>
                <p:cNvSpPr/>
                <p:nvPr/>
              </p:nvSpPr>
              <p:spPr>
                <a:xfrm>
                  <a:off x="2938320" y="434160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5" name=""/>
                <p:cNvGrpSpPr/>
                <p:nvPr/>
              </p:nvGrpSpPr>
              <p:grpSpPr>
                <a:xfrm>
                  <a:off x="2938320" y="4341600"/>
                  <a:ext cx="438120" cy="304200"/>
                  <a:chOff x="2938320" y="4341600"/>
                  <a:chExt cx="438120" cy="304200"/>
                </a:xfrm>
              </p:grpSpPr>
              <p:sp>
                <p:nvSpPr>
                  <p:cNvPr id="2426" name=""/>
                  <p:cNvSpPr/>
                  <p:nvPr/>
                </p:nvSpPr>
                <p:spPr>
                  <a:xfrm>
                    <a:off x="2979360" y="43416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2938320" y="434160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8" name=""/>
              <p:cNvGrpSpPr/>
              <p:nvPr/>
            </p:nvGrpSpPr>
            <p:grpSpPr>
              <a:xfrm>
                <a:off x="3376440" y="4341600"/>
                <a:ext cx="436680" cy="304200"/>
                <a:chOff x="3376440" y="4341600"/>
                <a:chExt cx="436680" cy="304200"/>
              </a:xfrm>
            </p:grpSpPr>
            <p:sp>
              <p:nvSpPr>
                <p:cNvPr id="2429" name=""/>
                <p:cNvSpPr/>
                <p:nvPr/>
              </p:nvSpPr>
              <p:spPr>
                <a:xfrm>
                  <a:off x="3376440" y="43416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0" name=""/>
                <p:cNvGrpSpPr/>
                <p:nvPr/>
              </p:nvGrpSpPr>
              <p:grpSpPr>
                <a:xfrm>
                  <a:off x="3376440" y="4341600"/>
                  <a:ext cx="436680" cy="304200"/>
                  <a:chOff x="3376440" y="4341600"/>
                  <a:chExt cx="436680" cy="304200"/>
                </a:xfrm>
              </p:grpSpPr>
              <p:sp>
                <p:nvSpPr>
                  <p:cNvPr id="2431" name=""/>
                  <p:cNvSpPr/>
                  <p:nvPr/>
                </p:nvSpPr>
                <p:spPr>
                  <a:xfrm>
                    <a:off x="3417480" y="43416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3376440" y="43416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33" name=""/>
              <p:cNvGrpSpPr/>
              <p:nvPr/>
            </p:nvGrpSpPr>
            <p:grpSpPr>
              <a:xfrm>
                <a:off x="3813120" y="4341600"/>
                <a:ext cx="436680" cy="304200"/>
                <a:chOff x="3813120" y="4341600"/>
                <a:chExt cx="436680" cy="30420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3813120" y="43416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5" name=""/>
                <p:cNvGrpSpPr/>
                <p:nvPr/>
              </p:nvGrpSpPr>
              <p:grpSpPr>
                <a:xfrm>
                  <a:off x="3813120" y="4341600"/>
                  <a:ext cx="436680" cy="304200"/>
                  <a:chOff x="3813120" y="4341600"/>
                  <a:chExt cx="436680" cy="304200"/>
                </a:xfrm>
              </p:grpSpPr>
              <p:sp>
                <p:nvSpPr>
                  <p:cNvPr id="2436" name=""/>
                  <p:cNvSpPr/>
                  <p:nvPr/>
                </p:nvSpPr>
                <p:spPr>
                  <a:xfrm>
                    <a:off x="3854160" y="43416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3813120" y="43416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38" name=""/>
              <p:cNvGrpSpPr/>
              <p:nvPr/>
            </p:nvGrpSpPr>
            <p:grpSpPr>
              <a:xfrm>
                <a:off x="4249800" y="4341600"/>
                <a:ext cx="436320" cy="304200"/>
                <a:chOff x="4249800" y="4341600"/>
                <a:chExt cx="436320" cy="304200"/>
              </a:xfrm>
            </p:grpSpPr>
            <p:sp>
              <p:nvSpPr>
                <p:cNvPr id="2439" name=""/>
                <p:cNvSpPr/>
                <p:nvPr/>
              </p:nvSpPr>
              <p:spPr>
                <a:xfrm>
                  <a:off x="4249800" y="434160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0" name=""/>
                <p:cNvGrpSpPr/>
                <p:nvPr/>
              </p:nvGrpSpPr>
              <p:grpSpPr>
                <a:xfrm>
                  <a:off x="4249800" y="4341600"/>
                  <a:ext cx="436320" cy="304200"/>
                  <a:chOff x="4249800" y="4341600"/>
                  <a:chExt cx="436320" cy="304200"/>
                </a:xfrm>
              </p:grpSpPr>
              <p:sp>
                <p:nvSpPr>
                  <p:cNvPr id="2441" name=""/>
                  <p:cNvSpPr/>
                  <p:nvPr/>
                </p:nvSpPr>
                <p:spPr>
                  <a:xfrm>
                    <a:off x="4290840" y="43416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4249800" y="434160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3" name=""/>
              <p:cNvGrpSpPr/>
              <p:nvPr/>
            </p:nvGrpSpPr>
            <p:grpSpPr>
              <a:xfrm>
                <a:off x="4686480" y="4341600"/>
                <a:ext cx="438480" cy="304200"/>
                <a:chOff x="4686480" y="4341600"/>
                <a:chExt cx="438480" cy="30420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4686480" y="434160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5" name=""/>
                <p:cNvGrpSpPr/>
                <p:nvPr/>
              </p:nvGrpSpPr>
              <p:grpSpPr>
                <a:xfrm>
                  <a:off x="4686480" y="4341600"/>
                  <a:ext cx="438480" cy="304200"/>
                  <a:chOff x="4686480" y="4341600"/>
                  <a:chExt cx="438480" cy="304200"/>
                </a:xfrm>
              </p:grpSpPr>
              <p:sp>
                <p:nvSpPr>
                  <p:cNvPr id="2446" name=""/>
                  <p:cNvSpPr/>
                  <p:nvPr/>
                </p:nvSpPr>
                <p:spPr>
                  <a:xfrm>
                    <a:off x="4727880" y="43416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4686480" y="434160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8" name=""/>
              <p:cNvGrpSpPr/>
              <p:nvPr/>
            </p:nvGrpSpPr>
            <p:grpSpPr>
              <a:xfrm>
                <a:off x="5124960" y="4341600"/>
                <a:ext cx="436680" cy="304200"/>
                <a:chOff x="5124960" y="4341600"/>
                <a:chExt cx="436680" cy="30420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5124960" y="43416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0" name=""/>
                <p:cNvGrpSpPr/>
                <p:nvPr/>
              </p:nvGrpSpPr>
              <p:grpSpPr>
                <a:xfrm>
                  <a:off x="5124960" y="4341600"/>
                  <a:ext cx="436680" cy="304200"/>
                  <a:chOff x="5124960" y="4341600"/>
                  <a:chExt cx="436680" cy="30420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>
                    <a:off x="5166000" y="43416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5124960" y="43416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3" name=""/>
              <p:cNvGrpSpPr/>
              <p:nvPr/>
            </p:nvGrpSpPr>
            <p:grpSpPr>
              <a:xfrm>
                <a:off x="5561640" y="4341600"/>
                <a:ext cx="436320" cy="304200"/>
                <a:chOff x="5561640" y="4341600"/>
                <a:chExt cx="436320" cy="304200"/>
              </a:xfrm>
            </p:grpSpPr>
            <p:sp>
              <p:nvSpPr>
                <p:cNvPr id="2454" name=""/>
                <p:cNvSpPr/>
                <p:nvPr/>
              </p:nvSpPr>
              <p:spPr>
                <a:xfrm>
                  <a:off x="5561640" y="434160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5" name=""/>
                <p:cNvGrpSpPr/>
                <p:nvPr/>
              </p:nvGrpSpPr>
              <p:grpSpPr>
                <a:xfrm>
                  <a:off x="5561640" y="4341600"/>
                  <a:ext cx="436320" cy="304200"/>
                  <a:chOff x="5561640" y="4341600"/>
                  <a:chExt cx="436320" cy="304200"/>
                </a:xfrm>
              </p:grpSpPr>
              <p:sp>
                <p:nvSpPr>
                  <p:cNvPr id="2456" name=""/>
                  <p:cNvSpPr/>
                  <p:nvPr/>
                </p:nvSpPr>
                <p:spPr>
                  <a:xfrm>
                    <a:off x="5602680" y="43416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5561640" y="434160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8" name=""/>
              <p:cNvGrpSpPr/>
              <p:nvPr/>
            </p:nvGrpSpPr>
            <p:grpSpPr>
              <a:xfrm>
                <a:off x="5998320" y="4341600"/>
                <a:ext cx="436680" cy="304200"/>
                <a:chOff x="5998320" y="4341600"/>
                <a:chExt cx="436680" cy="304200"/>
              </a:xfrm>
            </p:grpSpPr>
            <p:sp>
              <p:nvSpPr>
                <p:cNvPr id="2459" name=""/>
                <p:cNvSpPr/>
                <p:nvPr/>
              </p:nvSpPr>
              <p:spPr>
                <a:xfrm>
                  <a:off x="5998320" y="43416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0" name=""/>
                <p:cNvGrpSpPr/>
                <p:nvPr/>
              </p:nvGrpSpPr>
              <p:grpSpPr>
                <a:xfrm>
                  <a:off x="5998320" y="4341600"/>
                  <a:ext cx="436680" cy="304200"/>
                  <a:chOff x="5998320" y="4341600"/>
                  <a:chExt cx="436680" cy="304200"/>
                </a:xfrm>
              </p:grpSpPr>
              <p:sp>
                <p:nvSpPr>
                  <p:cNvPr id="2461" name=""/>
                  <p:cNvSpPr/>
                  <p:nvPr/>
                </p:nvSpPr>
                <p:spPr>
                  <a:xfrm>
                    <a:off x="6039720" y="43416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5998320" y="43416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63" name=""/>
              <p:cNvGrpSpPr/>
              <p:nvPr/>
            </p:nvGrpSpPr>
            <p:grpSpPr>
              <a:xfrm>
                <a:off x="6435000" y="4341600"/>
                <a:ext cx="436680" cy="304200"/>
                <a:chOff x="6435000" y="4341600"/>
                <a:chExt cx="436680" cy="30420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6435000" y="434160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5" name=""/>
                <p:cNvGrpSpPr/>
                <p:nvPr/>
              </p:nvGrpSpPr>
              <p:grpSpPr>
                <a:xfrm>
                  <a:off x="6435000" y="4341600"/>
                  <a:ext cx="436680" cy="304200"/>
                  <a:chOff x="6435000" y="4341600"/>
                  <a:chExt cx="436680" cy="30420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>
                    <a:off x="6476400" y="434160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6435000" y="434160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68" name=""/>
              <p:cNvGrpSpPr/>
              <p:nvPr/>
            </p:nvGrpSpPr>
            <p:grpSpPr>
              <a:xfrm>
                <a:off x="6871680" y="4341600"/>
                <a:ext cx="438120" cy="304200"/>
                <a:chOff x="6871680" y="4341600"/>
                <a:chExt cx="438120" cy="30420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6871680" y="434160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0" name=""/>
                <p:cNvGrpSpPr/>
                <p:nvPr/>
              </p:nvGrpSpPr>
              <p:grpSpPr>
                <a:xfrm>
                  <a:off x="6871680" y="4341600"/>
                  <a:ext cx="438120" cy="304200"/>
                  <a:chOff x="6871680" y="4341600"/>
                  <a:chExt cx="438120" cy="304200"/>
                </a:xfrm>
              </p:grpSpPr>
              <p:sp>
                <p:nvSpPr>
                  <p:cNvPr id="2471" name=""/>
                  <p:cNvSpPr/>
                  <p:nvPr/>
                </p:nvSpPr>
                <p:spPr>
                  <a:xfrm>
                    <a:off x="6913080" y="434160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6871680" y="434160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3" name=""/>
              <p:cNvGrpSpPr/>
              <p:nvPr/>
            </p:nvGrpSpPr>
            <p:grpSpPr>
              <a:xfrm>
                <a:off x="2061720" y="4646160"/>
                <a:ext cx="438120" cy="304200"/>
                <a:chOff x="2061720" y="4646160"/>
                <a:chExt cx="438120" cy="304200"/>
              </a:xfrm>
            </p:grpSpPr>
            <p:sp>
              <p:nvSpPr>
                <p:cNvPr id="2474" name=""/>
                <p:cNvSpPr/>
                <p:nvPr/>
              </p:nvSpPr>
              <p:spPr>
                <a:xfrm>
                  <a:off x="2061720" y="464616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5" name=""/>
                <p:cNvGrpSpPr/>
                <p:nvPr/>
              </p:nvGrpSpPr>
              <p:grpSpPr>
                <a:xfrm>
                  <a:off x="2061720" y="4646160"/>
                  <a:ext cx="438120" cy="304200"/>
                  <a:chOff x="2061720" y="4646160"/>
                  <a:chExt cx="438120" cy="304200"/>
                </a:xfrm>
              </p:grpSpPr>
              <p:sp>
                <p:nvSpPr>
                  <p:cNvPr id="2476" name=""/>
                  <p:cNvSpPr/>
                  <p:nvPr/>
                </p:nvSpPr>
                <p:spPr>
                  <a:xfrm>
                    <a:off x="2102760" y="4646160"/>
                    <a:ext cx="3553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2061720" y="464616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8" name=""/>
              <p:cNvGrpSpPr/>
              <p:nvPr/>
            </p:nvGrpSpPr>
            <p:grpSpPr>
              <a:xfrm>
                <a:off x="2499840" y="4646160"/>
                <a:ext cx="438480" cy="304200"/>
                <a:chOff x="2499840" y="4646160"/>
                <a:chExt cx="438480" cy="30420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2499840" y="464616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0" name=""/>
                <p:cNvGrpSpPr/>
                <p:nvPr/>
              </p:nvGrpSpPr>
              <p:grpSpPr>
                <a:xfrm>
                  <a:off x="2499840" y="4646160"/>
                  <a:ext cx="438480" cy="304200"/>
                  <a:chOff x="2499840" y="4646160"/>
                  <a:chExt cx="438480" cy="304200"/>
                </a:xfrm>
              </p:grpSpPr>
              <p:sp>
                <p:nvSpPr>
                  <p:cNvPr id="2481" name=""/>
                  <p:cNvSpPr/>
                  <p:nvPr/>
                </p:nvSpPr>
                <p:spPr>
                  <a:xfrm>
                    <a:off x="2541240" y="464616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2499840" y="464616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3" name=""/>
              <p:cNvGrpSpPr/>
              <p:nvPr/>
            </p:nvGrpSpPr>
            <p:grpSpPr>
              <a:xfrm>
                <a:off x="2938320" y="4646160"/>
                <a:ext cx="438120" cy="304200"/>
                <a:chOff x="2938320" y="4646160"/>
                <a:chExt cx="438120" cy="304200"/>
              </a:xfrm>
            </p:grpSpPr>
            <p:sp>
              <p:nvSpPr>
                <p:cNvPr id="2484" name=""/>
                <p:cNvSpPr/>
                <p:nvPr/>
              </p:nvSpPr>
              <p:spPr>
                <a:xfrm>
                  <a:off x="2938320" y="464616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5" name=""/>
                <p:cNvGrpSpPr/>
                <p:nvPr/>
              </p:nvGrpSpPr>
              <p:grpSpPr>
                <a:xfrm>
                  <a:off x="2938320" y="4646160"/>
                  <a:ext cx="438120" cy="304200"/>
                  <a:chOff x="2938320" y="4646160"/>
                  <a:chExt cx="438120" cy="304200"/>
                </a:xfrm>
              </p:grpSpPr>
              <p:sp>
                <p:nvSpPr>
                  <p:cNvPr id="2486" name=""/>
                  <p:cNvSpPr/>
                  <p:nvPr/>
                </p:nvSpPr>
                <p:spPr>
                  <a:xfrm>
                    <a:off x="2979360" y="464616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2938320" y="464616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8" name=""/>
              <p:cNvGrpSpPr/>
              <p:nvPr/>
            </p:nvGrpSpPr>
            <p:grpSpPr>
              <a:xfrm>
                <a:off x="3376440" y="4646160"/>
                <a:ext cx="436680" cy="304200"/>
                <a:chOff x="3376440" y="4646160"/>
                <a:chExt cx="436680" cy="30420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3376440" y="46461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0" name=""/>
                <p:cNvGrpSpPr/>
                <p:nvPr/>
              </p:nvGrpSpPr>
              <p:grpSpPr>
                <a:xfrm>
                  <a:off x="3376440" y="4646160"/>
                  <a:ext cx="436680" cy="304200"/>
                  <a:chOff x="3376440" y="4646160"/>
                  <a:chExt cx="436680" cy="304200"/>
                </a:xfrm>
              </p:grpSpPr>
              <p:sp>
                <p:nvSpPr>
                  <p:cNvPr id="2491" name=""/>
                  <p:cNvSpPr/>
                  <p:nvPr/>
                </p:nvSpPr>
                <p:spPr>
                  <a:xfrm>
                    <a:off x="3417480" y="46461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3376440" y="46461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3" name=""/>
              <p:cNvGrpSpPr/>
              <p:nvPr/>
            </p:nvGrpSpPr>
            <p:grpSpPr>
              <a:xfrm>
                <a:off x="3813120" y="4646160"/>
                <a:ext cx="436680" cy="304200"/>
                <a:chOff x="3813120" y="4646160"/>
                <a:chExt cx="436680" cy="30420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3813120" y="46461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5" name=""/>
                <p:cNvGrpSpPr/>
                <p:nvPr/>
              </p:nvGrpSpPr>
              <p:grpSpPr>
                <a:xfrm>
                  <a:off x="3813120" y="4646160"/>
                  <a:ext cx="436680" cy="304200"/>
                  <a:chOff x="3813120" y="4646160"/>
                  <a:chExt cx="436680" cy="304200"/>
                </a:xfrm>
              </p:grpSpPr>
              <p:sp>
                <p:nvSpPr>
                  <p:cNvPr id="2496" name=""/>
                  <p:cNvSpPr/>
                  <p:nvPr/>
                </p:nvSpPr>
                <p:spPr>
                  <a:xfrm>
                    <a:off x="3854160" y="46461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3813120" y="46461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8" name=""/>
              <p:cNvGrpSpPr/>
              <p:nvPr/>
            </p:nvGrpSpPr>
            <p:grpSpPr>
              <a:xfrm>
                <a:off x="4249800" y="4646160"/>
                <a:ext cx="436320" cy="304200"/>
                <a:chOff x="4249800" y="4646160"/>
                <a:chExt cx="436320" cy="304200"/>
              </a:xfrm>
            </p:grpSpPr>
            <p:sp>
              <p:nvSpPr>
                <p:cNvPr id="2499" name=""/>
                <p:cNvSpPr/>
                <p:nvPr/>
              </p:nvSpPr>
              <p:spPr>
                <a:xfrm>
                  <a:off x="4249800" y="464616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0" name=""/>
                <p:cNvGrpSpPr/>
                <p:nvPr/>
              </p:nvGrpSpPr>
              <p:grpSpPr>
                <a:xfrm>
                  <a:off x="4249800" y="4646160"/>
                  <a:ext cx="436320" cy="304200"/>
                  <a:chOff x="4249800" y="4646160"/>
                  <a:chExt cx="436320" cy="304200"/>
                </a:xfrm>
              </p:grpSpPr>
              <p:sp>
                <p:nvSpPr>
                  <p:cNvPr id="2501" name=""/>
                  <p:cNvSpPr/>
                  <p:nvPr/>
                </p:nvSpPr>
                <p:spPr>
                  <a:xfrm>
                    <a:off x="4290840" y="46461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4249800" y="464616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03" name=""/>
              <p:cNvGrpSpPr/>
              <p:nvPr/>
            </p:nvGrpSpPr>
            <p:grpSpPr>
              <a:xfrm>
                <a:off x="4686480" y="4646160"/>
                <a:ext cx="438480" cy="304200"/>
                <a:chOff x="4686480" y="4646160"/>
                <a:chExt cx="438480" cy="304200"/>
              </a:xfrm>
            </p:grpSpPr>
            <p:sp>
              <p:nvSpPr>
                <p:cNvPr id="2504" name=""/>
                <p:cNvSpPr/>
                <p:nvPr/>
              </p:nvSpPr>
              <p:spPr>
                <a:xfrm>
                  <a:off x="4686480" y="4646160"/>
                  <a:ext cx="4384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5" name=""/>
                <p:cNvGrpSpPr/>
                <p:nvPr/>
              </p:nvGrpSpPr>
              <p:grpSpPr>
                <a:xfrm>
                  <a:off x="4686480" y="4646160"/>
                  <a:ext cx="438480" cy="304200"/>
                  <a:chOff x="4686480" y="4646160"/>
                  <a:chExt cx="438480" cy="304200"/>
                </a:xfrm>
              </p:grpSpPr>
              <p:sp>
                <p:nvSpPr>
                  <p:cNvPr id="2506" name=""/>
                  <p:cNvSpPr/>
                  <p:nvPr/>
                </p:nvSpPr>
                <p:spPr>
                  <a:xfrm>
                    <a:off x="4727880" y="464616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4686480" y="4646160"/>
                    <a:ext cx="4384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08" name=""/>
              <p:cNvGrpSpPr/>
              <p:nvPr/>
            </p:nvGrpSpPr>
            <p:grpSpPr>
              <a:xfrm>
                <a:off x="5124960" y="4646160"/>
                <a:ext cx="436680" cy="304200"/>
                <a:chOff x="5124960" y="4646160"/>
                <a:chExt cx="436680" cy="30420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5124960" y="46461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0" name=""/>
                <p:cNvGrpSpPr/>
                <p:nvPr/>
              </p:nvGrpSpPr>
              <p:grpSpPr>
                <a:xfrm>
                  <a:off x="5124960" y="4646160"/>
                  <a:ext cx="436680" cy="304200"/>
                  <a:chOff x="5124960" y="4646160"/>
                  <a:chExt cx="436680" cy="304200"/>
                </a:xfrm>
              </p:grpSpPr>
              <p:sp>
                <p:nvSpPr>
                  <p:cNvPr id="2511" name=""/>
                  <p:cNvSpPr/>
                  <p:nvPr/>
                </p:nvSpPr>
                <p:spPr>
                  <a:xfrm>
                    <a:off x="5166000" y="46461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5124960" y="46461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13" name=""/>
              <p:cNvGrpSpPr/>
              <p:nvPr/>
            </p:nvGrpSpPr>
            <p:grpSpPr>
              <a:xfrm>
                <a:off x="5561640" y="4646160"/>
                <a:ext cx="436320" cy="304200"/>
                <a:chOff x="5561640" y="4646160"/>
                <a:chExt cx="436320" cy="304200"/>
              </a:xfrm>
            </p:grpSpPr>
            <p:sp>
              <p:nvSpPr>
                <p:cNvPr id="2514" name=""/>
                <p:cNvSpPr/>
                <p:nvPr/>
              </p:nvSpPr>
              <p:spPr>
                <a:xfrm>
                  <a:off x="5561640" y="4646160"/>
                  <a:ext cx="4363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5" name=""/>
                <p:cNvGrpSpPr/>
                <p:nvPr/>
              </p:nvGrpSpPr>
              <p:grpSpPr>
                <a:xfrm>
                  <a:off x="5561640" y="4646160"/>
                  <a:ext cx="436320" cy="304200"/>
                  <a:chOff x="5561640" y="4646160"/>
                  <a:chExt cx="436320" cy="304200"/>
                </a:xfrm>
              </p:grpSpPr>
              <p:sp>
                <p:nvSpPr>
                  <p:cNvPr id="2516" name=""/>
                  <p:cNvSpPr/>
                  <p:nvPr/>
                </p:nvSpPr>
                <p:spPr>
                  <a:xfrm>
                    <a:off x="5602680" y="46461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5561640" y="4646160"/>
                    <a:ext cx="4363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18" name=""/>
              <p:cNvGrpSpPr/>
              <p:nvPr/>
            </p:nvGrpSpPr>
            <p:grpSpPr>
              <a:xfrm>
                <a:off x="5998320" y="4646160"/>
                <a:ext cx="436680" cy="304200"/>
                <a:chOff x="5998320" y="4646160"/>
                <a:chExt cx="436680" cy="304200"/>
              </a:xfrm>
            </p:grpSpPr>
            <p:sp>
              <p:nvSpPr>
                <p:cNvPr id="2519" name=""/>
                <p:cNvSpPr/>
                <p:nvPr/>
              </p:nvSpPr>
              <p:spPr>
                <a:xfrm>
                  <a:off x="5998320" y="46461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0" name=""/>
                <p:cNvGrpSpPr/>
                <p:nvPr/>
              </p:nvGrpSpPr>
              <p:grpSpPr>
                <a:xfrm>
                  <a:off x="5998320" y="4646160"/>
                  <a:ext cx="436680" cy="304200"/>
                  <a:chOff x="5998320" y="4646160"/>
                  <a:chExt cx="436680" cy="304200"/>
                </a:xfrm>
              </p:grpSpPr>
              <p:sp>
                <p:nvSpPr>
                  <p:cNvPr id="2521" name=""/>
                  <p:cNvSpPr/>
                  <p:nvPr/>
                </p:nvSpPr>
                <p:spPr>
                  <a:xfrm>
                    <a:off x="6039720" y="46461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5998320" y="46461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3" name=""/>
              <p:cNvGrpSpPr/>
              <p:nvPr/>
            </p:nvGrpSpPr>
            <p:grpSpPr>
              <a:xfrm>
                <a:off x="6435000" y="4646160"/>
                <a:ext cx="436680" cy="304200"/>
                <a:chOff x="6435000" y="4646160"/>
                <a:chExt cx="436680" cy="30420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6435000" y="4646160"/>
                  <a:ext cx="43668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5" name=""/>
                <p:cNvGrpSpPr/>
                <p:nvPr/>
              </p:nvGrpSpPr>
              <p:grpSpPr>
                <a:xfrm>
                  <a:off x="6435000" y="4646160"/>
                  <a:ext cx="436680" cy="304200"/>
                  <a:chOff x="6435000" y="4646160"/>
                  <a:chExt cx="436680" cy="304200"/>
                </a:xfrm>
              </p:grpSpPr>
              <p:sp>
                <p:nvSpPr>
                  <p:cNvPr id="2526" name=""/>
                  <p:cNvSpPr/>
                  <p:nvPr/>
                </p:nvSpPr>
                <p:spPr>
                  <a:xfrm>
                    <a:off x="6476400" y="4646160"/>
                    <a:ext cx="35352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6435000" y="4646160"/>
                    <a:ext cx="43668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8" name=""/>
              <p:cNvGrpSpPr/>
              <p:nvPr/>
            </p:nvGrpSpPr>
            <p:grpSpPr>
              <a:xfrm>
                <a:off x="6871680" y="4646160"/>
                <a:ext cx="438120" cy="304200"/>
                <a:chOff x="6871680" y="4646160"/>
                <a:chExt cx="438120" cy="30420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6871680" y="4646160"/>
                  <a:ext cx="438120" cy="30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0" name=""/>
                <p:cNvGrpSpPr/>
                <p:nvPr/>
              </p:nvGrpSpPr>
              <p:grpSpPr>
                <a:xfrm>
                  <a:off x="6871680" y="4646160"/>
                  <a:ext cx="438120" cy="304200"/>
                  <a:chOff x="6871680" y="4646160"/>
                  <a:chExt cx="438120" cy="304200"/>
                </a:xfrm>
              </p:grpSpPr>
              <p:sp>
                <p:nvSpPr>
                  <p:cNvPr id="2531" name=""/>
                  <p:cNvSpPr/>
                  <p:nvPr/>
                </p:nvSpPr>
                <p:spPr>
                  <a:xfrm>
                    <a:off x="6913080" y="4646160"/>
                    <a:ext cx="35496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6871680" y="4646160"/>
                    <a:ext cx="438120" cy="30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33" name=""/>
            <p:cNvSpPr/>
            <p:nvPr/>
          </p:nvSpPr>
          <p:spPr>
            <a:xfrm>
              <a:off x="2057400" y="990720"/>
              <a:ext cx="5257800" cy="3962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4" name=""/>
          <p:cNvSpPr/>
          <p:nvPr/>
        </p:nvSpPr>
        <p:spPr>
          <a:xfrm>
            <a:off x="324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(x + y) m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05280" y="1143000"/>
            <a:ext cx="1215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us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4160" y="259092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11680" y="3352680"/>
            <a:ext cx="1301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12400" y="4648320"/>
            <a:ext cx="1181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51200" y="1905120"/>
            <a:ext cx="152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F(11): moltiplic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1" name=""/>
          <p:cNvGrpSpPr/>
          <p:nvPr/>
        </p:nvGrpSpPr>
        <p:grpSpPr>
          <a:xfrm>
            <a:off x="2149560" y="914400"/>
            <a:ext cx="4860720" cy="3809880"/>
            <a:chOff x="2149560" y="914400"/>
            <a:chExt cx="4860720" cy="3809880"/>
          </a:xfrm>
        </p:grpSpPr>
        <p:grpSp>
          <p:nvGrpSpPr>
            <p:cNvPr id="2542" name=""/>
            <p:cNvGrpSpPr/>
            <p:nvPr/>
          </p:nvGrpSpPr>
          <p:grpSpPr>
            <a:xfrm>
              <a:off x="2153520" y="916560"/>
              <a:ext cx="4851720" cy="3804840"/>
              <a:chOff x="2153520" y="916560"/>
              <a:chExt cx="4851720" cy="3804840"/>
            </a:xfrm>
          </p:grpSpPr>
          <p:grpSp>
            <p:nvGrpSpPr>
              <p:cNvPr id="2543" name=""/>
              <p:cNvGrpSpPr/>
              <p:nvPr/>
            </p:nvGrpSpPr>
            <p:grpSpPr>
              <a:xfrm>
                <a:off x="2153520" y="916560"/>
                <a:ext cx="405000" cy="292320"/>
                <a:chOff x="2153520" y="916560"/>
                <a:chExt cx="405000" cy="29232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2153520" y="916560"/>
                  <a:ext cx="405000" cy="29232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5" name=""/>
                <p:cNvGrpSpPr/>
                <p:nvPr/>
              </p:nvGrpSpPr>
              <p:grpSpPr>
                <a:xfrm>
                  <a:off x="2153520" y="916560"/>
                  <a:ext cx="405000" cy="292320"/>
                  <a:chOff x="2153520" y="916560"/>
                  <a:chExt cx="405000" cy="292320"/>
                </a:xfrm>
              </p:grpSpPr>
              <p:sp>
                <p:nvSpPr>
                  <p:cNvPr id="2546" name=""/>
                  <p:cNvSpPr/>
                  <p:nvPr/>
                </p:nvSpPr>
                <p:spPr>
                  <a:xfrm>
                    <a:off x="2191680" y="916560"/>
                    <a:ext cx="328680" cy="2923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2153520" y="91656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8" name=""/>
              <p:cNvGrpSpPr/>
              <p:nvPr/>
            </p:nvGrpSpPr>
            <p:grpSpPr>
              <a:xfrm>
                <a:off x="2558520" y="916560"/>
                <a:ext cx="405360" cy="292320"/>
                <a:chOff x="2558520" y="916560"/>
                <a:chExt cx="405360" cy="292320"/>
              </a:xfrm>
            </p:grpSpPr>
            <p:sp>
              <p:nvSpPr>
                <p:cNvPr id="2549" name=""/>
                <p:cNvSpPr/>
                <p:nvPr/>
              </p:nvSpPr>
              <p:spPr>
                <a:xfrm>
                  <a:off x="2558520" y="91656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0" name=""/>
                <p:cNvGrpSpPr/>
                <p:nvPr/>
              </p:nvGrpSpPr>
              <p:grpSpPr>
                <a:xfrm>
                  <a:off x="2558520" y="916560"/>
                  <a:ext cx="405360" cy="292320"/>
                  <a:chOff x="2558520" y="916560"/>
                  <a:chExt cx="405360" cy="292320"/>
                </a:xfrm>
              </p:grpSpPr>
              <p:sp>
                <p:nvSpPr>
                  <p:cNvPr id="2551" name=""/>
                  <p:cNvSpPr/>
                  <p:nvPr/>
                </p:nvSpPr>
                <p:spPr>
                  <a:xfrm>
                    <a:off x="2596680" y="9165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2558520" y="91656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3" name=""/>
              <p:cNvGrpSpPr/>
              <p:nvPr/>
            </p:nvGrpSpPr>
            <p:grpSpPr>
              <a:xfrm>
                <a:off x="2963880" y="916560"/>
                <a:ext cx="405000" cy="292320"/>
                <a:chOff x="2963880" y="916560"/>
                <a:chExt cx="405000" cy="2923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2963880" y="91656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5" name=""/>
                <p:cNvGrpSpPr/>
                <p:nvPr/>
              </p:nvGrpSpPr>
              <p:grpSpPr>
                <a:xfrm>
                  <a:off x="2963880" y="916560"/>
                  <a:ext cx="405000" cy="292320"/>
                  <a:chOff x="2963880" y="916560"/>
                  <a:chExt cx="405000" cy="292320"/>
                </a:xfrm>
              </p:grpSpPr>
              <p:sp>
                <p:nvSpPr>
                  <p:cNvPr id="2556" name=""/>
                  <p:cNvSpPr/>
                  <p:nvPr/>
                </p:nvSpPr>
                <p:spPr>
                  <a:xfrm>
                    <a:off x="3002040" y="9165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2963880" y="91656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8" name=""/>
              <p:cNvGrpSpPr/>
              <p:nvPr/>
            </p:nvGrpSpPr>
            <p:grpSpPr>
              <a:xfrm>
                <a:off x="3368880" y="916560"/>
                <a:ext cx="403560" cy="292320"/>
                <a:chOff x="3368880" y="916560"/>
                <a:chExt cx="403560" cy="29232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3368880" y="9165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0" name=""/>
                <p:cNvGrpSpPr/>
                <p:nvPr/>
              </p:nvGrpSpPr>
              <p:grpSpPr>
                <a:xfrm>
                  <a:off x="3368880" y="916560"/>
                  <a:ext cx="403560" cy="292320"/>
                  <a:chOff x="3368880" y="916560"/>
                  <a:chExt cx="403560" cy="292320"/>
                </a:xfrm>
              </p:grpSpPr>
              <p:sp>
                <p:nvSpPr>
                  <p:cNvPr id="2561" name=""/>
                  <p:cNvSpPr/>
                  <p:nvPr/>
                </p:nvSpPr>
                <p:spPr>
                  <a:xfrm>
                    <a:off x="3406680" y="9165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3368880" y="9165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3" name=""/>
              <p:cNvGrpSpPr/>
              <p:nvPr/>
            </p:nvGrpSpPr>
            <p:grpSpPr>
              <a:xfrm>
                <a:off x="3772800" y="916560"/>
                <a:ext cx="403560" cy="292320"/>
                <a:chOff x="3772800" y="916560"/>
                <a:chExt cx="403560" cy="292320"/>
              </a:xfrm>
            </p:grpSpPr>
            <p:sp>
              <p:nvSpPr>
                <p:cNvPr id="2564" name=""/>
                <p:cNvSpPr/>
                <p:nvPr/>
              </p:nvSpPr>
              <p:spPr>
                <a:xfrm>
                  <a:off x="3772800" y="9165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5" name=""/>
                <p:cNvGrpSpPr/>
                <p:nvPr/>
              </p:nvGrpSpPr>
              <p:grpSpPr>
                <a:xfrm>
                  <a:off x="3772800" y="916560"/>
                  <a:ext cx="403560" cy="292320"/>
                  <a:chOff x="3772800" y="916560"/>
                  <a:chExt cx="403560" cy="292320"/>
                </a:xfrm>
              </p:grpSpPr>
              <p:sp>
                <p:nvSpPr>
                  <p:cNvPr id="2566" name=""/>
                  <p:cNvSpPr/>
                  <p:nvPr/>
                </p:nvSpPr>
                <p:spPr>
                  <a:xfrm>
                    <a:off x="3810600" y="9165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3772800" y="9165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8" name=""/>
              <p:cNvGrpSpPr/>
              <p:nvPr/>
            </p:nvGrpSpPr>
            <p:grpSpPr>
              <a:xfrm>
                <a:off x="4176360" y="916560"/>
                <a:ext cx="403200" cy="292320"/>
                <a:chOff x="4176360" y="916560"/>
                <a:chExt cx="403200" cy="2923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4176360" y="91656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0" name=""/>
                <p:cNvGrpSpPr/>
                <p:nvPr/>
              </p:nvGrpSpPr>
              <p:grpSpPr>
                <a:xfrm>
                  <a:off x="4176360" y="916560"/>
                  <a:ext cx="403200" cy="292320"/>
                  <a:chOff x="4176360" y="916560"/>
                  <a:chExt cx="403200" cy="292320"/>
                </a:xfrm>
              </p:grpSpPr>
              <p:sp>
                <p:nvSpPr>
                  <p:cNvPr id="2571" name=""/>
                  <p:cNvSpPr/>
                  <p:nvPr/>
                </p:nvSpPr>
                <p:spPr>
                  <a:xfrm>
                    <a:off x="4214160" y="9165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4176360" y="91656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3" name=""/>
              <p:cNvGrpSpPr/>
              <p:nvPr/>
            </p:nvGrpSpPr>
            <p:grpSpPr>
              <a:xfrm>
                <a:off x="4579920" y="916560"/>
                <a:ext cx="405360" cy="292320"/>
                <a:chOff x="4579920" y="916560"/>
                <a:chExt cx="405360" cy="29232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4579920" y="91656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5" name=""/>
                <p:cNvGrpSpPr/>
                <p:nvPr/>
              </p:nvGrpSpPr>
              <p:grpSpPr>
                <a:xfrm>
                  <a:off x="4579920" y="916560"/>
                  <a:ext cx="405360" cy="292320"/>
                  <a:chOff x="4579920" y="916560"/>
                  <a:chExt cx="405360" cy="292320"/>
                </a:xfrm>
              </p:grpSpPr>
              <p:sp>
                <p:nvSpPr>
                  <p:cNvPr id="2576" name=""/>
                  <p:cNvSpPr/>
                  <p:nvPr/>
                </p:nvSpPr>
                <p:spPr>
                  <a:xfrm>
                    <a:off x="4618080" y="9165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4579920" y="91656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8" name=""/>
              <p:cNvGrpSpPr/>
              <p:nvPr/>
            </p:nvGrpSpPr>
            <p:grpSpPr>
              <a:xfrm>
                <a:off x="4985280" y="916560"/>
                <a:ext cx="403560" cy="292320"/>
                <a:chOff x="4985280" y="916560"/>
                <a:chExt cx="403560" cy="2923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4985280" y="9165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0" name=""/>
                <p:cNvGrpSpPr/>
                <p:nvPr/>
              </p:nvGrpSpPr>
              <p:grpSpPr>
                <a:xfrm>
                  <a:off x="4985280" y="916560"/>
                  <a:ext cx="403560" cy="292320"/>
                  <a:chOff x="4985280" y="916560"/>
                  <a:chExt cx="403560" cy="292320"/>
                </a:xfrm>
              </p:grpSpPr>
              <p:sp>
                <p:nvSpPr>
                  <p:cNvPr id="2581" name=""/>
                  <p:cNvSpPr/>
                  <p:nvPr/>
                </p:nvSpPr>
                <p:spPr>
                  <a:xfrm>
                    <a:off x="5023080" y="9165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4985280" y="9165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83" name=""/>
              <p:cNvGrpSpPr/>
              <p:nvPr/>
            </p:nvGrpSpPr>
            <p:grpSpPr>
              <a:xfrm>
                <a:off x="5389200" y="916560"/>
                <a:ext cx="403200" cy="292320"/>
                <a:chOff x="5389200" y="916560"/>
                <a:chExt cx="403200" cy="292320"/>
              </a:xfrm>
            </p:grpSpPr>
            <p:sp>
              <p:nvSpPr>
                <p:cNvPr id="2584" name=""/>
                <p:cNvSpPr/>
                <p:nvPr/>
              </p:nvSpPr>
              <p:spPr>
                <a:xfrm>
                  <a:off x="5389200" y="91656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5" name=""/>
                <p:cNvGrpSpPr/>
                <p:nvPr/>
              </p:nvGrpSpPr>
              <p:grpSpPr>
                <a:xfrm>
                  <a:off x="5389200" y="916560"/>
                  <a:ext cx="403200" cy="292320"/>
                  <a:chOff x="5389200" y="916560"/>
                  <a:chExt cx="403200" cy="292320"/>
                </a:xfrm>
              </p:grpSpPr>
              <p:sp>
                <p:nvSpPr>
                  <p:cNvPr id="2586" name=""/>
                  <p:cNvSpPr/>
                  <p:nvPr/>
                </p:nvSpPr>
                <p:spPr>
                  <a:xfrm>
                    <a:off x="5427000" y="9165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5389200" y="91656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88" name=""/>
              <p:cNvGrpSpPr/>
              <p:nvPr/>
            </p:nvGrpSpPr>
            <p:grpSpPr>
              <a:xfrm>
                <a:off x="5792760" y="916560"/>
                <a:ext cx="403560" cy="292320"/>
                <a:chOff x="5792760" y="916560"/>
                <a:chExt cx="403560" cy="29232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5792760" y="9165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0" name=""/>
                <p:cNvGrpSpPr/>
                <p:nvPr/>
              </p:nvGrpSpPr>
              <p:grpSpPr>
                <a:xfrm>
                  <a:off x="5792760" y="916560"/>
                  <a:ext cx="403560" cy="292320"/>
                  <a:chOff x="5792760" y="916560"/>
                  <a:chExt cx="403560" cy="292320"/>
                </a:xfrm>
              </p:grpSpPr>
              <p:sp>
                <p:nvSpPr>
                  <p:cNvPr id="2591" name=""/>
                  <p:cNvSpPr/>
                  <p:nvPr/>
                </p:nvSpPr>
                <p:spPr>
                  <a:xfrm>
                    <a:off x="5830920" y="9165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5792760" y="9165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3" name=""/>
              <p:cNvGrpSpPr/>
              <p:nvPr/>
            </p:nvGrpSpPr>
            <p:grpSpPr>
              <a:xfrm>
                <a:off x="6196680" y="916560"/>
                <a:ext cx="403560" cy="292320"/>
                <a:chOff x="6196680" y="916560"/>
                <a:chExt cx="403560" cy="2923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196680" y="9165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5" name=""/>
                <p:cNvGrpSpPr/>
                <p:nvPr/>
              </p:nvGrpSpPr>
              <p:grpSpPr>
                <a:xfrm>
                  <a:off x="6196680" y="916560"/>
                  <a:ext cx="403560" cy="292320"/>
                  <a:chOff x="6196680" y="916560"/>
                  <a:chExt cx="403560" cy="292320"/>
                </a:xfrm>
              </p:grpSpPr>
              <p:sp>
                <p:nvSpPr>
                  <p:cNvPr id="2596" name=""/>
                  <p:cNvSpPr/>
                  <p:nvPr/>
                </p:nvSpPr>
                <p:spPr>
                  <a:xfrm>
                    <a:off x="6234840" y="9165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6196680" y="9165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8" name=""/>
              <p:cNvGrpSpPr/>
              <p:nvPr/>
            </p:nvGrpSpPr>
            <p:grpSpPr>
              <a:xfrm>
                <a:off x="6600240" y="916560"/>
                <a:ext cx="405000" cy="292320"/>
                <a:chOff x="6600240" y="916560"/>
                <a:chExt cx="405000" cy="29232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6600240" y="91656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0" name=""/>
                <p:cNvGrpSpPr/>
                <p:nvPr/>
              </p:nvGrpSpPr>
              <p:grpSpPr>
                <a:xfrm>
                  <a:off x="6600240" y="916560"/>
                  <a:ext cx="405000" cy="292320"/>
                  <a:chOff x="6600240" y="916560"/>
                  <a:chExt cx="405000" cy="292320"/>
                </a:xfrm>
              </p:grpSpPr>
              <p:sp>
                <p:nvSpPr>
                  <p:cNvPr id="2601" name=""/>
                  <p:cNvSpPr/>
                  <p:nvPr/>
                </p:nvSpPr>
                <p:spPr>
                  <a:xfrm>
                    <a:off x="6638400" y="9165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6600240" y="91656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3" name=""/>
              <p:cNvGrpSpPr/>
              <p:nvPr/>
            </p:nvGrpSpPr>
            <p:grpSpPr>
              <a:xfrm>
                <a:off x="2153520" y="1208880"/>
                <a:ext cx="405000" cy="292680"/>
                <a:chOff x="2153520" y="1208880"/>
                <a:chExt cx="405000" cy="29268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2153520" y="120888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5" name=""/>
                <p:cNvGrpSpPr/>
                <p:nvPr/>
              </p:nvGrpSpPr>
              <p:grpSpPr>
                <a:xfrm>
                  <a:off x="2153520" y="1208880"/>
                  <a:ext cx="405000" cy="292680"/>
                  <a:chOff x="2153520" y="1208880"/>
                  <a:chExt cx="405000" cy="292680"/>
                </a:xfrm>
              </p:grpSpPr>
              <p:sp>
                <p:nvSpPr>
                  <p:cNvPr id="2606" name=""/>
                  <p:cNvSpPr/>
                  <p:nvPr/>
                </p:nvSpPr>
                <p:spPr>
                  <a:xfrm>
                    <a:off x="2191680" y="1208880"/>
                    <a:ext cx="3286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2153520" y="120888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8" name=""/>
              <p:cNvGrpSpPr/>
              <p:nvPr/>
            </p:nvGrpSpPr>
            <p:grpSpPr>
              <a:xfrm>
                <a:off x="2558520" y="1208880"/>
                <a:ext cx="405360" cy="292680"/>
                <a:chOff x="2558520" y="1208880"/>
                <a:chExt cx="405360" cy="292680"/>
              </a:xfrm>
            </p:grpSpPr>
            <p:sp>
              <p:nvSpPr>
                <p:cNvPr id="2609" name=""/>
                <p:cNvSpPr/>
                <p:nvPr/>
              </p:nvSpPr>
              <p:spPr>
                <a:xfrm>
                  <a:off x="2558520" y="1208880"/>
                  <a:ext cx="4053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0" name=""/>
                <p:cNvGrpSpPr/>
                <p:nvPr/>
              </p:nvGrpSpPr>
              <p:grpSpPr>
                <a:xfrm>
                  <a:off x="2558520" y="1208880"/>
                  <a:ext cx="405360" cy="292680"/>
                  <a:chOff x="2558520" y="1208880"/>
                  <a:chExt cx="405360" cy="292680"/>
                </a:xfrm>
              </p:grpSpPr>
              <p:sp>
                <p:nvSpPr>
                  <p:cNvPr id="2611" name=""/>
                  <p:cNvSpPr/>
                  <p:nvPr/>
                </p:nvSpPr>
                <p:spPr>
                  <a:xfrm>
                    <a:off x="2596680" y="120888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2558520" y="1208880"/>
                    <a:ext cx="4053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3" name=""/>
              <p:cNvGrpSpPr/>
              <p:nvPr/>
            </p:nvGrpSpPr>
            <p:grpSpPr>
              <a:xfrm>
                <a:off x="2963880" y="1208880"/>
                <a:ext cx="405000" cy="292680"/>
                <a:chOff x="2963880" y="1208880"/>
                <a:chExt cx="405000" cy="29268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2963880" y="120888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5" name=""/>
                <p:cNvGrpSpPr/>
                <p:nvPr/>
              </p:nvGrpSpPr>
              <p:grpSpPr>
                <a:xfrm>
                  <a:off x="2963880" y="1208880"/>
                  <a:ext cx="405000" cy="292680"/>
                  <a:chOff x="2963880" y="1208880"/>
                  <a:chExt cx="405000" cy="292680"/>
                </a:xfrm>
              </p:grpSpPr>
              <p:sp>
                <p:nvSpPr>
                  <p:cNvPr id="2616" name=""/>
                  <p:cNvSpPr/>
                  <p:nvPr/>
                </p:nvSpPr>
                <p:spPr>
                  <a:xfrm>
                    <a:off x="3002040" y="120888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2963880" y="120888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8" name=""/>
              <p:cNvGrpSpPr/>
              <p:nvPr/>
            </p:nvGrpSpPr>
            <p:grpSpPr>
              <a:xfrm>
                <a:off x="3368880" y="1208880"/>
                <a:ext cx="403560" cy="292680"/>
                <a:chOff x="3368880" y="1208880"/>
                <a:chExt cx="403560" cy="29268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3368880" y="12088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0" name=""/>
                <p:cNvGrpSpPr/>
                <p:nvPr/>
              </p:nvGrpSpPr>
              <p:grpSpPr>
                <a:xfrm>
                  <a:off x="3368880" y="1208880"/>
                  <a:ext cx="403560" cy="292680"/>
                  <a:chOff x="3368880" y="1208880"/>
                  <a:chExt cx="403560" cy="292680"/>
                </a:xfrm>
              </p:grpSpPr>
              <p:sp>
                <p:nvSpPr>
                  <p:cNvPr id="2621" name=""/>
                  <p:cNvSpPr/>
                  <p:nvPr/>
                </p:nvSpPr>
                <p:spPr>
                  <a:xfrm>
                    <a:off x="3406680" y="12088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3368880" y="12088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3" name=""/>
              <p:cNvGrpSpPr/>
              <p:nvPr/>
            </p:nvGrpSpPr>
            <p:grpSpPr>
              <a:xfrm>
                <a:off x="3772800" y="1208880"/>
                <a:ext cx="403560" cy="292680"/>
                <a:chOff x="3772800" y="1208880"/>
                <a:chExt cx="403560" cy="29268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3772800" y="12088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5" name=""/>
                <p:cNvGrpSpPr/>
                <p:nvPr/>
              </p:nvGrpSpPr>
              <p:grpSpPr>
                <a:xfrm>
                  <a:off x="3772800" y="1208880"/>
                  <a:ext cx="403560" cy="292680"/>
                  <a:chOff x="3772800" y="1208880"/>
                  <a:chExt cx="403560" cy="292680"/>
                </a:xfrm>
              </p:grpSpPr>
              <p:sp>
                <p:nvSpPr>
                  <p:cNvPr id="2626" name=""/>
                  <p:cNvSpPr/>
                  <p:nvPr/>
                </p:nvSpPr>
                <p:spPr>
                  <a:xfrm>
                    <a:off x="3810600" y="12088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3772800" y="12088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8" name=""/>
              <p:cNvGrpSpPr/>
              <p:nvPr/>
            </p:nvGrpSpPr>
            <p:grpSpPr>
              <a:xfrm>
                <a:off x="4176360" y="1208880"/>
                <a:ext cx="403200" cy="292680"/>
                <a:chOff x="4176360" y="1208880"/>
                <a:chExt cx="403200" cy="29268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4176360" y="1208880"/>
                  <a:ext cx="4032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0" name=""/>
                <p:cNvGrpSpPr/>
                <p:nvPr/>
              </p:nvGrpSpPr>
              <p:grpSpPr>
                <a:xfrm>
                  <a:off x="4176360" y="1208880"/>
                  <a:ext cx="403200" cy="292680"/>
                  <a:chOff x="4176360" y="1208880"/>
                  <a:chExt cx="403200" cy="292680"/>
                </a:xfrm>
              </p:grpSpPr>
              <p:sp>
                <p:nvSpPr>
                  <p:cNvPr id="2631" name=""/>
                  <p:cNvSpPr/>
                  <p:nvPr/>
                </p:nvSpPr>
                <p:spPr>
                  <a:xfrm>
                    <a:off x="4214160" y="12088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4176360" y="1208880"/>
                    <a:ext cx="4032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3" name=""/>
              <p:cNvGrpSpPr/>
              <p:nvPr/>
            </p:nvGrpSpPr>
            <p:grpSpPr>
              <a:xfrm>
                <a:off x="4579920" y="1208880"/>
                <a:ext cx="405360" cy="292680"/>
                <a:chOff x="4579920" y="1208880"/>
                <a:chExt cx="405360" cy="292680"/>
              </a:xfrm>
            </p:grpSpPr>
            <p:sp>
              <p:nvSpPr>
                <p:cNvPr id="2634" name=""/>
                <p:cNvSpPr/>
                <p:nvPr/>
              </p:nvSpPr>
              <p:spPr>
                <a:xfrm>
                  <a:off x="4579920" y="1208880"/>
                  <a:ext cx="4053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5" name=""/>
                <p:cNvGrpSpPr/>
                <p:nvPr/>
              </p:nvGrpSpPr>
              <p:grpSpPr>
                <a:xfrm>
                  <a:off x="4579920" y="1208880"/>
                  <a:ext cx="405360" cy="292680"/>
                  <a:chOff x="4579920" y="1208880"/>
                  <a:chExt cx="405360" cy="292680"/>
                </a:xfrm>
              </p:grpSpPr>
              <p:sp>
                <p:nvSpPr>
                  <p:cNvPr id="2636" name=""/>
                  <p:cNvSpPr/>
                  <p:nvPr/>
                </p:nvSpPr>
                <p:spPr>
                  <a:xfrm>
                    <a:off x="4618080" y="120888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4579920" y="1208880"/>
                    <a:ext cx="4053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8" name=""/>
              <p:cNvGrpSpPr/>
              <p:nvPr/>
            </p:nvGrpSpPr>
            <p:grpSpPr>
              <a:xfrm>
                <a:off x="4985280" y="1208880"/>
                <a:ext cx="403560" cy="292680"/>
                <a:chOff x="4985280" y="1208880"/>
                <a:chExt cx="403560" cy="292680"/>
              </a:xfrm>
            </p:grpSpPr>
            <p:sp>
              <p:nvSpPr>
                <p:cNvPr id="2639" name=""/>
                <p:cNvSpPr/>
                <p:nvPr/>
              </p:nvSpPr>
              <p:spPr>
                <a:xfrm>
                  <a:off x="4985280" y="12088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0" name=""/>
                <p:cNvGrpSpPr/>
                <p:nvPr/>
              </p:nvGrpSpPr>
              <p:grpSpPr>
                <a:xfrm>
                  <a:off x="4985280" y="1208880"/>
                  <a:ext cx="403560" cy="292680"/>
                  <a:chOff x="4985280" y="1208880"/>
                  <a:chExt cx="403560" cy="29268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5023080" y="12088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4985280" y="12088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3" name=""/>
              <p:cNvGrpSpPr/>
              <p:nvPr/>
            </p:nvGrpSpPr>
            <p:grpSpPr>
              <a:xfrm>
                <a:off x="5389200" y="1208880"/>
                <a:ext cx="403200" cy="292680"/>
                <a:chOff x="5389200" y="1208880"/>
                <a:chExt cx="403200" cy="29268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5389200" y="1208880"/>
                  <a:ext cx="4032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5" name=""/>
                <p:cNvGrpSpPr/>
                <p:nvPr/>
              </p:nvGrpSpPr>
              <p:grpSpPr>
                <a:xfrm>
                  <a:off x="5389200" y="1208880"/>
                  <a:ext cx="403200" cy="292680"/>
                  <a:chOff x="5389200" y="1208880"/>
                  <a:chExt cx="403200" cy="292680"/>
                </a:xfrm>
              </p:grpSpPr>
              <p:sp>
                <p:nvSpPr>
                  <p:cNvPr id="2646" name=""/>
                  <p:cNvSpPr/>
                  <p:nvPr/>
                </p:nvSpPr>
                <p:spPr>
                  <a:xfrm>
                    <a:off x="5427000" y="12088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5389200" y="1208880"/>
                    <a:ext cx="4032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8" name=""/>
              <p:cNvGrpSpPr/>
              <p:nvPr/>
            </p:nvGrpSpPr>
            <p:grpSpPr>
              <a:xfrm>
                <a:off x="5792760" y="1208880"/>
                <a:ext cx="403560" cy="292680"/>
                <a:chOff x="5792760" y="1208880"/>
                <a:chExt cx="403560" cy="29268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5792760" y="12088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0" name=""/>
                <p:cNvGrpSpPr/>
                <p:nvPr/>
              </p:nvGrpSpPr>
              <p:grpSpPr>
                <a:xfrm>
                  <a:off x="5792760" y="1208880"/>
                  <a:ext cx="403560" cy="292680"/>
                  <a:chOff x="5792760" y="1208880"/>
                  <a:chExt cx="403560" cy="292680"/>
                </a:xfrm>
              </p:grpSpPr>
              <p:sp>
                <p:nvSpPr>
                  <p:cNvPr id="2651" name=""/>
                  <p:cNvSpPr/>
                  <p:nvPr/>
                </p:nvSpPr>
                <p:spPr>
                  <a:xfrm>
                    <a:off x="5830920" y="12088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5792760" y="12088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3" name=""/>
              <p:cNvGrpSpPr/>
              <p:nvPr/>
            </p:nvGrpSpPr>
            <p:grpSpPr>
              <a:xfrm>
                <a:off x="6196680" y="1208880"/>
                <a:ext cx="403560" cy="292680"/>
                <a:chOff x="6196680" y="1208880"/>
                <a:chExt cx="403560" cy="29268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196680" y="12088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5" name=""/>
                <p:cNvGrpSpPr/>
                <p:nvPr/>
              </p:nvGrpSpPr>
              <p:grpSpPr>
                <a:xfrm>
                  <a:off x="6196680" y="1208880"/>
                  <a:ext cx="403560" cy="292680"/>
                  <a:chOff x="6196680" y="1208880"/>
                  <a:chExt cx="403560" cy="292680"/>
                </a:xfrm>
              </p:grpSpPr>
              <p:sp>
                <p:nvSpPr>
                  <p:cNvPr id="2656" name=""/>
                  <p:cNvSpPr/>
                  <p:nvPr/>
                </p:nvSpPr>
                <p:spPr>
                  <a:xfrm>
                    <a:off x="6234840" y="12088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6196680" y="12088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8" name=""/>
              <p:cNvGrpSpPr/>
              <p:nvPr/>
            </p:nvGrpSpPr>
            <p:grpSpPr>
              <a:xfrm>
                <a:off x="6600240" y="1208880"/>
                <a:ext cx="405000" cy="292680"/>
                <a:chOff x="6600240" y="1208880"/>
                <a:chExt cx="405000" cy="292680"/>
              </a:xfrm>
            </p:grpSpPr>
            <p:sp>
              <p:nvSpPr>
                <p:cNvPr id="2659" name=""/>
                <p:cNvSpPr/>
                <p:nvPr/>
              </p:nvSpPr>
              <p:spPr>
                <a:xfrm>
                  <a:off x="6600240" y="120888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0" name=""/>
                <p:cNvGrpSpPr/>
                <p:nvPr/>
              </p:nvGrpSpPr>
              <p:grpSpPr>
                <a:xfrm>
                  <a:off x="6600240" y="1208880"/>
                  <a:ext cx="405000" cy="292680"/>
                  <a:chOff x="6600240" y="1208880"/>
                  <a:chExt cx="405000" cy="29268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>
                    <a:off x="6638400" y="120888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6600240" y="120888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3" name=""/>
              <p:cNvGrpSpPr/>
              <p:nvPr/>
            </p:nvGrpSpPr>
            <p:grpSpPr>
              <a:xfrm>
                <a:off x="2153520" y="1501920"/>
                <a:ext cx="405000" cy="292320"/>
                <a:chOff x="2153520" y="1501920"/>
                <a:chExt cx="405000" cy="292320"/>
              </a:xfrm>
            </p:grpSpPr>
            <p:sp>
              <p:nvSpPr>
                <p:cNvPr id="2664" name=""/>
                <p:cNvSpPr/>
                <p:nvPr/>
              </p:nvSpPr>
              <p:spPr>
                <a:xfrm>
                  <a:off x="2153520" y="150192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5" name=""/>
                <p:cNvGrpSpPr/>
                <p:nvPr/>
              </p:nvGrpSpPr>
              <p:grpSpPr>
                <a:xfrm>
                  <a:off x="2153520" y="1501920"/>
                  <a:ext cx="405000" cy="292320"/>
                  <a:chOff x="2153520" y="1501920"/>
                  <a:chExt cx="405000" cy="292320"/>
                </a:xfrm>
              </p:grpSpPr>
              <p:sp>
                <p:nvSpPr>
                  <p:cNvPr id="2666" name=""/>
                  <p:cNvSpPr/>
                  <p:nvPr/>
                </p:nvSpPr>
                <p:spPr>
                  <a:xfrm>
                    <a:off x="2191680" y="1501920"/>
                    <a:ext cx="3286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2153520" y="150192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8" name=""/>
              <p:cNvGrpSpPr/>
              <p:nvPr/>
            </p:nvGrpSpPr>
            <p:grpSpPr>
              <a:xfrm>
                <a:off x="2558520" y="1501920"/>
                <a:ext cx="405360" cy="292320"/>
                <a:chOff x="2558520" y="1501920"/>
                <a:chExt cx="405360" cy="2923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2558520" y="150192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0" name=""/>
                <p:cNvGrpSpPr/>
                <p:nvPr/>
              </p:nvGrpSpPr>
              <p:grpSpPr>
                <a:xfrm>
                  <a:off x="2558520" y="1501920"/>
                  <a:ext cx="405360" cy="292320"/>
                  <a:chOff x="2558520" y="1501920"/>
                  <a:chExt cx="405360" cy="292320"/>
                </a:xfrm>
              </p:grpSpPr>
              <p:sp>
                <p:nvSpPr>
                  <p:cNvPr id="2671" name=""/>
                  <p:cNvSpPr/>
                  <p:nvPr/>
                </p:nvSpPr>
                <p:spPr>
                  <a:xfrm>
                    <a:off x="2596680" y="150192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2558520" y="150192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3" name=""/>
              <p:cNvGrpSpPr/>
              <p:nvPr/>
            </p:nvGrpSpPr>
            <p:grpSpPr>
              <a:xfrm>
                <a:off x="2963880" y="1501920"/>
                <a:ext cx="405000" cy="292320"/>
                <a:chOff x="2963880" y="1501920"/>
                <a:chExt cx="405000" cy="292320"/>
              </a:xfrm>
            </p:grpSpPr>
            <p:sp>
              <p:nvSpPr>
                <p:cNvPr id="2674" name=""/>
                <p:cNvSpPr/>
                <p:nvPr/>
              </p:nvSpPr>
              <p:spPr>
                <a:xfrm>
                  <a:off x="2963880" y="150192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5" name=""/>
                <p:cNvGrpSpPr/>
                <p:nvPr/>
              </p:nvGrpSpPr>
              <p:grpSpPr>
                <a:xfrm>
                  <a:off x="2963880" y="1501920"/>
                  <a:ext cx="405000" cy="292320"/>
                  <a:chOff x="2963880" y="1501920"/>
                  <a:chExt cx="405000" cy="292320"/>
                </a:xfrm>
              </p:grpSpPr>
              <p:sp>
                <p:nvSpPr>
                  <p:cNvPr id="2676" name=""/>
                  <p:cNvSpPr/>
                  <p:nvPr/>
                </p:nvSpPr>
                <p:spPr>
                  <a:xfrm>
                    <a:off x="3002040" y="150192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2963880" y="150192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8" name=""/>
              <p:cNvGrpSpPr/>
              <p:nvPr/>
            </p:nvGrpSpPr>
            <p:grpSpPr>
              <a:xfrm>
                <a:off x="3368880" y="1501920"/>
                <a:ext cx="403560" cy="292320"/>
                <a:chOff x="3368880" y="1501920"/>
                <a:chExt cx="403560" cy="2923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3368880" y="150192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0" name=""/>
                <p:cNvGrpSpPr/>
                <p:nvPr/>
              </p:nvGrpSpPr>
              <p:grpSpPr>
                <a:xfrm>
                  <a:off x="3368880" y="1501920"/>
                  <a:ext cx="403560" cy="292320"/>
                  <a:chOff x="3368880" y="1501920"/>
                  <a:chExt cx="403560" cy="292320"/>
                </a:xfrm>
              </p:grpSpPr>
              <p:sp>
                <p:nvSpPr>
                  <p:cNvPr id="2681" name=""/>
                  <p:cNvSpPr/>
                  <p:nvPr/>
                </p:nvSpPr>
                <p:spPr>
                  <a:xfrm>
                    <a:off x="3406680" y="150192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3368880" y="150192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3" name=""/>
              <p:cNvGrpSpPr/>
              <p:nvPr/>
            </p:nvGrpSpPr>
            <p:grpSpPr>
              <a:xfrm>
                <a:off x="3772800" y="1501920"/>
                <a:ext cx="403560" cy="292320"/>
                <a:chOff x="3772800" y="1501920"/>
                <a:chExt cx="403560" cy="292320"/>
              </a:xfrm>
            </p:grpSpPr>
            <p:sp>
              <p:nvSpPr>
                <p:cNvPr id="2684" name=""/>
                <p:cNvSpPr/>
                <p:nvPr/>
              </p:nvSpPr>
              <p:spPr>
                <a:xfrm>
                  <a:off x="3772800" y="150192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5" name=""/>
                <p:cNvGrpSpPr/>
                <p:nvPr/>
              </p:nvGrpSpPr>
              <p:grpSpPr>
                <a:xfrm>
                  <a:off x="3772800" y="1501920"/>
                  <a:ext cx="403560" cy="292320"/>
                  <a:chOff x="3772800" y="1501920"/>
                  <a:chExt cx="403560" cy="292320"/>
                </a:xfrm>
              </p:grpSpPr>
              <p:sp>
                <p:nvSpPr>
                  <p:cNvPr id="2686" name=""/>
                  <p:cNvSpPr/>
                  <p:nvPr/>
                </p:nvSpPr>
                <p:spPr>
                  <a:xfrm>
                    <a:off x="3810600" y="150192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3772800" y="150192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8" name=""/>
              <p:cNvGrpSpPr/>
              <p:nvPr/>
            </p:nvGrpSpPr>
            <p:grpSpPr>
              <a:xfrm>
                <a:off x="4176360" y="1501920"/>
                <a:ext cx="403200" cy="292320"/>
                <a:chOff x="4176360" y="1501920"/>
                <a:chExt cx="403200" cy="29232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4176360" y="150192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0" name=""/>
                <p:cNvGrpSpPr/>
                <p:nvPr/>
              </p:nvGrpSpPr>
              <p:grpSpPr>
                <a:xfrm>
                  <a:off x="4176360" y="1501920"/>
                  <a:ext cx="403200" cy="292320"/>
                  <a:chOff x="4176360" y="1501920"/>
                  <a:chExt cx="403200" cy="292320"/>
                </a:xfrm>
              </p:grpSpPr>
              <p:sp>
                <p:nvSpPr>
                  <p:cNvPr id="2691" name=""/>
                  <p:cNvSpPr/>
                  <p:nvPr/>
                </p:nvSpPr>
                <p:spPr>
                  <a:xfrm>
                    <a:off x="4214160" y="150192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>
                    <a:off x="4176360" y="150192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3" name=""/>
              <p:cNvGrpSpPr/>
              <p:nvPr/>
            </p:nvGrpSpPr>
            <p:grpSpPr>
              <a:xfrm>
                <a:off x="4579920" y="1501920"/>
                <a:ext cx="405360" cy="292320"/>
                <a:chOff x="4579920" y="1501920"/>
                <a:chExt cx="405360" cy="2923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4579920" y="150192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5" name=""/>
                <p:cNvGrpSpPr/>
                <p:nvPr/>
              </p:nvGrpSpPr>
              <p:grpSpPr>
                <a:xfrm>
                  <a:off x="4579920" y="1501920"/>
                  <a:ext cx="405360" cy="292320"/>
                  <a:chOff x="4579920" y="1501920"/>
                  <a:chExt cx="405360" cy="292320"/>
                </a:xfrm>
              </p:grpSpPr>
              <p:sp>
                <p:nvSpPr>
                  <p:cNvPr id="2696" name=""/>
                  <p:cNvSpPr/>
                  <p:nvPr/>
                </p:nvSpPr>
                <p:spPr>
                  <a:xfrm>
                    <a:off x="4618080" y="150192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4579920" y="150192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8" name=""/>
              <p:cNvGrpSpPr/>
              <p:nvPr/>
            </p:nvGrpSpPr>
            <p:grpSpPr>
              <a:xfrm>
                <a:off x="4985280" y="1501920"/>
                <a:ext cx="403560" cy="292320"/>
                <a:chOff x="4985280" y="1501920"/>
                <a:chExt cx="403560" cy="292320"/>
              </a:xfrm>
            </p:grpSpPr>
            <p:sp>
              <p:nvSpPr>
                <p:cNvPr id="2699" name=""/>
                <p:cNvSpPr/>
                <p:nvPr/>
              </p:nvSpPr>
              <p:spPr>
                <a:xfrm>
                  <a:off x="4985280" y="150192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0" name=""/>
                <p:cNvGrpSpPr/>
                <p:nvPr/>
              </p:nvGrpSpPr>
              <p:grpSpPr>
                <a:xfrm>
                  <a:off x="4985280" y="1501920"/>
                  <a:ext cx="403560" cy="292320"/>
                  <a:chOff x="4985280" y="1501920"/>
                  <a:chExt cx="403560" cy="292320"/>
                </a:xfrm>
              </p:grpSpPr>
              <p:sp>
                <p:nvSpPr>
                  <p:cNvPr id="2701" name=""/>
                  <p:cNvSpPr/>
                  <p:nvPr/>
                </p:nvSpPr>
                <p:spPr>
                  <a:xfrm>
                    <a:off x="5023080" y="150192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4985280" y="150192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3" name=""/>
              <p:cNvGrpSpPr/>
              <p:nvPr/>
            </p:nvGrpSpPr>
            <p:grpSpPr>
              <a:xfrm>
                <a:off x="5389200" y="1501920"/>
                <a:ext cx="403200" cy="292320"/>
                <a:chOff x="5389200" y="1501920"/>
                <a:chExt cx="403200" cy="2923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5389200" y="150192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5" name=""/>
                <p:cNvGrpSpPr/>
                <p:nvPr/>
              </p:nvGrpSpPr>
              <p:grpSpPr>
                <a:xfrm>
                  <a:off x="5389200" y="1501920"/>
                  <a:ext cx="403200" cy="292320"/>
                  <a:chOff x="5389200" y="1501920"/>
                  <a:chExt cx="403200" cy="292320"/>
                </a:xfrm>
              </p:grpSpPr>
              <p:sp>
                <p:nvSpPr>
                  <p:cNvPr id="2706" name=""/>
                  <p:cNvSpPr/>
                  <p:nvPr/>
                </p:nvSpPr>
                <p:spPr>
                  <a:xfrm>
                    <a:off x="5427000" y="150192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5389200" y="150192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8" name=""/>
              <p:cNvGrpSpPr/>
              <p:nvPr/>
            </p:nvGrpSpPr>
            <p:grpSpPr>
              <a:xfrm>
                <a:off x="5792760" y="1501920"/>
                <a:ext cx="403560" cy="292320"/>
                <a:chOff x="5792760" y="1501920"/>
                <a:chExt cx="403560" cy="29232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5792760" y="150192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0" name=""/>
                <p:cNvGrpSpPr/>
                <p:nvPr/>
              </p:nvGrpSpPr>
              <p:grpSpPr>
                <a:xfrm>
                  <a:off x="5792760" y="1501920"/>
                  <a:ext cx="403560" cy="292320"/>
                  <a:chOff x="5792760" y="1501920"/>
                  <a:chExt cx="403560" cy="292320"/>
                </a:xfrm>
              </p:grpSpPr>
              <p:sp>
                <p:nvSpPr>
                  <p:cNvPr id="2711" name=""/>
                  <p:cNvSpPr/>
                  <p:nvPr/>
                </p:nvSpPr>
                <p:spPr>
                  <a:xfrm>
                    <a:off x="5830920" y="150192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5792760" y="150192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13" name=""/>
              <p:cNvGrpSpPr/>
              <p:nvPr/>
            </p:nvGrpSpPr>
            <p:grpSpPr>
              <a:xfrm>
                <a:off x="6196680" y="1501920"/>
                <a:ext cx="403560" cy="292320"/>
                <a:chOff x="6196680" y="1501920"/>
                <a:chExt cx="403560" cy="292320"/>
              </a:xfrm>
            </p:grpSpPr>
            <p:sp>
              <p:nvSpPr>
                <p:cNvPr id="2714" name=""/>
                <p:cNvSpPr/>
                <p:nvPr/>
              </p:nvSpPr>
              <p:spPr>
                <a:xfrm>
                  <a:off x="6196680" y="150192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5" name=""/>
                <p:cNvGrpSpPr/>
                <p:nvPr/>
              </p:nvGrpSpPr>
              <p:grpSpPr>
                <a:xfrm>
                  <a:off x="6196680" y="1501920"/>
                  <a:ext cx="403560" cy="292320"/>
                  <a:chOff x="6196680" y="1501920"/>
                  <a:chExt cx="403560" cy="292320"/>
                </a:xfrm>
              </p:grpSpPr>
              <p:sp>
                <p:nvSpPr>
                  <p:cNvPr id="2716" name=""/>
                  <p:cNvSpPr/>
                  <p:nvPr/>
                </p:nvSpPr>
                <p:spPr>
                  <a:xfrm>
                    <a:off x="6234840" y="150192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>
                    <a:off x="6196680" y="150192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18" name=""/>
              <p:cNvGrpSpPr/>
              <p:nvPr/>
            </p:nvGrpSpPr>
            <p:grpSpPr>
              <a:xfrm>
                <a:off x="6600240" y="1501920"/>
                <a:ext cx="405000" cy="292320"/>
                <a:chOff x="6600240" y="1501920"/>
                <a:chExt cx="405000" cy="2923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600240" y="150192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0" name=""/>
                <p:cNvGrpSpPr/>
                <p:nvPr/>
              </p:nvGrpSpPr>
              <p:grpSpPr>
                <a:xfrm>
                  <a:off x="6600240" y="1501920"/>
                  <a:ext cx="405000" cy="292320"/>
                  <a:chOff x="6600240" y="1501920"/>
                  <a:chExt cx="405000" cy="292320"/>
                </a:xfrm>
              </p:grpSpPr>
              <p:sp>
                <p:nvSpPr>
                  <p:cNvPr id="2721" name=""/>
                  <p:cNvSpPr/>
                  <p:nvPr/>
                </p:nvSpPr>
                <p:spPr>
                  <a:xfrm>
                    <a:off x="6638400" y="150192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>
                    <a:off x="6600240" y="150192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3" name=""/>
              <p:cNvGrpSpPr/>
              <p:nvPr/>
            </p:nvGrpSpPr>
            <p:grpSpPr>
              <a:xfrm>
                <a:off x="2153520" y="1794600"/>
                <a:ext cx="405000" cy="292320"/>
                <a:chOff x="2153520" y="1794600"/>
                <a:chExt cx="405000" cy="292320"/>
              </a:xfrm>
            </p:grpSpPr>
            <p:sp>
              <p:nvSpPr>
                <p:cNvPr id="2724" name=""/>
                <p:cNvSpPr/>
                <p:nvPr/>
              </p:nvSpPr>
              <p:spPr>
                <a:xfrm>
                  <a:off x="2153520" y="179460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5" name=""/>
                <p:cNvGrpSpPr/>
                <p:nvPr/>
              </p:nvGrpSpPr>
              <p:grpSpPr>
                <a:xfrm>
                  <a:off x="2153520" y="1794600"/>
                  <a:ext cx="405000" cy="292320"/>
                  <a:chOff x="2153520" y="1794600"/>
                  <a:chExt cx="405000" cy="292320"/>
                </a:xfrm>
              </p:grpSpPr>
              <p:sp>
                <p:nvSpPr>
                  <p:cNvPr id="2726" name=""/>
                  <p:cNvSpPr/>
                  <p:nvPr/>
                </p:nvSpPr>
                <p:spPr>
                  <a:xfrm>
                    <a:off x="2191680" y="1794600"/>
                    <a:ext cx="3286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2153520" y="179460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8" name=""/>
              <p:cNvGrpSpPr/>
              <p:nvPr/>
            </p:nvGrpSpPr>
            <p:grpSpPr>
              <a:xfrm>
                <a:off x="2558520" y="1794600"/>
                <a:ext cx="405360" cy="292320"/>
                <a:chOff x="2558520" y="1794600"/>
                <a:chExt cx="405360" cy="2923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2558520" y="179460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0" name=""/>
                <p:cNvGrpSpPr/>
                <p:nvPr/>
              </p:nvGrpSpPr>
              <p:grpSpPr>
                <a:xfrm>
                  <a:off x="2558520" y="1794600"/>
                  <a:ext cx="405360" cy="292320"/>
                  <a:chOff x="2558520" y="1794600"/>
                  <a:chExt cx="405360" cy="292320"/>
                </a:xfrm>
              </p:grpSpPr>
              <p:sp>
                <p:nvSpPr>
                  <p:cNvPr id="2731" name=""/>
                  <p:cNvSpPr/>
                  <p:nvPr/>
                </p:nvSpPr>
                <p:spPr>
                  <a:xfrm>
                    <a:off x="2596680" y="179460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>
                    <a:off x="2558520" y="179460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3" name=""/>
              <p:cNvGrpSpPr/>
              <p:nvPr/>
            </p:nvGrpSpPr>
            <p:grpSpPr>
              <a:xfrm>
                <a:off x="2963880" y="1794600"/>
                <a:ext cx="405000" cy="292320"/>
                <a:chOff x="2963880" y="1794600"/>
                <a:chExt cx="405000" cy="292320"/>
              </a:xfrm>
            </p:grpSpPr>
            <p:sp>
              <p:nvSpPr>
                <p:cNvPr id="2734" name=""/>
                <p:cNvSpPr/>
                <p:nvPr/>
              </p:nvSpPr>
              <p:spPr>
                <a:xfrm>
                  <a:off x="2963880" y="179460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5" name=""/>
                <p:cNvGrpSpPr/>
                <p:nvPr/>
              </p:nvGrpSpPr>
              <p:grpSpPr>
                <a:xfrm>
                  <a:off x="2963880" y="1794600"/>
                  <a:ext cx="405000" cy="292320"/>
                  <a:chOff x="2963880" y="1794600"/>
                  <a:chExt cx="405000" cy="292320"/>
                </a:xfrm>
              </p:grpSpPr>
              <p:sp>
                <p:nvSpPr>
                  <p:cNvPr id="2736" name=""/>
                  <p:cNvSpPr/>
                  <p:nvPr/>
                </p:nvSpPr>
                <p:spPr>
                  <a:xfrm>
                    <a:off x="3002040" y="179460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2963880" y="179460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8" name=""/>
              <p:cNvGrpSpPr/>
              <p:nvPr/>
            </p:nvGrpSpPr>
            <p:grpSpPr>
              <a:xfrm>
                <a:off x="3368880" y="1794600"/>
                <a:ext cx="403560" cy="292320"/>
                <a:chOff x="3368880" y="1794600"/>
                <a:chExt cx="403560" cy="29232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3368880" y="17946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0" name=""/>
                <p:cNvGrpSpPr/>
                <p:nvPr/>
              </p:nvGrpSpPr>
              <p:grpSpPr>
                <a:xfrm>
                  <a:off x="3368880" y="1794600"/>
                  <a:ext cx="403560" cy="292320"/>
                  <a:chOff x="3368880" y="1794600"/>
                  <a:chExt cx="403560" cy="292320"/>
                </a:xfrm>
              </p:grpSpPr>
              <p:sp>
                <p:nvSpPr>
                  <p:cNvPr id="2741" name=""/>
                  <p:cNvSpPr/>
                  <p:nvPr/>
                </p:nvSpPr>
                <p:spPr>
                  <a:xfrm>
                    <a:off x="3406680" y="17946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3368880" y="17946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3" name=""/>
              <p:cNvGrpSpPr/>
              <p:nvPr/>
            </p:nvGrpSpPr>
            <p:grpSpPr>
              <a:xfrm>
                <a:off x="3772800" y="1794600"/>
                <a:ext cx="403560" cy="292320"/>
                <a:chOff x="3772800" y="1794600"/>
                <a:chExt cx="403560" cy="2923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3772800" y="17946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5" name=""/>
                <p:cNvGrpSpPr/>
                <p:nvPr/>
              </p:nvGrpSpPr>
              <p:grpSpPr>
                <a:xfrm>
                  <a:off x="3772800" y="1794600"/>
                  <a:ext cx="403560" cy="292320"/>
                  <a:chOff x="3772800" y="1794600"/>
                  <a:chExt cx="403560" cy="292320"/>
                </a:xfrm>
              </p:grpSpPr>
              <p:sp>
                <p:nvSpPr>
                  <p:cNvPr id="2746" name=""/>
                  <p:cNvSpPr/>
                  <p:nvPr/>
                </p:nvSpPr>
                <p:spPr>
                  <a:xfrm>
                    <a:off x="3810600" y="17946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>
                    <a:off x="3772800" y="17946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8" name=""/>
              <p:cNvGrpSpPr/>
              <p:nvPr/>
            </p:nvGrpSpPr>
            <p:grpSpPr>
              <a:xfrm>
                <a:off x="4176360" y="1794600"/>
                <a:ext cx="403200" cy="292320"/>
                <a:chOff x="4176360" y="1794600"/>
                <a:chExt cx="403200" cy="29232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4176360" y="179460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0" name=""/>
                <p:cNvGrpSpPr/>
                <p:nvPr/>
              </p:nvGrpSpPr>
              <p:grpSpPr>
                <a:xfrm>
                  <a:off x="4176360" y="1794600"/>
                  <a:ext cx="403200" cy="292320"/>
                  <a:chOff x="4176360" y="1794600"/>
                  <a:chExt cx="403200" cy="292320"/>
                </a:xfrm>
              </p:grpSpPr>
              <p:sp>
                <p:nvSpPr>
                  <p:cNvPr id="2751" name=""/>
                  <p:cNvSpPr/>
                  <p:nvPr/>
                </p:nvSpPr>
                <p:spPr>
                  <a:xfrm>
                    <a:off x="4214160" y="17946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>
                    <a:off x="4176360" y="179460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3" name=""/>
              <p:cNvGrpSpPr/>
              <p:nvPr/>
            </p:nvGrpSpPr>
            <p:grpSpPr>
              <a:xfrm>
                <a:off x="4579920" y="1794600"/>
                <a:ext cx="405360" cy="292320"/>
                <a:chOff x="4579920" y="1794600"/>
                <a:chExt cx="405360" cy="292320"/>
              </a:xfrm>
            </p:grpSpPr>
            <p:sp>
              <p:nvSpPr>
                <p:cNvPr id="2754" name=""/>
                <p:cNvSpPr/>
                <p:nvPr/>
              </p:nvSpPr>
              <p:spPr>
                <a:xfrm>
                  <a:off x="4579920" y="179460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5" name=""/>
                <p:cNvGrpSpPr/>
                <p:nvPr/>
              </p:nvGrpSpPr>
              <p:grpSpPr>
                <a:xfrm>
                  <a:off x="4579920" y="1794600"/>
                  <a:ext cx="405360" cy="292320"/>
                  <a:chOff x="4579920" y="1794600"/>
                  <a:chExt cx="405360" cy="292320"/>
                </a:xfrm>
              </p:grpSpPr>
              <p:sp>
                <p:nvSpPr>
                  <p:cNvPr id="2756" name=""/>
                  <p:cNvSpPr/>
                  <p:nvPr/>
                </p:nvSpPr>
                <p:spPr>
                  <a:xfrm>
                    <a:off x="4618080" y="179460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4579920" y="179460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8" name=""/>
              <p:cNvGrpSpPr/>
              <p:nvPr/>
            </p:nvGrpSpPr>
            <p:grpSpPr>
              <a:xfrm>
                <a:off x="4985280" y="1794600"/>
                <a:ext cx="403560" cy="292320"/>
                <a:chOff x="4985280" y="1794600"/>
                <a:chExt cx="403560" cy="292320"/>
              </a:xfrm>
            </p:grpSpPr>
            <p:sp>
              <p:nvSpPr>
                <p:cNvPr id="2759" name=""/>
                <p:cNvSpPr/>
                <p:nvPr/>
              </p:nvSpPr>
              <p:spPr>
                <a:xfrm>
                  <a:off x="4985280" y="17946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0" name=""/>
                <p:cNvGrpSpPr/>
                <p:nvPr/>
              </p:nvGrpSpPr>
              <p:grpSpPr>
                <a:xfrm>
                  <a:off x="4985280" y="1794600"/>
                  <a:ext cx="403560" cy="292320"/>
                  <a:chOff x="4985280" y="1794600"/>
                  <a:chExt cx="403560" cy="292320"/>
                </a:xfrm>
              </p:grpSpPr>
              <p:sp>
                <p:nvSpPr>
                  <p:cNvPr id="2761" name=""/>
                  <p:cNvSpPr/>
                  <p:nvPr/>
                </p:nvSpPr>
                <p:spPr>
                  <a:xfrm>
                    <a:off x="5023080" y="17946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4985280" y="17946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63" name=""/>
              <p:cNvGrpSpPr/>
              <p:nvPr/>
            </p:nvGrpSpPr>
            <p:grpSpPr>
              <a:xfrm>
                <a:off x="5389200" y="1794600"/>
                <a:ext cx="403200" cy="292320"/>
                <a:chOff x="5389200" y="1794600"/>
                <a:chExt cx="403200" cy="292320"/>
              </a:xfrm>
            </p:grpSpPr>
            <p:sp>
              <p:nvSpPr>
                <p:cNvPr id="2764" name=""/>
                <p:cNvSpPr/>
                <p:nvPr/>
              </p:nvSpPr>
              <p:spPr>
                <a:xfrm>
                  <a:off x="5389200" y="179460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5" name=""/>
                <p:cNvGrpSpPr/>
                <p:nvPr/>
              </p:nvGrpSpPr>
              <p:grpSpPr>
                <a:xfrm>
                  <a:off x="5389200" y="1794600"/>
                  <a:ext cx="403200" cy="292320"/>
                  <a:chOff x="5389200" y="1794600"/>
                  <a:chExt cx="403200" cy="292320"/>
                </a:xfrm>
              </p:grpSpPr>
              <p:sp>
                <p:nvSpPr>
                  <p:cNvPr id="2766" name=""/>
                  <p:cNvSpPr/>
                  <p:nvPr/>
                </p:nvSpPr>
                <p:spPr>
                  <a:xfrm>
                    <a:off x="5427000" y="17946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5389200" y="179460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68" name=""/>
              <p:cNvGrpSpPr/>
              <p:nvPr/>
            </p:nvGrpSpPr>
            <p:grpSpPr>
              <a:xfrm>
                <a:off x="5792760" y="1794600"/>
                <a:ext cx="403560" cy="292320"/>
                <a:chOff x="5792760" y="1794600"/>
                <a:chExt cx="403560" cy="29232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5792760" y="17946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0" name=""/>
                <p:cNvGrpSpPr/>
                <p:nvPr/>
              </p:nvGrpSpPr>
              <p:grpSpPr>
                <a:xfrm>
                  <a:off x="5792760" y="1794600"/>
                  <a:ext cx="403560" cy="292320"/>
                  <a:chOff x="5792760" y="1794600"/>
                  <a:chExt cx="403560" cy="292320"/>
                </a:xfrm>
              </p:grpSpPr>
              <p:sp>
                <p:nvSpPr>
                  <p:cNvPr id="2771" name=""/>
                  <p:cNvSpPr/>
                  <p:nvPr/>
                </p:nvSpPr>
                <p:spPr>
                  <a:xfrm>
                    <a:off x="5830920" y="17946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>
                    <a:off x="5792760" y="17946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3" name=""/>
              <p:cNvGrpSpPr/>
              <p:nvPr/>
            </p:nvGrpSpPr>
            <p:grpSpPr>
              <a:xfrm>
                <a:off x="6196680" y="1794600"/>
                <a:ext cx="403560" cy="292320"/>
                <a:chOff x="6196680" y="1794600"/>
                <a:chExt cx="403560" cy="292320"/>
              </a:xfrm>
            </p:grpSpPr>
            <p:sp>
              <p:nvSpPr>
                <p:cNvPr id="2774" name=""/>
                <p:cNvSpPr/>
                <p:nvPr/>
              </p:nvSpPr>
              <p:spPr>
                <a:xfrm>
                  <a:off x="6196680" y="17946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5" name=""/>
                <p:cNvGrpSpPr/>
                <p:nvPr/>
              </p:nvGrpSpPr>
              <p:grpSpPr>
                <a:xfrm>
                  <a:off x="6196680" y="1794600"/>
                  <a:ext cx="403560" cy="292320"/>
                  <a:chOff x="6196680" y="1794600"/>
                  <a:chExt cx="403560" cy="292320"/>
                </a:xfrm>
              </p:grpSpPr>
              <p:sp>
                <p:nvSpPr>
                  <p:cNvPr id="2776" name=""/>
                  <p:cNvSpPr/>
                  <p:nvPr/>
                </p:nvSpPr>
                <p:spPr>
                  <a:xfrm>
                    <a:off x="6234840" y="17946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>
                    <a:off x="6196680" y="17946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8" name=""/>
              <p:cNvGrpSpPr/>
              <p:nvPr/>
            </p:nvGrpSpPr>
            <p:grpSpPr>
              <a:xfrm>
                <a:off x="6600240" y="1794600"/>
                <a:ext cx="405000" cy="292320"/>
                <a:chOff x="6600240" y="1794600"/>
                <a:chExt cx="405000" cy="292320"/>
              </a:xfrm>
            </p:grpSpPr>
            <p:sp>
              <p:nvSpPr>
                <p:cNvPr id="2779" name=""/>
                <p:cNvSpPr/>
                <p:nvPr/>
              </p:nvSpPr>
              <p:spPr>
                <a:xfrm>
                  <a:off x="6600240" y="179460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0" name=""/>
                <p:cNvGrpSpPr/>
                <p:nvPr/>
              </p:nvGrpSpPr>
              <p:grpSpPr>
                <a:xfrm>
                  <a:off x="6600240" y="1794600"/>
                  <a:ext cx="405000" cy="292320"/>
                  <a:chOff x="6600240" y="1794600"/>
                  <a:chExt cx="405000" cy="292320"/>
                </a:xfrm>
              </p:grpSpPr>
              <p:sp>
                <p:nvSpPr>
                  <p:cNvPr id="2781" name=""/>
                  <p:cNvSpPr/>
                  <p:nvPr/>
                </p:nvSpPr>
                <p:spPr>
                  <a:xfrm>
                    <a:off x="6638400" y="179460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6600240" y="179460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3" name=""/>
              <p:cNvGrpSpPr/>
              <p:nvPr/>
            </p:nvGrpSpPr>
            <p:grpSpPr>
              <a:xfrm>
                <a:off x="2153520" y="2087280"/>
                <a:ext cx="405000" cy="292680"/>
                <a:chOff x="2153520" y="2087280"/>
                <a:chExt cx="405000" cy="292680"/>
              </a:xfrm>
            </p:grpSpPr>
            <p:sp>
              <p:nvSpPr>
                <p:cNvPr id="2784" name=""/>
                <p:cNvSpPr/>
                <p:nvPr/>
              </p:nvSpPr>
              <p:spPr>
                <a:xfrm>
                  <a:off x="2153520" y="208728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5" name=""/>
                <p:cNvGrpSpPr/>
                <p:nvPr/>
              </p:nvGrpSpPr>
              <p:grpSpPr>
                <a:xfrm>
                  <a:off x="2153520" y="2087280"/>
                  <a:ext cx="405000" cy="292680"/>
                  <a:chOff x="2153520" y="2087280"/>
                  <a:chExt cx="405000" cy="292680"/>
                </a:xfrm>
              </p:grpSpPr>
              <p:sp>
                <p:nvSpPr>
                  <p:cNvPr id="2786" name=""/>
                  <p:cNvSpPr/>
                  <p:nvPr/>
                </p:nvSpPr>
                <p:spPr>
                  <a:xfrm>
                    <a:off x="2191680" y="2087280"/>
                    <a:ext cx="3286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2153520" y="208728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8" name=""/>
              <p:cNvGrpSpPr/>
              <p:nvPr/>
            </p:nvGrpSpPr>
            <p:grpSpPr>
              <a:xfrm>
                <a:off x="2558520" y="2087280"/>
                <a:ext cx="405360" cy="292680"/>
                <a:chOff x="2558520" y="2087280"/>
                <a:chExt cx="405360" cy="292680"/>
              </a:xfrm>
            </p:grpSpPr>
            <p:sp>
              <p:nvSpPr>
                <p:cNvPr id="2789" name=""/>
                <p:cNvSpPr/>
                <p:nvPr/>
              </p:nvSpPr>
              <p:spPr>
                <a:xfrm>
                  <a:off x="2558520" y="2087280"/>
                  <a:ext cx="4053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0" name=""/>
                <p:cNvGrpSpPr/>
                <p:nvPr/>
              </p:nvGrpSpPr>
              <p:grpSpPr>
                <a:xfrm>
                  <a:off x="2558520" y="2087280"/>
                  <a:ext cx="405360" cy="292680"/>
                  <a:chOff x="2558520" y="2087280"/>
                  <a:chExt cx="405360" cy="292680"/>
                </a:xfrm>
              </p:grpSpPr>
              <p:sp>
                <p:nvSpPr>
                  <p:cNvPr id="2791" name=""/>
                  <p:cNvSpPr/>
                  <p:nvPr/>
                </p:nvSpPr>
                <p:spPr>
                  <a:xfrm>
                    <a:off x="2596680" y="208728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2558520" y="2087280"/>
                    <a:ext cx="4053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3" name=""/>
              <p:cNvGrpSpPr/>
              <p:nvPr/>
            </p:nvGrpSpPr>
            <p:grpSpPr>
              <a:xfrm>
                <a:off x="2963880" y="2087280"/>
                <a:ext cx="405000" cy="292680"/>
                <a:chOff x="2963880" y="2087280"/>
                <a:chExt cx="405000" cy="29268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2963880" y="208728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5" name=""/>
                <p:cNvGrpSpPr/>
                <p:nvPr/>
              </p:nvGrpSpPr>
              <p:grpSpPr>
                <a:xfrm>
                  <a:off x="2963880" y="2087280"/>
                  <a:ext cx="405000" cy="292680"/>
                  <a:chOff x="2963880" y="2087280"/>
                  <a:chExt cx="405000" cy="292680"/>
                </a:xfrm>
              </p:grpSpPr>
              <p:sp>
                <p:nvSpPr>
                  <p:cNvPr id="2796" name=""/>
                  <p:cNvSpPr/>
                  <p:nvPr/>
                </p:nvSpPr>
                <p:spPr>
                  <a:xfrm>
                    <a:off x="3002040" y="208728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2963880" y="208728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8" name=""/>
              <p:cNvGrpSpPr/>
              <p:nvPr/>
            </p:nvGrpSpPr>
            <p:grpSpPr>
              <a:xfrm>
                <a:off x="3368880" y="2087280"/>
                <a:ext cx="403560" cy="292680"/>
                <a:chOff x="3368880" y="2087280"/>
                <a:chExt cx="403560" cy="29268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3368880" y="20872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0" name=""/>
                <p:cNvGrpSpPr/>
                <p:nvPr/>
              </p:nvGrpSpPr>
              <p:grpSpPr>
                <a:xfrm>
                  <a:off x="3368880" y="2087280"/>
                  <a:ext cx="403560" cy="292680"/>
                  <a:chOff x="3368880" y="2087280"/>
                  <a:chExt cx="403560" cy="292680"/>
                </a:xfrm>
              </p:grpSpPr>
              <p:sp>
                <p:nvSpPr>
                  <p:cNvPr id="2801" name=""/>
                  <p:cNvSpPr/>
                  <p:nvPr/>
                </p:nvSpPr>
                <p:spPr>
                  <a:xfrm>
                    <a:off x="3406680" y="20872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3368880" y="20872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3" name=""/>
              <p:cNvGrpSpPr/>
              <p:nvPr/>
            </p:nvGrpSpPr>
            <p:grpSpPr>
              <a:xfrm>
                <a:off x="3772800" y="2087280"/>
                <a:ext cx="403560" cy="292680"/>
                <a:chOff x="3772800" y="2087280"/>
                <a:chExt cx="403560" cy="292680"/>
              </a:xfrm>
            </p:grpSpPr>
            <p:sp>
              <p:nvSpPr>
                <p:cNvPr id="2804" name=""/>
                <p:cNvSpPr/>
                <p:nvPr/>
              </p:nvSpPr>
              <p:spPr>
                <a:xfrm>
                  <a:off x="3772800" y="20872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5" name=""/>
                <p:cNvGrpSpPr/>
                <p:nvPr/>
              </p:nvGrpSpPr>
              <p:grpSpPr>
                <a:xfrm>
                  <a:off x="3772800" y="2087280"/>
                  <a:ext cx="403560" cy="292680"/>
                  <a:chOff x="3772800" y="2087280"/>
                  <a:chExt cx="403560" cy="292680"/>
                </a:xfrm>
              </p:grpSpPr>
              <p:sp>
                <p:nvSpPr>
                  <p:cNvPr id="2806" name=""/>
                  <p:cNvSpPr/>
                  <p:nvPr/>
                </p:nvSpPr>
                <p:spPr>
                  <a:xfrm>
                    <a:off x="3810600" y="20872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3772800" y="20872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8" name=""/>
              <p:cNvGrpSpPr/>
              <p:nvPr/>
            </p:nvGrpSpPr>
            <p:grpSpPr>
              <a:xfrm>
                <a:off x="4176360" y="2087280"/>
                <a:ext cx="403200" cy="292680"/>
                <a:chOff x="4176360" y="2087280"/>
                <a:chExt cx="403200" cy="292680"/>
              </a:xfrm>
            </p:grpSpPr>
            <p:sp>
              <p:nvSpPr>
                <p:cNvPr id="2809" name=""/>
                <p:cNvSpPr/>
                <p:nvPr/>
              </p:nvSpPr>
              <p:spPr>
                <a:xfrm>
                  <a:off x="4176360" y="2087280"/>
                  <a:ext cx="4032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0" name=""/>
                <p:cNvGrpSpPr/>
                <p:nvPr/>
              </p:nvGrpSpPr>
              <p:grpSpPr>
                <a:xfrm>
                  <a:off x="4176360" y="2087280"/>
                  <a:ext cx="403200" cy="292680"/>
                  <a:chOff x="4176360" y="2087280"/>
                  <a:chExt cx="403200" cy="292680"/>
                </a:xfrm>
              </p:grpSpPr>
              <p:sp>
                <p:nvSpPr>
                  <p:cNvPr id="2811" name=""/>
                  <p:cNvSpPr/>
                  <p:nvPr/>
                </p:nvSpPr>
                <p:spPr>
                  <a:xfrm>
                    <a:off x="4214160" y="20872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4176360" y="2087280"/>
                    <a:ext cx="4032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13" name=""/>
              <p:cNvGrpSpPr/>
              <p:nvPr/>
            </p:nvGrpSpPr>
            <p:grpSpPr>
              <a:xfrm>
                <a:off x="4579920" y="2087280"/>
                <a:ext cx="405360" cy="292680"/>
                <a:chOff x="4579920" y="2087280"/>
                <a:chExt cx="405360" cy="292680"/>
              </a:xfrm>
            </p:grpSpPr>
            <p:sp>
              <p:nvSpPr>
                <p:cNvPr id="2814" name=""/>
                <p:cNvSpPr/>
                <p:nvPr/>
              </p:nvSpPr>
              <p:spPr>
                <a:xfrm>
                  <a:off x="4579920" y="2087280"/>
                  <a:ext cx="4053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5" name=""/>
                <p:cNvGrpSpPr/>
                <p:nvPr/>
              </p:nvGrpSpPr>
              <p:grpSpPr>
                <a:xfrm>
                  <a:off x="4579920" y="2087280"/>
                  <a:ext cx="405360" cy="292680"/>
                  <a:chOff x="4579920" y="2087280"/>
                  <a:chExt cx="405360" cy="29268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>
                    <a:off x="4618080" y="208728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4579920" y="2087280"/>
                    <a:ext cx="4053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18" name=""/>
              <p:cNvGrpSpPr/>
              <p:nvPr/>
            </p:nvGrpSpPr>
            <p:grpSpPr>
              <a:xfrm>
                <a:off x="4985280" y="2087280"/>
                <a:ext cx="403560" cy="292680"/>
                <a:chOff x="4985280" y="2087280"/>
                <a:chExt cx="403560" cy="292680"/>
              </a:xfrm>
            </p:grpSpPr>
            <p:sp>
              <p:nvSpPr>
                <p:cNvPr id="2819" name=""/>
                <p:cNvSpPr/>
                <p:nvPr/>
              </p:nvSpPr>
              <p:spPr>
                <a:xfrm>
                  <a:off x="4985280" y="20872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0" name=""/>
                <p:cNvGrpSpPr/>
                <p:nvPr/>
              </p:nvGrpSpPr>
              <p:grpSpPr>
                <a:xfrm>
                  <a:off x="4985280" y="2087280"/>
                  <a:ext cx="403560" cy="292680"/>
                  <a:chOff x="4985280" y="2087280"/>
                  <a:chExt cx="403560" cy="292680"/>
                </a:xfrm>
              </p:grpSpPr>
              <p:sp>
                <p:nvSpPr>
                  <p:cNvPr id="2821" name=""/>
                  <p:cNvSpPr/>
                  <p:nvPr/>
                </p:nvSpPr>
                <p:spPr>
                  <a:xfrm>
                    <a:off x="5023080" y="20872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4985280" y="20872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3" name=""/>
              <p:cNvGrpSpPr/>
              <p:nvPr/>
            </p:nvGrpSpPr>
            <p:grpSpPr>
              <a:xfrm>
                <a:off x="5389200" y="2087280"/>
                <a:ext cx="403200" cy="292680"/>
                <a:chOff x="5389200" y="2087280"/>
                <a:chExt cx="403200" cy="292680"/>
              </a:xfrm>
            </p:grpSpPr>
            <p:sp>
              <p:nvSpPr>
                <p:cNvPr id="2824" name=""/>
                <p:cNvSpPr/>
                <p:nvPr/>
              </p:nvSpPr>
              <p:spPr>
                <a:xfrm>
                  <a:off x="5389200" y="2087280"/>
                  <a:ext cx="4032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5" name=""/>
                <p:cNvGrpSpPr/>
                <p:nvPr/>
              </p:nvGrpSpPr>
              <p:grpSpPr>
                <a:xfrm>
                  <a:off x="5389200" y="2087280"/>
                  <a:ext cx="403200" cy="292680"/>
                  <a:chOff x="5389200" y="2087280"/>
                  <a:chExt cx="403200" cy="292680"/>
                </a:xfrm>
              </p:grpSpPr>
              <p:sp>
                <p:nvSpPr>
                  <p:cNvPr id="2826" name=""/>
                  <p:cNvSpPr/>
                  <p:nvPr/>
                </p:nvSpPr>
                <p:spPr>
                  <a:xfrm>
                    <a:off x="5427000" y="20872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5389200" y="2087280"/>
                    <a:ext cx="4032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8" name=""/>
              <p:cNvGrpSpPr/>
              <p:nvPr/>
            </p:nvGrpSpPr>
            <p:grpSpPr>
              <a:xfrm>
                <a:off x="5792760" y="2087280"/>
                <a:ext cx="403560" cy="292680"/>
                <a:chOff x="5792760" y="2087280"/>
                <a:chExt cx="403560" cy="292680"/>
              </a:xfrm>
            </p:grpSpPr>
            <p:sp>
              <p:nvSpPr>
                <p:cNvPr id="2829" name=""/>
                <p:cNvSpPr/>
                <p:nvPr/>
              </p:nvSpPr>
              <p:spPr>
                <a:xfrm>
                  <a:off x="5792760" y="20872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0" name=""/>
                <p:cNvGrpSpPr/>
                <p:nvPr/>
              </p:nvGrpSpPr>
              <p:grpSpPr>
                <a:xfrm>
                  <a:off x="5792760" y="2087280"/>
                  <a:ext cx="403560" cy="292680"/>
                  <a:chOff x="5792760" y="2087280"/>
                  <a:chExt cx="403560" cy="292680"/>
                </a:xfrm>
              </p:grpSpPr>
              <p:sp>
                <p:nvSpPr>
                  <p:cNvPr id="2831" name=""/>
                  <p:cNvSpPr/>
                  <p:nvPr/>
                </p:nvSpPr>
                <p:spPr>
                  <a:xfrm>
                    <a:off x="5830920" y="20872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5792760" y="20872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3" name=""/>
              <p:cNvGrpSpPr/>
              <p:nvPr/>
            </p:nvGrpSpPr>
            <p:grpSpPr>
              <a:xfrm>
                <a:off x="6196680" y="2087280"/>
                <a:ext cx="403560" cy="292680"/>
                <a:chOff x="6196680" y="2087280"/>
                <a:chExt cx="403560" cy="292680"/>
              </a:xfrm>
            </p:grpSpPr>
            <p:sp>
              <p:nvSpPr>
                <p:cNvPr id="2834" name=""/>
                <p:cNvSpPr/>
                <p:nvPr/>
              </p:nvSpPr>
              <p:spPr>
                <a:xfrm>
                  <a:off x="6196680" y="208728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5" name=""/>
                <p:cNvGrpSpPr/>
                <p:nvPr/>
              </p:nvGrpSpPr>
              <p:grpSpPr>
                <a:xfrm>
                  <a:off x="6196680" y="2087280"/>
                  <a:ext cx="403560" cy="292680"/>
                  <a:chOff x="6196680" y="2087280"/>
                  <a:chExt cx="403560" cy="292680"/>
                </a:xfrm>
              </p:grpSpPr>
              <p:sp>
                <p:nvSpPr>
                  <p:cNvPr id="2836" name=""/>
                  <p:cNvSpPr/>
                  <p:nvPr/>
                </p:nvSpPr>
                <p:spPr>
                  <a:xfrm>
                    <a:off x="6234840" y="208728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6196680" y="208728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8" name=""/>
              <p:cNvGrpSpPr/>
              <p:nvPr/>
            </p:nvGrpSpPr>
            <p:grpSpPr>
              <a:xfrm>
                <a:off x="6600240" y="2087280"/>
                <a:ext cx="405000" cy="292680"/>
                <a:chOff x="6600240" y="2087280"/>
                <a:chExt cx="405000" cy="292680"/>
              </a:xfrm>
            </p:grpSpPr>
            <p:sp>
              <p:nvSpPr>
                <p:cNvPr id="2839" name=""/>
                <p:cNvSpPr/>
                <p:nvPr/>
              </p:nvSpPr>
              <p:spPr>
                <a:xfrm>
                  <a:off x="6600240" y="208728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0" name=""/>
                <p:cNvGrpSpPr/>
                <p:nvPr/>
              </p:nvGrpSpPr>
              <p:grpSpPr>
                <a:xfrm>
                  <a:off x="6600240" y="2087280"/>
                  <a:ext cx="405000" cy="292680"/>
                  <a:chOff x="6600240" y="2087280"/>
                  <a:chExt cx="405000" cy="292680"/>
                </a:xfrm>
              </p:grpSpPr>
              <p:sp>
                <p:nvSpPr>
                  <p:cNvPr id="2841" name=""/>
                  <p:cNvSpPr/>
                  <p:nvPr/>
                </p:nvSpPr>
                <p:spPr>
                  <a:xfrm>
                    <a:off x="6638400" y="208728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6600240" y="208728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3" name=""/>
              <p:cNvGrpSpPr/>
              <p:nvPr/>
            </p:nvGrpSpPr>
            <p:grpSpPr>
              <a:xfrm>
                <a:off x="2153520" y="2379960"/>
                <a:ext cx="405000" cy="292320"/>
                <a:chOff x="2153520" y="2379960"/>
                <a:chExt cx="405000" cy="292320"/>
              </a:xfrm>
            </p:grpSpPr>
            <p:sp>
              <p:nvSpPr>
                <p:cNvPr id="2844" name=""/>
                <p:cNvSpPr/>
                <p:nvPr/>
              </p:nvSpPr>
              <p:spPr>
                <a:xfrm>
                  <a:off x="2153520" y="237996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5" name=""/>
                <p:cNvGrpSpPr/>
                <p:nvPr/>
              </p:nvGrpSpPr>
              <p:grpSpPr>
                <a:xfrm>
                  <a:off x="2153520" y="2379960"/>
                  <a:ext cx="405000" cy="292320"/>
                  <a:chOff x="2153520" y="2379960"/>
                  <a:chExt cx="405000" cy="292320"/>
                </a:xfrm>
              </p:grpSpPr>
              <p:sp>
                <p:nvSpPr>
                  <p:cNvPr id="2846" name=""/>
                  <p:cNvSpPr/>
                  <p:nvPr/>
                </p:nvSpPr>
                <p:spPr>
                  <a:xfrm>
                    <a:off x="2191680" y="2379960"/>
                    <a:ext cx="3286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2153520" y="237996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8" name=""/>
              <p:cNvGrpSpPr/>
              <p:nvPr/>
            </p:nvGrpSpPr>
            <p:grpSpPr>
              <a:xfrm>
                <a:off x="2558520" y="2379960"/>
                <a:ext cx="405360" cy="292320"/>
                <a:chOff x="2558520" y="2379960"/>
                <a:chExt cx="405360" cy="292320"/>
              </a:xfrm>
            </p:grpSpPr>
            <p:sp>
              <p:nvSpPr>
                <p:cNvPr id="2849" name=""/>
                <p:cNvSpPr/>
                <p:nvPr/>
              </p:nvSpPr>
              <p:spPr>
                <a:xfrm>
                  <a:off x="2558520" y="237996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0" name=""/>
                <p:cNvGrpSpPr/>
                <p:nvPr/>
              </p:nvGrpSpPr>
              <p:grpSpPr>
                <a:xfrm>
                  <a:off x="2558520" y="2379960"/>
                  <a:ext cx="405360" cy="292320"/>
                  <a:chOff x="2558520" y="2379960"/>
                  <a:chExt cx="405360" cy="292320"/>
                </a:xfrm>
              </p:grpSpPr>
              <p:sp>
                <p:nvSpPr>
                  <p:cNvPr id="2851" name=""/>
                  <p:cNvSpPr/>
                  <p:nvPr/>
                </p:nvSpPr>
                <p:spPr>
                  <a:xfrm>
                    <a:off x="2596680" y="23799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2558520" y="237996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3" name=""/>
              <p:cNvGrpSpPr/>
              <p:nvPr/>
            </p:nvGrpSpPr>
            <p:grpSpPr>
              <a:xfrm>
                <a:off x="2963880" y="2379960"/>
                <a:ext cx="405000" cy="292320"/>
                <a:chOff x="2963880" y="2379960"/>
                <a:chExt cx="405000" cy="29232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2963880" y="237996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5" name=""/>
                <p:cNvGrpSpPr/>
                <p:nvPr/>
              </p:nvGrpSpPr>
              <p:grpSpPr>
                <a:xfrm>
                  <a:off x="2963880" y="2379960"/>
                  <a:ext cx="405000" cy="292320"/>
                  <a:chOff x="2963880" y="2379960"/>
                  <a:chExt cx="405000" cy="292320"/>
                </a:xfrm>
              </p:grpSpPr>
              <p:sp>
                <p:nvSpPr>
                  <p:cNvPr id="2856" name=""/>
                  <p:cNvSpPr/>
                  <p:nvPr/>
                </p:nvSpPr>
                <p:spPr>
                  <a:xfrm>
                    <a:off x="3002040" y="23799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2963880" y="237996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8" name=""/>
              <p:cNvGrpSpPr/>
              <p:nvPr/>
            </p:nvGrpSpPr>
            <p:grpSpPr>
              <a:xfrm>
                <a:off x="3368880" y="2379960"/>
                <a:ext cx="403560" cy="292320"/>
                <a:chOff x="3368880" y="2379960"/>
                <a:chExt cx="403560" cy="292320"/>
              </a:xfrm>
            </p:grpSpPr>
            <p:sp>
              <p:nvSpPr>
                <p:cNvPr id="2859" name=""/>
                <p:cNvSpPr/>
                <p:nvPr/>
              </p:nvSpPr>
              <p:spPr>
                <a:xfrm>
                  <a:off x="3368880" y="23799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0" name=""/>
                <p:cNvGrpSpPr/>
                <p:nvPr/>
              </p:nvGrpSpPr>
              <p:grpSpPr>
                <a:xfrm>
                  <a:off x="3368880" y="2379960"/>
                  <a:ext cx="403560" cy="292320"/>
                  <a:chOff x="3368880" y="2379960"/>
                  <a:chExt cx="403560" cy="292320"/>
                </a:xfrm>
              </p:grpSpPr>
              <p:sp>
                <p:nvSpPr>
                  <p:cNvPr id="2861" name=""/>
                  <p:cNvSpPr/>
                  <p:nvPr/>
                </p:nvSpPr>
                <p:spPr>
                  <a:xfrm>
                    <a:off x="3406680" y="23799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3368880" y="23799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63" name=""/>
              <p:cNvGrpSpPr/>
              <p:nvPr/>
            </p:nvGrpSpPr>
            <p:grpSpPr>
              <a:xfrm>
                <a:off x="3772800" y="2379960"/>
                <a:ext cx="403560" cy="292320"/>
                <a:chOff x="3772800" y="2379960"/>
                <a:chExt cx="403560" cy="292320"/>
              </a:xfrm>
            </p:grpSpPr>
            <p:sp>
              <p:nvSpPr>
                <p:cNvPr id="2864" name=""/>
                <p:cNvSpPr/>
                <p:nvPr/>
              </p:nvSpPr>
              <p:spPr>
                <a:xfrm>
                  <a:off x="3772800" y="23799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5" name=""/>
                <p:cNvGrpSpPr/>
                <p:nvPr/>
              </p:nvGrpSpPr>
              <p:grpSpPr>
                <a:xfrm>
                  <a:off x="3772800" y="2379960"/>
                  <a:ext cx="403560" cy="292320"/>
                  <a:chOff x="3772800" y="2379960"/>
                  <a:chExt cx="403560" cy="292320"/>
                </a:xfrm>
              </p:grpSpPr>
              <p:sp>
                <p:nvSpPr>
                  <p:cNvPr id="2866" name=""/>
                  <p:cNvSpPr/>
                  <p:nvPr/>
                </p:nvSpPr>
                <p:spPr>
                  <a:xfrm>
                    <a:off x="3810600" y="23799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3772800" y="23799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68" name=""/>
              <p:cNvGrpSpPr/>
              <p:nvPr/>
            </p:nvGrpSpPr>
            <p:grpSpPr>
              <a:xfrm>
                <a:off x="4176360" y="2379960"/>
                <a:ext cx="403200" cy="292320"/>
                <a:chOff x="4176360" y="2379960"/>
                <a:chExt cx="403200" cy="292320"/>
              </a:xfrm>
            </p:grpSpPr>
            <p:sp>
              <p:nvSpPr>
                <p:cNvPr id="2869" name=""/>
                <p:cNvSpPr/>
                <p:nvPr/>
              </p:nvSpPr>
              <p:spPr>
                <a:xfrm>
                  <a:off x="4176360" y="237996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0" name=""/>
                <p:cNvGrpSpPr/>
                <p:nvPr/>
              </p:nvGrpSpPr>
              <p:grpSpPr>
                <a:xfrm>
                  <a:off x="4176360" y="2379960"/>
                  <a:ext cx="403200" cy="292320"/>
                  <a:chOff x="4176360" y="2379960"/>
                  <a:chExt cx="403200" cy="292320"/>
                </a:xfrm>
              </p:grpSpPr>
              <p:sp>
                <p:nvSpPr>
                  <p:cNvPr id="2871" name=""/>
                  <p:cNvSpPr/>
                  <p:nvPr/>
                </p:nvSpPr>
                <p:spPr>
                  <a:xfrm>
                    <a:off x="4214160" y="23799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4176360" y="237996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3" name=""/>
              <p:cNvGrpSpPr/>
              <p:nvPr/>
            </p:nvGrpSpPr>
            <p:grpSpPr>
              <a:xfrm>
                <a:off x="4579920" y="2379960"/>
                <a:ext cx="405360" cy="292320"/>
                <a:chOff x="4579920" y="2379960"/>
                <a:chExt cx="405360" cy="292320"/>
              </a:xfrm>
            </p:grpSpPr>
            <p:sp>
              <p:nvSpPr>
                <p:cNvPr id="2874" name=""/>
                <p:cNvSpPr/>
                <p:nvPr/>
              </p:nvSpPr>
              <p:spPr>
                <a:xfrm>
                  <a:off x="4579920" y="237996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5" name=""/>
                <p:cNvGrpSpPr/>
                <p:nvPr/>
              </p:nvGrpSpPr>
              <p:grpSpPr>
                <a:xfrm>
                  <a:off x="4579920" y="2379960"/>
                  <a:ext cx="405360" cy="292320"/>
                  <a:chOff x="4579920" y="2379960"/>
                  <a:chExt cx="405360" cy="292320"/>
                </a:xfrm>
              </p:grpSpPr>
              <p:sp>
                <p:nvSpPr>
                  <p:cNvPr id="2876" name=""/>
                  <p:cNvSpPr/>
                  <p:nvPr/>
                </p:nvSpPr>
                <p:spPr>
                  <a:xfrm>
                    <a:off x="4618080" y="23799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4579920" y="237996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8" name=""/>
              <p:cNvGrpSpPr/>
              <p:nvPr/>
            </p:nvGrpSpPr>
            <p:grpSpPr>
              <a:xfrm>
                <a:off x="4985280" y="2379960"/>
                <a:ext cx="403560" cy="292320"/>
                <a:chOff x="4985280" y="2379960"/>
                <a:chExt cx="403560" cy="292320"/>
              </a:xfrm>
            </p:grpSpPr>
            <p:sp>
              <p:nvSpPr>
                <p:cNvPr id="2879" name=""/>
                <p:cNvSpPr/>
                <p:nvPr/>
              </p:nvSpPr>
              <p:spPr>
                <a:xfrm>
                  <a:off x="4985280" y="23799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0" name=""/>
                <p:cNvGrpSpPr/>
                <p:nvPr/>
              </p:nvGrpSpPr>
              <p:grpSpPr>
                <a:xfrm>
                  <a:off x="4985280" y="2379960"/>
                  <a:ext cx="403560" cy="292320"/>
                  <a:chOff x="4985280" y="2379960"/>
                  <a:chExt cx="403560" cy="29232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>
                    <a:off x="5023080" y="23799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4985280" y="23799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3" name=""/>
              <p:cNvGrpSpPr/>
              <p:nvPr/>
            </p:nvGrpSpPr>
            <p:grpSpPr>
              <a:xfrm>
                <a:off x="5389200" y="2379960"/>
                <a:ext cx="403200" cy="292320"/>
                <a:chOff x="5389200" y="2379960"/>
                <a:chExt cx="403200" cy="292320"/>
              </a:xfrm>
            </p:grpSpPr>
            <p:sp>
              <p:nvSpPr>
                <p:cNvPr id="2884" name=""/>
                <p:cNvSpPr/>
                <p:nvPr/>
              </p:nvSpPr>
              <p:spPr>
                <a:xfrm>
                  <a:off x="5389200" y="237996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5" name=""/>
                <p:cNvGrpSpPr/>
                <p:nvPr/>
              </p:nvGrpSpPr>
              <p:grpSpPr>
                <a:xfrm>
                  <a:off x="5389200" y="2379960"/>
                  <a:ext cx="403200" cy="292320"/>
                  <a:chOff x="5389200" y="2379960"/>
                  <a:chExt cx="403200" cy="29232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>
                    <a:off x="5427000" y="23799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5389200" y="237996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8" name=""/>
              <p:cNvGrpSpPr/>
              <p:nvPr/>
            </p:nvGrpSpPr>
            <p:grpSpPr>
              <a:xfrm>
                <a:off x="5792760" y="2379960"/>
                <a:ext cx="403560" cy="292320"/>
                <a:chOff x="5792760" y="2379960"/>
                <a:chExt cx="403560" cy="292320"/>
              </a:xfrm>
            </p:grpSpPr>
            <p:sp>
              <p:nvSpPr>
                <p:cNvPr id="2889" name=""/>
                <p:cNvSpPr/>
                <p:nvPr/>
              </p:nvSpPr>
              <p:spPr>
                <a:xfrm>
                  <a:off x="5792760" y="23799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0" name=""/>
                <p:cNvGrpSpPr/>
                <p:nvPr/>
              </p:nvGrpSpPr>
              <p:grpSpPr>
                <a:xfrm>
                  <a:off x="5792760" y="2379960"/>
                  <a:ext cx="403560" cy="292320"/>
                  <a:chOff x="5792760" y="2379960"/>
                  <a:chExt cx="403560" cy="292320"/>
                </a:xfrm>
              </p:grpSpPr>
              <p:sp>
                <p:nvSpPr>
                  <p:cNvPr id="2891" name=""/>
                  <p:cNvSpPr/>
                  <p:nvPr/>
                </p:nvSpPr>
                <p:spPr>
                  <a:xfrm>
                    <a:off x="5830920" y="23799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5792760" y="23799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3" name=""/>
              <p:cNvGrpSpPr/>
              <p:nvPr/>
            </p:nvGrpSpPr>
            <p:grpSpPr>
              <a:xfrm>
                <a:off x="6196680" y="2379960"/>
                <a:ext cx="403560" cy="292320"/>
                <a:chOff x="6196680" y="2379960"/>
                <a:chExt cx="403560" cy="292320"/>
              </a:xfrm>
            </p:grpSpPr>
            <p:sp>
              <p:nvSpPr>
                <p:cNvPr id="2894" name=""/>
                <p:cNvSpPr/>
                <p:nvPr/>
              </p:nvSpPr>
              <p:spPr>
                <a:xfrm>
                  <a:off x="6196680" y="23799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5" name=""/>
                <p:cNvGrpSpPr/>
                <p:nvPr/>
              </p:nvGrpSpPr>
              <p:grpSpPr>
                <a:xfrm>
                  <a:off x="6196680" y="2379960"/>
                  <a:ext cx="403560" cy="292320"/>
                  <a:chOff x="6196680" y="2379960"/>
                  <a:chExt cx="403560" cy="29232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>
                    <a:off x="6234840" y="23799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6196680" y="23799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8" name=""/>
              <p:cNvGrpSpPr/>
              <p:nvPr/>
            </p:nvGrpSpPr>
            <p:grpSpPr>
              <a:xfrm>
                <a:off x="6600240" y="2379960"/>
                <a:ext cx="405000" cy="292320"/>
                <a:chOff x="6600240" y="2379960"/>
                <a:chExt cx="405000" cy="29232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6600240" y="237996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0" name=""/>
                <p:cNvGrpSpPr/>
                <p:nvPr/>
              </p:nvGrpSpPr>
              <p:grpSpPr>
                <a:xfrm>
                  <a:off x="6600240" y="2379960"/>
                  <a:ext cx="405000" cy="292320"/>
                  <a:chOff x="6600240" y="2379960"/>
                  <a:chExt cx="405000" cy="292320"/>
                </a:xfrm>
              </p:grpSpPr>
              <p:sp>
                <p:nvSpPr>
                  <p:cNvPr id="2901" name=""/>
                  <p:cNvSpPr/>
                  <p:nvPr/>
                </p:nvSpPr>
                <p:spPr>
                  <a:xfrm>
                    <a:off x="6638400" y="23799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6600240" y="237996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3" name=""/>
              <p:cNvGrpSpPr/>
              <p:nvPr/>
            </p:nvGrpSpPr>
            <p:grpSpPr>
              <a:xfrm>
                <a:off x="2153520" y="2672640"/>
                <a:ext cx="405000" cy="292320"/>
                <a:chOff x="2153520" y="2672640"/>
                <a:chExt cx="405000" cy="292320"/>
              </a:xfrm>
            </p:grpSpPr>
            <p:sp>
              <p:nvSpPr>
                <p:cNvPr id="2904" name=""/>
                <p:cNvSpPr/>
                <p:nvPr/>
              </p:nvSpPr>
              <p:spPr>
                <a:xfrm>
                  <a:off x="2153520" y="267264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5" name=""/>
                <p:cNvGrpSpPr/>
                <p:nvPr/>
              </p:nvGrpSpPr>
              <p:grpSpPr>
                <a:xfrm>
                  <a:off x="2153520" y="2672640"/>
                  <a:ext cx="405000" cy="292320"/>
                  <a:chOff x="2153520" y="2672640"/>
                  <a:chExt cx="405000" cy="292320"/>
                </a:xfrm>
              </p:grpSpPr>
              <p:sp>
                <p:nvSpPr>
                  <p:cNvPr id="2906" name=""/>
                  <p:cNvSpPr/>
                  <p:nvPr/>
                </p:nvSpPr>
                <p:spPr>
                  <a:xfrm>
                    <a:off x="2191680" y="2672640"/>
                    <a:ext cx="3286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>
                    <a:off x="2153520" y="267264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8" name=""/>
              <p:cNvGrpSpPr/>
              <p:nvPr/>
            </p:nvGrpSpPr>
            <p:grpSpPr>
              <a:xfrm>
                <a:off x="2558520" y="2672640"/>
                <a:ext cx="405360" cy="292320"/>
                <a:chOff x="2558520" y="2672640"/>
                <a:chExt cx="405360" cy="29232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2558520" y="267264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0" name=""/>
                <p:cNvGrpSpPr/>
                <p:nvPr/>
              </p:nvGrpSpPr>
              <p:grpSpPr>
                <a:xfrm>
                  <a:off x="2558520" y="2672640"/>
                  <a:ext cx="405360" cy="292320"/>
                  <a:chOff x="2558520" y="2672640"/>
                  <a:chExt cx="405360" cy="292320"/>
                </a:xfrm>
              </p:grpSpPr>
              <p:sp>
                <p:nvSpPr>
                  <p:cNvPr id="2911" name=""/>
                  <p:cNvSpPr/>
                  <p:nvPr/>
                </p:nvSpPr>
                <p:spPr>
                  <a:xfrm>
                    <a:off x="2596680" y="267264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2558520" y="267264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13" name=""/>
              <p:cNvGrpSpPr/>
              <p:nvPr/>
            </p:nvGrpSpPr>
            <p:grpSpPr>
              <a:xfrm>
                <a:off x="2963880" y="2672640"/>
                <a:ext cx="405000" cy="292320"/>
                <a:chOff x="2963880" y="2672640"/>
                <a:chExt cx="405000" cy="2923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2963880" y="267264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5" name=""/>
                <p:cNvGrpSpPr/>
                <p:nvPr/>
              </p:nvGrpSpPr>
              <p:grpSpPr>
                <a:xfrm>
                  <a:off x="2963880" y="2672640"/>
                  <a:ext cx="405000" cy="292320"/>
                  <a:chOff x="2963880" y="2672640"/>
                  <a:chExt cx="405000" cy="292320"/>
                </a:xfrm>
              </p:grpSpPr>
              <p:sp>
                <p:nvSpPr>
                  <p:cNvPr id="2916" name=""/>
                  <p:cNvSpPr/>
                  <p:nvPr/>
                </p:nvSpPr>
                <p:spPr>
                  <a:xfrm>
                    <a:off x="3002040" y="267264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2963880" y="267264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18" name=""/>
              <p:cNvGrpSpPr/>
              <p:nvPr/>
            </p:nvGrpSpPr>
            <p:grpSpPr>
              <a:xfrm>
                <a:off x="3368880" y="2672640"/>
                <a:ext cx="403560" cy="292320"/>
                <a:chOff x="3368880" y="2672640"/>
                <a:chExt cx="403560" cy="29232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3368880" y="26726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0" name=""/>
                <p:cNvGrpSpPr/>
                <p:nvPr/>
              </p:nvGrpSpPr>
              <p:grpSpPr>
                <a:xfrm>
                  <a:off x="3368880" y="2672640"/>
                  <a:ext cx="403560" cy="292320"/>
                  <a:chOff x="3368880" y="2672640"/>
                  <a:chExt cx="403560" cy="292320"/>
                </a:xfrm>
              </p:grpSpPr>
              <p:sp>
                <p:nvSpPr>
                  <p:cNvPr id="2921" name=""/>
                  <p:cNvSpPr/>
                  <p:nvPr/>
                </p:nvSpPr>
                <p:spPr>
                  <a:xfrm>
                    <a:off x="3406680" y="26726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>
                    <a:off x="3368880" y="26726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3" name=""/>
              <p:cNvGrpSpPr/>
              <p:nvPr/>
            </p:nvGrpSpPr>
            <p:grpSpPr>
              <a:xfrm>
                <a:off x="3772800" y="2672640"/>
                <a:ext cx="403560" cy="292320"/>
                <a:chOff x="3772800" y="2672640"/>
                <a:chExt cx="403560" cy="292320"/>
              </a:xfrm>
            </p:grpSpPr>
            <p:sp>
              <p:nvSpPr>
                <p:cNvPr id="2924" name=""/>
                <p:cNvSpPr/>
                <p:nvPr/>
              </p:nvSpPr>
              <p:spPr>
                <a:xfrm>
                  <a:off x="3772800" y="26726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5" name=""/>
                <p:cNvGrpSpPr/>
                <p:nvPr/>
              </p:nvGrpSpPr>
              <p:grpSpPr>
                <a:xfrm>
                  <a:off x="3772800" y="2672640"/>
                  <a:ext cx="403560" cy="292320"/>
                  <a:chOff x="3772800" y="2672640"/>
                  <a:chExt cx="403560" cy="292320"/>
                </a:xfrm>
              </p:grpSpPr>
              <p:sp>
                <p:nvSpPr>
                  <p:cNvPr id="2926" name=""/>
                  <p:cNvSpPr/>
                  <p:nvPr/>
                </p:nvSpPr>
                <p:spPr>
                  <a:xfrm>
                    <a:off x="3810600" y="26726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>
                    <a:off x="3772800" y="26726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8" name=""/>
              <p:cNvGrpSpPr/>
              <p:nvPr/>
            </p:nvGrpSpPr>
            <p:grpSpPr>
              <a:xfrm>
                <a:off x="4176360" y="2672640"/>
                <a:ext cx="403200" cy="292320"/>
                <a:chOff x="4176360" y="2672640"/>
                <a:chExt cx="403200" cy="2923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4176360" y="267264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0" name=""/>
                <p:cNvGrpSpPr/>
                <p:nvPr/>
              </p:nvGrpSpPr>
              <p:grpSpPr>
                <a:xfrm>
                  <a:off x="4176360" y="2672640"/>
                  <a:ext cx="403200" cy="292320"/>
                  <a:chOff x="4176360" y="2672640"/>
                  <a:chExt cx="403200" cy="292320"/>
                </a:xfrm>
              </p:grpSpPr>
              <p:sp>
                <p:nvSpPr>
                  <p:cNvPr id="2931" name=""/>
                  <p:cNvSpPr/>
                  <p:nvPr/>
                </p:nvSpPr>
                <p:spPr>
                  <a:xfrm>
                    <a:off x="4214160" y="26726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4176360" y="267264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3" name=""/>
              <p:cNvGrpSpPr/>
              <p:nvPr/>
            </p:nvGrpSpPr>
            <p:grpSpPr>
              <a:xfrm>
                <a:off x="4579920" y="2672640"/>
                <a:ext cx="405360" cy="292320"/>
                <a:chOff x="4579920" y="2672640"/>
                <a:chExt cx="405360" cy="29232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4579920" y="267264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5" name=""/>
                <p:cNvGrpSpPr/>
                <p:nvPr/>
              </p:nvGrpSpPr>
              <p:grpSpPr>
                <a:xfrm>
                  <a:off x="4579920" y="2672640"/>
                  <a:ext cx="405360" cy="292320"/>
                  <a:chOff x="4579920" y="2672640"/>
                  <a:chExt cx="405360" cy="292320"/>
                </a:xfrm>
              </p:grpSpPr>
              <p:sp>
                <p:nvSpPr>
                  <p:cNvPr id="2936" name=""/>
                  <p:cNvSpPr/>
                  <p:nvPr/>
                </p:nvSpPr>
                <p:spPr>
                  <a:xfrm>
                    <a:off x="4618080" y="267264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>
                    <a:off x="4579920" y="267264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8" name=""/>
              <p:cNvGrpSpPr/>
              <p:nvPr/>
            </p:nvGrpSpPr>
            <p:grpSpPr>
              <a:xfrm>
                <a:off x="4985280" y="2672640"/>
                <a:ext cx="403560" cy="292320"/>
                <a:chOff x="4985280" y="2672640"/>
                <a:chExt cx="403560" cy="292320"/>
              </a:xfrm>
            </p:grpSpPr>
            <p:sp>
              <p:nvSpPr>
                <p:cNvPr id="2939" name=""/>
                <p:cNvSpPr/>
                <p:nvPr/>
              </p:nvSpPr>
              <p:spPr>
                <a:xfrm>
                  <a:off x="4985280" y="26726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0" name=""/>
                <p:cNvGrpSpPr/>
                <p:nvPr/>
              </p:nvGrpSpPr>
              <p:grpSpPr>
                <a:xfrm>
                  <a:off x="4985280" y="2672640"/>
                  <a:ext cx="403560" cy="292320"/>
                  <a:chOff x="4985280" y="2672640"/>
                  <a:chExt cx="403560" cy="292320"/>
                </a:xfrm>
              </p:grpSpPr>
              <p:sp>
                <p:nvSpPr>
                  <p:cNvPr id="2941" name=""/>
                  <p:cNvSpPr/>
                  <p:nvPr/>
                </p:nvSpPr>
                <p:spPr>
                  <a:xfrm>
                    <a:off x="5023080" y="26726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>
                    <a:off x="4985280" y="26726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43" name=""/>
              <p:cNvGrpSpPr/>
              <p:nvPr/>
            </p:nvGrpSpPr>
            <p:grpSpPr>
              <a:xfrm>
                <a:off x="5389200" y="2672640"/>
                <a:ext cx="403200" cy="292320"/>
                <a:chOff x="5389200" y="2672640"/>
                <a:chExt cx="403200" cy="2923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5389200" y="267264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5" name=""/>
                <p:cNvGrpSpPr/>
                <p:nvPr/>
              </p:nvGrpSpPr>
              <p:grpSpPr>
                <a:xfrm>
                  <a:off x="5389200" y="2672640"/>
                  <a:ext cx="403200" cy="292320"/>
                  <a:chOff x="5389200" y="2672640"/>
                  <a:chExt cx="403200" cy="292320"/>
                </a:xfrm>
              </p:grpSpPr>
              <p:sp>
                <p:nvSpPr>
                  <p:cNvPr id="2946" name=""/>
                  <p:cNvSpPr/>
                  <p:nvPr/>
                </p:nvSpPr>
                <p:spPr>
                  <a:xfrm>
                    <a:off x="5427000" y="26726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5389200" y="267264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48" name=""/>
              <p:cNvGrpSpPr/>
              <p:nvPr/>
            </p:nvGrpSpPr>
            <p:grpSpPr>
              <a:xfrm>
                <a:off x="5792760" y="2672640"/>
                <a:ext cx="403560" cy="292320"/>
                <a:chOff x="5792760" y="2672640"/>
                <a:chExt cx="403560" cy="292320"/>
              </a:xfrm>
            </p:grpSpPr>
            <p:sp>
              <p:nvSpPr>
                <p:cNvPr id="2949" name=""/>
                <p:cNvSpPr/>
                <p:nvPr/>
              </p:nvSpPr>
              <p:spPr>
                <a:xfrm>
                  <a:off x="5792760" y="26726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0" name=""/>
                <p:cNvGrpSpPr/>
                <p:nvPr/>
              </p:nvGrpSpPr>
              <p:grpSpPr>
                <a:xfrm>
                  <a:off x="5792760" y="2672640"/>
                  <a:ext cx="403560" cy="292320"/>
                  <a:chOff x="5792760" y="2672640"/>
                  <a:chExt cx="403560" cy="292320"/>
                </a:xfrm>
              </p:grpSpPr>
              <p:sp>
                <p:nvSpPr>
                  <p:cNvPr id="2951" name=""/>
                  <p:cNvSpPr/>
                  <p:nvPr/>
                </p:nvSpPr>
                <p:spPr>
                  <a:xfrm>
                    <a:off x="5830920" y="26726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>
                    <a:off x="5792760" y="26726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3" name=""/>
              <p:cNvGrpSpPr/>
              <p:nvPr/>
            </p:nvGrpSpPr>
            <p:grpSpPr>
              <a:xfrm>
                <a:off x="6196680" y="2672640"/>
                <a:ext cx="403560" cy="292320"/>
                <a:chOff x="6196680" y="2672640"/>
                <a:chExt cx="403560" cy="292320"/>
              </a:xfrm>
            </p:grpSpPr>
            <p:sp>
              <p:nvSpPr>
                <p:cNvPr id="2954" name=""/>
                <p:cNvSpPr/>
                <p:nvPr/>
              </p:nvSpPr>
              <p:spPr>
                <a:xfrm>
                  <a:off x="6196680" y="26726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5" name=""/>
                <p:cNvGrpSpPr/>
                <p:nvPr/>
              </p:nvGrpSpPr>
              <p:grpSpPr>
                <a:xfrm>
                  <a:off x="6196680" y="2672640"/>
                  <a:ext cx="403560" cy="292320"/>
                  <a:chOff x="6196680" y="2672640"/>
                  <a:chExt cx="403560" cy="292320"/>
                </a:xfrm>
              </p:grpSpPr>
              <p:sp>
                <p:nvSpPr>
                  <p:cNvPr id="2956" name=""/>
                  <p:cNvSpPr/>
                  <p:nvPr/>
                </p:nvSpPr>
                <p:spPr>
                  <a:xfrm>
                    <a:off x="6234840" y="26726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>
                    <a:off x="6196680" y="26726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8" name=""/>
              <p:cNvGrpSpPr/>
              <p:nvPr/>
            </p:nvGrpSpPr>
            <p:grpSpPr>
              <a:xfrm>
                <a:off x="6600240" y="2672640"/>
                <a:ext cx="405000" cy="292320"/>
                <a:chOff x="6600240" y="2672640"/>
                <a:chExt cx="405000" cy="2923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6600240" y="267264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0" name=""/>
                <p:cNvGrpSpPr/>
                <p:nvPr/>
              </p:nvGrpSpPr>
              <p:grpSpPr>
                <a:xfrm>
                  <a:off x="6600240" y="2672640"/>
                  <a:ext cx="405000" cy="292320"/>
                  <a:chOff x="6600240" y="2672640"/>
                  <a:chExt cx="405000" cy="292320"/>
                </a:xfrm>
              </p:grpSpPr>
              <p:sp>
                <p:nvSpPr>
                  <p:cNvPr id="2961" name=""/>
                  <p:cNvSpPr/>
                  <p:nvPr/>
                </p:nvSpPr>
                <p:spPr>
                  <a:xfrm>
                    <a:off x="6638400" y="267264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>
                    <a:off x="6600240" y="267264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3" name=""/>
              <p:cNvGrpSpPr/>
              <p:nvPr/>
            </p:nvGrpSpPr>
            <p:grpSpPr>
              <a:xfrm>
                <a:off x="2153520" y="2965320"/>
                <a:ext cx="405000" cy="292680"/>
                <a:chOff x="2153520" y="2965320"/>
                <a:chExt cx="405000" cy="29268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2153520" y="296532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5" name=""/>
                <p:cNvGrpSpPr/>
                <p:nvPr/>
              </p:nvGrpSpPr>
              <p:grpSpPr>
                <a:xfrm>
                  <a:off x="2153520" y="2965320"/>
                  <a:ext cx="405000" cy="292680"/>
                  <a:chOff x="2153520" y="2965320"/>
                  <a:chExt cx="405000" cy="292680"/>
                </a:xfrm>
              </p:grpSpPr>
              <p:sp>
                <p:nvSpPr>
                  <p:cNvPr id="2966" name=""/>
                  <p:cNvSpPr/>
                  <p:nvPr/>
                </p:nvSpPr>
                <p:spPr>
                  <a:xfrm>
                    <a:off x="2191680" y="2965320"/>
                    <a:ext cx="3286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>
                    <a:off x="2153520" y="296532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8" name=""/>
              <p:cNvGrpSpPr/>
              <p:nvPr/>
            </p:nvGrpSpPr>
            <p:grpSpPr>
              <a:xfrm>
                <a:off x="2558520" y="2965320"/>
                <a:ext cx="405360" cy="292680"/>
                <a:chOff x="2558520" y="2965320"/>
                <a:chExt cx="405360" cy="292680"/>
              </a:xfrm>
            </p:grpSpPr>
            <p:sp>
              <p:nvSpPr>
                <p:cNvPr id="2969" name=""/>
                <p:cNvSpPr/>
                <p:nvPr/>
              </p:nvSpPr>
              <p:spPr>
                <a:xfrm>
                  <a:off x="2558520" y="2965320"/>
                  <a:ext cx="4053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0" name=""/>
                <p:cNvGrpSpPr/>
                <p:nvPr/>
              </p:nvGrpSpPr>
              <p:grpSpPr>
                <a:xfrm>
                  <a:off x="2558520" y="2965320"/>
                  <a:ext cx="405360" cy="292680"/>
                  <a:chOff x="2558520" y="2965320"/>
                  <a:chExt cx="405360" cy="292680"/>
                </a:xfrm>
              </p:grpSpPr>
              <p:sp>
                <p:nvSpPr>
                  <p:cNvPr id="2971" name=""/>
                  <p:cNvSpPr/>
                  <p:nvPr/>
                </p:nvSpPr>
                <p:spPr>
                  <a:xfrm>
                    <a:off x="2596680" y="296532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2558520" y="2965320"/>
                    <a:ext cx="4053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3" name=""/>
              <p:cNvGrpSpPr/>
              <p:nvPr/>
            </p:nvGrpSpPr>
            <p:grpSpPr>
              <a:xfrm>
                <a:off x="2963880" y="2965320"/>
                <a:ext cx="405000" cy="292680"/>
                <a:chOff x="2963880" y="2965320"/>
                <a:chExt cx="405000" cy="29268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963880" y="296532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5" name=""/>
                <p:cNvGrpSpPr/>
                <p:nvPr/>
              </p:nvGrpSpPr>
              <p:grpSpPr>
                <a:xfrm>
                  <a:off x="2963880" y="2965320"/>
                  <a:ext cx="405000" cy="292680"/>
                  <a:chOff x="2963880" y="2965320"/>
                  <a:chExt cx="405000" cy="292680"/>
                </a:xfrm>
              </p:grpSpPr>
              <p:sp>
                <p:nvSpPr>
                  <p:cNvPr id="2976" name=""/>
                  <p:cNvSpPr/>
                  <p:nvPr/>
                </p:nvSpPr>
                <p:spPr>
                  <a:xfrm>
                    <a:off x="3002040" y="296532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>
                    <a:off x="2963880" y="296532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8" name=""/>
              <p:cNvGrpSpPr/>
              <p:nvPr/>
            </p:nvGrpSpPr>
            <p:grpSpPr>
              <a:xfrm>
                <a:off x="3368880" y="2965320"/>
                <a:ext cx="403560" cy="292680"/>
                <a:chOff x="3368880" y="2965320"/>
                <a:chExt cx="403560" cy="292680"/>
              </a:xfrm>
            </p:grpSpPr>
            <p:sp>
              <p:nvSpPr>
                <p:cNvPr id="2979" name=""/>
                <p:cNvSpPr/>
                <p:nvPr/>
              </p:nvSpPr>
              <p:spPr>
                <a:xfrm>
                  <a:off x="3368880" y="29653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0" name=""/>
                <p:cNvGrpSpPr/>
                <p:nvPr/>
              </p:nvGrpSpPr>
              <p:grpSpPr>
                <a:xfrm>
                  <a:off x="3368880" y="2965320"/>
                  <a:ext cx="403560" cy="292680"/>
                  <a:chOff x="3368880" y="2965320"/>
                  <a:chExt cx="403560" cy="292680"/>
                </a:xfrm>
              </p:grpSpPr>
              <p:sp>
                <p:nvSpPr>
                  <p:cNvPr id="2981" name=""/>
                  <p:cNvSpPr/>
                  <p:nvPr/>
                </p:nvSpPr>
                <p:spPr>
                  <a:xfrm>
                    <a:off x="3406680" y="29653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>
                    <a:off x="3368880" y="29653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3" name=""/>
              <p:cNvGrpSpPr/>
              <p:nvPr/>
            </p:nvGrpSpPr>
            <p:grpSpPr>
              <a:xfrm>
                <a:off x="3772800" y="2965320"/>
                <a:ext cx="403560" cy="292680"/>
                <a:chOff x="3772800" y="2965320"/>
                <a:chExt cx="403560" cy="292680"/>
              </a:xfrm>
            </p:grpSpPr>
            <p:sp>
              <p:nvSpPr>
                <p:cNvPr id="2984" name=""/>
                <p:cNvSpPr/>
                <p:nvPr/>
              </p:nvSpPr>
              <p:spPr>
                <a:xfrm>
                  <a:off x="3772800" y="29653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5" name=""/>
                <p:cNvGrpSpPr/>
                <p:nvPr/>
              </p:nvGrpSpPr>
              <p:grpSpPr>
                <a:xfrm>
                  <a:off x="3772800" y="2965320"/>
                  <a:ext cx="403560" cy="292680"/>
                  <a:chOff x="3772800" y="2965320"/>
                  <a:chExt cx="403560" cy="292680"/>
                </a:xfrm>
              </p:grpSpPr>
              <p:sp>
                <p:nvSpPr>
                  <p:cNvPr id="2986" name=""/>
                  <p:cNvSpPr/>
                  <p:nvPr/>
                </p:nvSpPr>
                <p:spPr>
                  <a:xfrm>
                    <a:off x="3810600" y="29653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>
                    <a:off x="3772800" y="29653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8" name=""/>
              <p:cNvGrpSpPr/>
              <p:nvPr/>
            </p:nvGrpSpPr>
            <p:grpSpPr>
              <a:xfrm>
                <a:off x="4176360" y="2965320"/>
                <a:ext cx="403200" cy="292680"/>
                <a:chOff x="4176360" y="2965320"/>
                <a:chExt cx="403200" cy="29268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4176360" y="2965320"/>
                  <a:ext cx="4032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0" name=""/>
                <p:cNvGrpSpPr/>
                <p:nvPr/>
              </p:nvGrpSpPr>
              <p:grpSpPr>
                <a:xfrm>
                  <a:off x="4176360" y="2965320"/>
                  <a:ext cx="403200" cy="292680"/>
                  <a:chOff x="4176360" y="2965320"/>
                  <a:chExt cx="403200" cy="292680"/>
                </a:xfrm>
              </p:grpSpPr>
              <p:sp>
                <p:nvSpPr>
                  <p:cNvPr id="2991" name=""/>
                  <p:cNvSpPr/>
                  <p:nvPr/>
                </p:nvSpPr>
                <p:spPr>
                  <a:xfrm>
                    <a:off x="4214160" y="29653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>
                    <a:off x="4176360" y="2965320"/>
                    <a:ext cx="4032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3" name=""/>
              <p:cNvGrpSpPr/>
              <p:nvPr/>
            </p:nvGrpSpPr>
            <p:grpSpPr>
              <a:xfrm>
                <a:off x="4579920" y="2965320"/>
                <a:ext cx="405360" cy="292680"/>
                <a:chOff x="4579920" y="2965320"/>
                <a:chExt cx="405360" cy="292680"/>
              </a:xfrm>
            </p:grpSpPr>
            <p:sp>
              <p:nvSpPr>
                <p:cNvPr id="2994" name=""/>
                <p:cNvSpPr/>
                <p:nvPr/>
              </p:nvSpPr>
              <p:spPr>
                <a:xfrm>
                  <a:off x="4579920" y="2965320"/>
                  <a:ext cx="4053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5" name=""/>
                <p:cNvGrpSpPr/>
                <p:nvPr/>
              </p:nvGrpSpPr>
              <p:grpSpPr>
                <a:xfrm>
                  <a:off x="4579920" y="2965320"/>
                  <a:ext cx="405360" cy="292680"/>
                  <a:chOff x="4579920" y="2965320"/>
                  <a:chExt cx="405360" cy="292680"/>
                </a:xfrm>
              </p:grpSpPr>
              <p:sp>
                <p:nvSpPr>
                  <p:cNvPr id="2996" name=""/>
                  <p:cNvSpPr/>
                  <p:nvPr/>
                </p:nvSpPr>
                <p:spPr>
                  <a:xfrm>
                    <a:off x="4618080" y="296532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4579920" y="2965320"/>
                    <a:ext cx="4053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8" name=""/>
              <p:cNvGrpSpPr/>
              <p:nvPr/>
            </p:nvGrpSpPr>
            <p:grpSpPr>
              <a:xfrm>
                <a:off x="4985280" y="2965320"/>
                <a:ext cx="403560" cy="292680"/>
                <a:chOff x="4985280" y="2965320"/>
                <a:chExt cx="403560" cy="292680"/>
              </a:xfrm>
            </p:grpSpPr>
            <p:sp>
              <p:nvSpPr>
                <p:cNvPr id="2999" name=""/>
                <p:cNvSpPr/>
                <p:nvPr/>
              </p:nvSpPr>
              <p:spPr>
                <a:xfrm>
                  <a:off x="4985280" y="29653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0" name=""/>
                <p:cNvGrpSpPr/>
                <p:nvPr/>
              </p:nvGrpSpPr>
              <p:grpSpPr>
                <a:xfrm>
                  <a:off x="4985280" y="2965320"/>
                  <a:ext cx="403560" cy="292680"/>
                  <a:chOff x="4985280" y="2965320"/>
                  <a:chExt cx="403560" cy="292680"/>
                </a:xfrm>
              </p:grpSpPr>
              <p:sp>
                <p:nvSpPr>
                  <p:cNvPr id="3001" name=""/>
                  <p:cNvSpPr/>
                  <p:nvPr/>
                </p:nvSpPr>
                <p:spPr>
                  <a:xfrm>
                    <a:off x="5023080" y="29653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>
                    <a:off x="4985280" y="29653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3" name=""/>
              <p:cNvGrpSpPr/>
              <p:nvPr/>
            </p:nvGrpSpPr>
            <p:grpSpPr>
              <a:xfrm>
                <a:off x="5389200" y="2965320"/>
                <a:ext cx="403200" cy="292680"/>
                <a:chOff x="5389200" y="2965320"/>
                <a:chExt cx="403200" cy="292680"/>
              </a:xfrm>
            </p:grpSpPr>
            <p:sp>
              <p:nvSpPr>
                <p:cNvPr id="3004" name=""/>
                <p:cNvSpPr/>
                <p:nvPr/>
              </p:nvSpPr>
              <p:spPr>
                <a:xfrm>
                  <a:off x="5389200" y="2965320"/>
                  <a:ext cx="4032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5" name=""/>
                <p:cNvGrpSpPr/>
                <p:nvPr/>
              </p:nvGrpSpPr>
              <p:grpSpPr>
                <a:xfrm>
                  <a:off x="5389200" y="2965320"/>
                  <a:ext cx="403200" cy="292680"/>
                  <a:chOff x="5389200" y="2965320"/>
                  <a:chExt cx="403200" cy="292680"/>
                </a:xfrm>
              </p:grpSpPr>
              <p:sp>
                <p:nvSpPr>
                  <p:cNvPr id="3006" name=""/>
                  <p:cNvSpPr/>
                  <p:nvPr/>
                </p:nvSpPr>
                <p:spPr>
                  <a:xfrm>
                    <a:off x="5427000" y="29653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5389200" y="2965320"/>
                    <a:ext cx="4032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8" name=""/>
              <p:cNvGrpSpPr/>
              <p:nvPr/>
            </p:nvGrpSpPr>
            <p:grpSpPr>
              <a:xfrm>
                <a:off x="5792760" y="2965320"/>
                <a:ext cx="403560" cy="292680"/>
                <a:chOff x="5792760" y="2965320"/>
                <a:chExt cx="403560" cy="292680"/>
              </a:xfrm>
            </p:grpSpPr>
            <p:sp>
              <p:nvSpPr>
                <p:cNvPr id="3009" name=""/>
                <p:cNvSpPr/>
                <p:nvPr/>
              </p:nvSpPr>
              <p:spPr>
                <a:xfrm>
                  <a:off x="5792760" y="29653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0" name=""/>
                <p:cNvGrpSpPr/>
                <p:nvPr/>
              </p:nvGrpSpPr>
              <p:grpSpPr>
                <a:xfrm>
                  <a:off x="5792760" y="2965320"/>
                  <a:ext cx="403560" cy="292680"/>
                  <a:chOff x="5792760" y="2965320"/>
                  <a:chExt cx="403560" cy="292680"/>
                </a:xfrm>
              </p:grpSpPr>
              <p:sp>
                <p:nvSpPr>
                  <p:cNvPr id="3011" name=""/>
                  <p:cNvSpPr/>
                  <p:nvPr/>
                </p:nvSpPr>
                <p:spPr>
                  <a:xfrm>
                    <a:off x="5830920" y="29653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5792760" y="29653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3" name=""/>
              <p:cNvGrpSpPr/>
              <p:nvPr/>
            </p:nvGrpSpPr>
            <p:grpSpPr>
              <a:xfrm>
                <a:off x="6196680" y="2965320"/>
                <a:ext cx="403560" cy="292680"/>
                <a:chOff x="6196680" y="2965320"/>
                <a:chExt cx="403560" cy="292680"/>
              </a:xfrm>
            </p:grpSpPr>
            <p:sp>
              <p:nvSpPr>
                <p:cNvPr id="3014" name=""/>
                <p:cNvSpPr/>
                <p:nvPr/>
              </p:nvSpPr>
              <p:spPr>
                <a:xfrm>
                  <a:off x="6196680" y="29653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5" name=""/>
                <p:cNvGrpSpPr/>
                <p:nvPr/>
              </p:nvGrpSpPr>
              <p:grpSpPr>
                <a:xfrm>
                  <a:off x="6196680" y="2965320"/>
                  <a:ext cx="403560" cy="292680"/>
                  <a:chOff x="6196680" y="2965320"/>
                  <a:chExt cx="403560" cy="292680"/>
                </a:xfrm>
              </p:grpSpPr>
              <p:sp>
                <p:nvSpPr>
                  <p:cNvPr id="3016" name=""/>
                  <p:cNvSpPr/>
                  <p:nvPr/>
                </p:nvSpPr>
                <p:spPr>
                  <a:xfrm>
                    <a:off x="6234840" y="29653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6196680" y="29653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8" name=""/>
              <p:cNvGrpSpPr/>
              <p:nvPr/>
            </p:nvGrpSpPr>
            <p:grpSpPr>
              <a:xfrm>
                <a:off x="6600240" y="2965320"/>
                <a:ext cx="405000" cy="292680"/>
                <a:chOff x="6600240" y="2965320"/>
                <a:chExt cx="405000" cy="292680"/>
              </a:xfrm>
            </p:grpSpPr>
            <p:sp>
              <p:nvSpPr>
                <p:cNvPr id="3019" name=""/>
                <p:cNvSpPr/>
                <p:nvPr/>
              </p:nvSpPr>
              <p:spPr>
                <a:xfrm>
                  <a:off x="6600240" y="296532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0" name=""/>
                <p:cNvGrpSpPr/>
                <p:nvPr/>
              </p:nvGrpSpPr>
              <p:grpSpPr>
                <a:xfrm>
                  <a:off x="6600240" y="2965320"/>
                  <a:ext cx="405000" cy="292680"/>
                  <a:chOff x="6600240" y="2965320"/>
                  <a:chExt cx="405000" cy="292680"/>
                </a:xfrm>
              </p:grpSpPr>
              <p:sp>
                <p:nvSpPr>
                  <p:cNvPr id="3021" name=""/>
                  <p:cNvSpPr/>
                  <p:nvPr/>
                </p:nvSpPr>
                <p:spPr>
                  <a:xfrm>
                    <a:off x="6638400" y="296532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>
                    <a:off x="6600240" y="296532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3" name=""/>
              <p:cNvGrpSpPr/>
              <p:nvPr/>
            </p:nvGrpSpPr>
            <p:grpSpPr>
              <a:xfrm>
                <a:off x="2153520" y="3258360"/>
                <a:ext cx="405000" cy="292320"/>
                <a:chOff x="2153520" y="3258360"/>
                <a:chExt cx="405000" cy="292320"/>
              </a:xfrm>
            </p:grpSpPr>
            <p:sp>
              <p:nvSpPr>
                <p:cNvPr id="3024" name=""/>
                <p:cNvSpPr/>
                <p:nvPr/>
              </p:nvSpPr>
              <p:spPr>
                <a:xfrm>
                  <a:off x="2153520" y="325836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5" name=""/>
                <p:cNvGrpSpPr/>
                <p:nvPr/>
              </p:nvGrpSpPr>
              <p:grpSpPr>
                <a:xfrm>
                  <a:off x="2153520" y="3258360"/>
                  <a:ext cx="405000" cy="292320"/>
                  <a:chOff x="2153520" y="3258360"/>
                  <a:chExt cx="405000" cy="292320"/>
                </a:xfrm>
              </p:grpSpPr>
              <p:sp>
                <p:nvSpPr>
                  <p:cNvPr id="3026" name=""/>
                  <p:cNvSpPr/>
                  <p:nvPr/>
                </p:nvSpPr>
                <p:spPr>
                  <a:xfrm>
                    <a:off x="2191680" y="3258360"/>
                    <a:ext cx="3286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2153520" y="325836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8" name=""/>
              <p:cNvGrpSpPr/>
              <p:nvPr/>
            </p:nvGrpSpPr>
            <p:grpSpPr>
              <a:xfrm>
                <a:off x="2558520" y="3258360"/>
                <a:ext cx="405360" cy="292320"/>
                <a:chOff x="2558520" y="3258360"/>
                <a:chExt cx="405360" cy="292320"/>
              </a:xfrm>
            </p:grpSpPr>
            <p:sp>
              <p:nvSpPr>
                <p:cNvPr id="3029" name=""/>
                <p:cNvSpPr/>
                <p:nvPr/>
              </p:nvSpPr>
              <p:spPr>
                <a:xfrm>
                  <a:off x="2558520" y="325836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0" name=""/>
                <p:cNvGrpSpPr/>
                <p:nvPr/>
              </p:nvGrpSpPr>
              <p:grpSpPr>
                <a:xfrm>
                  <a:off x="2558520" y="3258360"/>
                  <a:ext cx="405360" cy="292320"/>
                  <a:chOff x="2558520" y="3258360"/>
                  <a:chExt cx="405360" cy="292320"/>
                </a:xfrm>
              </p:grpSpPr>
              <p:sp>
                <p:nvSpPr>
                  <p:cNvPr id="3031" name=""/>
                  <p:cNvSpPr/>
                  <p:nvPr/>
                </p:nvSpPr>
                <p:spPr>
                  <a:xfrm>
                    <a:off x="2596680" y="32583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2558520" y="325836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3" name=""/>
              <p:cNvGrpSpPr/>
              <p:nvPr/>
            </p:nvGrpSpPr>
            <p:grpSpPr>
              <a:xfrm>
                <a:off x="2963880" y="3258360"/>
                <a:ext cx="405000" cy="292320"/>
                <a:chOff x="2963880" y="3258360"/>
                <a:chExt cx="405000" cy="292320"/>
              </a:xfrm>
            </p:grpSpPr>
            <p:sp>
              <p:nvSpPr>
                <p:cNvPr id="3034" name=""/>
                <p:cNvSpPr/>
                <p:nvPr/>
              </p:nvSpPr>
              <p:spPr>
                <a:xfrm>
                  <a:off x="2963880" y="325836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5" name=""/>
                <p:cNvGrpSpPr/>
                <p:nvPr/>
              </p:nvGrpSpPr>
              <p:grpSpPr>
                <a:xfrm>
                  <a:off x="2963880" y="3258360"/>
                  <a:ext cx="405000" cy="292320"/>
                  <a:chOff x="2963880" y="3258360"/>
                  <a:chExt cx="405000" cy="292320"/>
                </a:xfrm>
              </p:grpSpPr>
              <p:sp>
                <p:nvSpPr>
                  <p:cNvPr id="3036" name=""/>
                  <p:cNvSpPr/>
                  <p:nvPr/>
                </p:nvSpPr>
                <p:spPr>
                  <a:xfrm>
                    <a:off x="3002040" y="32583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2963880" y="325836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8" name=""/>
              <p:cNvGrpSpPr/>
              <p:nvPr/>
            </p:nvGrpSpPr>
            <p:grpSpPr>
              <a:xfrm>
                <a:off x="3368880" y="3258360"/>
                <a:ext cx="403560" cy="292320"/>
                <a:chOff x="3368880" y="3258360"/>
                <a:chExt cx="403560" cy="292320"/>
              </a:xfrm>
            </p:grpSpPr>
            <p:sp>
              <p:nvSpPr>
                <p:cNvPr id="3039" name=""/>
                <p:cNvSpPr/>
                <p:nvPr/>
              </p:nvSpPr>
              <p:spPr>
                <a:xfrm>
                  <a:off x="3368880" y="32583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0" name=""/>
                <p:cNvGrpSpPr/>
                <p:nvPr/>
              </p:nvGrpSpPr>
              <p:grpSpPr>
                <a:xfrm>
                  <a:off x="3368880" y="3258360"/>
                  <a:ext cx="403560" cy="292320"/>
                  <a:chOff x="3368880" y="3258360"/>
                  <a:chExt cx="403560" cy="292320"/>
                </a:xfrm>
              </p:grpSpPr>
              <p:sp>
                <p:nvSpPr>
                  <p:cNvPr id="3041" name=""/>
                  <p:cNvSpPr/>
                  <p:nvPr/>
                </p:nvSpPr>
                <p:spPr>
                  <a:xfrm>
                    <a:off x="3406680" y="32583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3368880" y="32583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3" name=""/>
              <p:cNvGrpSpPr/>
              <p:nvPr/>
            </p:nvGrpSpPr>
            <p:grpSpPr>
              <a:xfrm>
                <a:off x="3772800" y="3258360"/>
                <a:ext cx="403560" cy="292320"/>
                <a:chOff x="3772800" y="3258360"/>
                <a:chExt cx="403560" cy="292320"/>
              </a:xfrm>
            </p:grpSpPr>
            <p:sp>
              <p:nvSpPr>
                <p:cNvPr id="3044" name=""/>
                <p:cNvSpPr/>
                <p:nvPr/>
              </p:nvSpPr>
              <p:spPr>
                <a:xfrm>
                  <a:off x="3772800" y="32583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5" name=""/>
                <p:cNvGrpSpPr/>
                <p:nvPr/>
              </p:nvGrpSpPr>
              <p:grpSpPr>
                <a:xfrm>
                  <a:off x="3772800" y="3258360"/>
                  <a:ext cx="403560" cy="292320"/>
                  <a:chOff x="3772800" y="3258360"/>
                  <a:chExt cx="403560" cy="292320"/>
                </a:xfrm>
              </p:grpSpPr>
              <p:sp>
                <p:nvSpPr>
                  <p:cNvPr id="3046" name=""/>
                  <p:cNvSpPr/>
                  <p:nvPr/>
                </p:nvSpPr>
                <p:spPr>
                  <a:xfrm>
                    <a:off x="3810600" y="32583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3772800" y="32583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8" name=""/>
              <p:cNvGrpSpPr/>
              <p:nvPr/>
            </p:nvGrpSpPr>
            <p:grpSpPr>
              <a:xfrm>
                <a:off x="4176360" y="3258360"/>
                <a:ext cx="403200" cy="292320"/>
                <a:chOff x="4176360" y="3258360"/>
                <a:chExt cx="403200" cy="292320"/>
              </a:xfrm>
            </p:grpSpPr>
            <p:sp>
              <p:nvSpPr>
                <p:cNvPr id="3049" name=""/>
                <p:cNvSpPr/>
                <p:nvPr/>
              </p:nvSpPr>
              <p:spPr>
                <a:xfrm>
                  <a:off x="4176360" y="325836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0" name=""/>
                <p:cNvGrpSpPr/>
                <p:nvPr/>
              </p:nvGrpSpPr>
              <p:grpSpPr>
                <a:xfrm>
                  <a:off x="4176360" y="3258360"/>
                  <a:ext cx="403200" cy="292320"/>
                  <a:chOff x="4176360" y="3258360"/>
                  <a:chExt cx="403200" cy="292320"/>
                </a:xfrm>
              </p:grpSpPr>
              <p:sp>
                <p:nvSpPr>
                  <p:cNvPr id="3051" name=""/>
                  <p:cNvSpPr/>
                  <p:nvPr/>
                </p:nvSpPr>
                <p:spPr>
                  <a:xfrm>
                    <a:off x="4214160" y="32583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>
                    <a:off x="4176360" y="325836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3" name=""/>
              <p:cNvGrpSpPr/>
              <p:nvPr/>
            </p:nvGrpSpPr>
            <p:grpSpPr>
              <a:xfrm>
                <a:off x="4579920" y="3258360"/>
                <a:ext cx="405360" cy="292320"/>
                <a:chOff x="4579920" y="3258360"/>
                <a:chExt cx="405360" cy="292320"/>
              </a:xfrm>
            </p:grpSpPr>
            <p:sp>
              <p:nvSpPr>
                <p:cNvPr id="3054" name=""/>
                <p:cNvSpPr/>
                <p:nvPr/>
              </p:nvSpPr>
              <p:spPr>
                <a:xfrm>
                  <a:off x="4579920" y="325836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5" name=""/>
                <p:cNvGrpSpPr/>
                <p:nvPr/>
              </p:nvGrpSpPr>
              <p:grpSpPr>
                <a:xfrm>
                  <a:off x="4579920" y="3258360"/>
                  <a:ext cx="405360" cy="292320"/>
                  <a:chOff x="4579920" y="3258360"/>
                  <a:chExt cx="405360" cy="292320"/>
                </a:xfrm>
              </p:grpSpPr>
              <p:sp>
                <p:nvSpPr>
                  <p:cNvPr id="3056" name=""/>
                  <p:cNvSpPr/>
                  <p:nvPr/>
                </p:nvSpPr>
                <p:spPr>
                  <a:xfrm>
                    <a:off x="4618080" y="32583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4579920" y="325836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8" name=""/>
              <p:cNvGrpSpPr/>
              <p:nvPr/>
            </p:nvGrpSpPr>
            <p:grpSpPr>
              <a:xfrm>
                <a:off x="4985280" y="3258360"/>
                <a:ext cx="403560" cy="292320"/>
                <a:chOff x="4985280" y="3258360"/>
                <a:chExt cx="403560" cy="292320"/>
              </a:xfrm>
            </p:grpSpPr>
            <p:sp>
              <p:nvSpPr>
                <p:cNvPr id="3059" name=""/>
                <p:cNvSpPr/>
                <p:nvPr/>
              </p:nvSpPr>
              <p:spPr>
                <a:xfrm>
                  <a:off x="4985280" y="32583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0" name=""/>
                <p:cNvGrpSpPr/>
                <p:nvPr/>
              </p:nvGrpSpPr>
              <p:grpSpPr>
                <a:xfrm>
                  <a:off x="4985280" y="3258360"/>
                  <a:ext cx="403560" cy="292320"/>
                  <a:chOff x="4985280" y="3258360"/>
                  <a:chExt cx="403560" cy="292320"/>
                </a:xfrm>
              </p:grpSpPr>
              <p:sp>
                <p:nvSpPr>
                  <p:cNvPr id="3061" name=""/>
                  <p:cNvSpPr/>
                  <p:nvPr/>
                </p:nvSpPr>
                <p:spPr>
                  <a:xfrm>
                    <a:off x="5023080" y="32583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4985280" y="32583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3" name=""/>
              <p:cNvGrpSpPr/>
              <p:nvPr/>
            </p:nvGrpSpPr>
            <p:grpSpPr>
              <a:xfrm>
                <a:off x="5389200" y="3258360"/>
                <a:ext cx="403200" cy="292320"/>
                <a:chOff x="5389200" y="3258360"/>
                <a:chExt cx="403200" cy="292320"/>
              </a:xfrm>
            </p:grpSpPr>
            <p:sp>
              <p:nvSpPr>
                <p:cNvPr id="3064" name=""/>
                <p:cNvSpPr/>
                <p:nvPr/>
              </p:nvSpPr>
              <p:spPr>
                <a:xfrm>
                  <a:off x="5389200" y="325836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5" name=""/>
                <p:cNvGrpSpPr/>
                <p:nvPr/>
              </p:nvGrpSpPr>
              <p:grpSpPr>
                <a:xfrm>
                  <a:off x="5389200" y="3258360"/>
                  <a:ext cx="403200" cy="292320"/>
                  <a:chOff x="5389200" y="3258360"/>
                  <a:chExt cx="403200" cy="292320"/>
                </a:xfrm>
              </p:grpSpPr>
              <p:sp>
                <p:nvSpPr>
                  <p:cNvPr id="3066" name=""/>
                  <p:cNvSpPr/>
                  <p:nvPr/>
                </p:nvSpPr>
                <p:spPr>
                  <a:xfrm>
                    <a:off x="5427000" y="32583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5389200" y="325836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8" name=""/>
              <p:cNvGrpSpPr/>
              <p:nvPr/>
            </p:nvGrpSpPr>
            <p:grpSpPr>
              <a:xfrm>
                <a:off x="5792760" y="3258360"/>
                <a:ext cx="403560" cy="292320"/>
                <a:chOff x="5792760" y="3258360"/>
                <a:chExt cx="403560" cy="292320"/>
              </a:xfrm>
            </p:grpSpPr>
            <p:sp>
              <p:nvSpPr>
                <p:cNvPr id="3069" name=""/>
                <p:cNvSpPr/>
                <p:nvPr/>
              </p:nvSpPr>
              <p:spPr>
                <a:xfrm>
                  <a:off x="5792760" y="32583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0" name=""/>
                <p:cNvGrpSpPr/>
                <p:nvPr/>
              </p:nvGrpSpPr>
              <p:grpSpPr>
                <a:xfrm>
                  <a:off x="5792760" y="3258360"/>
                  <a:ext cx="403560" cy="292320"/>
                  <a:chOff x="5792760" y="3258360"/>
                  <a:chExt cx="403560" cy="292320"/>
                </a:xfrm>
              </p:grpSpPr>
              <p:sp>
                <p:nvSpPr>
                  <p:cNvPr id="3071" name=""/>
                  <p:cNvSpPr/>
                  <p:nvPr/>
                </p:nvSpPr>
                <p:spPr>
                  <a:xfrm>
                    <a:off x="5830920" y="32583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5792760" y="32583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3" name=""/>
              <p:cNvGrpSpPr/>
              <p:nvPr/>
            </p:nvGrpSpPr>
            <p:grpSpPr>
              <a:xfrm>
                <a:off x="6196680" y="3258360"/>
                <a:ext cx="403560" cy="292320"/>
                <a:chOff x="6196680" y="3258360"/>
                <a:chExt cx="403560" cy="292320"/>
              </a:xfrm>
            </p:grpSpPr>
            <p:sp>
              <p:nvSpPr>
                <p:cNvPr id="3074" name=""/>
                <p:cNvSpPr/>
                <p:nvPr/>
              </p:nvSpPr>
              <p:spPr>
                <a:xfrm>
                  <a:off x="6196680" y="325836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5" name=""/>
                <p:cNvGrpSpPr/>
                <p:nvPr/>
              </p:nvGrpSpPr>
              <p:grpSpPr>
                <a:xfrm>
                  <a:off x="6196680" y="3258360"/>
                  <a:ext cx="403560" cy="292320"/>
                  <a:chOff x="6196680" y="3258360"/>
                  <a:chExt cx="403560" cy="292320"/>
                </a:xfrm>
              </p:grpSpPr>
              <p:sp>
                <p:nvSpPr>
                  <p:cNvPr id="3076" name=""/>
                  <p:cNvSpPr/>
                  <p:nvPr/>
                </p:nvSpPr>
                <p:spPr>
                  <a:xfrm>
                    <a:off x="6234840" y="325836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6196680" y="325836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8" name=""/>
              <p:cNvGrpSpPr/>
              <p:nvPr/>
            </p:nvGrpSpPr>
            <p:grpSpPr>
              <a:xfrm>
                <a:off x="6600240" y="3258360"/>
                <a:ext cx="405000" cy="292320"/>
                <a:chOff x="6600240" y="3258360"/>
                <a:chExt cx="405000" cy="292320"/>
              </a:xfrm>
            </p:grpSpPr>
            <p:sp>
              <p:nvSpPr>
                <p:cNvPr id="3079" name=""/>
                <p:cNvSpPr/>
                <p:nvPr/>
              </p:nvSpPr>
              <p:spPr>
                <a:xfrm>
                  <a:off x="6600240" y="325836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0" name=""/>
                <p:cNvGrpSpPr/>
                <p:nvPr/>
              </p:nvGrpSpPr>
              <p:grpSpPr>
                <a:xfrm>
                  <a:off x="6600240" y="3258360"/>
                  <a:ext cx="405000" cy="292320"/>
                  <a:chOff x="6600240" y="3258360"/>
                  <a:chExt cx="405000" cy="292320"/>
                </a:xfrm>
              </p:grpSpPr>
              <p:sp>
                <p:nvSpPr>
                  <p:cNvPr id="3081" name=""/>
                  <p:cNvSpPr/>
                  <p:nvPr/>
                </p:nvSpPr>
                <p:spPr>
                  <a:xfrm>
                    <a:off x="6638400" y="325836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6600240" y="325836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3" name=""/>
              <p:cNvGrpSpPr/>
              <p:nvPr/>
            </p:nvGrpSpPr>
            <p:grpSpPr>
              <a:xfrm>
                <a:off x="2153520" y="3551040"/>
                <a:ext cx="405000" cy="292320"/>
                <a:chOff x="2153520" y="3551040"/>
                <a:chExt cx="405000" cy="292320"/>
              </a:xfrm>
            </p:grpSpPr>
            <p:sp>
              <p:nvSpPr>
                <p:cNvPr id="3084" name=""/>
                <p:cNvSpPr/>
                <p:nvPr/>
              </p:nvSpPr>
              <p:spPr>
                <a:xfrm>
                  <a:off x="2153520" y="355104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5" name=""/>
                <p:cNvGrpSpPr/>
                <p:nvPr/>
              </p:nvGrpSpPr>
              <p:grpSpPr>
                <a:xfrm>
                  <a:off x="2153520" y="3551040"/>
                  <a:ext cx="405000" cy="292320"/>
                  <a:chOff x="2153520" y="3551040"/>
                  <a:chExt cx="405000" cy="292320"/>
                </a:xfrm>
              </p:grpSpPr>
              <p:sp>
                <p:nvSpPr>
                  <p:cNvPr id="3086" name=""/>
                  <p:cNvSpPr/>
                  <p:nvPr/>
                </p:nvSpPr>
                <p:spPr>
                  <a:xfrm>
                    <a:off x="2191680" y="3551040"/>
                    <a:ext cx="3286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2153520" y="355104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8" name=""/>
              <p:cNvGrpSpPr/>
              <p:nvPr/>
            </p:nvGrpSpPr>
            <p:grpSpPr>
              <a:xfrm>
                <a:off x="2558520" y="3551040"/>
                <a:ext cx="405360" cy="292320"/>
                <a:chOff x="2558520" y="3551040"/>
                <a:chExt cx="405360" cy="292320"/>
              </a:xfrm>
            </p:grpSpPr>
            <p:sp>
              <p:nvSpPr>
                <p:cNvPr id="3089" name=""/>
                <p:cNvSpPr/>
                <p:nvPr/>
              </p:nvSpPr>
              <p:spPr>
                <a:xfrm>
                  <a:off x="2558520" y="355104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0" name=""/>
                <p:cNvGrpSpPr/>
                <p:nvPr/>
              </p:nvGrpSpPr>
              <p:grpSpPr>
                <a:xfrm>
                  <a:off x="2558520" y="3551040"/>
                  <a:ext cx="405360" cy="292320"/>
                  <a:chOff x="2558520" y="3551040"/>
                  <a:chExt cx="405360" cy="292320"/>
                </a:xfrm>
              </p:grpSpPr>
              <p:sp>
                <p:nvSpPr>
                  <p:cNvPr id="3091" name=""/>
                  <p:cNvSpPr/>
                  <p:nvPr/>
                </p:nvSpPr>
                <p:spPr>
                  <a:xfrm>
                    <a:off x="2596680" y="355104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2558520" y="355104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3" name=""/>
              <p:cNvGrpSpPr/>
              <p:nvPr/>
            </p:nvGrpSpPr>
            <p:grpSpPr>
              <a:xfrm>
                <a:off x="2963880" y="3551040"/>
                <a:ext cx="405000" cy="292320"/>
                <a:chOff x="2963880" y="3551040"/>
                <a:chExt cx="405000" cy="292320"/>
              </a:xfrm>
            </p:grpSpPr>
            <p:sp>
              <p:nvSpPr>
                <p:cNvPr id="3094" name=""/>
                <p:cNvSpPr/>
                <p:nvPr/>
              </p:nvSpPr>
              <p:spPr>
                <a:xfrm>
                  <a:off x="2963880" y="355104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5" name=""/>
                <p:cNvGrpSpPr/>
                <p:nvPr/>
              </p:nvGrpSpPr>
              <p:grpSpPr>
                <a:xfrm>
                  <a:off x="2963880" y="3551040"/>
                  <a:ext cx="405000" cy="292320"/>
                  <a:chOff x="2963880" y="3551040"/>
                  <a:chExt cx="405000" cy="292320"/>
                </a:xfrm>
              </p:grpSpPr>
              <p:sp>
                <p:nvSpPr>
                  <p:cNvPr id="3096" name=""/>
                  <p:cNvSpPr/>
                  <p:nvPr/>
                </p:nvSpPr>
                <p:spPr>
                  <a:xfrm>
                    <a:off x="3002040" y="355104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2963880" y="355104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8" name=""/>
              <p:cNvGrpSpPr/>
              <p:nvPr/>
            </p:nvGrpSpPr>
            <p:grpSpPr>
              <a:xfrm>
                <a:off x="3368880" y="3551040"/>
                <a:ext cx="403560" cy="292320"/>
                <a:chOff x="3368880" y="3551040"/>
                <a:chExt cx="403560" cy="292320"/>
              </a:xfrm>
            </p:grpSpPr>
            <p:sp>
              <p:nvSpPr>
                <p:cNvPr id="3099" name=""/>
                <p:cNvSpPr/>
                <p:nvPr/>
              </p:nvSpPr>
              <p:spPr>
                <a:xfrm>
                  <a:off x="3368880" y="35510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0" name=""/>
                <p:cNvGrpSpPr/>
                <p:nvPr/>
              </p:nvGrpSpPr>
              <p:grpSpPr>
                <a:xfrm>
                  <a:off x="3368880" y="3551040"/>
                  <a:ext cx="403560" cy="292320"/>
                  <a:chOff x="3368880" y="3551040"/>
                  <a:chExt cx="403560" cy="292320"/>
                </a:xfrm>
              </p:grpSpPr>
              <p:sp>
                <p:nvSpPr>
                  <p:cNvPr id="3101" name=""/>
                  <p:cNvSpPr/>
                  <p:nvPr/>
                </p:nvSpPr>
                <p:spPr>
                  <a:xfrm>
                    <a:off x="3406680" y="35510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3368880" y="35510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3" name=""/>
              <p:cNvGrpSpPr/>
              <p:nvPr/>
            </p:nvGrpSpPr>
            <p:grpSpPr>
              <a:xfrm>
                <a:off x="3772800" y="3551040"/>
                <a:ext cx="403560" cy="292320"/>
                <a:chOff x="3772800" y="3551040"/>
                <a:chExt cx="403560" cy="292320"/>
              </a:xfrm>
            </p:grpSpPr>
            <p:sp>
              <p:nvSpPr>
                <p:cNvPr id="3104" name=""/>
                <p:cNvSpPr/>
                <p:nvPr/>
              </p:nvSpPr>
              <p:spPr>
                <a:xfrm>
                  <a:off x="3772800" y="35510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5" name=""/>
                <p:cNvGrpSpPr/>
                <p:nvPr/>
              </p:nvGrpSpPr>
              <p:grpSpPr>
                <a:xfrm>
                  <a:off x="3772800" y="3551040"/>
                  <a:ext cx="403560" cy="292320"/>
                  <a:chOff x="3772800" y="3551040"/>
                  <a:chExt cx="403560" cy="292320"/>
                </a:xfrm>
              </p:grpSpPr>
              <p:sp>
                <p:nvSpPr>
                  <p:cNvPr id="3106" name=""/>
                  <p:cNvSpPr/>
                  <p:nvPr/>
                </p:nvSpPr>
                <p:spPr>
                  <a:xfrm>
                    <a:off x="3810600" y="35510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3772800" y="35510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8" name=""/>
              <p:cNvGrpSpPr/>
              <p:nvPr/>
            </p:nvGrpSpPr>
            <p:grpSpPr>
              <a:xfrm>
                <a:off x="4176360" y="3551040"/>
                <a:ext cx="403200" cy="292320"/>
                <a:chOff x="4176360" y="3551040"/>
                <a:chExt cx="403200" cy="292320"/>
              </a:xfrm>
            </p:grpSpPr>
            <p:sp>
              <p:nvSpPr>
                <p:cNvPr id="3109" name=""/>
                <p:cNvSpPr/>
                <p:nvPr/>
              </p:nvSpPr>
              <p:spPr>
                <a:xfrm>
                  <a:off x="4176360" y="355104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0" name=""/>
                <p:cNvGrpSpPr/>
                <p:nvPr/>
              </p:nvGrpSpPr>
              <p:grpSpPr>
                <a:xfrm>
                  <a:off x="4176360" y="3551040"/>
                  <a:ext cx="403200" cy="292320"/>
                  <a:chOff x="4176360" y="3551040"/>
                  <a:chExt cx="403200" cy="292320"/>
                </a:xfrm>
              </p:grpSpPr>
              <p:sp>
                <p:nvSpPr>
                  <p:cNvPr id="3111" name=""/>
                  <p:cNvSpPr/>
                  <p:nvPr/>
                </p:nvSpPr>
                <p:spPr>
                  <a:xfrm>
                    <a:off x="4214160" y="35510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4176360" y="355104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3" name=""/>
              <p:cNvGrpSpPr/>
              <p:nvPr/>
            </p:nvGrpSpPr>
            <p:grpSpPr>
              <a:xfrm>
                <a:off x="4579920" y="3551040"/>
                <a:ext cx="405360" cy="292320"/>
                <a:chOff x="4579920" y="3551040"/>
                <a:chExt cx="405360" cy="292320"/>
              </a:xfrm>
            </p:grpSpPr>
            <p:sp>
              <p:nvSpPr>
                <p:cNvPr id="3114" name=""/>
                <p:cNvSpPr/>
                <p:nvPr/>
              </p:nvSpPr>
              <p:spPr>
                <a:xfrm>
                  <a:off x="4579920" y="355104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5" name=""/>
                <p:cNvGrpSpPr/>
                <p:nvPr/>
              </p:nvGrpSpPr>
              <p:grpSpPr>
                <a:xfrm>
                  <a:off x="4579920" y="3551040"/>
                  <a:ext cx="405360" cy="292320"/>
                  <a:chOff x="4579920" y="3551040"/>
                  <a:chExt cx="405360" cy="292320"/>
                </a:xfrm>
              </p:grpSpPr>
              <p:sp>
                <p:nvSpPr>
                  <p:cNvPr id="3116" name=""/>
                  <p:cNvSpPr/>
                  <p:nvPr/>
                </p:nvSpPr>
                <p:spPr>
                  <a:xfrm>
                    <a:off x="4618080" y="355104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4579920" y="355104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8" name=""/>
              <p:cNvGrpSpPr/>
              <p:nvPr/>
            </p:nvGrpSpPr>
            <p:grpSpPr>
              <a:xfrm>
                <a:off x="4985280" y="3551040"/>
                <a:ext cx="403560" cy="292320"/>
                <a:chOff x="4985280" y="3551040"/>
                <a:chExt cx="403560" cy="292320"/>
              </a:xfrm>
            </p:grpSpPr>
            <p:sp>
              <p:nvSpPr>
                <p:cNvPr id="3119" name=""/>
                <p:cNvSpPr/>
                <p:nvPr/>
              </p:nvSpPr>
              <p:spPr>
                <a:xfrm>
                  <a:off x="4985280" y="35510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0" name=""/>
                <p:cNvGrpSpPr/>
                <p:nvPr/>
              </p:nvGrpSpPr>
              <p:grpSpPr>
                <a:xfrm>
                  <a:off x="4985280" y="3551040"/>
                  <a:ext cx="403560" cy="292320"/>
                  <a:chOff x="4985280" y="3551040"/>
                  <a:chExt cx="403560" cy="292320"/>
                </a:xfrm>
              </p:grpSpPr>
              <p:sp>
                <p:nvSpPr>
                  <p:cNvPr id="3121" name=""/>
                  <p:cNvSpPr/>
                  <p:nvPr/>
                </p:nvSpPr>
                <p:spPr>
                  <a:xfrm>
                    <a:off x="5023080" y="35510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>
                    <a:off x="4985280" y="35510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3" name=""/>
              <p:cNvGrpSpPr/>
              <p:nvPr/>
            </p:nvGrpSpPr>
            <p:grpSpPr>
              <a:xfrm>
                <a:off x="5389200" y="3551040"/>
                <a:ext cx="403200" cy="292320"/>
                <a:chOff x="5389200" y="3551040"/>
                <a:chExt cx="403200" cy="292320"/>
              </a:xfrm>
            </p:grpSpPr>
            <p:sp>
              <p:nvSpPr>
                <p:cNvPr id="3124" name=""/>
                <p:cNvSpPr/>
                <p:nvPr/>
              </p:nvSpPr>
              <p:spPr>
                <a:xfrm>
                  <a:off x="5389200" y="355104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5" name=""/>
                <p:cNvGrpSpPr/>
                <p:nvPr/>
              </p:nvGrpSpPr>
              <p:grpSpPr>
                <a:xfrm>
                  <a:off x="5389200" y="3551040"/>
                  <a:ext cx="403200" cy="292320"/>
                  <a:chOff x="5389200" y="3551040"/>
                  <a:chExt cx="403200" cy="292320"/>
                </a:xfrm>
              </p:grpSpPr>
              <p:sp>
                <p:nvSpPr>
                  <p:cNvPr id="3126" name=""/>
                  <p:cNvSpPr/>
                  <p:nvPr/>
                </p:nvSpPr>
                <p:spPr>
                  <a:xfrm>
                    <a:off x="5427000" y="35510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>
                    <a:off x="5389200" y="355104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8" name=""/>
              <p:cNvGrpSpPr/>
              <p:nvPr/>
            </p:nvGrpSpPr>
            <p:grpSpPr>
              <a:xfrm>
                <a:off x="5792760" y="3551040"/>
                <a:ext cx="403560" cy="292320"/>
                <a:chOff x="5792760" y="3551040"/>
                <a:chExt cx="403560" cy="292320"/>
              </a:xfrm>
            </p:grpSpPr>
            <p:sp>
              <p:nvSpPr>
                <p:cNvPr id="3129" name=""/>
                <p:cNvSpPr/>
                <p:nvPr/>
              </p:nvSpPr>
              <p:spPr>
                <a:xfrm>
                  <a:off x="5792760" y="35510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0" name=""/>
                <p:cNvGrpSpPr/>
                <p:nvPr/>
              </p:nvGrpSpPr>
              <p:grpSpPr>
                <a:xfrm>
                  <a:off x="5792760" y="3551040"/>
                  <a:ext cx="403560" cy="292320"/>
                  <a:chOff x="5792760" y="3551040"/>
                  <a:chExt cx="403560" cy="292320"/>
                </a:xfrm>
              </p:grpSpPr>
              <p:sp>
                <p:nvSpPr>
                  <p:cNvPr id="3131" name=""/>
                  <p:cNvSpPr/>
                  <p:nvPr/>
                </p:nvSpPr>
                <p:spPr>
                  <a:xfrm>
                    <a:off x="5830920" y="35510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>
                    <a:off x="5792760" y="35510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3" name=""/>
              <p:cNvGrpSpPr/>
              <p:nvPr/>
            </p:nvGrpSpPr>
            <p:grpSpPr>
              <a:xfrm>
                <a:off x="6196680" y="3551040"/>
                <a:ext cx="403560" cy="292320"/>
                <a:chOff x="6196680" y="3551040"/>
                <a:chExt cx="403560" cy="292320"/>
              </a:xfrm>
            </p:grpSpPr>
            <p:sp>
              <p:nvSpPr>
                <p:cNvPr id="3134" name=""/>
                <p:cNvSpPr/>
                <p:nvPr/>
              </p:nvSpPr>
              <p:spPr>
                <a:xfrm>
                  <a:off x="6196680" y="355104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5" name=""/>
                <p:cNvGrpSpPr/>
                <p:nvPr/>
              </p:nvGrpSpPr>
              <p:grpSpPr>
                <a:xfrm>
                  <a:off x="6196680" y="3551040"/>
                  <a:ext cx="403560" cy="292320"/>
                  <a:chOff x="6196680" y="3551040"/>
                  <a:chExt cx="403560" cy="292320"/>
                </a:xfrm>
              </p:grpSpPr>
              <p:sp>
                <p:nvSpPr>
                  <p:cNvPr id="3136" name=""/>
                  <p:cNvSpPr/>
                  <p:nvPr/>
                </p:nvSpPr>
                <p:spPr>
                  <a:xfrm>
                    <a:off x="6234840" y="355104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>
                    <a:off x="6196680" y="355104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8" name=""/>
              <p:cNvGrpSpPr/>
              <p:nvPr/>
            </p:nvGrpSpPr>
            <p:grpSpPr>
              <a:xfrm>
                <a:off x="6600240" y="3551040"/>
                <a:ext cx="405000" cy="292320"/>
                <a:chOff x="6600240" y="3551040"/>
                <a:chExt cx="405000" cy="292320"/>
              </a:xfrm>
            </p:grpSpPr>
            <p:sp>
              <p:nvSpPr>
                <p:cNvPr id="3139" name=""/>
                <p:cNvSpPr/>
                <p:nvPr/>
              </p:nvSpPr>
              <p:spPr>
                <a:xfrm>
                  <a:off x="6600240" y="355104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0" name=""/>
                <p:cNvGrpSpPr/>
                <p:nvPr/>
              </p:nvGrpSpPr>
              <p:grpSpPr>
                <a:xfrm>
                  <a:off x="6600240" y="3551040"/>
                  <a:ext cx="405000" cy="292320"/>
                  <a:chOff x="6600240" y="3551040"/>
                  <a:chExt cx="405000" cy="292320"/>
                </a:xfrm>
              </p:grpSpPr>
              <p:sp>
                <p:nvSpPr>
                  <p:cNvPr id="3141" name=""/>
                  <p:cNvSpPr/>
                  <p:nvPr/>
                </p:nvSpPr>
                <p:spPr>
                  <a:xfrm>
                    <a:off x="6638400" y="355104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>
                    <a:off x="6600240" y="355104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3" name=""/>
              <p:cNvGrpSpPr/>
              <p:nvPr/>
            </p:nvGrpSpPr>
            <p:grpSpPr>
              <a:xfrm>
                <a:off x="2153520" y="3843720"/>
                <a:ext cx="405000" cy="292680"/>
                <a:chOff x="2153520" y="3843720"/>
                <a:chExt cx="405000" cy="292680"/>
              </a:xfrm>
            </p:grpSpPr>
            <p:sp>
              <p:nvSpPr>
                <p:cNvPr id="3144" name=""/>
                <p:cNvSpPr/>
                <p:nvPr/>
              </p:nvSpPr>
              <p:spPr>
                <a:xfrm>
                  <a:off x="2153520" y="384372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5" name=""/>
                <p:cNvGrpSpPr/>
                <p:nvPr/>
              </p:nvGrpSpPr>
              <p:grpSpPr>
                <a:xfrm>
                  <a:off x="2153520" y="3843720"/>
                  <a:ext cx="405000" cy="292680"/>
                  <a:chOff x="2153520" y="3843720"/>
                  <a:chExt cx="405000" cy="292680"/>
                </a:xfrm>
              </p:grpSpPr>
              <p:sp>
                <p:nvSpPr>
                  <p:cNvPr id="3146" name=""/>
                  <p:cNvSpPr/>
                  <p:nvPr/>
                </p:nvSpPr>
                <p:spPr>
                  <a:xfrm>
                    <a:off x="2191680" y="3843720"/>
                    <a:ext cx="3286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>
                    <a:off x="2153520" y="384372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8" name=""/>
              <p:cNvGrpSpPr/>
              <p:nvPr/>
            </p:nvGrpSpPr>
            <p:grpSpPr>
              <a:xfrm>
                <a:off x="2558520" y="3843720"/>
                <a:ext cx="405360" cy="292680"/>
                <a:chOff x="2558520" y="3843720"/>
                <a:chExt cx="405360" cy="292680"/>
              </a:xfrm>
            </p:grpSpPr>
            <p:sp>
              <p:nvSpPr>
                <p:cNvPr id="3149" name=""/>
                <p:cNvSpPr/>
                <p:nvPr/>
              </p:nvSpPr>
              <p:spPr>
                <a:xfrm>
                  <a:off x="2558520" y="3843720"/>
                  <a:ext cx="4053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0" name=""/>
                <p:cNvGrpSpPr/>
                <p:nvPr/>
              </p:nvGrpSpPr>
              <p:grpSpPr>
                <a:xfrm>
                  <a:off x="2558520" y="3843720"/>
                  <a:ext cx="405360" cy="292680"/>
                  <a:chOff x="2558520" y="3843720"/>
                  <a:chExt cx="405360" cy="292680"/>
                </a:xfrm>
              </p:grpSpPr>
              <p:sp>
                <p:nvSpPr>
                  <p:cNvPr id="3151" name=""/>
                  <p:cNvSpPr/>
                  <p:nvPr/>
                </p:nvSpPr>
                <p:spPr>
                  <a:xfrm>
                    <a:off x="2596680" y="384372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>
                    <a:off x="2558520" y="3843720"/>
                    <a:ext cx="4053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3" name=""/>
              <p:cNvGrpSpPr/>
              <p:nvPr/>
            </p:nvGrpSpPr>
            <p:grpSpPr>
              <a:xfrm>
                <a:off x="2963880" y="3843720"/>
                <a:ext cx="405000" cy="292680"/>
                <a:chOff x="2963880" y="3843720"/>
                <a:chExt cx="405000" cy="292680"/>
              </a:xfrm>
            </p:grpSpPr>
            <p:sp>
              <p:nvSpPr>
                <p:cNvPr id="3154" name=""/>
                <p:cNvSpPr/>
                <p:nvPr/>
              </p:nvSpPr>
              <p:spPr>
                <a:xfrm>
                  <a:off x="2963880" y="384372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5" name=""/>
                <p:cNvGrpSpPr/>
                <p:nvPr/>
              </p:nvGrpSpPr>
              <p:grpSpPr>
                <a:xfrm>
                  <a:off x="2963880" y="3843720"/>
                  <a:ext cx="405000" cy="292680"/>
                  <a:chOff x="2963880" y="3843720"/>
                  <a:chExt cx="405000" cy="292680"/>
                </a:xfrm>
              </p:grpSpPr>
              <p:sp>
                <p:nvSpPr>
                  <p:cNvPr id="3156" name=""/>
                  <p:cNvSpPr/>
                  <p:nvPr/>
                </p:nvSpPr>
                <p:spPr>
                  <a:xfrm>
                    <a:off x="3002040" y="384372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>
                    <a:off x="2963880" y="384372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8" name=""/>
              <p:cNvGrpSpPr/>
              <p:nvPr/>
            </p:nvGrpSpPr>
            <p:grpSpPr>
              <a:xfrm>
                <a:off x="3368880" y="3843720"/>
                <a:ext cx="403560" cy="292680"/>
                <a:chOff x="3368880" y="3843720"/>
                <a:chExt cx="403560" cy="292680"/>
              </a:xfrm>
            </p:grpSpPr>
            <p:sp>
              <p:nvSpPr>
                <p:cNvPr id="3159" name=""/>
                <p:cNvSpPr/>
                <p:nvPr/>
              </p:nvSpPr>
              <p:spPr>
                <a:xfrm>
                  <a:off x="3368880" y="38437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0" name=""/>
                <p:cNvGrpSpPr/>
                <p:nvPr/>
              </p:nvGrpSpPr>
              <p:grpSpPr>
                <a:xfrm>
                  <a:off x="3368880" y="3843720"/>
                  <a:ext cx="403560" cy="292680"/>
                  <a:chOff x="3368880" y="3843720"/>
                  <a:chExt cx="403560" cy="292680"/>
                </a:xfrm>
              </p:grpSpPr>
              <p:sp>
                <p:nvSpPr>
                  <p:cNvPr id="3161" name=""/>
                  <p:cNvSpPr/>
                  <p:nvPr/>
                </p:nvSpPr>
                <p:spPr>
                  <a:xfrm>
                    <a:off x="3406680" y="38437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>
                    <a:off x="3368880" y="38437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3" name=""/>
              <p:cNvGrpSpPr/>
              <p:nvPr/>
            </p:nvGrpSpPr>
            <p:grpSpPr>
              <a:xfrm>
                <a:off x="3772800" y="3843720"/>
                <a:ext cx="403560" cy="292680"/>
                <a:chOff x="3772800" y="3843720"/>
                <a:chExt cx="403560" cy="292680"/>
              </a:xfrm>
            </p:grpSpPr>
            <p:sp>
              <p:nvSpPr>
                <p:cNvPr id="3164" name=""/>
                <p:cNvSpPr/>
                <p:nvPr/>
              </p:nvSpPr>
              <p:spPr>
                <a:xfrm>
                  <a:off x="3772800" y="38437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5" name=""/>
                <p:cNvGrpSpPr/>
                <p:nvPr/>
              </p:nvGrpSpPr>
              <p:grpSpPr>
                <a:xfrm>
                  <a:off x="3772800" y="3843720"/>
                  <a:ext cx="403560" cy="292680"/>
                  <a:chOff x="3772800" y="3843720"/>
                  <a:chExt cx="403560" cy="292680"/>
                </a:xfrm>
              </p:grpSpPr>
              <p:sp>
                <p:nvSpPr>
                  <p:cNvPr id="3166" name=""/>
                  <p:cNvSpPr/>
                  <p:nvPr/>
                </p:nvSpPr>
                <p:spPr>
                  <a:xfrm>
                    <a:off x="3810600" y="38437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3772800" y="38437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8" name=""/>
              <p:cNvGrpSpPr/>
              <p:nvPr/>
            </p:nvGrpSpPr>
            <p:grpSpPr>
              <a:xfrm>
                <a:off x="4176360" y="3843720"/>
                <a:ext cx="403200" cy="292680"/>
                <a:chOff x="4176360" y="3843720"/>
                <a:chExt cx="403200" cy="292680"/>
              </a:xfrm>
            </p:grpSpPr>
            <p:sp>
              <p:nvSpPr>
                <p:cNvPr id="3169" name=""/>
                <p:cNvSpPr/>
                <p:nvPr/>
              </p:nvSpPr>
              <p:spPr>
                <a:xfrm>
                  <a:off x="4176360" y="3843720"/>
                  <a:ext cx="4032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0" name=""/>
                <p:cNvGrpSpPr/>
                <p:nvPr/>
              </p:nvGrpSpPr>
              <p:grpSpPr>
                <a:xfrm>
                  <a:off x="4176360" y="3843720"/>
                  <a:ext cx="403200" cy="292680"/>
                  <a:chOff x="4176360" y="3843720"/>
                  <a:chExt cx="403200" cy="292680"/>
                </a:xfrm>
              </p:grpSpPr>
              <p:sp>
                <p:nvSpPr>
                  <p:cNvPr id="3171" name=""/>
                  <p:cNvSpPr/>
                  <p:nvPr/>
                </p:nvSpPr>
                <p:spPr>
                  <a:xfrm>
                    <a:off x="4214160" y="38437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>
                    <a:off x="4176360" y="3843720"/>
                    <a:ext cx="4032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3" name=""/>
              <p:cNvGrpSpPr/>
              <p:nvPr/>
            </p:nvGrpSpPr>
            <p:grpSpPr>
              <a:xfrm>
                <a:off x="4579920" y="3843720"/>
                <a:ext cx="405360" cy="292680"/>
                <a:chOff x="4579920" y="3843720"/>
                <a:chExt cx="405360" cy="292680"/>
              </a:xfrm>
            </p:grpSpPr>
            <p:sp>
              <p:nvSpPr>
                <p:cNvPr id="3174" name=""/>
                <p:cNvSpPr/>
                <p:nvPr/>
              </p:nvSpPr>
              <p:spPr>
                <a:xfrm>
                  <a:off x="4579920" y="3843720"/>
                  <a:ext cx="4053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5" name=""/>
                <p:cNvGrpSpPr/>
                <p:nvPr/>
              </p:nvGrpSpPr>
              <p:grpSpPr>
                <a:xfrm>
                  <a:off x="4579920" y="3843720"/>
                  <a:ext cx="405360" cy="292680"/>
                  <a:chOff x="4579920" y="3843720"/>
                  <a:chExt cx="405360" cy="292680"/>
                </a:xfrm>
              </p:grpSpPr>
              <p:sp>
                <p:nvSpPr>
                  <p:cNvPr id="3176" name=""/>
                  <p:cNvSpPr/>
                  <p:nvPr/>
                </p:nvSpPr>
                <p:spPr>
                  <a:xfrm>
                    <a:off x="4618080" y="384372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>
                    <a:off x="4579920" y="3843720"/>
                    <a:ext cx="4053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8" name=""/>
              <p:cNvGrpSpPr/>
              <p:nvPr/>
            </p:nvGrpSpPr>
            <p:grpSpPr>
              <a:xfrm>
                <a:off x="4985280" y="3843720"/>
                <a:ext cx="403560" cy="292680"/>
                <a:chOff x="4985280" y="3843720"/>
                <a:chExt cx="403560" cy="292680"/>
              </a:xfrm>
            </p:grpSpPr>
            <p:sp>
              <p:nvSpPr>
                <p:cNvPr id="3179" name=""/>
                <p:cNvSpPr/>
                <p:nvPr/>
              </p:nvSpPr>
              <p:spPr>
                <a:xfrm>
                  <a:off x="4985280" y="38437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0" name=""/>
                <p:cNvGrpSpPr/>
                <p:nvPr/>
              </p:nvGrpSpPr>
              <p:grpSpPr>
                <a:xfrm>
                  <a:off x="4985280" y="3843720"/>
                  <a:ext cx="403560" cy="292680"/>
                  <a:chOff x="4985280" y="3843720"/>
                  <a:chExt cx="403560" cy="292680"/>
                </a:xfrm>
              </p:grpSpPr>
              <p:sp>
                <p:nvSpPr>
                  <p:cNvPr id="3181" name=""/>
                  <p:cNvSpPr/>
                  <p:nvPr/>
                </p:nvSpPr>
                <p:spPr>
                  <a:xfrm>
                    <a:off x="5023080" y="38437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>
                    <a:off x="4985280" y="38437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3" name=""/>
              <p:cNvGrpSpPr/>
              <p:nvPr/>
            </p:nvGrpSpPr>
            <p:grpSpPr>
              <a:xfrm>
                <a:off x="5389200" y="3843720"/>
                <a:ext cx="403200" cy="292680"/>
                <a:chOff x="5389200" y="3843720"/>
                <a:chExt cx="403200" cy="292680"/>
              </a:xfrm>
            </p:grpSpPr>
            <p:sp>
              <p:nvSpPr>
                <p:cNvPr id="3184" name=""/>
                <p:cNvSpPr/>
                <p:nvPr/>
              </p:nvSpPr>
              <p:spPr>
                <a:xfrm>
                  <a:off x="5389200" y="3843720"/>
                  <a:ext cx="4032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5" name=""/>
                <p:cNvGrpSpPr/>
                <p:nvPr/>
              </p:nvGrpSpPr>
              <p:grpSpPr>
                <a:xfrm>
                  <a:off x="5389200" y="3843720"/>
                  <a:ext cx="403200" cy="292680"/>
                  <a:chOff x="5389200" y="3843720"/>
                  <a:chExt cx="403200" cy="292680"/>
                </a:xfrm>
              </p:grpSpPr>
              <p:sp>
                <p:nvSpPr>
                  <p:cNvPr id="3186" name=""/>
                  <p:cNvSpPr/>
                  <p:nvPr/>
                </p:nvSpPr>
                <p:spPr>
                  <a:xfrm>
                    <a:off x="5427000" y="38437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5389200" y="3843720"/>
                    <a:ext cx="4032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8" name=""/>
              <p:cNvGrpSpPr/>
              <p:nvPr/>
            </p:nvGrpSpPr>
            <p:grpSpPr>
              <a:xfrm>
                <a:off x="5792760" y="3843720"/>
                <a:ext cx="403560" cy="292680"/>
                <a:chOff x="5792760" y="3843720"/>
                <a:chExt cx="403560" cy="292680"/>
              </a:xfrm>
            </p:grpSpPr>
            <p:sp>
              <p:nvSpPr>
                <p:cNvPr id="3189" name=""/>
                <p:cNvSpPr/>
                <p:nvPr/>
              </p:nvSpPr>
              <p:spPr>
                <a:xfrm>
                  <a:off x="5792760" y="38437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0" name=""/>
                <p:cNvGrpSpPr/>
                <p:nvPr/>
              </p:nvGrpSpPr>
              <p:grpSpPr>
                <a:xfrm>
                  <a:off x="5792760" y="3843720"/>
                  <a:ext cx="403560" cy="292680"/>
                  <a:chOff x="5792760" y="3843720"/>
                  <a:chExt cx="403560" cy="292680"/>
                </a:xfrm>
              </p:grpSpPr>
              <p:sp>
                <p:nvSpPr>
                  <p:cNvPr id="3191" name=""/>
                  <p:cNvSpPr/>
                  <p:nvPr/>
                </p:nvSpPr>
                <p:spPr>
                  <a:xfrm>
                    <a:off x="5830920" y="38437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>
                    <a:off x="5792760" y="38437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3" name=""/>
              <p:cNvGrpSpPr/>
              <p:nvPr/>
            </p:nvGrpSpPr>
            <p:grpSpPr>
              <a:xfrm>
                <a:off x="6196680" y="3843720"/>
                <a:ext cx="403560" cy="292680"/>
                <a:chOff x="6196680" y="3843720"/>
                <a:chExt cx="403560" cy="292680"/>
              </a:xfrm>
            </p:grpSpPr>
            <p:sp>
              <p:nvSpPr>
                <p:cNvPr id="3194" name=""/>
                <p:cNvSpPr/>
                <p:nvPr/>
              </p:nvSpPr>
              <p:spPr>
                <a:xfrm>
                  <a:off x="6196680" y="3843720"/>
                  <a:ext cx="40356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5" name=""/>
                <p:cNvGrpSpPr/>
                <p:nvPr/>
              </p:nvGrpSpPr>
              <p:grpSpPr>
                <a:xfrm>
                  <a:off x="6196680" y="3843720"/>
                  <a:ext cx="403560" cy="292680"/>
                  <a:chOff x="6196680" y="3843720"/>
                  <a:chExt cx="403560" cy="292680"/>
                </a:xfrm>
              </p:grpSpPr>
              <p:sp>
                <p:nvSpPr>
                  <p:cNvPr id="3196" name=""/>
                  <p:cNvSpPr/>
                  <p:nvPr/>
                </p:nvSpPr>
                <p:spPr>
                  <a:xfrm>
                    <a:off x="6234840" y="3843720"/>
                    <a:ext cx="32688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6196680" y="3843720"/>
                    <a:ext cx="40356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8" name=""/>
              <p:cNvGrpSpPr/>
              <p:nvPr/>
            </p:nvGrpSpPr>
            <p:grpSpPr>
              <a:xfrm>
                <a:off x="6600240" y="3843720"/>
                <a:ext cx="405000" cy="292680"/>
                <a:chOff x="6600240" y="3843720"/>
                <a:chExt cx="405000" cy="292680"/>
              </a:xfrm>
            </p:grpSpPr>
            <p:sp>
              <p:nvSpPr>
                <p:cNvPr id="3199" name=""/>
                <p:cNvSpPr/>
                <p:nvPr/>
              </p:nvSpPr>
              <p:spPr>
                <a:xfrm>
                  <a:off x="6600240" y="3843720"/>
                  <a:ext cx="405000" cy="29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0" name=""/>
                <p:cNvGrpSpPr/>
                <p:nvPr/>
              </p:nvGrpSpPr>
              <p:grpSpPr>
                <a:xfrm>
                  <a:off x="6600240" y="3843720"/>
                  <a:ext cx="405000" cy="292680"/>
                  <a:chOff x="6600240" y="3843720"/>
                  <a:chExt cx="405000" cy="292680"/>
                </a:xfrm>
              </p:grpSpPr>
              <p:sp>
                <p:nvSpPr>
                  <p:cNvPr id="3201" name=""/>
                  <p:cNvSpPr/>
                  <p:nvPr/>
                </p:nvSpPr>
                <p:spPr>
                  <a:xfrm>
                    <a:off x="6638400" y="3843720"/>
                    <a:ext cx="328320" cy="29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>
                    <a:off x="6600240" y="3843720"/>
                    <a:ext cx="405000" cy="29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3" name=""/>
              <p:cNvGrpSpPr/>
              <p:nvPr/>
            </p:nvGrpSpPr>
            <p:grpSpPr>
              <a:xfrm>
                <a:off x="2153520" y="4136400"/>
                <a:ext cx="405000" cy="292320"/>
                <a:chOff x="2153520" y="4136400"/>
                <a:chExt cx="405000" cy="292320"/>
              </a:xfrm>
            </p:grpSpPr>
            <p:sp>
              <p:nvSpPr>
                <p:cNvPr id="3204" name=""/>
                <p:cNvSpPr/>
                <p:nvPr/>
              </p:nvSpPr>
              <p:spPr>
                <a:xfrm>
                  <a:off x="2153520" y="413640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5" name=""/>
                <p:cNvGrpSpPr/>
                <p:nvPr/>
              </p:nvGrpSpPr>
              <p:grpSpPr>
                <a:xfrm>
                  <a:off x="2153520" y="4136400"/>
                  <a:ext cx="405000" cy="292320"/>
                  <a:chOff x="2153520" y="4136400"/>
                  <a:chExt cx="405000" cy="292320"/>
                </a:xfrm>
              </p:grpSpPr>
              <p:sp>
                <p:nvSpPr>
                  <p:cNvPr id="3206" name=""/>
                  <p:cNvSpPr/>
                  <p:nvPr/>
                </p:nvSpPr>
                <p:spPr>
                  <a:xfrm>
                    <a:off x="2191680" y="4136400"/>
                    <a:ext cx="3286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2153520" y="413640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8" name=""/>
              <p:cNvGrpSpPr/>
              <p:nvPr/>
            </p:nvGrpSpPr>
            <p:grpSpPr>
              <a:xfrm>
                <a:off x="2558520" y="4136400"/>
                <a:ext cx="405360" cy="292320"/>
                <a:chOff x="2558520" y="4136400"/>
                <a:chExt cx="405360" cy="292320"/>
              </a:xfrm>
            </p:grpSpPr>
            <p:sp>
              <p:nvSpPr>
                <p:cNvPr id="3209" name=""/>
                <p:cNvSpPr/>
                <p:nvPr/>
              </p:nvSpPr>
              <p:spPr>
                <a:xfrm>
                  <a:off x="2558520" y="413640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0" name=""/>
                <p:cNvGrpSpPr/>
                <p:nvPr/>
              </p:nvGrpSpPr>
              <p:grpSpPr>
                <a:xfrm>
                  <a:off x="2558520" y="4136400"/>
                  <a:ext cx="405360" cy="292320"/>
                  <a:chOff x="2558520" y="4136400"/>
                  <a:chExt cx="405360" cy="292320"/>
                </a:xfrm>
              </p:grpSpPr>
              <p:sp>
                <p:nvSpPr>
                  <p:cNvPr id="3211" name=""/>
                  <p:cNvSpPr/>
                  <p:nvPr/>
                </p:nvSpPr>
                <p:spPr>
                  <a:xfrm>
                    <a:off x="2596680" y="413640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2558520" y="413640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3" name=""/>
              <p:cNvGrpSpPr/>
              <p:nvPr/>
            </p:nvGrpSpPr>
            <p:grpSpPr>
              <a:xfrm>
                <a:off x="2963880" y="4136400"/>
                <a:ext cx="405000" cy="292320"/>
                <a:chOff x="2963880" y="4136400"/>
                <a:chExt cx="405000" cy="292320"/>
              </a:xfrm>
            </p:grpSpPr>
            <p:sp>
              <p:nvSpPr>
                <p:cNvPr id="3214" name=""/>
                <p:cNvSpPr/>
                <p:nvPr/>
              </p:nvSpPr>
              <p:spPr>
                <a:xfrm>
                  <a:off x="2963880" y="413640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5" name=""/>
                <p:cNvGrpSpPr/>
                <p:nvPr/>
              </p:nvGrpSpPr>
              <p:grpSpPr>
                <a:xfrm>
                  <a:off x="2963880" y="4136400"/>
                  <a:ext cx="405000" cy="292320"/>
                  <a:chOff x="2963880" y="4136400"/>
                  <a:chExt cx="405000" cy="292320"/>
                </a:xfrm>
              </p:grpSpPr>
              <p:sp>
                <p:nvSpPr>
                  <p:cNvPr id="3216" name=""/>
                  <p:cNvSpPr/>
                  <p:nvPr/>
                </p:nvSpPr>
                <p:spPr>
                  <a:xfrm>
                    <a:off x="3002040" y="413640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2963880" y="413640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8" name=""/>
              <p:cNvGrpSpPr/>
              <p:nvPr/>
            </p:nvGrpSpPr>
            <p:grpSpPr>
              <a:xfrm>
                <a:off x="3368880" y="4136400"/>
                <a:ext cx="403560" cy="292320"/>
                <a:chOff x="3368880" y="4136400"/>
                <a:chExt cx="403560" cy="292320"/>
              </a:xfrm>
            </p:grpSpPr>
            <p:sp>
              <p:nvSpPr>
                <p:cNvPr id="3219" name=""/>
                <p:cNvSpPr/>
                <p:nvPr/>
              </p:nvSpPr>
              <p:spPr>
                <a:xfrm>
                  <a:off x="3368880" y="41364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0" name=""/>
                <p:cNvGrpSpPr/>
                <p:nvPr/>
              </p:nvGrpSpPr>
              <p:grpSpPr>
                <a:xfrm>
                  <a:off x="3368880" y="4136400"/>
                  <a:ext cx="403560" cy="292320"/>
                  <a:chOff x="3368880" y="4136400"/>
                  <a:chExt cx="403560" cy="292320"/>
                </a:xfrm>
              </p:grpSpPr>
              <p:sp>
                <p:nvSpPr>
                  <p:cNvPr id="3221" name=""/>
                  <p:cNvSpPr/>
                  <p:nvPr/>
                </p:nvSpPr>
                <p:spPr>
                  <a:xfrm>
                    <a:off x="3406680" y="41364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3368880" y="41364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3" name=""/>
              <p:cNvGrpSpPr/>
              <p:nvPr/>
            </p:nvGrpSpPr>
            <p:grpSpPr>
              <a:xfrm>
                <a:off x="3772800" y="4136400"/>
                <a:ext cx="403560" cy="292320"/>
                <a:chOff x="3772800" y="4136400"/>
                <a:chExt cx="403560" cy="292320"/>
              </a:xfrm>
            </p:grpSpPr>
            <p:sp>
              <p:nvSpPr>
                <p:cNvPr id="3224" name=""/>
                <p:cNvSpPr/>
                <p:nvPr/>
              </p:nvSpPr>
              <p:spPr>
                <a:xfrm>
                  <a:off x="3772800" y="41364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5" name=""/>
                <p:cNvGrpSpPr/>
                <p:nvPr/>
              </p:nvGrpSpPr>
              <p:grpSpPr>
                <a:xfrm>
                  <a:off x="3772800" y="4136400"/>
                  <a:ext cx="403560" cy="292320"/>
                  <a:chOff x="3772800" y="4136400"/>
                  <a:chExt cx="403560" cy="292320"/>
                </a:xfrm>
              </p:grpSpPr>
              <p:sp>
                <p:nvSpPr>
                  <p:cNvPr id="3226" name=""/>
                  <p:cNvSpPr/>
                  <p:nvPr/>
                </p:nvSpPr>
                <p:spPr>
                  <a:xfrm>
                    <a:off x="3810600" y="41364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3772800" y="41364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8" name=""/>
              <p:cNvGrpSpPr/>
              <p:nvPr/>
            </p:nvGrpSpPr>
            <p:grpSpPr>
              <a:xfrm>
                <a:off x="4176360" y="4136400"/>
                <a:ext cx="403200" cy="292320"/>
                <a:chOff x="4176360" y="4136400"/>
                <a:chExt cx="403200" cy="292320"/>
              </a:xfrm>
            </p:grpSpPr>
            <p:sp>
              <p:nvSpPr>
                <p:cNvPr id="3229" name=""/>
                <p:cNvSpPr/>
                <p:nvPr/>
              </p:nvSpPr>
              <p:spPr>
                <a:xfrm>
                  <a:off x="4176360" y="413640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0" name=""/>
                <p:cNvGrpSpPr/>
                <p:nvPr/>
              </p:nvGrpSpPr>
              <p:grpSpPr>
                <a:xfrm>
                  <a:off x="4176360" y="4136400"/>
                  <a:ext cx="403200" cy="292320"/>
                  <a:chOff x="4176360" y="4136400"/>
                  <a:chExt cx="403200" cy="292320"/>
                </a:xfrm>
              </p:grpSpPr>
              <p:sp>
                <p:nvSpPr>
                  <p:cNvPr id="3231" name=""/>
                  <p:cNvSpPr/>
                  <p:nvPr/>
                </p:nvSpPr>
                <p:spPr>
                  <a:xfrm>
                    <a:off x="4214160" y="41364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4176360" y="413640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33" name=""/>
              <p:cNvGrpSpPr/>
              <p:nvPr/>
            </p:nvGrpSpPr>
            <p:grpSpPr>
              <a:xfrm>
                <a:off x="4579920" y="4136400"/>
                <a:ext cx="405360" cy="292320"/>
                <a:chOff x="4579920" y="4136400"/>
                <a:chExt cx="405360" cy="292320"/>
              </a:xfrm>
            </p:grpSpPr>
            <p:sp>
              <p:nvSpPr>
                <p:cNvPr id="3234" name=""/>
                <p:cNvSpPr/>
                <p:nvPr/>
              </p:nvSpPr>
              <p:spPr>
                <a:xfrm>
                  <a:off x="4579920" y="413640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5" name=""/>
                <p:cNvGrpSpPr/>
                <p:nvPr/>
              </p:nvGrpSpPr>
              <p:grpSpPr>
                <a:xfrm>
                  <a:off x="4579920" y="4136400"/>
                  <a:ext cx="405360" cy="292320"/>
                  <a:chOff x="4579920" y="4136400"/>
                  <a:chExt cx="405360" cy="292320"/>
                </a:xfrm>
              </p:grpSpPr>
              <p:sp>
                <p:nvSpPr>
                  <p:cNvPr id="3236" name=""/>
                  <p:cNvSpPr/>
                  <p:nvPr/>
                </p:nvSpPr>
                <p:spPr>
                  <a:xfrm>
                    <a:off x="4618080" y="413640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4579920" y="413640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38" name=""/>
              <p:cNvGrpSpPr/>
              <p:nvPr/>
            </p:nvGrpSpPr>
            <p:grpSpPr>
              <a:xfrm>
                <a:off x="4985280" y="4136400"/>
                <a:ext cx="403560" cy="292320"/>
                <a:chOff x="4985280" y="4136400"/>
                <a:chExt cx="403560" cy="29232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4985280" y="41364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0" name=""/>
                <p:cNvGrpSpPr/>
                <p:nvPr/>
              </p:nvGrpSpPr>
              <p:grpSpPr>
                <a:xfrm>
                  <a:off x="4985280" y="4136400"/>
                  <a:ext cx="403560" cy="292320"/>
                  <a:chOff x="4985280" y="4136400"/>
                  <a:chExt cx="403560" cy="292320"/>
                </a:xfrm>
              </p:grpSpPr>
              <p:sp>
                <p:nvSpPr>
                  <p:cNvPr id="3241" name=""/>
                  <p:cNvSpPr/>
                  <p:nvPr/>
                </p:nvSpPr>
                <p:spPr>
                  <a:xfrm>
                    <a:off x="5023080" y="41364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>
                    <a:off x="4985280" y="41364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3" name=""/>
              <p:cNvGrpSpPr/>
              <p:nvPr/>
            </p:nvGrpSpPr>
            <p:grpSpPr>
              <a:xfrm>
                <a:off x="5389200" y="4136400"/>
                <a:ext cx="403200" cy="292320"/>
                <a:chOff x="5389200" y="4136400"/>
                <a:chExt cx="403200" cy="292320"/>
              </a:xfrm>
            </p:grpSpPr>
            <p:sp>
              <p:nvSpPr>
                <p:cNvPr id="3244" name=""/>
                <p:cNvSpPr/>
                <p:nvPr/>
              </p:nvSpPr>
              <p:spPr>
                <a:xfrm>
                  <a:off x="5389200" y="413640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5" name=""/>
                <p:cNvGrpSpPr/>
                <p:nvPr/>
              </p:nvGrpSpPr>
              <p:grpSpPr>
                <a:xfrm>
                  <a:off x="5389200" y="4136400"/>
                  <a:ext cx="403200" cy="292320"/>
                  <a:chOff x="5389200" y="4136400"/>
                  <a:chExt cx="403200" cy="292320"/>
                </a:xfrm>
              </p:grpSpPr>
              <p:sp>
                <p:nvSpPr>
                  <p:cNvPr id="3246" name=""/>
                  <p:cNvSpPr/>
                  <p:nvPr/>
                </p:nvSpPr>
                <p:spPr>
                  <a:xfrm>
                    <a:off x="5427000" y="41364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>
                    <a:off x="5389200" y="413640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8" name=""/>
              <p:cNvGrpSpPr/>
              <p:nvPr/>
            </p:nvGrpSpPr>
            <p:grpSpPr>
              <a:xfrm>
                <a:off x="5792760" y="4136400"/>
                <a:ext cx="403560" cy="292320"/>
                <a:chOff x="5792760" y="4136400"/>
                <a:chExt cx="403560" cy="292320"/>
              </a:xfrm>
            </p:grpSpPr>
            <p:sp>
              <p:nvSpPr>
                <p:cNvPr id="3249" name=""/>
                <p:cNvSpPr/>
                <p:nvPr/>
              </p:nvSpPr>
              <p:spPr>
                <a:xfrm>
                  <a:off x="5792760" y="41364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0" name=""/>
                <p:cNvGrpSpPr/>
                <p:nvPr/>
              </p:nvGrpSpPr>
              <p:grpSpPr>
                <a:xfrm>
                  <a:off x="5792760" y="4136400"/>
                  <a:ext cx="403560" cy="292320"/>
                  <a:chOff x="5792760" y="4136400"/>
                  <a:chExt cx="403560" cy="292320"/>
                </a:xfrm>
              </p:grpSpPr>
              <p:sp>
                <p:nvSpPr>
                  <p:cNvPr id="3251" name=""/>
                  <p:cNvSpPr/>
                  <p:nvPr/>
                </p:nvSpPr>
                <p:spPr>
                  <a:xfrm>
                    <a:off x="5830920" y="41364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5792760" y="41364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53" name=""/>
              <p:cNvGrpSpPr/>
              <p:nvPr/>
            </p:nvGrpSpPr>
            <p:grpSpPr>
              <a:xfrm>
                <a:off x="6196680" y="4136400"/>
                <a:ext cx="403560" cy="292320"/>
                <a:chOff x="6196680" y="4136400"/>
                <a:chExt cx="403560" cy="292320"/>
              </a:xfrm>
            </p:grpSpPr>
            <p:sp>
              <p:nvSpPr>
                <p:cNvPr id="3254" name=""/>
                <p:cNvSpPr/>
                <p:nvPr/>
              </p:nvSpPr>
              <p:spPr>
                <a:xfrm>
                  <a:off x="6196680" y="413640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5" name=""/>
                <p:cNvGrpSpPr/>
                <p:nvPr/>
              </p:nvGrpSpPr>
              <p:grpSpPr>
                <a:xfrm>
                  <a:off x="6196680" y="4136400"/>
                  <a:ext cx="403560" cy="292320"/>
                  <a:chOff x="6196680" y="4136400"/>
                  <a:chExt cx="403560" cy="292320"/>
                </a:xfrm>
              </p:grpSpPr>
              <p:sp>
                <p:nvSpPr>
                  <p:cNvPr id="3256" name=""/>
                  <p:cNvSpPr/>
                  <p:nvPr/>
                </p:nvSpPr>
                <p:spPr>
                  <a:xfrm>
                    <a:off x="6234840" y="413640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>
                    <a:off x="6196680" y="413640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58" name=""/>
              <p:cNvGrpSpPr/>
              <p:nvPr/>
            </p:nvGrpSpPr>
            <p:grpSpPr>
              <a:xfrm>
                <a:off x="6600240" y="4136400"/>
                <a:ext cx="405000" cy="292320"/>
                <a:chOff x="6600240" y="4136400"/>
                <a:chExt cx="405000" cy="292320"/>
              </a:xfrm>
            </p:grpSpPr>
            <p:sp>
              <p:nvSpPr>
                <p:cNvPr id="3259" name=""/>
                <p:cNvSpPr/>
                <p:nvPr/>
              </p:nvSpPr>
              <p:spPr>
                <a:xfrm>
                  <a:off x="6600240" y="413640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0" name=""/>
                <p:cNvGrpSpPr/>
                <p:nvPr/>
              </p:nvGrpSpPr>
              <p:grpSpPr>
                <a:xfrm>
                  <a:off x="6600240" y="4136400"/>
                  <a:ext cx="405000" cy="292320"/>
                  <a:chOff x="6600240" y="4136400"/>
                  <a:chExt cx="405000" cy="292320"/>
                </a:xfrm>
              </p:grpSpPr>
              <p:sp>
                <p:nvSpPr>
                  <p:cNvPr id="3261" name=""/>
                  <p:cNvSpPr/>
                  <p:nvPr/>
                </p:nvSpPr>
                <p:spPr>
                  <a:xfrm>
                    <a:off x="6638400" y="413640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>
                    <a:off x="6600240" y="413640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3" name=""/>
              <p:cNvGrpSpPr/>
              <p:nvPr/>
            </p:nvGrpSpPr>
            <p:grpSpPr>
              <a:xfrm>
                <a:off x="2153520" y="4429080"/>
                <a:ext cx="405000" cy="292320"/>
                <a:chOff x="2153520" y="4429080"/>
                <a:chExt cx="405000" cy="292320"/>
              </a:xfrm>
            </p:grpSpPr>
            <p:sp>
              <p:nvSpPr>
                <p:cNvPr id="3264" name=""/>
                <p:cNvSpPr/>
                <p:nvPr/>
              </p:nvSpPr>
              <p:spPr>
                <a:xfrm>
                  <a:off x="2153520" y="442908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5" name=""/>
                <p:cNvGrpSpPr/>
                <p:nvPr/>
              </p:nvGrpSpPr>
              <p:grpSpPr>
                <a:xfrm>
                  <a:off x="2153520" y="4429080"/>
                  <a:ext cx="405000" cy="292320"/>
                  <a:chOff x="2153520" y="4429080"/>
                  <a:chExt cx="405000" cy="292320"/>
                </a:xfrm>
              </p:grpSpPr>
              <p:sp>
                <p:nvSpPr>
                  <p:cNvPr id="3266" name=""/>
                  <p:cNvSpPr/>
                  <p:nvPr/>
                </p:nvSpPr>
                <p:spPr>
                  <a:xfrm>
                    <a:off x="2191680" y="4429080"/>
                    <a:ext cx="3286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>
                    <a:off x="2153520" y="442908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8" name=""/>
              <p:cNvGrpSpPr/>
              <p:nvPr/>
            </p:nvGrpSpPr>
            <p:grpSpPr>
              <a:xfrm>
                <a:off x="2558520" y="4429080"/>
                <a:ext cx="405360" cy="292320"/>
                <a:chOff x="2558520" y="4429080"/>
                <a:chExt cx="405360" cy="292320"/>
              </a:xfrm>
            </p:grpSpPr>
            <p:sp>
              <p:nvSpPr>
                <p:cNvPr id="3269" name=""/>
                <p:cNvSpPr/>
                <p:nvPr/>
              </p:nvSpPr>
              <p:spPr>
                <a:xfrm>
                  <a:off x="2558520" y="442908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0" name=""/>
                <p:cNvGrpSpPr/>
                <p:nvPr/>
              </p:nvGrpSpPr>
              <p:grpSpPr>
                <a:xfrm>
                  <a:off x="2558520" y="4429080"/>
                  <a:ext cx="405360" cy="292320"/>
                  <a:chOff x="2558520" y="4429080"/>
                  <a:chExt cx="405360" cy="292320"/>
                </a:xfrm>
              </p:grpSpPr>
              <p:sp>
                <p:nvSpPr>
                  <p:cNvPr id="3271" name=""/>
                  <p:cNvSpPr/>
                  <p:nvPr/>
                </p:nvSpPr>
                <p:spPr>
                  <a:xfrm>
                    <a:off x="2596680" y="442908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>
                    <a:off x="2558520" y="442908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3" name=""/>
              <p:cNvGrpSpPr/>
              <p:nvPr/>
            </p:nvGrpSpPr>
            <p:grpSpPr>
              <a:xfrm>
                <a:off x="2963880" y="4429080"/>
                <a:ext cx="405000" cy="292320"/>
                <a:chOff x="2963880" y="4429080"/>
                <a:chExt cx="405000" cy="292320"/>
              </a:xfrm>
            </p:grpSpPr>
            <p:sp>
              <p:nvSpPr>
                <p:cNvPr id="3274" name=""/>
                <p:cNvSpPr/>
                <p:nvPr/>
              </p:nvSpPr>
              <p:spPr>
                <a:xfrm>
                  <a:off x="2963880" y="442908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5" name=""/>
                <p:cNvGrpSpPr/>
                <p:nvPr/>
              </p:nvGrpSpPr>
              <p:grpSpPr>
                <a:xfrm>
                  <a:off x="2963880" y="4429080"/>
                  <a:ext cx="405000" cy="292320"/>
                  <a:chOff x="2963880" y="4429080"/>
                  <a:chExt cx="405000" cy="292320"/>
                </a:xfrm>
              </p:grpSpPr>
              <p:sp>
                <p:nvSpPr>
                  <p:cNvPr id="3276" name=""/>
                  <p:cNvSpPr/>
                  <p:nvPr/>
                </p:nvSpPr>
                <p:spPr>
                  <a:xfrm>
                    <a:off x="3002040" y="442908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2963880" y="442908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8" name=""/>
              <p:cNvGrpSpPr/>
              <p:nvPr/>
            </p:nvGrpSpPr>
            <p:grpSpPr>
              <a:xfrm>
                <a:off x="3368880" y="4429080"/>
                <a:ext cx="403560" cy="292320"/>
                <a:chOff x="3368880" y="4429080"/>
                <a:chExt cx="403560" cy="292320"/>
              </a:xfrm>
            </p:grpSpPr>
            <p:sp>
              <p:nvSpPr>
                <p:cNvPr id="3279" name=""/>
                <p:cNvSpPr/>
                <p:nvPr/>
              </p:nvSpPr>
              <p:spPr>
                <a:xfrm>
                  <a:off x="3368880" y="442908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0" name=""/>
                <p:cNvGrpSpPr/>
                <p:nvPr/>
              </p:nvGrpSpPr>
              <p:grpSpPr>
                <a:xfrm>
                  <a:off x="3368880" y="4429080"/>
                  <a:ext cx="403560" cy="292320"/>
                  <a:chOff x="3368880" y="4429080"/>
                  <a:chExt cx="403560" cy="292320"/>
                </a:xfrm>
              </p:grpSpPr>
              <p:sp>
                <p:nvSpPr>
                  <p:cNvPr id="3281" name=""/>
                  <p:cNvSpPr/>
                  <p:nvPr/>
                </p:nvSpPr>
                <p:spPr>
                  <a:xfrm>
                    <a:off x="3406680" y="442908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3368880" y="442908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83" name=""/>
              <p:cNvGrpSpPr/>
              <p:nvPr/>
            </p:nvGrpSpPr>
            <p:grpSpPr>
              <a:xfrm>
                <a:off x="3772800" y="4429080"/>
                <a:ext cx="403560" cy="292320"/>
                <a:chOff x="3772800" y="4429080"/>
                <a:chExt cx="403560" cy="29232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3772800" y="442908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5" name=""/>
                <p:cNvGrpSpPr/>
                <p:nvPr/>
              </p:nvGrpSpPr>
              <p:grpSpPr>
                <a:xfrm>
                  <a:off x="3772800" y="4429080"/>
                  <a:ext cx="403560" cy="292320"/>
                  <a:chOff x="3772800" y="4429080"/>
                  <a:chExt cx="403560" cy="292320"/>
                </a:xfrm>
              </p:grpSpPr>
              <p:sp>
                <p:nvSpPr>
                  <p:cNvPr id="3286" name=""/>
                  <p:cNvSpPr/>
                  <p:nvPr/>
                </p:nvSpPr>
                <p:spPr>
                  <a:xfrm>
                    <a:off x="3810600" y="442908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>
                    <a:off x="3772800" y="442908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88" name=""/>
              <p:cNvGrpSpPr/>
              <p:nvPr/>
            </p:nvGrpSpPr>
            <p:grpSpPr>
              <a:xfrm>
                <a:off x="4176360" y="4429080"/>
                <a:ext cx="403200" cy="292320"/>
                <a:chOff x="4176360" y="4429080"/>
                <a:chExt cx="403200" cy="292320"/>
              </a:xfrm>
            </p:grpSpPr>
            <p:sp>
              <p:nvSpPr>
                <p:cNvPr id="3289" name=""/>
                <p:cNvSpPr/>
                <p:nvPr/>
              </p:nvSpPr>
              <p:spPr>
                <a:xfrm>
                  <a:off x="4176360" y="442908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0" name=""/>
                <p:cNvGrpSpPr/>
                <p:nvPr/>
              </p:nvGrpSpPr>
              <p:grpSpPr>
                <a:xfrm>
                  <a:off x="4176360" y="4429080"/>
                  <a:ext cx="403200" cy="292320"/>
                  <a:chOff x="4176360" y="4429080"/>
                  <a:chExt cx="403200" cy="292320"/>
                </a:xfrm>
              </p:grpSpPr>
              <p:sp>
                <p:nvSpPr>
                  <p:cNvPr id="3291" name=""/>
                  <p:cNvSpPr/>
                  <p:nvPr/>
                </p:nvSpPr>
                <p:spPr>
                  <a:xfrm>
                    <a:off x="4214160" y="442908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2" name=""/>
                  <p:cNvSpPr/>
                  <p:nvPr/>
                </p:nvSpPr>
                <p:spPr>
                  <a:xfrm>
                    <a:off x="4176360" y="442908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93" name=""/>
              <p:cNvGrpSpPr/>
              <p:nvPr/>
            </p:nvGrpSpPr>
            <p:grpSpPr>
              <a:xfrm>
                <a:off x="4579920" y="4429080"/>
                <a:ext cx="405360" cy="292320"/>
                <a:chOff x="4579920" y="4429080"/>
                <a:chExt cx="405360" cy="292320"/>
              </a:xfrm>
            </p:grpSpPr>
            <p:sp>
              <p:nvSpPr>
                <p:cNvPr id="3294" name=""/>
                <p:cNvSpPr/>
                <p:nvPr/>
              </p:nvSpPr>
              <p:spPr>
                <a:xfrm>
                  <a:off x="4579920" y="4429080"/>
                  <a:ext cx="4053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5" name=""/>
                <p:cNvGrpSpPr/>
                <p:nvPr/>
              </p:nvGrpSpPr>
              <p:grpSpPr>
                <a:xfrm>
                  <a:off x="4579920" y="4429080"/>
                  <a:ext cx="405360" cy="292320"/>
                  <a:chOff x="4579920" y="4429080"/>
                  <a:chExt cx="405360" cy="292320"/>
                </a:xfrm>
              </p:grpSpPr>
              <p:sp>
                <p:nvSpPr>
                  <p:cNvPr id="3296" name=""/>
                  <p:cNvSpPr/>
                  <p:nvPr/>
                </p:nvSpPr>
                <p:spPr>
                  <a:xfrm>
                    <a:off x="4618080" y="442908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>
                    <a:off x="4579920" y="4429080"/>
                    <a:ext cx="4053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98" name=""/>
              <p:cNvGrpSpPr/>
              <p:nvPr/>
            </p:nvGrpSpPr>
            <p:grpSpPr>
              <a:xfrm>
                <a:off x="4985280" y="4429080"/>
                <a:ext cx="403560" cy="292320"/>
                <a:chOff x="4985280" y="4429080"/>
                <a:chExt cx="403560" cy="29232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4985280" y="442908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00" name=""/>
                <p:cNvGrpSpPr/>
                <p:nvPr/>
              </p:nvGrpSpPr>
              <p:grpSpPr>
                <a:xfrm>
                  <a:off x="4985280" y="4429080"/>
                  <a:ext cx="403560" cy="292320"/>
                  <a:chOff x="4985280" y="4429080"/>
                  <a:chExt cx="403560" cy="292320"/>
                </a:xfrm>
              </p:grpSpPr>
              <p:sp>
                <p:nvSpPr>
                  <p:cNvPr id="3301" name=""/>
                  <p:cNvSpPr/>
                  <p:nvPr/>
                </p:nvSpPr>
                <p:spPr>
                  <a:xfrm>
                    <a:off x="5023080" y="442908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>
                    <a:off x="4985280" y="442908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3" name=""/>
              <p:cNvGrpSpPr/>
              <p:nvPr/>
            </p:nvGrpSpPr>
            <p:grpSpPr>
              <a:xfrm>
                <a:off x="5389200" y="4429080"/>
                <a:ext cx="403200" cy="292320"/>
                <a:chOff x="5389200" y="4429080"/>
                <a:chExt cx="403200" cy="292320"/>
              </a:xfrm>
            </p:grpSpPr>
            <p:sp>
              <p:nvSpPr>
                <p:cNvPr id="3304" name=""/>
                <p:cNvSpPr/>
                <p:nvPr/>
              </p:nvSpPr>
              <p:spPr>
                <a:xfrm>
                  <a:off x="5389200" y="4429080"/>
                  <a:ext cx="4032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05" name=""/>
                <p:cNvGrpSpPr/>
                <p:nvPr/>
              </p:nvGrpSpPr>
              <p:grpSpPr>
                <a:xfrm>
                  <a:off x="5389200" y="4429080"/>
                  <a:ext cx="403200" cy="292320"/>
                  <a:chOff x="5389200" y="4429080"/>
                  <a:chExt cx="403200" cy="292320"/>
                </a:xfrm>
              </p:grpSpPr>
              <p:sp>
                <p:nvSpPr>
                  <p:cNvPr id="3306" name=""/>
                  <p:cNvSpPr/>
                  <p:nvPr/>
                </p:nvSpPr>
                <p:spPr>
                  <a:xfrm>
                    <a:off x="5427000" y="442908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>
                    <a:off x="5389200" y="4429080"/>
                    <a:ext cx="4032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8" name=""/>
              <p:cNvGrpSpPr/>
              <p:nvPr/>
            </p:nvGrpSpPr>
            <p:grpSpPr>
              <a:xfrm>
                <a:off x="5792760" y="4429080"/>
                <a:ext cx="403560" cy="292320"/>
                <a:chOff x="5792760" y="4429080"/>
                <a:chExt cx="403560" cy="292320"/>
              </a:xfrm>
            </p:grpSpPr>
            <p:sp>
              <p:nvSpPr>
                <p:cNvPr id="3309" name=""/>
                <p:cNvSpPr/>
                <p:nvPr/>
              </p:nvSpPr>
              <p:spPr>
                <a:xfrm>
                  <a:off x="5792760" y="442908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0" name=""/>
                <p:cNvGrpSpPr/>
                <p:nvPr/>
              </p:nvGrpSpPr>
              <p:grpSpPr>
                <a:xfrm>
                  <a:off x="5792760" y="4429080"/>
                  <a:ext cx="403560" cy="292320"/>
                  <a:chOff x="5792760" y="4429080"/>
                  <a:chExt cx="403560" cy="292320"/>
                </a:xfrm>
              </p:grpSpPr>
              <p:sp>
                <p:nvSpPr>
                  <p:cNvPr id="3311" name=""/>
                  <p:cNvSpPr/>
                  <p:nvPr/>
                </p:nvSpPr>
                <p:spPr>
                  <a:xfrm>
                    <a:off x="5830920" y="442908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>
                    <a:off x="5792760" y="442908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13" name=""/>
              <p:cNvGrpSpPr/>
              <p:nvPr/>
            </p:nvGrpSpPr>
            <p:grpSpPr>
              <a:xfrm>
                <a:off x="6196680" y="4429080"/>
                <a:ext cx="403560" cy="292320"/>
                <a:chOff x="6196680" y="4429080"/>
                <a:chExt cx="403560" cy="292320"/>
              </a:xfrm>
            </p:grpSpPr>
            <p:sp>
              <p:nvSpPr>
                <p:cNvPr id="3314" name=""/>
                <p:cNvSpPr/>
                <p:nvPr/>
              </p:nvSpPr>
              <p:spPr>
                <a:xfrm>
                  <a:off x="6196680" y="4429080"/>
                  <a:ext cx="40356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5" name=""/>
                <p:cNvGrpSpPr/>
                <p:nvPr/>
              </p:nvGrpSpPr>
              <p:grpSpPr>
                <a:xfrm>
                  <a:off x="6196680" y="4429080"/>
                  <a:ext cx="403560" cy="292320"/>
                  <a:chOff x="6196680" y="4429080"/>
                  <a:chExt cx="403560" cy="292320"/>
                </a:xfrm>
              </p:grpSpPr>
              <p:sp>
                <p:nvSpPr>
                  <p:cNvPr id="3316" name=""/>
                  <p:cNvSpPr/>
                  <p:nvPr/>
                </p:nvSpPr>
                <p:spPr>
                  <a:xfrm>
                    <a:off x="6234840" y="4429080"/>
                    <a:ext cx="32688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6196680" y="4429080"/>
                    <a:ext cx="40356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18" name=""/>
              <p:cNvGrpSpPr/>
              <p:nvPr/>
            </p:nvGrpSpPr>
            <p:grpSpPr>
              <a:xfrm>
                <a:off x="6600240" y="4429080"/>
                <a:ext cx="405000" cy="292320"/>
                <a:chOff x="6600240" y="4429080"/>
                <a:chExt cx="405000" cy="292320"/>
              </a:xfrm>
            </p:grpSpPr>
            <p:sp>
              <p:nvSpPr>
                <p:cNvPr id="3319" name=""/>
                <p:cNvSpPr/>
                <p:nvPr/>
              </p:nvSpPr>
              <p:spPr>
                <a:xfrm>
                  <a:off x="6600240" y="4429080"/>
                  <a:ext cx="405000" cy="29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0" name=""/>
                <p:cNvGrpSpPr/>
                <p:nvPr/>
              </p:nvGrpSpPr>
              <p:grpSpPr>
                <a:xfrm>
                  <a:off x="6600240" y="4429080"/>
                  <a:ext cx="405000" cy="292320"/>
                  <a:chOff x="6600240" y="4429080"/>
                  <a:chExt cx="405000" cy="292320"/>
                </a:xfrm>
              </p:grpSpPr>
              <p:sp>
                <p:nvSpPr>
                  <p:cNvPr id="3321" name=""/>
                  <p:cNvSpPr/>
                  <p:nvPr/>
                </p:nvSpPr>
                <p:spPr>
                  <a:xfrm>
                    <a:off x="6638400" y="4429080"/>
                    <a:ext cx="328320" cy="29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6600240" y="4429080"/>
                    <a:ext cx="405000" cy="292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23" name=""/>
            <p:cNvSpPr/>
            <p:nvPr/>
          </p:nvSpPr>
          <p:spPr>
            <a:xfrm>
              <a:off x="2149560" y="914400"/>
              <a:ext cx="4860720" cy="3809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4" name=""/>
          <p:cNvSpPr/>
          <p:nvPr/>
        </p:nvSpPr>
        <p:spPr>
          <a:xfrm>
            <a:off x="0" y="4830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.y) m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05280" y="1143000"/>
            <a:ext cx="1215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us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74160" y="259092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211680" y="3352680"/>
            <a:ext cx="1301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66400" y="4648320"/>
            <a:ext cx="1334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r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151200" y="1905120"/>
            <a:ext cx="152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226800" y="5334120"/>
            <a:ext cx="157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1" name=""/>
          <p:cNvGrpSpPr/>
          <p:nvPr/>
        </p:nvGrpSpPr>
        <p:grpSpPr>
          <a:xfrm>
            <a:off x="838080" y="1371600"/>
            <a:ext cx="7543800" cy="5029200"/>
            <a:chOff x="838080" y="1371600"/>
            <a:chExt cx="7543800" cy="5029200"/>
          </a:xfrm>
        </p:grpSpPr>
        <p:sp>
          <p:nvSpPr>
            <p:cNvPr id="3332" name=""/>
            <p:cNvSpPr/>
            <p:nvPr/>
          </p:nvSpPr>
          <p:spPr>
            <a:xfrm>
              <a:off x="838080" y="1371600"/>
              <a:ext cx="7543800" cy="5029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275000" y="1447920"/>
              <a:ext cx="60768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*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ponenziazione e logaritmo discr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2514600" y="3657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6" name=""/>
          <p:cNvGrpSpPr/>
          <p:nvPr/>
        </p:nvGrpSpPr>
        <p:grpSpPr>
          <a:xfrm>
            <a:off x="2878200" y="2743560"/>
            <a:ext cx="3751200" cy="1831320"/>
            <a:chOff x="2878200" y="2743560"/>
            <a:chExt cx="3751200" cy="1831320"/>
          </a:xfrm>
        </p:grpSpPr>
        <p:sp>
          <p:nvSpPr>
            <p:cNvPr id="3337" name=""/>
            <p:cNvSpPr/>
            <p:nvPr/>
          </p:nvSpPr>
          <p:spPr>
            <a:xfrm>
              <a:off x="5943600" y="365760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rot="16200000">
              <a:off x="3686400" y="1935360"/>
              <a:ext cx="1831320" cy="344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72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72692"/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9" name=""/>
          <p:cNvSpPr/>
          <p:nvPr/>
        </p:nvSpPr>
        <p:spPr>
          <a:xfrm>
            <a:off x="3638880" y="230184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y = g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ac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0" name=""/>
          <p:cNvGrpSpPr/>
          <p:nvPr/>
        </p:nvGrpSpPr>
        <p:grpSpPr>
          <a:xfrm>
            <a:off x="2895120" y="3396600"/>
            <a:ext cx="3447720" cy="2219400"/>
            <a:chOff x="2895120" y="3396600"/>
            <a:chExt cx="3447720" cy="2219400"/>
          </a:xfrm>
        </p:grpSpPr>
        <p:sp>
          <p:nvSpPr>
            <p:cNvPr id="3341" name=""/>
            <p:cNvSpPr/>
            <p:nvPr/>
          </p:nvSpPr>
          <p:spPr>
            <a:xfrm flipH="1" flipV="1" rot="16200000">
              <a:off x="3702600" y="2588400"/>
              <a:ext cx="1832040" cy="344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72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72692"/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880800" y="4740120"/>
              <a:ext cx="13665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x = log</a:t>
              </a:r>
              <a:r>
                <a:rPr b="1" lang="it-IT" sz="2400" spc="-1" strike="noStrike" baseline="-25000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Times New Roman"/>
                </a:rPr>
                <a:t>diffic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3" name=""/>
          <p:cNvGrpSpPr/>
          <p:nvPr/>
        </p:nvGrpSpPr>
        <p:grpSpPr>
          <a:xfrm>
            <a:off x="3657600" y="3657600"/>
            <a:ext cx="1905120" cy="609480"/>
            <a:chOff x="3657600" y="3657600"/>
            <a:chExt cx="1905120" cy="609480"/>
          </a:xfrm>
        </p:grpSpPr>
        <p:sp>
          <p:nvSpPr>
            <p:cNvPr id="3344" name=""/>
            <p:cNvSpPr/>
            <p:nvPr/>
          </p:nvSpPr>
          <p:spPr>
            <a:xfrm>
              <a:off x="3657600" y="3657600"/>
              <a:ext cx="1905120" cy="6094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747960" y="3733920"/>
              <a:ext cx="1738440" cy="485640"/>
            </a:xfrm>
            <a:prstGeom prst="rightArrow">
              <a:avLst>
                <a:gd name="adj1" fmla="val 50000"/>
                <a:gd name="adj2" fmla="val 894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sponenziazione modul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7" name=""/>
          <p:cNvGraphicFramePr/>
          <p:nvPr/>
        </p:nvGraphicFramePr>
        <p:xfrm>
          <a:off x="1442880" y="2741760"/>
          <a:ext cx="6032520" cy="135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741760"/>
                    <a:ext cx="603252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9" name=""/>
          <p:cNvSpPr/>
          <p:nvPr/>
        </p:nvSpPr>
        <p:spPr>
          <a:xfrm>
            <a:off x="3536640" y="129528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 = b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mo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670480" y="1976400"/>
            <a:ext cx="37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 = (b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) mo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vo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793080" y="3063960"/>
            <a:ext cx="76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 = [(b mod m)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b mod m)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b mod m)] mo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vo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187520" y="4378320"/>
            <a:ext cx="102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2966040" y="56386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i più efficien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F(11): esponenzi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5" name=""/>
          <p:cNvGrpSpPr/>
          <p:nvPr/>
        </p:nvGrpSpPr>
        <p:grpSpPr>
          <a:xfrm>
            <a:off x="1940040" y="1066680"/>
            <a:ext cx="5265720" cy="3962520"/>
            <a:chOff x="1940040" y="1066680"/>
            <a:chExt cx="5265720" cy="3962520"/>
          </a:xfrm>
        </p:grpSpPr>
        <p:grpSp>
          <p:nvGrpSpPr>
            <p:cNvPr id="3356" name=""/>
            <p:cNvGrpSpPr/>
            <p:nvPr/>
          </p:nvGrpSpPr>
          <p:grpSpPr>
            <a:xfrm>
              <a:off x="1944720" y="1069200"/>
              <a:ext cx="5256360" cy="3957120"/>
              <a:chOff x="1944720" y="1069200"/>
              <a:chExt cx="5256360" cy="3957120"/>
            </a:xfrm>
          </p:grpSpPr>
          <p:grpSp>
            <p:nvGrpSpPr>
              <p:cNvPr id="3357" name=""/>
              <p:cNvGrpSpPr/>
              <p:nvPr/>
            </p:nvGrpSpPr>
            <p:grpSpPr>
              <a:xfrm>
                <a:off x="1944720" y="1069200"/>
                <a:ext cx="477720" cy="329400"/>
                <a:chOff x="1944720" y="1069200"/>
                <a:chExt cx="477720" cy="329400"/>
              </a:xfrm>
            </p:grpSpPr>
            <p:sp>
              <p:nvSpPr>
                <p:cNvPr id="3358" name=""/>
                <p:cNvSpPr/>
                <p:nvPr/>
              </p:nvSpPr>
              <p:spPr>
                <a:xfrm>
                  <a:off x="1944720" y="1069200"/>
                  <a:ext cx="477720" cy="3294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9" name=""/>
                <p:cNvGrpSpPr/>
                <p:nvPr/>
              </p:nvGrpSpPr>
              <p:grpSpPr>
                <a:xfrm>
                  <a:off x="1944720" y="1069200"/>
                  <a:ext cx="477720" cy="329400"/>
                  <a:chOff x="1944720" y="1069200"/>
                  <a:chExt cx="477720" cy="329400"/>
                </a:xfrm>
              </p:grpSpPr>
              <p:sp>
                <p:nvSpPr>
                  <p:cNvPr id="3360" name=""/>
                  <p:cNvSpPr/>
                  <p:nvPr/>
                </p:nvSpPr>
                <p:spPr>
                  <a:xfrm>
                    <a:off x="1989000" y="1069200"/>
                    <a:ext cx="389160" cy="3294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1944720" y="10692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62" name=""/>
              <p:cNvGrpSpPr/>
              <p:nvPr/>
            </p:nvGrpSpPr>
            <p:grpSpPr>
              <a:xfrm>
                <a:off x="2422440" y="1069200"/>
                <a:ext cx="4778640" cy="329400"/>
                <a:chOff x="2422440" y="1069200"/>
                <a:chExt cx="4778640" cy="329400"/>
              </a:xfrm>
            </p:grpSpPr>
            <p:sp>
              <p:nvSpPr>
                <p:cNvPr id="3363" name=""/>
                <p:cNvSpPr/>
                <p:nvPr/>
              </p:nvSpPr>
              <p:spPr>
                <a:xfrm>
                  <a:off x="2422440" y="1069200"/>
                  <a:ext cx="477864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4" name=""/>
                <p:cNvGrpSpPr/>
                <p:nvPr/>
              </p:nvGrpSpPr>
              <p:grpSpPr>
                <a:xfrm>
                  <a:off x="2422440" y="1069200"/>
                  <a:ext cx="4778640" cy="329400"/>
                  <a:chOff x="2422440" y="1069200"/>
                  <a:chExt cx="4778640" cy="329400"/>
                </a:xfrm>
              </p:grpSpPr>
              <p:sp>
                <p:nvSpPr>
                  <p:cNvPr id="3365" name=""/>
                  <p:cNvSpPr/>
                  <p:nvPr/>
                </p:nvSpPr>
                <p:spPr>
                  <a:xfrm>
                    <a:off x="2467080" y="1069200"/>
                    <a:ext cx="46893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2422440" y="1069200"/>
                    <a:ext cx="477864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67" name=""/>
              <p:cNvGrpSpPr/>
              <p:nvPr/>
            </p:nvGrpSpPr>
            <p:grpSpPr>
              <a:xfrm>
                <a:off x="1944720" y="1398600"/>
                <a:ext cx="477720" cy="329760"/>
                <a:chOff x="1944720" y="1398600"/>
                <a:chExt cx="477720" cy="329760"/>
              </a:xfrm>
            </p:grpSpPr>
            <p:sp>
              <p:nvSpPr>
                <p:cNvPr id="3368" name=""/>
                <p:cNvSpPr/>
                <p:nvPr/>
              </p:nvSpPr>
              <p:spPr>
                <a:xfrm>
                  <a:off x="1944720" y="139860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9" name=""/>
                <p:cNvGrpSpPr/>
                <p:nvPr/>
              </p:nvGrpSpPr>
              <p:grpSpPr>
                <a:xfrm>
                  <a:off x="1944720" y="1398600"/>
                  <a:ext cx="477720" cy="329760"/>
                  <a:chOff x="1944720" y="1398600"/>
                  <a:chExt cx="477720" cy="329760"/>
                </a:xfrm>
              </p:grpSpPr>
              <p:sp>
                <p:nvSpPr>
                  <p:cNvPr id="3370" name=""/>
                  <p:cNvSpPr/>
                  <p:nvPr/>
                </p:nvSpPr>
                <p:spPr>
                  <a:xfrm>
                    <a:off x="1989000" y="139860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>
                    <a:off x="1944720" y="139860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2" name=""/>
              <p:cNvGrpSpPr/>
              <p:nvPr/>
            </p:nvGrpSpPr>
            <p:grpSpPr>
              <a:xfrm>
                <a:off x="2422440" y="1398600"/>
                <a:ext cx="478080" cy="329760"/>
                <a:chOff x="2422440" y="1398600"/>
                <a:chExt cx="478080" cy="329760"/>
              </a:xfrm>
            </p:grpSpPr>
            <p:sp>
              <p:nvSpPr>
                <p:cNvPr id="3373" name=""/>
                <p:cNvSpPr/>
                <p:nvPr/>
              </p:nvSpPr>
              <p:spPr>
                <a:xfrm>
                  <a:off x="2422440" y="139860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4" name=""/>
                <p:cNvGrpSpPr/>
                <p:nvPr/>
              </p:nvGrpSpPr>
              <p:grpSpPr>
                <a:xfrm>
                  <a:off x="2422440" y="1398600"/>
                  <a:ext cx="478080" cy="329760"/>
                  <a:chOff x="2422440" y="1398600"/>
                  <a:chExt cx="478080" cy="329760"/>
                </a:xfrm>
              </p:grpSpPr>
              <p:sp>
                <p:nvSpPr>
                  <p:cNvPr id="3375" name=""/>
                  <p:cNvSpPr/>
                  <p:nvPr/>
                </p:nvSpPr>
                <p:spPr>
                  <a:xfrm>
                    <a:off x="2467080" y="139860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>
                    <a:off x="2422440" y="139860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7" name=""/>
              <p:cNvGrpSpPr/>
              <p:nvPr/>
            </p:nvGrpSpPr>
            <p:grpSpPr>
              <a:xfrm>
                <a:off x="2900520" y="1398600"/>
                <a:ext cx="477720" cy="329760"/>
                <a:chOff x="2900520" y="1398600"/>
                <a:chExt cx="477720" cy="329760"/>
              </a:xfrm>
            </p:grpSpPr>
            <p:sp>
              <p:nvSpPr>
                <p:cNvPr id="3378" name=""/>
                <p:cNvSpPr/>
                <p:nvPr/>
              </p:nvSpPr>
              <p:spPr>
                <a:xfrm>
                  <a:off x="2900520" y="139860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9" name=""/>
                <p:cNvGrpSpPr/>
                <p:nvPr/>
              </p:nvGrpSpPr>
              <p:grpSpPr>
                <a:xfrm>
                  <a:off x="2900520" y="1398600"/>
                  <a:ext cx="477720" cy="329760"/>
                  <a:chOff x="2900520" y="1398600"/>
                  <a:chExt cx="477720" cy="329760"/>
                </a:xfrm>
              </p:grpSpPr>
              <p:sp>
                <p:nvSpPr>
                  <p:cNvPr id="3380" name=""/>
                  <p:cNvSpPr/>
                  <p:nvPr/>
                </p:nvSpPr>
                <p:spPr>
                  <a:xfrm>
                    <a:off x="2944800" y="139860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2900520" y="139860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82" name=""/>
              <p:cNvGrpSpPr/>
              <p:nvPr/>
            </p:nvGrpSpPr>
            <p:grpSpPr>
              <a:xfrm>
                <a:off x="3378240" y="1398600"/>
                <a:ext cx="477720" cy="329760"/>
                <a:chOff x="3378240" y="1398600"/>
                <a:chExt cx="477720" cy="329760"/>
              </a:xfrm>
            </p:grpSpPr>
            <p:sp>
              <p:nvSpPr>
                <p:cNvPr id="3383" name=""/>
                <p:cNvSpPr/>
                <p:nvPr/>
              </p:nvSpPr>
              <p:spPr>
                <a:xfrm>
                  <a:off x="3378240" y="139860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84" name=""/>
                <p:cNvGrpSpPr/>
                <p:nvPr/>
              </p:nvGrpSpPr>
              <p:grpSpPr>
                <a:xfrm>
                  <a:off x="3378240" y="1398600"/>
                  <a:ext cx="477720" cy="329760"/>
                  <a:chOff x="3378240" y="1398600"/>
                  <a:chExt cx="477720" cy="329760"/>
                </a:xfrm>
              </p:grpSpPr>
              <p:sp>
                <p:nvSpPr>
                  <p:cNvPr id="3385" name=""/>
                  <p:cNvSpPr/>
                  <p:nvPr/>
                </p:nvSpPr>
                <p:spPr>
                  <a:xfrm>
                    <a:off x="3422520" y="139860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>
                    <a:off x="3378240" y="139860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87" name=""/>
              <p:cNvGrpSpPr/>
              <p:nvPr/>
            </p:nvGrpSpPr>
            <p:grpSpPr>
              <a:xfrm>
                <a:off x="3855960" y="1398600"/>
                <a:ext cx="478080" cy="329760"/>
                <a:chOff x="3855960" y="1398600"/>
                <a:chExt cx="478080" cy="329760"/>
              </a:xfrm>
            </p:grpSpPr>
            <p:sp>
              <p:nvSpPr>
                <p:cNvPr id="3388" name=""/>
                <p:cNvSpPr/>
                <p:nvPr/>
              </p:nvSpPr>
              <p:spPr>
                <a:xfrm>
                  <a:off x="3855960" y="139860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89" name=""/>
                <p:cNvGrpSpPr/>
                <p:nvPr/>
              </p:nvGrpSpPr>
              <p:grpSpPr>
                <a:xfrm>
                  <a:off x="3855960" y="1398600"/>
                  <a:ext cx="478080" cy="329760"/>
                  <a:chOff x="3855960" y="1398600"/>
                  <a:chExt cx="478080" cy="329760"/>
                </a:xfrm>
              </p:grpSpPr>
              <p:sp>
                <p:nvSpPr>
                  <p:cNvPr id="3390" name=""/>
                  <p:cNvSpPr/>
                  <p:nvPr/>
                </p:nvSpPr>
                <p:spPr>
                  <a:xfrm>
                    <a:off x="3900600" y="139860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>
                    <a:off x="3855960" y="139860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92" name=""/>
              <p:cNvGrpSpPr/>
              <p:nvPr/>
            </p:nvGrpSpPr>
            <p:grpSpPr>
              <a:xfrm>
                <a:off x="4334040" y="1398600"/>
                <a:ext cx="477720" cy="329760"/>
                <a:chOff x="4334040" y="1398600"/>
                <a:chExt cx="477720" cy="329760"/>
              </a:xfrm>
            </p:grpSpPr>
            <p:sp>
              <p:nvSpPr>
                <p:cNvPr id="3393" name=""/>
                <p:cNvSpPr/>
                <p:nvPr/>
              </p:nvSpPr>
              <p:spPr>
                <a:xfrm>
                  <a:off x="4334040" y="139860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4" name=""/>
                <p:cNvGrpSpPr/>
                <p:nvPr/>
              </p:nvGrpSpPr>
              <p:grpSpPr>
                <a:xfrm>
                  <a:off x="4334040" y="1398600"/>
                  <a:ext cx="477720" cy="329760"/>
                  <a:chOff x="4334040" y="1398600"/>
                  <a:chExt cx="477720" cy="329760"/>
                </a:xfrm>
              </p:grpSpPr>
              <p:sp>
                <p:nvSpPr>
                  <p:cNvPr id="3395" name=""/>
                  <p:cNvSpPr/>
                  <p:nvPr/>
                </p:nvSpPr>
                <p:spPr>
                  <a:xfrm>
                    <a:off x="4378320" y="139860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>
                    <a:off x="4334040" y="139860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97" name=""/>
              <p:cNvGrpSpPr/>
              <p:nvPr/>
            </p:nvGrpSpPr>
            <p:grpSpPr>
              <a:xfrm>
                <a:off x="4811760" y="1398600"/>
                <a:ext cx="477720" cy="329760"/>
                <a:chOff x="4811760" y="1398600"/>
                <a:chExt cx="477720" cy="329760"/>
              </a:xfrm>
            </p:grpSpPr>
            <p:sp>
              <p:nvSpPr>
                <p:cNvPr id="3398" name=""/>
                <p:cNvSpPr/>
                <p:nvPr/>
              </p:nvSpPr>
              <p:spPr>
                <a:xfrm>
                  <a:off x="4811760" y="139860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9" name=""/>
                <p:cNvGrpSpPr/>
                <p:nvPr/>
              </p:nvGrpSpPr>
              <p:grpSpPr>
                <a:xfrm>
                  <a:off x="4811760" y="1398600"/>
                  <a:ext cx="477720" cy="329760"/>
                  <a:chOff x="4811760" y="1398600"/>
                  <a:chExt cx="477720" cy="329760"/>
                </a:xfrm>
              </p:grpSpPr>
              <p:sp>
                <p:nvSpPr>
                  <p:cNvPr id="3400" name=""/>
                  <p:cNvSpPr/>
                  <p:nvPr/>
                </p:nvSpPr>
                <p:spPr>
                  <a:xfrm>
                    <a:off x="4856040" y="139860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>
                    <a:off x="4811760" y="139860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2" name=""/>
              <p:cNvGrpSpPr/>
              <p:nvPr/>
            </p:nvGrpSpPr>
            <p:grpSpPr>
              <a:xfrm>
                <a:off x="5289480" y="1398600"/>
                <a:ext cx="478080" cy="329760"/>
                <a:chOff x="5289480" y="1398600"/>
                <a:chExt cx="478080" cy="329760"/>
              </a:xfrm>
            </p:grpSpPr>
            <p:sp>
              <p:nvSpPr>
                <p:cNvPr id="3403" name=""/>
                <p:cNvSpPr/>
                <p:nvPr/>
              </p:nvSpPr>
              <p:spPr>
                <a:xfrm>
                  <a:off x="5289480" y="139860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4" name=""/>
                <p:cNvGrpSpPr/>
                <p:nvPr/>
              </p:nvGrpSpPr>
              <p:grpSpPr>
                <a:xfrm>
                  <a:off x="5289480" y="1398600"/>
                  <a:ext cx="478080" cy="329760"/>
                  <a:chOff x="5289480" y="1398600"/>
                  <a:chExt cx="478080" cy="329760"/>
                </a:xfrm>
              </p:grpSpPr>
              <p:sp>
                <p:nvSpPr>
                  <p:cNvPr id="3405" name=""/>
                  <p:cNvSpPr/>
                  <p:nvPr/>
                </p:nvSpPr>
                <p:spPr>
                  <a:xfrm>
                    <a:off x="5334120" y="139860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>
                    <a:off x="5289480" y="139860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7" name=""/>
              <p:cNvGrpSpPr/>
              <p:nvPr/>
            </p:nvGrpSpPr>
            <p:grpSpPr>
              <a:xfrm>
                <a:off x="5767560" y="1398600"/>
                <a:ext cx="477720" cy="329760"/>
                <a:chOff x="5767560" y="1398600"/>
                <a:chExt cx="477720" cy="329760"/>
              </a:xfrm>
            </p:grpSpPr>
            <p:sp>
              <p:nvSpPr>
                <p:cNvPr id="3408" name=""/>
                <p:cNvSpPr/>
                <p:nvPr/>
              </p:nvSpPr>
              <p:spPr>
                <a:xfrm>
                  <a:off x="5767560" y="139860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9" name=""/>
                <p:cNvGrpSpPr/>
                <p:nvPr/>
              </p:nvGrpSpPr>
              <p:grpSpPr>
                <a:xfrm>
                  <a:off x="5767560" y="1398600"/>
                  <a:ext cx="477720" cy="329760"/>
                  <a:chOff x="5767560" y="1398600"/>
                  <a:chExt cx="477720" cy="329760"/>
                </a:xfrm>
              </p:grpSpPr>
              <p:sp>
                <p:nvSpPr>
                  <p:cNvPr id="3410" name=""/>
                  <p:cNvSpPr/>
                  <p:nvPr/>
                </p:nvSpPr>
                <p:spPr>
                  <a:xfrm>
                    <a:off x="5811840" y="139860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5767560" y="139860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12" name=""/>
              <p:cNvGrpSpPr/>
              <p:nvPr/>
            </p:nvGrpSpPr>
            <p:grpSpPr>
              <a:xfrm>
                <a:off x="6245280" y="1398600"/>
                <a:ext cx="477720" cy="329760"/>
                <a:chOff x="6245280" y="1398600"/>
                <a:chExt cx="477720" cy="329760"/>
              </a:xfrm>
            </p:grpSpPr>
            <p:sp>
              <p:nvSpPr>
                <p:cNvPr id="3413" name=""/>
                <p:cNvSpPr/>
                <p:nvPr/>
              </p:nvSpPr>
              <p:spPr>
                <a:xfrm>
                  <a:off x="6245280" y="139860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4" name=""/>
                <p:cNvGrpSpPr/>
                <p:nvPr/>
              </p:nvGrpSpPr>
              <p:grpSpPr>
                <a:xfrm>
                  <a:off x="6245280" y="1398600"/>
                  <a:ext cx="477720" cy="329760"/>
                  <a:chOff x="6245280" y="1398600"/>
                  <a:chExt cx="477720" cy="329760"/>
                </a:xfrm>
              </p:grpSpPr>
              <p:sp>
                <p:nvSpPr>
                  <p:cNvPr id="3415" name=""/>
                  <p:cNvSpPr/>
                  <p:nvPr/>
                </p:nvSpPr>
                <p:spPr>
                  <a:xfrm>
                    <a:off x="6289560" y="139860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>
                    <a:off x="6245280" y="139860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17" name=""/>
              <p:cNvGrpSpPr/>
              <p:nvPr/>
            </p:nvGrpSpPr>
            <p:grpSpPr>
              <a:xfrm>
                <a:off x="6723000" y="1398600"/>
                <a:ext cx="478080" cy="329760"/>
                <a:chOff x="6723000" y="1398600"/>
                <a:chExt cx="478080" cy="329760"/>
              </a:xfrm>
            </p:grpSpPr>
            <p:sp>
              <p:nvSpPr>
                <p:cNvPr id="3418" name=""/>
                <p:cNvSpPr/>
                <p:nvPr/>
              </p:nvSpPr>
              <p:spPr>
                <a:xfrm>
                  <a:off x="6723000" y="139860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9" name=""/>
                <p:cNvGrpSpPr/>
                <p:nvPr/>
              </p:nvGrpSpPr>
              <p:grpSpPr>
                <a:xfrm>
                  <a:off x="6723000" y="1398600"/>
                  <a:ext cx="478080" cy="329760"/>
                  <a:chOff x="6723000" y="1398600"/>
                  <a:chExt cx="478080" cy="329760"/>
                </a:xfrm>
              </p:grpSpPr>
              <p:sp>
                <p:nvSpPr>
                  <p:cNvPr id="3420" name=""/>
                  <p:cNvSpPr/>
                  <p:nvPr/>
                </p:nvSpPr>
                <p:spPr>
                  <a:xfrm>
                    <a:off x="6767640" y="139860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>
                    <a:off x="6723000" y="139860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22" name=""/>
              <p:cNvGrpSpPr/>
              <p:nvPr/>
            </p:nvGrpSpPr>
            <p:grpSpPr>
              <a:xfrm>
                <a:off x="1944720" y="1728720"/>
                <a:ext cx="477720" cy="329400"/>
                <a:chOff x="1944720" y="1728720"/>
                <a:chExt cx="477720" cy="329400"/>
              </a:xfrm>
            </p:grpSpPr>
            <p:sp>
              <p:nvSpPr>
                <p:cNvPr id="3423" name=""/>
                <p:cNvSpPr/>
                <p:nvPr/>
              </p:nvSpPr>
              <p:spPr>
                <a:xfrm>
                  <a:off x="1944720" y="17287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4" name=""/>
                <p:cNvGrpSpPr/>
                <p:nvPr/>
              </p:nvGrpSpPr>
              <p:grpSpPr>
                <a:xfrm>
                  <a:off x="1944720" y="1728720"/>
                  <a:ext cx="477720" cy="329400"/>
                  <a:chOff x="1944720" y="1728720"/>
                  <a:chExt cx="477720" cy="329400"/>
                </a:xfrm>
              </p:grpSpPr>
              <p:sp>
                <p:nvSpPr>
                  <p:cNvPr id="3425" name=""/>
                  <p:cNvSpPr/>
                  <p:nvPr/>
                </p:nvSpPr>
                <p:spPr>
                  <a:xfrm>
                    <a:off x="1989000" y="17287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>
                    <a:off x="1944720" y="17287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27" name=""/>
              <p:cNvGrpSpPr/>
              <p:nvPr/>
            </p:nvGrpSpPr>
            <p:grpSpPr>
              <a:xfrm>
                <a:off x="2422440" y="1728720"/>
                <a:ext cx="478080" cy="329400"/>
                <a:chOff x="2422440" y="1728720"/>
                <a:chExt cx="478080" cy="329400"/>
              </a:xfrm>
            </p:grpSpPr>
            <p:sp>
              <p:nvSpPr>
                <p:cNvPr id="3428" name=""/>
                <p:cNvSpPr/>
                <p:nvPr/>
              </p:nvSpPr>
              <p:spPr>
                <a:xfrm>
                  <a:off x="2422440" y="172872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9" name=""/>
                <p:cNvGrpSpPr/>
                <p:nvPr/>
              </p:nvGrpSpPr>
              <p:grpSpPr>
                <a:xfrm>
                  <a:off x="2422440" y="1728720"/>
                  <a:ext cx="478080" cy="329400"/>
                  <a:chOff x="2422440" y="1728720"/>
                  <a:chExt cx="478080" cy="329400"/>
                </a:xfrm>
              </p:grpSpPr>
              <p:sp>
                <p:nvSpPr>
                  <p:cNvPr id="3430" name=""/>
                  <p:cNvSpPr/>
                  <p:nvPr/>
                </p:nvSpPr>
                <p:spPr>
                  <a:xfrm>
                    <a:off x="2467080" y="17287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2422440" y="172872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2" name=""/>
              <p:cNvGrpSpPr/>
              <p:nvPr/>
            </p:nvGrpSpPr>
            <p:grpSpPr>
              <a:xfrm>
                <a:off x="2900520" y="1728720"/>
                <a:ext cx="477720" cy="329400"/>
                <a:chOff x="2900520" y="1728720"/>
                <a:chExt cx="477720" cy="329400"/>
              </a:xfrm>
            </p:grpSpPr>
            <p:sp>
              <p:nvSpPr>
                <p:cNvPr id="3433" name=""/>
                <p:cNvSpPr/>
                <p:nvPr/>
              </p:nvSpPr>
              <p:spPr>
                <a:xfrm>
                  <a:off x="2900520" y="17287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4" name=""/>
                <p:cNvGrpSpPr/>
                <p:nvPr/>
              </p:nvGrpSpPr>
              <p:grpSpPr>
                <a:xfrm>
                  <a:off x="2900520" y="1728720"/>
                  <a:ext cx="477720" cy="329400"/>
                  <a:chOff x="2900520" y="1728720"/>
                  <a:chExt cx="477720" cy="329400"/>
                </a:xfrm>
              </p:grpSpPr>
              <p:sp>
                <p:nvSpPr>
                  <p:cNvPr id="3435" name=""/>
                  <p:cNvSpPr/>
                  <p:nvPr/>
                </p:nvSpPr>
                <p:spPr>
                  <a:xfrm>
                    <a:off x="2944800" y="17287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>
                    <a:off x="2900520" y="17287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7" name=""/>
              <p:cNvGrpSpPr/>
              <p:nvPr/>
            </p:nvGrpSpPr>
            <p:grpSpPr>
              <a:xfrm>
                <a:off x="3378240" y="1728720"/>
                <a:ext cx="477720" cy="329400"/>
                <a:chOff x="3378240" y="1728720"/>
                <a:chExt cx="477720" cy="329400"/>
              </a:xfrm>
            </p:grpSpPr>
            <p:sp>
              <p:nvSpPr>
                <p:cNvPr id="3438" name=""/>
                <p:cNvSpPr/>
                <p:nvPr/>
              </p:nvSpPr>
              <p:spPr>
                <a:xfrm>
                  <a:off x="3378240" y="17287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9" name=""/>
                <p:cNvGrpSpPr/>
                <p:nvPr/>
              </p:nvGrpSpPr>
              <p:grpSpPr>
                <a:xfrm>
                  <a:off x="3378240" y="1728720"/>
                  <a:ext cx="477720" cy="329400"/>
                  <a:chOff x="3378240" y="1728720"/>
                  <a:chExt cx="477720" cy="329400"/>
                </a:xfrm>
              </p:grpSpPr>
              <p:sp>
                <p:nvSpPr>
                  <p:cNvPr id="3440" name=""/>
                  <p:cNvSpPr/>
                  <p:nvPr/>
                </p:nvSpPr>
                <p:spPr>
                  <a:xfrm>
                    <a:off x="3422520" y="17287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>
                    <a:off x="3378240" y="17287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2" name=""/>
              <p:cNvGrpSpPr/>
              <p:nvPr/>
            </p:nvGrpSpPr>
            <p:grpSpPr>
              <a:xfrm>
                <a:off x="3855960" y="1728720"/>
                <a:ext cx="478080" cy="329400"/>
                <a:chOff x="3855960" y="1728720"/>
                <a:chExt cx="478080" cy="329400"/>
              </a:xfrm>
            </p:grpSpPr>
            <p:sp>
              <p:nvSpPr>
                <p:cNvPr id="3443" name=""/>
                <p:cNvSpPr/>
                <p:nvPr/>
              </p:nvSpPr>
              <p:spPr>
                <a:xfrm>
                  <a:off x="3855960" y="172872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4" name=""/>
                <p:cNvGrpSpPr/>
                <p:nvPr/>
              </p:nvGrpSpPr>
              <p:grpSpPr>
                <a:xfrm>
                  <a:off x="3855960" y="1728720"/>
                  <a:ext cx="478080" cy="329400"/>
                  <a:chOff x="3855960" y="1728720"/>
                  <a:chExt cx="478080" cy="329400"/>
                </a:xfrm>
              </p:grpSpPr>
              <p:sp>
                <p:nvSpPr>
                  <p:cNvPr id="3445" name=""/>
                  <p:cNvSpPr/>
                  <p:nvPr/>
                </p:nvSpPr>
                <p:spPr>
                  <a:xfrm>
                    <a:off x="3900600" y="17287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>
                    <a:off x="3855960" y="172872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7" name=""/>
              <p:cNvGrpSpPr/>
              <p:nvPr/>
            </p:nvGrpSpPr>
            <p:grpSpPr>
              <a:xfrm>
                <a:off x="4334040" y="1728720"/>
                <a:ext cx="477720" cy="329400"/>
                <a:chOff x="4334040" y="1728720"/>
                <a:chExt cx="477720" cy="329400"/>
              </a:xfrm>
            </p:grpSpPr>
            <p:sp>
              <p:nvSpPr>
                <p:cNvPr id="3448" name=""/>
                <p:cNvSpPr/>
                <p:nvPr/>
              </p:nvSpPr>
              <p:spPr>
                <a:xfrm>
                  <a:off x="4334040" y="17287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9" name=""/>
                <p:cNvGrpSpPr/>
                <p:nvPr/>
              </p:nvGrpSpPr>
              <p:grpSpPr>
                <a:xfrm>
                  <a:off x="4334040" y="1728720"/>
                  <a:ext cx="477720" cy="329400"/>
                  <a:chOff x="4334040" y="1728720"/>
                  <a:chExt cx="477720" cy="329400"/>
                </a:xfrm>
              </p:grpSpPr>
              <p:sp>
                <p:nvSpPr>
                  <p:cNvPr id="3450" name=""/>
                  <p:cNvSpPr/>
                  <p:nvPr/>
                </p:nvSpPr>
                <p:spPr>
                  <a:xfrm>
                    <a:off x="4378320" y="17287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>
                    <a:off x="4334040" y="17287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2" name=""/>
              <p:cNvGrpSpPr/>
              <p:nvPr/>
            </p:nvGrpSpPr>
            <p:grpSpPr>
              <a:xfrm>
                <a:off x="4811760" y="1728720"/>
                <a:ext cx="477720" cy="329400"/>
                <a:chOff x="4811760" y="1728720"/>
                <a:chExt cx="477720" cy="329400"/>
              </a:xfrm>
            </p:grpSpPr>
            <p:sp>
              <p:nvSpPr>
                <p:cNvPr id="3453" name=""/>
                <p:cNvSpPr/>
                <p:nvPr/>
              </p:nvSpPr>
              <p:spPr>
                <a:xfrm>
                  <a:off x="4811760" y="17287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4" name=""/>
                <p:cNvGrpSpPr/>
                <p:nvPr/>
              </p:nvGrpSpPr>
              <p:grpSpPr>
                <a:xfrm>
                  <a:off x="4811760" y="1728720"/>
                  <a:ext cx="477720" cy="329400"/>
                  <a:chOff x="4811760" y="1728720"/>
                  <a:chExt cx="477720" cy="329400"/>
                </a:xfrm>
              </p:grpSpPr>
              <p:sp>
                <p:nvSpPr>
                  <p:cNvPr id="3455" name=""/>
                  <p:cNvSpPr/>
                  <p:nvPr/>
                </p:nvSpPr>
                <p:spPr>
                  <a:xfrm>
                    <a:off x="4856040" y="17287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>
                    <a:off x="4811760" y="17287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7" name=""/>
              <p:cNvGrpSpPr/>
              <p:nvPr/>
            </p:nvGrpSpPr>
            <p:grpSpPr>
              <a:xfrm>
                <a:off x="5289480" y="1728720"/>
                <a:ext cx="478080" cy="329400"/>
                <a:chOff x="5289480" y="1728720"/>
                <a:chExt cx="478080" cy="329400"/>
              </a:xfrm>
            </p:grpSpPr>
            <p:sp>
              <p:nvSpPr>
                <p:cNvPr id="3458" name=""/>
                <p:cNvSpPr/>
                <p:nvPr/>
              </p:nvSpPr>
              <p:spPr>
                <a:xfrm>
                  <a:off x="5289480" y="172872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9" name=""/>
                <p:cNvGrpSpPr/>
                <p:nvPr/>
              </p:nvGrpSpPr>
              <p:grpSpPr>
                <a:xfrm>
                  <a:off x="5289480" y="1728720"/>
                  <a:ext cx="478080" cy="329400"/>
                  <a:chOff x="5289480" y="1728720"/>
                  <a:chExt cx="478080" cy="329400"/>
                </a:xfrm>
              </p:grpSpPr>
              <p:sp>
                <p:nvSpPr>
                  <p:cNvPr id="3460" name=""/>
                  <p:cNvSpPr/>
                  <p:nvPr/>
                </p:nvSpPr>
                <p:spPr>
                  <a:xfrm>
                    <a:off x="5334120" y="17287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>
                    <a:off x="5289480" y="172872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62" name=""/>
              <p:cNvGrpSpPr/>
              <p:nvPr/>
            </p:nvGrpSpPr>
            <p:grpSpPr>
              <a:xfrm>
                <a:off x="5767560" y="1728720"/>
                <a:ext cx="477720" cy="329400"/>
                <a:chOff x="5767560" y="1728720"/>
                <a:chExt cx="477720" cy="329400"/>
              </a:xfrm>
            </p:grpSpPr>
            <p:sp>
              <p:nvSpPr>
                <p:cNvPr id="3463" name=""/>
                <p:cNvSpPr/>
                <p:nvPr/>
              </p:nvSpPr>
              <p:spPr>
                <a:xfrm>
                  <a:off x="5767560" y="17287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4" name=""/>
                <p:cNvGrpSpPr/>
                <p:nvPr/>
              </p:nvGrpSpPr>
              <p:grpSpPr>
                <a:xfrm>
                  <a:off x="5767560" y="1728720"/>
                  <a:ext cx="477720" cy="329400"/>
                  <a:chOff x="5767560" y="1728720"/>
                  <a:chExt cx="477720" cy="329400"/>
                </a:xfrm>
              </p:grpSpPr>
              <p:sp>
                <p:nvSpPr>
                  <p:cNvPr id="3465" name=""/>
                  <p:cNvSpPr/>
                  <p:nvPr/>
                </p:nvSpPr>
                <p:spPr>
                  <a:xfrm>
                    <a:off x="5811840" y="17287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5767560" y="17287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67" name=""/>
              <p:cNvGrpSpPr/>
              <p:nvPr/>
            </p:nvGrpSpPr>
            <p:grpSpPr>
              <a:xfrm>
                <a:off x="6245280" y="1728720"/>
                <a:ext cx="477720" cy="329400"/>
                <a:chOff x="6245280" y="1728720"/>
                <a:chExt cx="477720" cy="329400"/>
              </a:xfrm>
            </p:grpSpPr>
            <p:sp>
              <p:nvSpPr>
                <p:cNvPr id="3468" name=""/>
                <p:cNvSpPr/>
                <p:nvPr/>
              </p:nvSpPr>
              <p:spPr>
                <a:xfrm>
                  <a:off x="6245280" y="17287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9" name=""/>
                <p:cNvGrpSpPr/>
                <p:nvPr/>
              </p:nvGrpSpPr>
              <p:grpSpPr>
                <a:xfrm>
                  <a:off x="6245280" y="1728720"/>
                  <a:ext cx="477720" cy="329400"/>
                  <a:chOff x="6245280" y="1728720"/>
                  <a:chExt cx="477720" cy="329400"/>
                </a:xfrm>
              </p:grpSpPr>
              <p:sp>
                <p:nvSpPr>
                  <p:cNvPr id="3470" name=""/>
                  <p:cNvSpPr/>
                  <p:nvPr/>
                </p:nvSpPr>
                <p:spPr>
                  <a:xfrm>
                    <a:off x="6289560" y="17287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>
                    <a:off x="6245280" y="17287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2" name=""/>
              <p:cNvGrpSpPr/>
              <p:nvPr/>
            </p:nvGrpSpPr>
            <p:grpSpPr>
              <a:xfrm>
                <a:off x="6723000" y="1728720"/>
                <a:ext cx="478080" cy="329400"/>
                <a:chOff x="6723000" y="1728720"/>
                <a:chExt cx="478080" cy="329400"/>
              </a:xfrm>
            </p:grpSpPr>
            <p:sp>
              <p:nvSpPr>
                <p:cNvPr id="3473" name=""/>
                <p:cNvSpPr/>
                <p:nvPr/>
              </p:nvSpPr>
              <p:spPr>
                <a:xfrm>
                  <a:off x="6723000" y="172872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4" name=""/>
                <p:cNvGrpSpPr/>
                <p:nvPr/>
              </p:nvGrpSpPr>
              <p:grpSpPr>
                <a:xfrm>
                  <a:off x="6723000" y="1728720"/>
                  <a:ext cx="478080" cy="329400"/>
                  <a:chOff x="6723000" y="1728720"/>
                  <a:chExt cx="478080" cy="329400"/>
                </a:xfrm>
              </p:grpSpPr>
              <p:sp>
                <p:nvSpPr>
                  <p:cNvPr id="3475" name=""/>
                  <p:cNvSpPr/>
                  <p:nvPr/>
                </p:nvSpPr>
                <p:spPr>
                  <a:xfrm>
                    <a:off x="6767640" y="17287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>
                    <a:off x="6723000" y="172872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7" name=""/>
              <p:cNvGrpSpPr/>
              <p:nvPr/>
            </p:nvGrpSpPr>
            <p:grpSpPr>
              <a:xfrm>
                <a:off x="1944720" y="2058480"/>
                <a:ext cx="477720" cy="329400"/>
                <a:chOff x="1944720" y="2058480"/>
                <a:chExt cx="477720" cy="329400"/>
              </a:xfrm>
            </p:grpSpPr>
            <p:sp>
              <p:nvSpPr>
                <p:cNvPr id="3478" name=""/>
                <p:cNvSpPr/>
                <p:nvPr/>
              </p:nvSpPr>
              <p:spPr>
                <a:xfrm>
                  <a:off x="1944720" y="205848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9" name=""/>
                <p:cNvGrpSpPr/>
                <p:nvPr/>
              </p:nvGrpSpPr>
              <p:grpSpPr>
                <a:xfrm>
                  <a:off x="1944720" y="2058480"/>
                  <a:ext cx="477720" cy="329400"/>
                  <a:chOff x="1944720" y="2058480"/>
                  <a:chExt cx="477720" cy="329400"/>
                </a:xfrm>
              </p:grpSpPr>
              <p:sp>
                <p:nvSpPr>
                  <p:cNvPr id="3480" name=""/>
                  <p:cNvSpPr/>
                  <p:nvPr/>
                </p:nvSpPr>
                <p:spPr>
                  <a:xfrm>
                    <a:off x="1989000" y="205848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>
                    <a:off x="1944720" y="205848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82" name=""/>
              <p:cNvGrpSpPr/>
              <p:nvPr/>
            </p:nvGrpSpPr>
            <p:grpSpPr>
              <a:xfrm>
                <a:off x="2422440" y="2058480"/>
                <a:ext cx="478080" cy="329400"/>
                <a:chOff x="2422440" y="2058480"/>
                <a:chExt cx="478080" cy="32940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2422440" y="205848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4" name=""/>
                <p:cNvGrpSpPr/>
                <p:nvPr/>
              </p:nvGrpSpPr>
              <p:grpSpPr>
                <a:xfrm>
                  <a:off x="2422440" y="2058480"/>
                  <a:ext cx="478080" cy="329400"/>
                  <a:chOff x="2422440" y="2058480"/>
                  <a:chExt cx="478080" cy="329400"/>
                </a:xfrm>
              </p:grpSpPr>
              <p:sp>
                <p:nvSpPr>
                  <p:cNvPr id="3485" name=""/>
                  <p:cNvSpPr/>
                  <p:nvPr/>
                </p:nvSpPr>
                <p:spPr>
                  <a:xfrm>
                    <a:off x="2467080" y="205848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>
                    <a:off x="2422440" y="205848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87" name=""/>
              <p:cNvGrpSpPr/>
              <p:nvPr/>
            </p:nvGrpSpPr>
            <p:grpSpPr>
              <a:xfrm>
                <a:off x="2900520" y="2058480"/>
                <a:ext cx="477720" cy="329400"/>
                <a:chOff x="2900520" y="2058480"/>
                <a:chExt cx="477720" cy="329400"/>
              </a:xfrm>
            </p:grpSpPr>
            <p:sp>
              <p:nvSpPr>
                <p:cNvPr id="3488" name=""/>
                <p:cNvSpPr/>
                <p:nvPr/>
              </p:nvSpPr>
              <p:spPr>
                <a:xfrm>
                  <a:off x="2900520" y="205848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9" name=""/>
                <p:cNvGrpSpPr/>
                <p:nvPr/>
              </p:nvGrpSpPr>
              <p:grpSpPr>
                <a:xfrm>
                  <a:off x="2900520" y="2058480"/>
                  <a:ext cx="477720" cy="329400"/>
                  <a:chOff x="2900520" y="2058480"/>
                  <a:chExt cx="477720" cy="329400"/>
                </a:xfrm>
              </p:grpSpPr>
              <p:sp>
                <p:nvSpPr>
                  <p:cNvPr id="3490" name=""/>
                  <p:cNvSpPr/>
                  <p:nvPr/>
                </p:nvSpPr>
                <p:spPr>
                  <a:xfrm>
                    <a:off x="2944800" y="205848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>
                    <a:off x="2900520" y="205848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92" name=""/>
              <p:cNvGrpSpPr/>
              <p:nvPr/>
            </p:nvGrpSpPr>
            <p:grpSpPr>
              <a:xfrm>
                <a:off x="3378240" y="2058480"/>
                <a:ext cx="477720" cy="329400"/>
                <a:chOff x="3378240" y="2058480"/>
                <a:chExt cx="477720" cy="329400"/>
              </a:xfrm>
            </p:grpSpPr>
            <p:sp>
              <p:nvSpPr>
                <p:cNvPr id="3493" name=""/>
                <p:cNvSpPr/>
                <p:nvPr/>
              </p:nvSpPr>
              <p:spPr>
                <a:xfrm>
                  <a:off x="3378240" y="205848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4" name=""/>
                <p:cNvGrpSpPr/>
                <p:nvPr/>
              </p:nvGrpSpPr>
              <p:grpSpPr>
                <a:xfrm>
                  <a:off x="3378240" y="2058480"/>
                  <a:ext cx="477720" cy="329400"/>
                  <a:chOff x="3378240" y="2058480"/>
                  <a:chExt cx="477720" cy="329400"/>
                </a:xfrm>
              </p:grpSpPr>
              <p:sp>
                <p:nvSpPr>
                  <p:cNvPr id="3495" name=""/>
                  <p:cNvSpPr/>
                  <p:nvPr/>
                </p:nvSpPr>
                <p:spPr>
                  <a:xfrm>
                    <a:off x="3422520" y="205848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>
                    <a:off x="3378240" y="205848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97" name=""/>
              <p:cNvGrpSpPr/>
              <p:nvPr/>
            </p:nvGrpSpPr>
            <p:grpSpPr>
              <a:xfrm>
                <a:off x="3855960" y="2058480"/>
                <a:ext cx="478080" cy="329400"/>
                <a:chOff x="3855960" y="2058480"/>
                <a:chExt cx="478080" cy="329400"/>
              </a:xfrm>
            </p:grpSpPr>
            <p:sp>
              <p:nvSpPr>
                <p:cNvPr id="3498" name=""/>
                <p:cNvSpPr/>
                <p:nvPr/>
              </p:nvSpPr>
              <p:spPr>
                <a:xfrm>
                  <a:off x="3855960" y="205848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9" name=""/>
                <p:cNvGrpSpPr/>
                <p:nvPr/>
              </p:nvGrpSpPr>
              <p:grpSpPr>
                <a:xfrm>
                  <a:off x="3855960" y="2058480"/>
                  <a:ext cx="478080" cy="329400"/>
                  <a:chOff x="3855960" y="2058480"/>
                  <a:chExt cx="478080" cy="329400"/>
                </a:xfrm>
              </p:grpSpPr>
              <p:sp>
                <p:nvSpPr>
                  <p:cNvPr id="3500" name=""/>
                  <p:cNvSpPr/>
                  <p:nvPr/>
                </p:nvSpPr>
                <p:spPr>
                  <a:xfrm>
                    <a:off x="3900600" y="205848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>
                    <a:off x="3855960" y="205848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2" name=""/>
              <p:cNvGrpSpPr/>
              <p:nvPr/>
            </p:nvGrpSpPr>
            <p:grpSpPr>
              <a:xfrm>
                <a:off x="4334040" y="2058480"/>
                <a:ext cx="477720" cy="329400"/>
                <a:chOff x="4334040" y="2058480"/>
                <a:chExt cx="477720" cy="329400"/>
              </a:xfrm>
            </p:grpSpPr>
            <p:sp>
              <p:nvSpPr>
                <p:cNvPr id="3503" name=""/>
                <p:cNvSpPr/>
                <p:nvPr/>
              </p:nvSpPr>
              <p:spPr>
                <a:xfrm>
                  <a:off x="4334040" y="205848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4" name=""/>
                <p:cNvGrpSpPr/>
                <p:nvPr/>
              </p:nvGrpSpPr>
              <p:grpSpPr>
                <a:xfrm>
                  <a:off x="4334040" y="2058480"/>
                  <a:ext cx="477720" cy="329400"/>
                  <a:chOff x="4334040" y="2058480"/>
                  <a:chExt cx="477720" cy="329400"/>
                </a:xfrm>
              </p:grpSpPr>
              <p:sp>
                <p:nvSpPr>
                  <p:cNvPr id="3505" name=""/>
                  <p:cNvSpPr/>
                  <p:nvPr/>
                </p:nvSpPr>
                <p:spPr>
                  <a:xfrm>
                    <a:off x="4378320" y="205848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>
                    <a:off x="4334040" y="205848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7" name=""/>
              <p:cNvGrpSpPr/>
              <p:nvPr/>
            </p:nvGrpSpPr>
            <p:grpSpPr>
              <a:xfrm>
                <a:off x="4811760" y="2058480"/>
                <a:ext cx="477720" cy="329400"/>
                <a:chOff x="4811760" y="2058480"/>
                <a:chExt cx="477720" cy="329400"/>
              </a:xfrm>
            </p:grpSpPr>
            <p:sp>
              <p:nvSpPr>
                <p:cNvPr id="3508" name=""/>
                <p:cNvSpPr/>
                <p:nvPr/>
              </p:nvSpPr>
              <p:spPr>
                <a:xfrm>
                  <a:off x="4811760" y="205848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9" name=""/>
                <p:cNvGrpSpPr/>
                <p:nvPr/>
              </p:nvGrpSpPr>
              <p:grpSpPr>
                <a:xfrm>
                  <a:off x="4811760" y="2058480"/>
                  <a:ext cx="477720" cy="329400"/>
                  <a:chOff x="4811760" y="2058480"/>
                  <a:chExt cx="477720" cy="329400"/>
                </a:xfrm>
              </p:grpSpPr>
              <p:sp>
                <p:nvSpPr>
                  <p:cNvPr id="3510" name=""/>
                  <p:cNvSpPr/>
                  <p:nvPr/>
                </p:nvSpPr>
                <p:spPr>
                  <a:xfrm>
                    <a:off x="4856040" y="205848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>
                    <a:off x="4811760" y="205848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2" name=""/>
              <p:cNvGrpSpPr/>
              <p:nvPr/>
            </p:nvGrpSpPr>
            <p:grpSpPr>
              <a:xfrm>
                <a:off x="5289480" y="2058480"/>
                <a:ext cx="478080" cy="329400"/>
                <a:chOff x="5289480" y="2058480"/>
                <a:chExt cx="478080" cy="329400"/>
              </a:xfrm>
            </p:grpSpPr>
            <p:sp>
              <p:nvSpPr>
                <p:cNvPr id="3513" name=""/>
                <p:cNvSpPr/>
                <p:nvPr/>
              </p:nvSpPr>
              <p:spPr>
                <a:xfrm>
                  <a:off x="5289480" y="205848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4" name=""/>
                <p:cNvGrpSpPr/>
                <p:nvPr/>
              </p:nvGrpSpPr>
              <p:grpSpPr>
                <a:xfrm>
                  <a:off x="5289480" y="2058480"/>
                  <a:ext cx="478080" cy="329400"/>
                  <a:chOff x="5289480" y="2058480"/>
                  <a:chExt cx="478080" cy="329400"/>
                </a:xfrm>
              </p:grpSpPr>
              <p:sp>
                <p:nvSpPr>
                  <p:cNvPr id="3515" name=""/>
                  <p:cNvSpPr/>
                  <p:nvPr/>
                </p:nvSpPr>
                <p:spPr>
                  <a:xfrm>
                    <a:off x="5334120" y="205848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5289480" y="205848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7" name=""/>
              <p:cNvGrpSpPr/>
              <p:nvPr/>
            </p:nvGrpSpPr>
            <p:grpSpPr>
              <a:xfrm>
                <a:off x="5767560" y="2058480"/>
                <a:ext cx="477720" cy="329400"/>
                <a:chOff x="5767560" y="2058480"/>
                <a:chExt cx="477720" cy="329400"/>
              </a:xfrm>
            </p:grpSpPr>
            <p:sp>
              <p:nvSpPr>
                <p:cNvPr id="3518" name=""/>
                <p:cNvSpPr/>
                <p:nvPr/>
              </p:nvSpPr>
              <p:spPr>
                <a:xfrm>
                  <a:off x="5767560" y="205848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9" name=""/>
                <p:cNvGrpSpPr/>
                <p:nvPr/>
              </p:nvGrpSpPr>
              <p:grpSpPr>
                <a:xfrm>
                  <a:off x="5767560" y="2058480"/>
                  <a:ext cx="477720" cy="329400"/>
                  <a:chOff x="5767560" y="2058480"/>
                  <a:chExt cx="477720" cy="329400"/>
                </a:xfrm>
              </p:grpSpPr>
              <p:sp>
                <p:nvSpPr>
                  <p:cNvPr id="3520" name=""/>
                  <p:cNvSpPr/>
                  <p:nvPr/>
                </p:nvSpPr>
                <p:spPr>
                  <a:xfrm>
                    <a:off x="5811840" y="205848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>
                    <a:off x="5767560" y="205848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22" name=""/>
              <p:cNvGrpSpPr/>
              <p:nvPr/>
            </p:nvGrpSpPr>
            <p:grpSpPr>
              <a:xfrm>
                <a:off x="6245280" y="2058480"/>
                <a:ext cx="477720" cy="329400"/>
                <a:chOff x="6245280" y="2058480"/>
                <a:chExt cx="477720" cy="329400"/>
              </a:xfrm>
            </p:grpSpPr>
            <p:sp>
              <p:nvSpPr>
                <p:cNvPr id="3523" name=""/>
                <p:cNvSpPr/>
                <p:nvPr/>
              </p:nvSpPr>
              <p:spPr>
                <a:xfrm>
                  <a:off x="6245280" y="205848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4" name=""/>
                <p:cNvGrpSpPr/>
                <p:nvPr/>
              </p:nvGrpSpPr>
              <p:grpSpPr>
                <a:xfrm>
                  <a:off x="6245280" y="2058480"/>
                  <a:ext cx="477720" cy="329400"/>
                  <a:chOff x="6245280" y="2058480"/>
                  <a:chExt cx="477720" cy="329400"/>
                </a:xfrm>
              </p:grpSpPr>
              <p:sp>
                <p:nvSpPr>
                  <p:cNvPr id="3525" name=""/>
                  <p:cNvSpPr/>
                  <p:nvPr/>
                </p:nvSpPr>
                <p:spPr>
                  <a:xfrm>
                    <a:off x="6289560" y="205848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>
                    <a:off x="6245280" y="205848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27" name=""/>
              <p:cNvGrpSpPr/>
              <p:nvPr/>
            </p:nvGrpSpPr>
            <p:grpSpPr>
              <a:xfrm>
                <a:off x="6723000" y="2058480"/>
                <a:ext cx="478080" cy="329400"/>
                <a:chOff x="6723000" y="2058480"/>
                <a:chExt cx="478080" cy="329400"/>
              </a:xfrm>
            </p:grpSpPr>
            <p:sp>
              <p:nvSpPr>
                <p:cNvPr id="3528" name=""/>
                <p:cNvSpPr/>
                <p:nvPr/>
              </p:nvSpPr>
              <p:spPr>
                <a:xfrm>
                  <a:off x="6723000" y="205848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9" name=""/>
                <p:cNvGrpSpPr/>
                <p:nvPr/>
              </p:nvGrpSpPr>
              <p:grpSpPr>
                <a:xfrm>
                  <a:off x="6723000" y="2058480"/>
                  <a:ext cx="478080" cy="329400"/>
                  <a:chOff x="6723000" y="2058480"/>
                  <a:chExt cx="478080" cy="329400"/>
                </a:xfrm>
              </p:grpSpPr>
              <p:sp>
                <p:nvSpPr>
                  <p:cNvPr id="3530" name=""/>
                  <p:cNvSpPr/>
                  <p:nvPr/>
                </p:nvSpPr>
                <p:spPr>
                  <a:xfrm>
                    <a:off x="6767640" y="205848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>
                    <a:off x="6723000" y="205848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2" name=""/>
              <p:cNvGrpSpPr/>
              <p:nvPr/>
            </p:nvGrpSpPr>
            <p:grpSpPr>
              <a:xfrm>
                <a:off x="1944720" y="2388240"/>
                <a:ext cx="477720" cy="329760"/>
                <a:chOff x="1944720" y="2388240"/>
                <a:chExt cx="477720" cy="329760"/>
              </a:xfrm>
            </p:grpSpPr>
            <p:sp>
              <p:nvSpPr>
                <p:cNvPr id="3533" name=""/>
                <p:cNvSpPr/>
                <p:nvPr/>
              </p:nvSpPr>
              <p:spPr>
                <a:xfrm>
                  <a:off x="1944720" y="238824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4" name=""/>
                <p:cNvGrpSpPr/>
                <p:nvPr/>
              </p:nvGrpSpPr>
              <p:grpSpPr>
                <a:xfrm>
                  <a:off x="1944720" y="2388240"/>
                  <a:ext cx="477720" cy="329760"/>
                  <a:chOff x="1944720" y="2388240"/>
                  <a:chExt cx="477720" cy="329760"/>
                </a:xfrm>
              </p:grpSpPr>
              <p:sp>
                <p:nvSpPr>
                  <p:cNvPr id="3535" name=""/>
                  <p:cNvSpPr/>
                  <p:nvPr/>
                </p:nvSpPr>
                <p:spPr>
                  <a:xfrm>
                    <a:off x="1989000" y="238824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1944720" y="238824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7" name=""/>
              <p:cNvGrpSpPr/>
              <p:nvPr/>
            </p:nvGrpSpPr>
            <p:grpSpPr>
              <a:xfrm>
                <a:off x="2422440" y="2388240"/>
                <a:ext cx="478080" cy="329760"/>
                <a:chOff x="2422440" y="2388240"/>
                <a:chExt cx="478080" cy="329760"/>
              </a:xfrm>
            </p:grpSpPr>
            <p:sp>
              <p:nvSpPr>
                <p:cNvPr id="3538" name=""/>
                <p:cNvSpPr/>
                <p:nvPr/>
              </p:nvSpPr>
              <p:spPr>
                <a:xfrm>
                  <a:off x="2422440" y="238824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9" name=""/>
                <p:cNvGrpSpPr/>
                <p:nvPr/>
              </p:nvGrpSpPr>
              <p:grpSpPr>
                <a:xfrm>
                  <a:off x="2422440" y="2388240"/>
                  <a:ext cx="478080" cy="329760"/>
                  <a:chOff x="2422440" y="2388240"/>
                  <a:chExt cx="478080" cy="329760"/>
                </a:xfrm>
              </p:grpSpPr>
              <p:sp>
                <p:nvSpPr>
                  <p:cNvPr id="3540" name=""/>
                  <p:cNvSpPr/>
                  <p:nvPr/>
                </p:nvSpPr>
                <p:spPr>
                  <a:xfrm>
                    <a:off x="2467080" y="238824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2422440" y="238824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2" name=""/>
              <p:cNvGrpSpPr/>
              <p:nvPr/>
            </p:nvGrpSpPr>
            <p:grpSpPr>
              <a:xfrm>
                <a:off x="2900520" y="2388240"/>
                <a:ext cx="477720" cy="329760"/>
                <a:chOff x="2900520" y="2388240"/>
                <a:chExt cx="477720" cy="329760"/>
              </a:xfrm>
            </p:grpSpPr>
            <p:sp>
              <p:nvSpPr>
                <p:cNvPr id="3543" name=""/>
                <p:cNvSpPr/>
                <p:nvPr/>
              </p:nvSpPr>
              <p:spPr>
                <a:xfrm>
                  <a:off x="2900520" y="238824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4" name=""/>
                <p:cNvGrpSpPr/>
                <p:nvPr/>
              </p:nvGrpSpPr>
              <p:grpSpPr>
                <a:xfrm>
                  <a:off x="2900520" y="2388240"/>
                  <a:ext cx="477720" cy="329760"/>
                  <a:chOff x="2900520" y="2388240"/>
                  <a:chExt cx="477720" cy="329760"/>
                </a:xfrm>
              </p:grpSpPr>
              <p:sp>
                <p:nvSpPr>
                  <p:cNvPr id="3545" name=""/>
                  <p:cNvSpPr/>
                  <p:nvPr/>
                </p:nvSpPr>
                <p:spPr>
                  <a:xfrm>
                    <a:off x="2944800" y="238824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2900520" y="238824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7" name=""/>
              <p:cNvGrpSpPr/>
              <p:nvPr/>
            </p:nvGrpSpPr>
            <p:grpSpPr>
              <a:xfrm>
                <a:off x="3378240" y="2388240"/>
                <a:ext cx="477720" cy="329760"/>
                <a:chOff x="3378240" y="2388240"/>
                <a:chExt cx="477720" cy="329760"/>
              </a:xfrm>
            </p:grpSpPr>
            <p:sp>
              <p:nvSpPr>
                <p:cNvPr id="3548" name=""/>
                <p:cNvSpPr/>
                <p:nvPr/>
              </p:nvSpPr>
              <p:spPr>
                <a:xfrm>
                  <a:off x="3378240" y="238824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9" name=""/>
                <p:cNvGrpSpPr/>
                <p:nvPr/>
              </p:nvGrpSpPr>
              <p:grpSpPr>
                <a:xfrm>
                  <a:off x="3378240" y="2388240"/>
                  <a:ext cx="477720" cy="329760"/>
                  <a:chOff x="3378240" y="2388240"/>
                  <a:chExt cx="477720" cy="329760"/>
                </a:xfrm>
              </p:grpSpPr>
              <p:sp>
                <p:nvSpPr>
                  <p:cNvPr id="3550" name=""/>
                  <p:cNvSpPr/>
                  <p:nvPr/>
                </p:nvSpPr>
                <p:spPr>
                  <a:xfrm>
                    <a:off x="3422520" y="238824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>
                    <a:off x="3378240" y="238824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2" name=""/>
              <p:cNvGrpSpPr/>
              <p:nvPr/>
            </p:nvGrpSpPr>
            <p:grpSpPr>
              <a:xfrm>
                <a:off x="3855960" y="2388240"/>
                <a:ext cx="478080" cy="329760"/>
                <a:chOff x="3855960" y="2388240"/>
                <a:chExt cx="478080" cy="329760"/>
              </a:xfrm>
            </p:grpSpPr>
            <p:sp>
              <p:nvSpPr>
                <p:cNvPr id="3553" name=""/>
                <p:cNvSpPr/>
                <p:nvPr/>
              </p:nvSpPr>
              <p:spPr>
                <a:xfrm>
                  <a:off x="3855960" y="238824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4" name=""/>
                <p:cNvGrpSpPr/>
                <p:nvPr/>
              </p:nvGrpSpPr>
              <p:grpSpPr>
                <a:xfrm>
                  <a:off x="3855960" y="2388240"/>
                  <a:ext cx="478080" cy="329760"/>
                  <a:chOff x="3855960" y="2388240"/>
                  <a:chExt cx="478080" cy="329760"/>
                </a:xfrm>
              </p:grpSpPr>
              <p:sp>
                <p:nvSpPr>
                  <p:cNvPr id="3555" name=""/>
                  <p:cNvSpPr/>
                  <p:nvPr/>
                </p:nvSpPr>
                <p:spPr>
                  <a:xfrm>
                    <a:off x="3900600" y="238824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>
                    <a:off x="3855960" y="238824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7" name=""/>
              <p:cNvGrpSpPr/>
              <p:nvPr/>
            </p:nvGrpSpPr>
            <p:grpSpPr>
              <a:xfrm>
                <a:off x="4334040" y="2388240"/>
                <a:ext cx="477720" cy="329760"/>
                <a:chOff x="4334040" y="2388240"/>
                <a:chExt cx="477720" cy="329760"/>
              </a:xfrm>
            </p:grpSpPr>
            <p:sp>
              <p:nvSpPr>
                <p:cNvPr id="3558" name=""/>
                <p:cNvSpPr/>
                <p:nvPr/>
              </p:nvSpPr>
              <p:spPr>
                <a:xfrm>
                  <a:off x="4334040" y="238824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9" name=""/>
                <p:cNvGrpSpPr/>
                <p:nvPr/>
              </p:nvGrpSpPr>
              <p:grpSpPr>
                <a:xfrm>
                  <a:off x="4334040" y="2388240"/>
                  <a:ext cx="477720" cy="329760"/>
                  <a:chOff x="4334040" y="2388240"/>
                  <a:chExt cx="477720" cy="329760"/>
                </a:xfrm>
              </p:grpSpPr>
              <p:sp>
                <p:nvSpPr>
                  <p:cNvPr id="3560" name=""/>
                  <p:cNvSpPr/>
                  <p:nvPr/>
                </p:nvSpPr>
                <p:spPr>
                  <a:xfrm>
                    <a:off x="4378320" y="238824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>
                    <a:off x="4334040" y="238824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2" name=""/>
              <p:cNvGrpSpPr/>
              <p:nvPr/>
            </p:nvGrpSpPr>
            <p:grpSpPr>
              <a:xfrm>
                <a:off x="4811760" y="2388240"/>
                <a:ext cx="477720" cy="329760"/>
                <a:chOff x="4811760" y="2388240"/>
                <a:chExt cx="477720" cy="329760"/>
              </a:xfrm>
            </p:grpSpPr>
            <p:sp>
              <p:nvSpPr>
                <p:cNvPr id="3563" name=""/>
                <p:cNvSpPr/>
                <p:nvPr/>
              </p:nvSpPr>
              <p:spPr>
                <a:xfrm>
                  <a:off x="4811760" y="238824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4" name=""/>
                <p:cNvGrpSpPr/>
                <p:nvPr/>
              </p:nvGrpSpPr>
              <p:grpSpPr>
                <a:xfrm>
                  <a:off x="4811760" y="2388240"/>
                  <a:ext cx="477720" cy="329760"/>
                  <a:chOff x="4811760" y="2388240"/>
                  <a:chExt cx="477720" cy="329760"/>
                </a:xfrm>
              </p:grpSpPr>
              <p:sp>
                <p:nvSpPr>
                  <p:cNvPr id="3565" name=""/>
                  <p:cNvSpPr/>
                  <p:nvPr/>
                </p:nvSpPr>
                <p:spPr>
                  <a:xfrm>
                    <a:off x="4856040" y="238824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>
                    <a:off x="4811760" y="238824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7" name=""/>
              <p:cNvGrpSpPr/>
              <p:nvPr/>
            </p:nvGrpSpPr>
            <p:grpSpPr>
              <a:xfrm>
                <a:off x="5289480" y="2388240"/>
                <a:ext cx="478080" cy="329760"/>
                <a:chOff x="5289480" y="2388240"/>
                <a:chExt cx="478080" cy="329760"/>
              </a:xfrm>
            </p:grpSpPr>
            <p:sp>
              <p:nvSpPr>
                <p:cNvPr id="3568" name=""/>
                <p:cNvSpPr/>
                <p:nvPr/>
              </p:nvSpPr>
              <p:spPr>
                <a:xfrm>
                  <a:off x="5289480" y="238824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9" name=""/>
                <p:cNvGrpSpPr/>
                <p:nvPr/>
              </p:nvGrpSpPr>
              <p:grpSpPr>
                <a:xfrm>
                  <a:off x="5289480" y="2388240"/>
                  <a:ext cx="478080" cy="329760"/>
                  <a:chOff x="5289480" y="2388240"/>
                  <a:chExt cx="478080" cy="329760"/>
                </a:xfrm>
              </p:grpSpPr>
              <p:sp>
                <p:nvSpPr>
                  <p:cNvPr id="3570" name=""/>
                  <p:cNvSpPr/>
                  <p:nvPr/>
                </p:nvSpPr>
                <p:spPr>
                  <a:xfrm>
                    <a:off x="5334120" y="238824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>
                    <a:off x="5289480" y="238824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72" name=""/>
              <p:cNvGrpSpPr/>
              <p:nvPr/>
            </p:nvGrpSpPr>
            <p:grpSpPr>
              <a:xfrm>
                <a:off x="5767560" y="2388240"/>
                <a:ext cx="477720" cy="329760"/>
                <a:chOff x="5767560" y="2388240"/>
                <a:chExt cx="477720" cy="329760"/>
              </a:xfrm>
            </p:grpSpPr>
            <p:sp>
              <p:nvSpPr>
                <p:cNvPr id="3573" name=""/>
                <p:cNvSpPr/>
                <p:nvPr/>
              </p:nvSpPr>
              <p:spPr>
                <a:xfrm>
                  <a:off x="5767560" y="238824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4" name=""/>
                <p:cNvGrpSpPr/>
                <p:nvPr/>
              </p:nvGrpSpPr>
              <p:grpSpPr>
                <a:xfrm>
                  <a:off x="5767560" y="2388240"/>
                  <a:ext cx="477720" cy="329760"/>
                  <a:chOff x="5767560" y="2388240"/>
                  <a:chExt cx="477720" cy="329760"/>
                </a:xfrm>
              </p:grpSpPr>
              <p:sp>
                <p:nvSpPr>
                  <p:cNvPr id="3575" name=""/>
                  <p:cNvSpPr/>
                  <p:nvPr/>
                </p:nvSpPr>
                <p:spPr>
                  <a:xfrm>
                    <a:off x="5811840" y="238824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>
                    <a:off x="5767560" y="238824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77" name=""/>
              <p:cNvGrpSpPr/>
              <p:nvPr/>
            </p:nvGrpSpPr>
            <p:grpSpPr>
              <a:xfrm>
                <a:off x="6245280" y="2388240"/>
                <a:ext cx="477720" cy="329760"/>
                <a:chOff x="6245280" y="2388240"/>
                <a:chExt cx="477720" cy="329760"/>
              </a:xfrm>
            </p:grpSpPr>
            <p:sp>
              <p:nvSpPr>
                <p:cNvPr id="3578" name=""/>
                <p:cNvSpPr/>
                <p:nvPr/>
              </p:nvSpPr>
              <p:spPr>
                <a:xfrm>
                  <a:off x="6245280" y="238824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9" name=""/>
                <p:cNvGrpSpPr/>
                <p:nvPr/>
              </p:nvGrpSpPr>
              <p:grpSpPr>
                <a:xfrm>
                  <a:off x="6245280" y="2388240"/>
                  <a:ext cx="477720" cy="329760"/>
                  <a:chOff x="6245280" y="2388240"/>
                  <a:chExt cx="477720" cy="329760"/>
                </a:xfrm>
              </p:grpSpPr>
              <p:sp>
                <p:nvSpPr>
                  <p:cNvPr id="3580" name=""/>
                  <p:cNvSpPr/>
                  <p:nvPr/>
                </p:nvSpPr>
                <p:spPr>
                  <a:xfrm>
                    <a:off x="6289560" y="238824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>
                    <a:off x="6245280" y="238824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2" name=""/>
              <p:cNvGrpSpPr/>
              <p:nvPr/>
            </p:nvGrpSpPr>
            <p:grpSpPr>
              <a:xfrm>
                <a:off x="6723000" y="2388240"/>
                <a:ext cx="478080" cy="329760"/>
                <a:chOff x="6723000" y="2388240"/>
                <a:chExt cx="478080" cy="329760"/>
              </a:xfrm>
            </p:grpSpPr>
            <p:sp>
              <p:nvSpPr>
                <p:cNvPr id="3583" name=""/>
                <p:cNvSpPr/>
                <p:nvPr/>
              </p:nvSpPr>
              <p:spPr>
                <a:xfrm>
                  <a:off x="6723000" y="238824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4" name=""/>
                <p:cNvGrpSpPr/>
                <p:nvPr/>
              </p:nvGrpSpPr>
              <p:grpSpPr>
                <a:xfrm>
                  <a:off x="6723000" y="2388240"/>
                  <a:ext cx="478080" cy="329760"/>
                  <a:chOff x="6723000" y="2388240"/>
                  <a:chExt cx="478080" cy="329760"/>
                </a:xfrm>
              </p:grpSpPr>
              <p:sp>
                <p:nvSpPr>
                  <p:cNvPr id="3585" name=""/>
                  <p:cNvSpPr/>
                  <p:nvPr/>
                </p:nvSpPr>
                <p:spPr>
                  <a:xfrm>
                    <a:off x="6767640" y="238824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>
                    <a:off x="6723000" y="238824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7" name=""/>
              <p:cNvGrpSpPr/>
              <p:nvPr/>
            </p:nvGrpSpPr>
            <p:grpSpPr>
              <a:xfrm>
                <a:off x="1944720" y="2718000"/>
                <a:ext cx="477720" cy="329400"/>
                <a:chOff x="1944720" y="2718000"/>
                <a:chExt cx="477720" cy="329400"/>
              </a:xfrm>
            </p:grpSpPr>
            <p:sp>
              <p:nvSpPr>
                <p:cNvPr id="3588" name=""/>
                <p:cNvSpPr/>
                <p:nvPr/>
              </p:nvSpPr>
              <p:spPr>
                <a:xfrm>
                  <a:off x="1944720" y="27180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9" name=""/>
                <p:cNvGrpSpPr/>
                <p:nvPr/>
              </p:nvGrpSpPr>
              <p:grpSpPr>
                <a:xfrm>
                  <a:off x="1944720" y="2718000"/>
                  <a:ext cx="477720" cy="329400"/>
                  <a:chOff x="1944720" y="2718000"/>
                  <a:chExt cx="477720" cy="329400"/>
                </a:xfrm>
              </p:grpSpPr>
              <p:sp>
                <p:nvSpPr>
                  <p:cNvPr id="3590" name=""/>
                  <p:cNvSpPr/>
                  <p:nvPr/>
                </p:nvSpPr>
                <p:spPr>
                  <a:xfrm>
                    <a:off x="1989000" y="27180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1" name=""/>
                  <p:cNvSpPr/>
                  <p:nvPr/>
                </p:nvSpPr>
                <p:spPr>
                  <a:xfrm>
                    <a:off x="1944720" y="27180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2" name=""/>
              <p:cNvGrpSpPr/>
              <p:nvPr/>
            </p:nvGrpSpPr>
            <p:grpSpPr>
              <a:xfrm>
                <a:off x="2422440" y="2718000"/>
                <a:ext cx="478080" cy="329400"/>
                <a:chOff x="2422440" y="2718000"/>
                <a:chExt cx="478080" cy="329400"/>
              </a:xfrm>
            </p:grpSpPr>
            <p:sp>
              <p:nvSpPr>
                <p:cNvPr id="3593" name=""/>
                <p:cNvSpPr/>
                <p:nvPr/>
              </p:nvSpPr>
              <p:spPr>
                <a:xfrm>
                  <a:off x="2422440" y="271800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4" name=""/>
                <p:cNvGrpSpPr/>
                <p:nvPr/>
              </p:nvGrpSpPr>
              <p:grpSpPr>
                <a:xfrm>
                  <a:off x="2422440" y="2718000"/>
                  <a:ext cx="478080" cy="329400"/>
                  <a:chOff x="2422440" y="2718000"/>
                  <a:chExt cx="478080" cy="329400"/>
                </a:xfrm>
              </p:grpSpPr>
              <p:sp>
                <p:nvSpPr>
                  <p:cNvPr id="3595" name=""/>
                  <p:cNvSpPr/>
                  <p:nvPr/>
                </p:nvSpPr>
                <p:spPr>
                  <a:xfrm>
                    <a:off x="2467080" y="27180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>
                    <a:off x="2422440" y="271800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7" name=""/>
              <p:cNvGrpSpPr/>
              <p:nvPr/>
            </p:nvGrpSpPr>
            <p:grpSpPr>
              <a:xfrm>
                <a:off x="2900520" y="2718000"/>
                <a:ext cx="477720" cy="329400"/>
                <a:chOff x="2900520" y="2718000"/>
                <a:chExt cx="477720" cy="329400"/>
              </a:xfrm>
            </p:grpSpPr>
            <p:sp>
              <p:nvSpPr>
                <p:cNvPr id="3598" name=""/>
                <p:cNvSpPr/>
                <p:nvPr/>
              </p:nvSpPr>
              <p:spPr>
                <a:xfrm>
                  <a:off x="2900520" y="27180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9" name=""/>
                <p:cNvGrpSpPr/>
                <p:nvPr/>
              </p:nvGrpSpPr>
              <p:grpSpPr>
                <a:xfrm>
                  <a:off x="2900520" y="2718000"/>
                  <a:ext cx="477720" cy="329400"/>
                  <a:chOff x="2900520" y="2718000"/>
                  <a:chExt cx="477720" cy="329400"/>
                </a:xfrm>
              </p:grpSpPr>
              <p:sp>
                <p:nvSpPr>
                  <p:cNvPr id="3600" name=""/>
                  <p:cNvSpPr/>
                  <p:nvPr/>
                </p:nvSpPr>
                <p:spPr>
                  <a:xfrm>
                    <a:off x="2944800" y="27180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2900520" y="27180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02" name=""/>
              <p:cNvGrpSpPr/>
              <p:nvPr/>
            </p:nvGrpSpPr>
            <p:grpSpPr>
              <a:xfrm>
                <a:off x="3378240" y="2718000"/>
                <a:ext cx="477720" cy="329400"/>
                <a:chOff x="3378240" y="2718000"/>
                <a:chExt cx="477720" cy="329400"/>
              </a:xfrm>
            </p:grpSpPr>
            <p:sp>
              <p:nvSpPr>
                <p:cNvPr id="3603" name=""/>
                <p:cNvSpPr/>
                <p:nvPr/>
              </p:nvSpPr>
              <p:spPr>
                <a:xfrm>
                  <a:off x="3378240" y="27180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4" name=""/>
                <p:cNvGrpSpPr/>
                <p:nvPr/>
              </p:nvGrpSpPr>
              <p:grpSpPr>
                <a:xfrm>
                  <a:off x="3378240" y="2718000"/>
                  <a:ext cx="477720" cy="329400"/>
                  <a:chOff x="3378240" y="2718000"/>
                  <a:chExt cx="477720" cy="329400"/>
                </a:xfrm>
              </p:grpSpPr>
              <p:sp>
                <p:nvSpPr>
                  <p:cNvPr id="3605" name=""/>
                  <p:cNvSpPr/>
                  <p:nvPr/>
                </p:nvSpPr>
                <p:spPr>
                  <a:xfrm>
                    <a:off x="3422520" y="27180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>
                    <a:off x="3378240" y="27180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07" name=""/>
              <p:cNvGrpSpPr/>
              <p:nvPr/>
            </p:nvGrpSpPr>
            <p:grpSpPr>
              <a:xfrm>
                <a:off x="3855960" y="2718000"/>
                <a:ext cx="478080" cy="329400"/>
                <a:chOff x="3855960" y="2718000"/>
                <a:chExt cx="478080" cy="329400"/>
              </a:xfrm>
            </p:grpSpPr>
            <p:sp>
              <p:nvSpPr>
                <p:cNvPr id="3608" name=""/>
                <p:cNvSpPr/>
                <p:nvPr/>
              </p:nvSpPr>
              <p:spPr>
                <a:xfrm>
                  <a:off x="3855960" y="271800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9" name=""/>
                <p:cNvGrpSpPr/>
                <p:nvPr/>
              </p:nvGrpSpPr>
              <p:grpSpPr>
                <a:xfrm>
                  <a:off x="3855960" y="2718000"/>
                  <a:ext cx="478080" cy="329400"/>
                  <a:chOff x="3855960" y="2718000"/>
                  <a:chExt cx="478080" cy="329400"/>
                </a:xfrm>
              </p:grpSpPr>
              <p:sp>
                <p:nvSpPr>
                  <p:cNvPr id="3610" name=""/>
                  <p:cNvSpPr/>
                  <p:nvPr/>
                </p:nvSpPr>
                <p:spPr>
                  <a:xfrm>
                    <a:off x="3900600" y="27180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3855960" y="271800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2" name=""/>
              <p:cNvGrpSpPr/>
              <p:nvPr/>
            </p:nvGrpSpPr>
            <p:grpSpPr>
              <a:xfrm>
                <a:off x="4334040" y="2718000"/>
                <a:ext cx="477720" cy="329400"/>
                <a:chOff x="4334040" y="2718000"/>
                <a:chExt cx="477720" cy="329400"/>
              </a:xfrm>
            </p:grpSpPr>
            <p:sp>
              <p:nvSpPr>
                <p:cNvPr id="3613" name=""/>
                <p:cNvSpPr/>
                <p:nvPr/>
              </p:nvSpPr>
              <p:spPr>
                <a:xfrm>
                  <a:off x="4334040" y="27180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4" name=""/>
                <p:cNvGrpSpPr/>
                <p:nvPr/>
              </p:nvGrpSpPr>
              <p:grpSpPr>
                <a:xfrm>
                  <a:off x="4334040" y="2718000"/>
                  <a:ext cx="477720" cy="329400"/>
                  <a:chOff x="4334040" y="2718000"/>
                  <a:chExt cx="477720" cy="329400"/>
                </a:xfrm>
              </p:grpSpPr>
              <p:sp>
                <p:nvSpPr>
                  <p:cNvPr id="3615" name=""/>
                  <p:cNvSpPr/>
                  <p:nvPr/>
                </p:nvSpPr>
                <p:spPr>
                  <a:xfrm>
                    <a:off x="4378320" y="27180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4334040" y="27180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7" name=""/>
              <p:cNvGrpSpPr/>
              <p:nvPr/>
            </p:nvGrpSpPr>
            <p:grpSpPr>
              <a:xfrm>
                <a:off x="4811760" y="2718000"/>
                <a:ext cx="477720" cy="329400"/>
                <a:chOff x="4811760" y="2718000"/>
                <a:chExt cx="477720" cy="329400"/>
              </a:xfrm>
            </p:grpSpPr>
            <p:sp>
              <p:nvSpPr>
                <p:cNvPr id="3618" name=""/>
                <p:cNvSpPr/>
                <p:nvPr/>
              </p:nvSpPr>
              <p:spPr>
                <a:xfrm>
                  <a:off x="4811760" y="27180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9" name=""/>
                <p:cNvGrpSpPr/>
                <p:nvPr/>
              </p:nvGrpSpPr>
              <p:grpSpPr>
                <a:xfrm>
                  <a:off x="4811760" y="2718000"/>
                  <a:ext cx="477720" cy="329400"/>
                  <a:chOff x="4811760" y="2718000"/>
                  <a:chExt cx="477720" cy="329400"/>
                </a:xfrm>
              </p:grpSpPr>
              <p:sp>
                <p:nvSpPr>
                  <p:cNvPr id="3620" name=""/>
                  <p:cNvSpPr/>
                  <p:nvPr/>
                </p:nvSpPr>
                <p:spPr>
                  <a:xfrm>
                    <a:off x="4856040" y="27180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>
                    <a:off x="4811760" y="27180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22" name=""/>
              <p:cNvGrpSpPr/>
              <p:nvPr/>
            </p:nvGrpSpPr>
            <p:grpSpPr>
              <a:xfrm>
                <a:off x="5289480" y="2718000"/>
                <a:ext cx="478080" cy="329400"/>
                <a:chOff x="5289480" y="2718000"/>
                <a:chExt cx="478080" cy="329400"/>
              </a:xfrm>
            </p:grpSpPr>
            <p:sp>
              <p:nvSpPr>
                <p:cNvPr id="3623" name=""/>
                <p:cNvSpPr/>
                <p:nvPr/>
              </p:nvSpPr>
              <p:spPr>
                <a:xfrm>
                  <a:off x="5289480" y="271800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4" name=""/>
                <p:cNvGrpSpPr/>
                <p:nvPr/>
              </p:nvGrpSpPr>
              <p:grpSpPr>
                <a:xfrm>
                  <a:off x="5289480" y="2718000"/>
                  <a:ext cx="478080" cy="329400"/>
                  <a:chOff x="5289480" y="2718000"/>
                  <a:chExt cx="478080" cy="329400"/>
                </a:xfrm>
              </p:grpSpPr>
              <p:sp>
                <p:nvSpPr>
                  <p:cNvPr id="3625" name=""/>
                  <p:cNvSpPr/>
                  <p:nvPr/>
                </p:nvSpPr>
                <p:spPr>
                  <a:xfrm>
                    <a:off x="5334120" y="27180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6" name=""/>
                  <p:cNvSpPr/>
                  <p:nvPr/>
                </p:nvSpPr>
                <p:spPr>
                  <a:xfrm>
                    <a:off x="5289480" y="271800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27" name=""/>
              <p:cNvGrpSpPr/>
              <p:nvPr/>
            </p:nvGrpSpPr>
            <p:grpSpPr>
              <a:xfrm>
                <a:off x="5767560" y="2718000"/>
                <a:ext cx="477720" cy="329400"/>
                <a:chOff x="5767560" y="2718000"/>
                <a:chExt cx="477720" cy="329400"/>
              </a:xfrm>
            </p:grpSpPr>
            <p:sp>
              <p:nvSpPr>
                <p:cNvPr id="3628" name=""/>
                <p:cNvSpPr/>
                <p:nvPr/>
              </p:nvSpPr>
              <p:spPr>
                <a:xfrm>
                  <a:off x="5767560" y="27180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9" name=""/>
                <p:cNvGrpSpPr/>
                <p:nvPr/>
              </p:nvGrpSpPr>
              <p:grpSpPr>
                <a:xfrm>
                  <a:off x="5767560" y="2718000"/>
                  <a:ext cx="477720" cy="329400"/>
                  <a:chOff x="5767560" y="2718000"/>
                  <a:chExt cx="477720" cy="329400"/>
                </a:xfrm>
              </p:grpSpPr>
              <p:sp>
                <p:nvSpPr>
                  <p:cNvPr id="3630" name=""/>
                  <p:cNvSpPr/>
                  <p:nvPr/>
                </p:nvSpPr>
                <p:spPr>
                  <a:xfrm>
                    <a:off x="5811840" y="27180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1" name=""/>
                  <p:cNvSpPr/>
                  <p:nvPr/>
                </p:nvSpPr>
                <p:spPr>
                  <a:xfrm>
                    <a:off x="5767560" y="27180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2" name=""/>
              <p:cNvGrpSpPr/>
              <p:nvPr/>
            </p:nvGrpSpPr>
            <p:grpSpPr>
              <a:xfrm>
                <a:off x="6245280" y="2718000"/>
                <a:ext cx="477720" cy="329400"/>
                <a:chOff x="6245280" y="2718000"/>
                <a:chExt cx="477720" cy="329400"/>
              </a:xfrm>
            </p:grpSpPr>
            <p:sp>
              <p:nvSpPr>
                <p:cNvPr id="3633" name=""/>
                <p:cNvSpPr/>
                <p:nvPr/>
              </p:nvSpPr>
              <p:spPr>
                <a:xfrm>
                  <a:off x="6245280" y="27180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4" name=""/>
                <p:cNvGrpSpPr/>
                <p:nvPr/>
              </p:nvGrpSpPr>
              <p:grpSpPr>
                <a:xfrm>
                  <a:off x="6245280" y="2718000"/>
                  <a:ext cx="477720" cy="329400"/>
                  <a:chOff x="6245280" y="2718000"/>
                  <a:chExt cx="477720" cy="329400"/>
                </a:xfrm>
              </p:grpSpPr>
              <p:sp>
                <p:nvSpPr>
                  <p:cNvPr id="3635" name=""/>
                  <p:cNvSpPr/>
                  <p:nvPr/>
                </p:nvSpPr>
                <p:spPr>
                  <a:xfrm>
                    <a:off x="6289560" y="27180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>
                    <a:off x="6245280" y="27180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7" name=""/>
              <p:cNvGrpSpPr/>
              <p:nvPr/>
            </p:nvGrpSpPr>
            <p:grpSpPr>
              <a:xfrm>
                <a:off x="6723000" y="2718000"/>
                <a:ext cx="478080" cy="329400"/>
                <a:chOff x="6723000" y="2718000"/>
                <a:chExt cx="478080" cy="329400"/>
              </a:xfrm>
            </p:grpSpPr>
            <p:sp>
              <p:nvSpPr>
                <p:cNvPr id="3638" name=""/>
                <p:cNvSpPr/>
                <p:nvPr/>
              </p:nvSpPr>
              <p:spPr>
                <a:xfrm>
                  <a:off x="6723000" y="271800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9" name=""/>
                <p:cNvGrpSpPr/>
                <p:nvPr/>
              </p:nvGrpSpPr>
              <p:grpSpPr>
                <a:xfrm>
                  <a:off x="6723000" y="2718000"/>
                  <a:ext cx="478080" cy="329400"/>
                  <a:chOff x="6723000" y="2718000"/>
                  <a:chExt cx="478080" cy="329400"/>
                </a:xfrm>
              </p:grpSpPr>
              <p:sp>
                <p:nvSpPr>
                  <p:cNvPr id="3640" name=""/>
                  <p:cNvSpPr/>
                  <p:nvPr/>
                </p:nvSpPr>
                <p:spPr>
                  <a:xfrm>
                    <a:off x="6767640" y="27180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6723000" y="271800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42" name=""/>
              <p:cNvGrpSpPr/>
              <p:nvPr/>
            </p:nvGrpSpPr>
            <p:grpSpPr>
              <a:xfrm>
                <a:off x="1944720" y="3047760"/>
                <a:ext cx="477720" cy="329400"/>
                <a:chOff x="1944720" y="3047760"/>
                <a:chExt cx="477720" cy="329400"/>
              </a:xfrm>
            </p:grpSpPr>
            <p:sp>
              <p:nvSpPr>
                <p:cNvPr id="3643" name=""/>
                <p:cNvSpPr/>
                <p:nvPr/>
              </p:nvSpPr>
              <p:spPr>
                <a:xfrm>
                  <a:off x="1944720" y="304776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4" name=""/>
                <p:cNvGrpSpPr/>
                <p:nvPr/>
              </p:nvGrpSpPr>
              <p:grpSpPr>
                <a:xfrm>
                  <a:off x="1944720" y="3047760"/>
                  <a:ext cx="477720" cy="329400"/>
                  <a:chOff x="1944720" y="3047760"/>
                  <a:chExt cx="477720" cy="329400"/>
                </a:xfrm>
              </p:grpSpPr>
              <p:sp>
                <p:nvSpPr>
                  <p:cNvPr id="3645" name=""/>
                  <p:cNvSpPr/>
                  <p:nvPr/>
                </p:nvSpPr>
                <p:spPr>
                  <a:xfrm>
                    <a:off x="1989000" y="304776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>
                    <a:off x="1944720" y="304776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47" name=""/>
              <p:cNvGrpSpPr/>
              <p:nvPr/>
            </p:nvGrpSpPr>
            <p:grpSpPr>
              <a:xfrm>
                <a:off x="2422440" y="3047760"/>
                <a:ext cx="478080" cy="329400"/>
                <a:chOff x="2422440" y="3047760"/>
                <a:chExt cx="478080" cy="329400"/>
              </a:xfrm>
            </p:grpSpPr>
            <p:sp>
              <p:nvSpPr>
                <p:cNvPr id="3648" name=""/>
                <p:cNvSpPr/>
                <p:nvPr/>
              </p:nvSpPr>
              <p:spPr>
                <a:xfrm>
                  <a:off x="2422440" y="304776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9" name=""/>
                <p:cNvGrpSpPr/>
                <p:nvPr/>
              </p:nvGrpSpPr>
              <p:grpSpPr>
                <a:xfrm>
                  <a:off x="2422440" y="3047760"/>
                  <a:ext cx="478080" cy="329400"/>
                  <a:chOff x="2422440" y="3047760"/>
                  <a:chExt cx="478080" cy="329400"/>
                </a:xfrm>
              </p:grpSpPr>
              <p:sp>
                <p:nvSpPr>
                  <p:cNvPr id="3650" name=""/>
                  <p:cNvSpPr/>
                  <p:nvPr/>
                </p:nvSpPr>
                <p:spPr>
                  <a:xfrm>
                    <a:off x="2467080" y="304776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2422440" y="304776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2" name=""/>
              <p:cNvGrpSpPr/>
              <p:nvPr/>
            </p:nvGrpSpPr>
            <p:grpSpPr>
              <a:xfrm>
                <a:off x="2900520" y="3047760"/>
                <a:ext cx="477720" cy="329400"/>
                <a:chOff x="2900520" y="3047760"/>
                <a:chExt cx="477720" cy="329400"/>
              </a:xfrm>
            </p:grpSpPr>
            <p:sp>
              <p:nvSpPr>
                <p:cNvPr id="3653" name=""/>
                <p:cNvSpPr/>
                <p:nvPr/>
              </p:nvSpPr>
              <p:spPr>
                <a:xfrm>
                  <a:off x="2900520" y="304776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4" name=""/>
                <p:cNvGrpSpPr/>
                <p:nvPr/>
              </p:nvGrpSpPr>
              <p:grpSpPr>
                <a:xfrm>
                  <a:off x="2900520" y="3047760"/>
                  <a:ext cx="477720" cy="329400"/>
                  <a:chOff x="2900520" y="3047760"/>
                  <a:chExt cx="477720" cy="329400"/>
                </a:xfrm>
              </p:grpSpPr>
              <p:sp>
                <p:nvSpPr>
                  <p:cNvPr id="3655" name=""/>
                  <p:cNvSpPr/>
                  <p:nvPr/>
                </p:nvSpPr>
                <p:spPr>
                  <a:xfrm>
                    <a:off x="2944800" y="304776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6" name=""/>
                  <p:cNvSpPr/>
                  <p:nvPr/>
                </p:nvSpPr>
                <p:spPr>
                  <a:xfrm>
                    <a:off x="2900520" y="304776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7" name=""/>
              <p:cNvGrpSpPr/>
              <p:nvPr/>
            </p:nvGrpSpPr>
            <p:grpSpPr>
              <a:xfrm>
                <a:off x="3378240" y="3047760"/>
                <a:ext cx="477720" cy="329400"/>
                <a:chOff x="3378240" y="3047760"/>
                <a:chExt cx="477720" cy="329400"/>
              </a:xfrm>
            </p:grpSpPr>
            <p:sp>
              <p:nvSpPr>
                <p:cNvPr id="3658" name=""/>
                <p:cNvSpPr/>
                <p:nvPr/>
              </p:nvSpPr>
              <p:spPr>
                <a:xfrm>
                  <a:off x="3378240" y="304776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9" name=""/>
                <p:cNvGrpSpPr/>
                <p:nvPr/>
              </p:nvGrpSpPr>
              <p:grpSpPr>
                <a:xfrm>
                  <a:off x="3378240" y="3047760"/>
                  <a:ext cx="477720" cy="329400"/>
                  <a:chOff x="3378240" y="3047760"/>
                  <a:chExt cx="477720" cy="329400"/>
                </a:xfrm>
              </p:grpSpPr>
              <p:sp>
                <p:nvSpPr>
                  <p:cNvPr id="3660" name=""/>
                  <p:cNvSpPr/>
                  <p:nvPr/>
                </p:nvSpPr>
                <p:spPr>
                  <a:xfrm>
                    <a:off x="3422520" y="304776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1" name=""/>
                  <p:cNvSpPr/>
                  <p:nvPr/>
                </p:nvSpPr>
                <p:spPr>
                  <a:xfrm>
                    <a:off x="3378240" y="304776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62" name=""/>
              <p:cNvGrpSpPr/>
              <p:nvPr/>
            </p:nvGrpSpPr>
            <p:grpSpPr>
              <a:xfrm>
                <a:off x="3855960" y="3047760"/>
                <a:ext cx="478080" cy="329400"/>
                <a:chOff x="3855960" y="3047760"/>
                <a:chExt cx="478080" cy="329400"/>
              </a:xfrm>
            </p:grpSpPr>
            <p:sp>
              <p:nvSpPr>
                <p:cNvPr id="3663" name=""/>
                <p:cNvSpPr/>
                <p:nvPr/>
              </p:nvSpPr>
              <p:spPr>
                <a:xfrm>
                  <a:off x="3855960" y="304776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4" name=""/>
                <p:cNvGrpSpPr/>
                <p:nvPr/>
              </p:nvGrpSpPr>
              <p:grpSpPr>
                <a:xfrm>
                  <a:off x="3855960" y="3047760"/>
                  <a:ext cx="478080" cy="329400"/>
                  <a:chOff x="3855960" y="3047760"/>
                  <a:chExt cx="478080" cy="329400"/>
                </a:xfrm>
              </p:grpSpPr>
              <p:sp>
                <p:nvSpPr>
                  <p:cNvPr id="3665" name=""/>
                  <p:cNvSpPr/>
                  <p:nvPr/>
                </p:nvSpPr>
                <p:spPr>
                  <a:xfrm>
                    <a:off x="3900600" y="304776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>
                    <a:off x="3855960" y="304776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67" name=""/>
              <p:cNvGrpSpPr/>
              <p:nvPr/>
            </p:nvGrpSpPr>
            <p:grpSpPr>
              <a:xfrm>
                <a:off x="4334040" y="3047760"/>
                <a:ext cx="477720" cy="329400"/>
                <a:chOff x="4334040" y="3047760"/>
                <a:chExt cx="477720" cy="329400"/>
              </a:xfrm>
            </p:grpSpPr>
            <p:sp>
              <p:nvSpPr>
                <p:cNvPr id="3668" name=""/>
                <p:cNvSpPr/>
                <p:nvPr/>
              </p:nvSpPr>
              <p:spPr>
                <a:xfrm>
                  <a:off x="4334040" y="304776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9" name=""/>
                <p:cNvGrpSpPr/>
                <p:nvPr/>
              </p:nvGrpSpPr>
              <p:grpSpPr>
                <a:xfrm>
                  <a:off x="4334040" y="3047760"/>
                  <a:ext cx="477720" cy="329400"/>
                  <a:chOff x="4334040" y="3047760"/>
                  <a:chExt cx="477720" cy="329400"/>
                </a:xfrm>
              </p:grpSpPr>
              <p:sp>
                <p:nvSpPr>
                  <p:cNvPr id="3670" name=""/>
                  <p:cNvSpPr/>
                  <p:nvPr/>
                </p:nvSpPr>
                <p:spPr>
                  <a:xfrm>
                    <a:off x="4378320" y="304776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>
                    <a:off x="4334040" y="304776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72" name=""/>
              <p:cNvGrpSpPr/>
              <p:nvPr/>
            </p:nvGrpSpPr>
            <p:grpSpPr>
              <a:xfrm>
                <a:off x="4811760" y="3047760"/>
                <a:ext cx="477720" cy="329400"/>
                <a:chOff x="4811760" y="3047760"/>
                <a:chExt cx="477720" cy="32940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4811760" y="304776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4" name=""/>
                <p:cNvGrpSpPr/>
                <p:nvPr/>
              </p:nvGrpSpPr>
              <p:grpSpPr>
                <a:xfrm>
                  <a:off x="4811760" y="3047760"/>
                  <a:ext cx="477720" cy="329400"/>
                  <a:chOff x="4811760" y="3047760"/>
                  <a:chExt cx="477720" cy="329400"/>
                </a:xfrm>
              </p:grpSpPr>
              <p:sp>
                <p:nvSpPr>
                  <p:cNvPr id="3675" name=""/>
                  <p:cNvSpPr/>
                  <p:nvPr/>
                </p:nvSpPr>
                <p:spPr>
                  <a:xfrm>
                    <a:off x="4856040" y="304776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>
                    <a:off x="4811760" y="304776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77" name=""/>
              <p:cNvGrpSpPr/>
              <p:nvPr/>
            </p:nvGrpSpPr>
            <p:grpSpPr>
              <a:xfrm>
                <a:off x="5289480" y="3047760"/>
                <a:ext cx="478080" cy="329400"/>
                <a:chOff x="5289480" y="3047760"/>
                <a:chExt cx="478080" cy="32940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5289480" y="304776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9" name=""/>
                <p:cNvGrpSpPr/>
                <p:nvPr/>
              </p:nvGrpSpPr>
              <p:grpSpPr>
                <a:xfrm>
                  <a:off x="5289480" y="3047760"/>
                  <a:ext cx="478080" cy="329400"/>
                  <a:chOff x="5289480" y="3047760"/>
                  <a:chExt cx="478080" cy="329400"/>
                </a:xfrm>
              </p:grpSpPr>
              <p:sp>
                <p:nvSpPr>
                  <p:cNvPr id="3680" name=""/>
                  <p:cNvSpPr/>
                  <p:nvPr/>
                </p:nvSpPr>
                <p:spPr>
                  <a:xfrm>
                    <a:off x="5334120" y="304776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>
                    <a:off x="5289480" y="304776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82" name=""/>
              <p:cNvGrpSpPr/>
              <p:nvPr/>
            </p:nvGrpSpPr>
            <p:grpSpPr>
              <a:xfrm>
                <a:off x="5767560" y="3047760"/>
                <a:ext cx="477720" cy="329400"/>
                <a:chOff x="5767560" y="3047760"/>
                <a:chExt cx="477720" cy="329400"/>
              </a:xfrm>
            </p:grpSpPr>
            <p:sp>
              <p:nvSpPr>
                <p:cNvPr id="3683" name=""/>
                <p:cNvSpPr/>
                <p:nvPr/>
              </p:nvSpPr>
              <p:spPr>
                <a:xfrm>
                  <a:off x="5767560" y="304776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4" name=""/>
                <p:cNvGrpSpPr/>
                <p:nvPr/>
              </p:nvGrpSpPr>
              <p:grpSpPr>
                <a:xfrm>
                  <a:off x="5767560" y="3047760"/>
                  <a:ext cx="477720" cy="329400"/>
                  <a:chOff x="5767560" y="3047760"/>
                  <a:chExt cx="477720" cy="329400"/>
                </a:xfrm>
              </p:grpSpPr>
              <p:sp>
                <p:nvSpPr>
                  <p:cNvPr id="3685" name=""/>
                  <p:cNvSpPr/>
                  <p:nvPr/>
                </p:nvSpPr>
                <p:spPr>
                  <a:xfrm>
                    <a:off x="5811840" y="304776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>
                    <a:off x="5767560" y="304776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87" name=""/>
              <p:cNvGrpSpPr/>
              <p:nvPr/>
            </p:nvGrpSpPr>
            <p:grpSpPr>
              <a:xfrm>
                <a:off x="6245280" y="3047760"/>
                <a:ext cx="477720" cy="329400"/>
                <a:chOff x="6245280" y="3047760"/>
                <a:chExt cx="477720" cy="329400"/>
              </a:xfrm>
            </p:grpSpPr>
            <p:sp>
              <p:nvSpPr>
                <p:cNvPr id="3688" name=""/>
                <p:cNvSpPr/>
                <p:nvPr/>
              </p:nvSpPr>
              <p:spPr>
                <a:xfrm>
                  <a:off x="6245280" y="304776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9" name=""/>
                <p:cNvGrpSpPr/>
                <p:nvPr/>
              </p:nvGrpSpPr>
              <p:grpSpPr>
                <a:xfrm>
                  <a:off x="6245280" y="3047760"/>
                  <a:ext cx="477720" cy="329400"/>
                  <a:chOff x="6245280" y="3047760"/>
                  <a:chExt cx="477720" cy="329400"/>
                </a:xfrm>
              </p:grpSpPr>
              <p:sp>
                <p:nvSpPr>
                  <p:cNvPr id="3690" name=""/>
                  <p:cNvSpPr/>
                  <p:nvPr/>
                </p:nvSpPr>
                <p:spPr>
                  <a:xfrm>
                    <a:off x="6289560" y="304776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1" name=""/>
                  <p:cNvSpPr/>
                  <p:nvPr/>
                </p:nvSpPr>
                <p:spPr>
                  <a:xfrm>
                    <a:off x="6245280" y="304776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92" name=""/>
              <p:cNvGrpSpPr/>
              <p:nvPr/>
            </p:nvGrpSpPr>
            <p:grpSpPr>
              <a:xfrm>
                <a:off x="6723000" y="3047760"/>
                <a:ext cx="478080" cy="329400"/>
                <a:chOff x="6723000" y="3047760"/>
                <a:chExt cx="478080" cy="329400"/>
              </a:xfrm>
            </p:grpSpPr>
            <p:sp>
              <p:nvSpPr>
                <p:cNvPr id="3693" name=""/>
                <p:cNvSpPr/>
                <p:nvPr/>
              </p:nvSpPr>
              <p:spPr>
                <a:xfrm>
                  <a:off x="6723000" y="304776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4" name=""/>
                <p:cNvGrpSpPr/>
                <p:nvPr/>
              </p:nvGrpSpPr>
              <p:grpSpPr>
                <a:xfrm>
                  <a:off x="6723000" y="3047760"/>
                  <a:ext cx="478080" cy="329400"/>
                  <a:chOff x="6723000" y="3047760"/>
                  <a:chExt cx="478080" cy="329400"/>
                </a:xfrm>
              </p:grpSpPr>
              <p:sp>
                <p:nvSpPr>
                  <p:cNvPr id="3695" name=""/>
                  <p:cNvSpPr/>
                  <p:nvPr/>
                </p:nvSpPr>
                <p:spPr>
                  <a:xfrm>
                    <a:off x="6767640" y="304776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>
                    <a:off x="6723000" y="304776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97" name=""/>
              <p:cNvGrpSpPr/>
              <p:nvPr/>
            </p:nvGrpSpPr>
            <p:grpSpPr>
              <a:xfrm>
                <a:off x="1944720" y="3377520"/>
                <a:ext cx="477720" cy="329760"/>
                <a:chOff x="1944720" y="3377520"/>
                <a:chExt cx="477720" cy="329760"/>
              </a:xfrm>
            </p:grpSpPr>
            <p:sp>
              <p:nvSpPr>
                <p:cNvPr id="3698" name=""/>
                <p:cNvSpPr/>
                <p:nvPr/>
              </p:nvSpPr>
              <p:spPr>
                <a:xfrm>
                  <a:off x="1944720" y="337752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9" name=""/>
                <p:cNvGrpSpPr/>
                <p:nvPr/>
              </p:nvGrpSpPr>
              <p:grpSpPr>
                <a:xfrm>
                  <a:off x="1944720" y="3377520"/>
                  <a:ext cx="477720" cy="329760"/>
                  <a:chOff x="1944720" y="3377520"/>
                  <a:chExt cx="477720" cy="329760"/>
                </a:xfrm>
              </p:grpSpPr>
              <p:sp>
                <p:nvSpPr>
                  <p:cNvPr id="3700" name=""/>
                  <p:cNvSpPr/>
                  <p:nvPr/>
                </p:nvSpPr>
                <p:spPr>
                  <a:xfrm>
                    <a:off x="1989000" y="337752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1944720" y="337752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02" name=""/>
              <p:cNvGrpSpPr/>
              <p:nvPr/>
            </p:nvGrpSpPr>
            <p:grpSpPr>
              <a:xfrm>
                <a:off x="2422440" y="3377520"/>
                <a:ext cx="478080" cy="329760"/>
                <a:chOff x="2422440" y="3377520"/>
                <a:chExt cx="478080" cy="329760"/>
              </a:xfrm>
            </p:grpSpPr>
            <p:sp>
              <p:nvSpPr>
                <p:cNvPr id="3703" name=""/>
                <p:cNvSpPr/>
                <p:nvPr/>
              </p:nvSpPr>
              <p:spPr>
                <a:xfrm>
                  <a:off x="2422440" y="337752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4" name=""/>
                <p:cNvGrpSpPr/>
                <p:nvPr/>
              </p:nvGrpSpPr>
              <p:grpSpPr>
                <a:xfrm>
                  <a:off x="2422440" y="3377520"/>
                  <a:ext cx="478080" cy="329760"/>
                  <a:chOff x="2422440" y="3377520"/>
                  <a:chExt cx="478080" cy="329760"/>
                </a:xfrm>
              </p:grpSpPr>
              <p:sp>
                <p:nvSpPr>
                  <p:cNvPr id="3705" name=""/>
                  <p:cNvSpPr/>
                  <p:nvPr/>
                </p:nvSpPr>
                <p:spPr>
                  <a:xfrm>
                    <a:off x="2467080" y="337752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6" name=""/>
                  <p:cNvSpPr/>
                  <p:nvPr/>
                </p:nvSpPr>
                <p:spPr>
                  <a:xfrm>
                    <a:off x="2422440" y="337752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07" name=""/>
              <p:cNvGrpSpPr/>
              <p:nvPr/>
            </p:nvGrpSpPr>
            <p:grpSpPr>
              <a:xfrm>
                <a:off x="2900520" y="3377520"/>
                <a:ext cx="477720" cy="329760"/>
                <a:chOff x="2900520" y="3377520"/>
                <a:chExt cx="477720" cy="329760"/>
              </a:xfrm>
            </p:grpSpPr>
            <p:sp>
              <p:nvSpPr>
                <p:cNvPr id="3708" name=""/>
                <p:cNvSpPr/>
                <p:nvPr/>
              </p:nvSpPr>
              <p:spPr>
                <a:xfrm>
                  <a:off x="2900520" y="337752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9" name=""/>
                <p:cNvGrpSpPr/>
                <p:nvPr/>
              </p:nvGrpSpPr>
              <p:grpSpPr>
                <a:xfrm>
                  <a:off x="2900520" y="3377520"/>
                  <a:ext cx="477720" cy="329760"/>
                  <a:chOff x="2900520" y="3377520"/>
                  <a:chExt cx="477720" cy="329760"/>
                </a:xfrm>
              </p:grpSpPr>
              <p:sp>
                <p:nvSpPr>
                  <p:cNvPr id="3710" name=""/>
                  <p:cNvSpPr/>
                  <p:nvPr/>
                </p:nvSpPr>
                <p:spPr>
                  <a:xfrm>
                    <a:off x="2944800" y="337752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1" name=""/>
                  <p:cNvSpPr/>
                  <p:nvPr/>
                </p:nvSpPr>
                <p:spPr>
                  <a:xfrm>
                    <a:off x="2900520" y="337752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2" name=""/>
              <p:cNvGrpSpPr/>
              <p:nvPr/>
            </p:nvGrpSpPr>
            <p:grpSpPr>
              <a:xfrm>
                <a:off x="3378240" y="3377520"/>
                <a:ext cx="477720" cy="329760"/>
                <a:chOff x="3378240" y="3377520"/>
                <a:chExt cx="477720" cy="329760"/>
              </a:xfrm>
            </p:grpSpPr>
            <p:sp>
              <p:nvSpPr>
                <p:cNvPr id="3713" name=""/>
                <p:cNvSpPr/>
                <p:nvPr/>
              </p:nvSpPr>
              <p:spPr>
                <a:xfrm>
                  <a:off x="3378240" y="337752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4" name=""/>
                <p:cNvGrpSpPr/>
                <p:nvPr/>
              </p:nvGrpSpPr>
              <p:grpSpPr>
                <a:xfrm>
                  <a:off x="3378240" y="3377520"/>
                  <a:ext cx="477720" cy="329760"/>
                  <a:chOff x="3378240" y="3377520"/>
                  <a:chExt cx="477720" cy="329760"/>
                </a:xfrm>
              </p:grpSpPr>
              <p:sp>
                <p:nvSpPr>
                  <p:cNvPr id="3715" name=""/>
                  <p:cNvSpPr/>
                  <p:nvPr/>
                </p:nvSpPr>
                <p:spPr>
                  <a:xfrm>
                    <a:off x="3422520" y="337752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6" name=""/>
                  <p:cNvSpPr/>
                  <p:nvPr/>
                </p:nvSpPr>
                <p:spPr>
                  <a:xfrm>
                    <a:off x="3378240" y="337752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7" name=""/>
              <p:cNvGrpSpPr/>
              <p:nvPr/>
            </p:nvGrpSpPr>
            <p:grpSpPr>
              <a:xfrm>
                <a:off x="3855960" y="3377520"/>
                <a:ext cx="478080" cy="329760"/>
                <a:chOff x="3855960" y="3377520"/>
                <a:chExt cx="478080" cy="329760"/>
              </a:xfrm>
            </p:grpSpPr>
            <p:sp>
              <p:nvSpPr>
                <p:cNvPr id="3718" name=""/>
                <p:cNvSpPr/>
                <p:nvPr/>
              </p:nvSpPr>
              <p:spPr>
                <a:xfrm>
                  <a:off x="3855960" y="337752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9" name=""/>
                <p:cNvGrpSpPr/>
                <p:nvPr/>
              </p:nvGrpSpPr>
              <p:grpSpPr>
                <a:xfrm>
                  <a:off x="3855960" y="3377520"/>
                  <a:ext cx="478080" cy="329760"/>
                  <a:chOff x="3855960" y="3377520"/>
                  <a:chExt cx="478080" cy="329760"/>
                </a:xfrm>
              </p:grpSpPr>
              <p:sp>
                <p:nvSpPr>
                  <p:cNvPr id="3720" name=""/>
                  <p:cNvSpPr/>
                  <p:nvPr/>
                </p:nvSpPr>
                <p:spPr>
                  <a:xfrm>
                    <a:off x="3900600" y="337752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>
                    <a:off x="3855960" y="337752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22" name=""/>
              <p:cNvGrpSpPr/>
              <p:nvPr/>
            </p:nvGrpSpPr>
            <p:grpSpPr>
              <a:xfrm>
                <a:off x="4334040" y="3377520"/>
                <a:ext cx="477720" cy="329760"/>
                <a:chOff x="4334040" y="3377520"/>
                <a:chExt cx="477720" cy="329760"/>
              </a:xfrm>
            </p:grpSpPr>
            <p:sp>
              <p:nvSpPr>
                <p:cNvPr id="3723" name=""/>
                <p:cNvSpPr/>
                <p:nvPr/>
              </p:nvSpPr>
              <p:spPr>
                <a:xfrm>
                  <a:off x="4334040" y="337752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4" name=""/>
                <p:cNvGrpSpPr/>
                <p:nvPr/>
              </p:nvGrpSpPr>
              <p:grpSpPr>
                <a:xfrm>
                  <a:off x="4334040" y="3377520"/>
                  <a:ext cx="477720" cy="329760"/>
                  <a:chOff x="4334040" y="3377520"/>
                  <a:chExt cx="477720" cy="329760"/>
                </a:xfrm>
              </p:grpSpPr>
              <p:sp>
                <p:nvSpPr>
                  <p:cNvPr id="3725" name=""/>
                  <p:cNvSpPr/>
                  <p:nvPr/>
                </p:nvSpPr>
                <p:spPr>
                  <a:xfrm>
                    <a:off x="4378320" y="337752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6" name=""/>
                  <p:cNvSpPr/>
                  <p:nvPr/>
                </p:nvSpPr>
                <p:spPr>
                  <a:xfrm>
                    <a:off x="4334040" y="337752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27" name=""/>
              <p:cNvGrpSpPr/>
              <p:nvPr/>
            </p:nvGrpSpPr>
            <p:grpSpPr>
              <a:xfrm>
                <a:off x="4811760" y="3377520"/>
                <a:ext cx="477720" cy="329760"/>
                <a:chOff x="4811760" y="3377520"/>
                <a:chExt cx="477720" cy="329760"/>
              </a:xfrm>
            </p:grpSpPr>
            <p:sp>
              <p:nvSpPr>
                <p:cNvPr id="3728" name=""/>
                <p:cNvSpPr/>
                <p:nvPr/>
              </p:nvSpPr>
              <p:spPr>
                <a:xfrm>
                  <a:off x="4811760" y="337752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9" name=""/>
                <p:cNvGrpSpPr/>
                <p:nvPr/>
              </p:nvGrpSpPr>
              <p:grpSpPr>
                <a:xfrm>
                  <a:off x="4811760" y="3377520"/>
                  <a:ext cx="477720" cy="329760"/>
                  <a:chOff x="4811760" y="3377520"/>
                  <a:chExt cx="477720" cy="329760"/>
                </a:xfrm>
              </p:grpSpPr>
              <p:sp>
                <p:nvSpPr>
                  <p:cNvPr id="3730" name=""/>
                  <p:cNvSpPr/>
                  <p:nvPr/>
                </p:nvSpPr>
                <p:spPr>
                  <a:xfrm>
                    <a:off x="4856040" y="337752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1" name=""/>
                  <p:cNvSpPr/>
                  <p:nvPr/>
                </p:nvSpPr>
                <p:spPr>
                  <a:xfrm>
                    <a:off x="4811760" y="337752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32" name=""/>
              <p:cNvGrpSpPr/>
              <p:nvPr/>
            </p:nvGrpSpPr>
            <p:grpSpPr>
              <a:xfrm>
                <a:off x="5289480" y="3377520"/>
                <a:ext cx="478080" cy="329760"/>
                <a:chOff x="5289480" y="3377520"/>
                <a:chExt cx="478080" cy="329760"/>
              </a:xfrm>
            </p:grpSpPr>
            <p:sp>
              <p:nvSpPr>
                <p:cNvPr id="3733" name=""/>
                <p:cNvSpPr/>
                <p:nvPr/>
              </p:nvSpPr>
              <p:spPr>
                <a:xfrm>
                  <a:off x="5289480" y="337752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4" name=""/>
                <p:cNvGrpSpPr/>
                <p:nvPr/>
              </p:nvGrpSpPr>
              <p:grpSpPr>
                <a:xfrm>
                  <a:off x="5289480" y="3377520"/>
                  <a:ext cx="478080" cy="329760"/>
                  <a:chOff x="5289480" y="3377520"/>
                  <a:chExt cx="478080" cy="329760"/>
                </a:xfrm>
              </p:grpSpPr>
              <p:sp>
                <p:nvSpPr>
                  <p:cNvPr id="3735" name=""/>
                  <p:cNvSpPr/>
                  <p:nvPr/>
                </p:nvSpPr>
                <p:spPr>
                  <a:xfrm>
                    <a:off x="5334120" y="337752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6" name=""/>
                  <p:cNvSpPr/>
                  <p:nvPr/>
                </p:nvSpPr>
                <p:spPr>
                  <a:xfrm>
                    <a:off x="5289480" y="337752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37" name=""/>
              <p:cNvGrpSpPr/>
              <p:nvPr/>
            </p:nvGrpSpPr>
            <p:grpSpPr>
              <a:xfrm>
                <a:off x="5767560" y="3377520"/>
                <a:ext cx="477720" cy="329760"/>
                <a:chOff x="5767560" y="3377520"/>
                <a:chExt cx="477720" cy="329760"/>
              </a:xfrm>
            </p:grpSpPr>
            <p:sp>
              <p:nvSpPr>
                <p:cNvPr id="3738" name=""/>
                <p:cNvSpPr/>
                <p:nvPr/>
              </p:nvSpPr>
              <p:spPr>
                <a:xfrm>
                  <a:off x="5767560" y="337752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9" name=""/>
                <p:cNvGrpSpPr/>
                <p:nvPr/>
              </p:nvGrpSpPr>
              <p:grpSpPr>
                <a:xfrm>
                  <a:off x="5767560" y="3377520"/>
                  <a:ext cx="477720" cy="329760"/>
                  <a:chOff x="5767560" y="3377520"/>
                  <a:chExt cx="477720" cy="329760"/>
                </a:xfrm>
              </p:grpSpPr>
              <p:sp>
                <p:nvSpPr>
                  <p:cNvPr id="3740" name=""/>
                  <p:cNvSpPr/>
                  <p:nvPr/>
                </p:nvSpPr>
                <p:spPr>
                  <a:xfrm>
                    <a:off x="5811840" y="337752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1" name=""/>
                  <p:cNvSpPr/>
                  <p:nvPr/>
                </p:nvSpPr>
                <p:spPr>
                  <a:xfrm>
                    <a:off x="5767560" y="337752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2" name=""/>
              <p:cNvGrpSpPr/>
              <p:nvPr/>
            </p:nvGrpSpPr>
            <p:grpSpPr>
              <a:xfrm>
                <a:off x="6245280" y="3377520"/>
                <a:ext cx="477720" cy="329760"/>
                <a:chOff x="6245280" y="3377520"/>
                <a:chExt cx="477720" cy="329760"/>
              </a:xfrm>
            </p:grpSpPr>
            <p:sp>
              <p:nvSpPr>
                <p:cNvPr id="3743" name=""/>
                <p:cNvSpPr/>
                <p:nvPr/>
              </p:nvSpPr>
              <p:spPr>
                <a:xfrm>
                  <a:off x="6245280" y="337752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4" name=""/>
                <p:cNvGrpSpPr/>
                <p:nvPr/>
              </p:nvGrpSpPr>
              <p:grpSpPr>
                <a:xfrm>
                  <a:off x="6245280" y="3377520"/>
                  <a:ext cx="477720" cy="329760"/>
                  <a:chOff x="6245280" y="3377520"/>
                  <a:chExt cx="477720" cy="329760"/>
                </a:xfrm>
              </p:grpSpPr>
              <p:sp>
                <p:nvSpPr>
                  <p:cNvPr id="3745" name=""/>
                  <p:cNvSpPr/>
                  <p:nvPr/>
                </p:nvSpPr>
                <p:spPr>
                  <a:xfrm>
                    <a:off x="6289560" y="337752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6" name=""/>
                  <p:cNvSpPr/>
                  <p:nvPr/>
                </p:nvSpPr>
                <p:spPr>
                  <a:xfrm>
                    <a:off x="6245280" y="337752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7" name=""/>
              <p:cNvGrpSpPr/>
              <p:nvPr/>
            </p:nvGrpSpPr>
            <p:grpSpPr>
              <a:xfrm>
                <a:off x="6723000" y="3377520"/>
                <a:ext cx="478080" cy="329760"/>
                <a:chOff x="6723000" y="3377520"/>
                <a:chExt cx="478080" cy="329760"/>
              </a:xfrm>
            </p:grpSpPr>
            <p:sp>
              <p:nvSpPr>
                <p:cNvPr id="3748" name=""/>
                <p:cNvSpPr/>
                <p:nvPr/>
              </p:nvSpPr>
              <p:spPr>
                <a:xfrm>
                  <a:off x="6723000" y="337752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9" name=""/>
                <p:cNvGrpSpPr/>
                <p:nvPr/>
              </p:nvGrpSpPr>
              <p:grpSpPr>
                <a:xfrm>
                  <a:off x="6723000" y="3377520"/>
                  <a:ext cx="478080" cy="329760"/>
                  <a:chOff x="6723000" y="3377520"/>
                  <a:chExt cx="478080" cy="329760"/>
                </a:xfrm>
              </p:grpSpPr>
              <p:sp>
                <p:nvSpPr>
                  <p:cNvPr id="3750" name=""/>
                  <p:cNvSpPr/>
                  <p:nvPr/>
                </p:nvSpPr>
                <p:spPr>
                  <a:xfrm>
                    <a:off x="6767640" y="337752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1" name=""/>
                  <p:cNvSpPr/>
                  <p:nvPr/>
                </p:nvSpPr>
                <p:spPr>
                  <a:xfrm>
                    <a:off x="6723000" y="337752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2" name=""/>
              <p:cNvGrpSpPr/>
              <p:nvPr/>
            </p:nvGrpSpPr>
            <p:grpSpPr>
              <a:xfrm>
                <a:off x="1944720" y="3707640"/>
                <a:ext cx="477720" cy="329400"/>
                <a:chOff x="1944720" y="3707640"/>
                <a:chExt cx="477720" cy="329400"/>
              </a:xfrm>
            </p:grpSpPr>
            <p:sp>
              <p:nvSpPr>
                <p:cNvPr id="3753" name=""/>
                <p:cNvSpPr/>
                <p:nvPr/>
              </p:nvSpPr>
              <p:spPr>
                <a:xfrm>
                  <a:off x="1944720" y="370764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54" name=""/>
                <p:cNvGrpSpPr/>
                <p:nvPr/>
              </p:nvGrpSpPr>
              <p:grpSpPr>
                <a:xfrm>
                  <a:off x="1944720" y="3707640"/>
                  <a:ext cx="477720" cy="329400"/>
                  <a:chOff x="1944720" y="3707640"/>
                  <a:chExt cx="477720" cy="329400"/>
                </a:xfrm>
              </p:grpSpPr>
              <p:sp>
                <p:nvSpPr>
                  <p:cNvPr id="3755" name=""/>
                  <p:cNvSpPr/>
                  <p:nvPr/>
                </p:nvSpPr>
                <p:spPr>
                  <a:xfrm>
                    <a:off x="1989000" y="370764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6" name=""/>
                  <p:cNvSpPr/>
                  <p:nvPr/>
                </p:nvSpPr>
                <p:spPr>
                  <a:xfrm>
                    <a:off x="1944720" y="370764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7" name=""/>
              <p:cNvGrpSpPr/>
              <p:nvPr/>
            </p:nvGrpSpPr>
            <p:grpSpPr>
              <a:xfrm>
                <a:off x="2422440" y="3707640"/>
                <a:ext cx="478080" cy="329400"/>
                <a:chOff x="2422440" y="3707640"/>
                <a:chExt cx="478080" cy="329400"/>
              </a:xfrm>
            </p:grpSpPr>
            <p:sp>
              <p:nvSpPr>
                <p:cNvPr id="3758" name=""/>
                <p:cNvSpPr/>
                <p:nvPr/>
              </p:nvSpPr>
              <p:spPr>
                <a:xfrm>
                  <a:off x="2422440" y="370764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59" name=""/>
                <p:cNvGrpSpPr/>
                <p:nvPr/>
              </p:nvGrpSpPr>
              <p:grpSpPr>
                <a:xfrm>
                  <a:off x="2422440" y="3707640"/>
                  <a:ext cx="478080" cy="329400"/>
                  <a:chOff x="2422440" y="3707640"/>
                  <a:chExt cx="478080" cy="329400"/>
                </a:xfrm>
              </p:grpSpPr>
              <p:sp>
                <p:nvSpPr>
                  <p:cNvPr id="3760" name=""/>
                  <p:cNvSpPr/>
                  <p:nvPr/>
                </p:nvSpPr>
                <p:spPr>
                  <a:xfrm>
                    <a:off x="2467080" y="370764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1" name=""/>
                  <p:cNvSpPr/>
                  <p:nvPr/>
                </p:nvSpPr>
                <p:spPr>
                  <a:xfrm>
                    <a:off x="2422440" y="370764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2" name=""/>
              <p:cNvGrpSpPr/>
              <p:nvPr/>
            </p:nvGrpSpPr>
            <p:grpSpPr>
              <a:xfrm>
                <a:off x="2900520" y="3707640"/>
                <a:ext cx="477720" cy="329400"/>
                <a:chOff x="2900520" y="3707640"/>
                <a:chExt cx="477720" cy="329400"/>
              </a:xfrm>
            </p:grpSpPr>
            <p:sp>
              <p:nvSpPr>
                <p:cNvPr id="3763" name=""/>
                <p:cNvSpPr/>
                <p:nvPr/>
              </p:nvSpPr>
              <p:spPr>
                <a:xfrm>
                  <a:off x="2900520" y="370764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4" name=""/>
                <p:cNvGrpSpPr/>
                <p:nvPr/>
              </p:nvGrpSpPr>
              <p:grpSpPr>
                <a:xfrm>
                  <a:off x="2900520" y="3707640"/>
                  <a:ext cx="477720" cy="329400"/>
                  <a:chOff x="2900520" y="3707640"/>
                  <a:chExt cx="477720" cy="329400"/>
                </a:xfrm>
              </p:grpSpPr>
              <p:sp>
                <p:nvSpPr>
                  <p:cNvPr id="3765" name=""/>
                  <p:cNvSpPr/>
                  <p:nvPr/>
                </p:nvSpPr>
                <p:spPr>
                  <a:xfrm>
                    <a:off x="2944800" y="370764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6" name=""/>
                  <p:cNvSpPr/>
                  <p:nvPr/>
                </p:nvSpPr>
                <p:spPr>
                  <a:xfrm>
                    <a:off x="2900520" y="370764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7" name=""/>
              <p:cNvGrpSpPr/>
              <p:nvPr/>
            </p:nvGrpSpPr>
            <p:grpSpPr>
              <a:xfrm>
                <a:off x="3378240" y="3707640"/>
                <a:ext cx="477720" cy="329400"/>
                <a:chOff x="3378240" y="3707640"/>
                <a:chExt cx="477720" cy="329400"/>
              </a:xfrm>
            </p:grpSpPr>
            <p:sp>
              <p:nvSpPr>
                <p:cNvPr id="3768" name=""/>
                <p:cNvSpPr/>
                <p:nvPr/>
              </p:nvSpPr>
              <p:spPr>
                <a:xfrm>
                  <a:off x="3378240" y="370764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9" name=""/>
                <p:cNvGrpSpPr/>
                <p:nvPr/>
              </p:nvGrpSpPr>
              <p:grpSpPr>
                <a:xfrm>
                  <a:off x="3378240" y="3707640"/>
                  <a:ext cx="477720" cy="329400"/>
                  <a:chOff x="3378240" y="3707640"/>
                  <a:chExt cx="477720" cy="329400"/>
                </a:xfrm>
              </p:grpSpPr>
              <p:sp>
                <p:nvSpPr>
                  <p:cNvPr id="3770" name=""/>
                  <p:cNvSpPr/>
                  <p:nvPr/>
                </p:nvSpPr>
                <p:spPr>
                  <a:xfrm>
                    <a:off x="3422520" y="370764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1" name=""/>
                  <p:cNvSpPr/>
                  <p:nvPr/>
                </p:nvSpPr>
                <p:spPr>
                  <a:xfrm>
                    <a:off x="3378240" y="370764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2" name=""/>
              <p:cNvGrpSpPr/>
              <p:nvPr/>
            </p:nvGrpSpPr>
            <p:grpSpPr>
              <a:xfrm>
                <a:off x="3855960" y="3707640"/>
                <a:ext cx="478080" cy="329400"/>
                <a:chOff x="3855960" y="3707640"/>
                <a:chExt cx="478080" cy="329400"/>
              </a:xfrm>
            </p:grpSpPr>
            <p:sp>
              <p:nvSpPr>
                <p:cNvPr id="3773" name=""/>
                <p:cNvSpPr/>
                <p:nvPr/>
              </p:nvSpPr>
              <p:spPr>
                <a:xfrm>
                  <a:off x="3855960" y="370764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4" name=""/>
                <p:cNvGrpSpPr/>
                <p:nvPr/>
              </p:nvGrpSpPr>
              <p:grpSpPr>
                <a:xfrm>
                  <a:off x="3855960" y="3707640"/>
                  <a:ext cx="478080" cy="329400"/>
                  <a:chOff x="3855960" y="3707640"/>
                  <a:chExt cx="478080" cy="329400"/>
                </a:xfrm>
              </p:grpSpPr>
              <p:sp>
                <p:nvSpPr>
                  <p:cNvPr id="3775" name=""/>
                  <p:cNvSpPr/>
                  <p:nvPr/>
                </p:nvSpPr>
                <p:spPr>
                  <a:xfrm>
                    <a:off x="3900600" y="370764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6" name=""/>
                  <p:cNvSpPr/>
                  <p:nvPr/>
                </p:nvSpPr>
                <p:spPr>
                  <a:xfrm>
                    <a:off x="3855960" y="370764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7" name=""/>
              <p:cNvGrpSpPr/>
              <p:nvPr/>
            </p:nvGrpSpPr>
            <p:grpSpPr>
              <a:xfrm>
                <a:off x="4334040" y="3707640"/>
                <a:ext cx="477720" cy="329400"/>
                <a:chOff x="4334040" y="3707640"/>
                <a:chExt cx="477720" cy="329400"/>
              </a:xfrm>
            </p:grpSpPr>
            <p:sp>
              <p:nvSpPr>
                <p:cNvPr id="3778" name=""/>
                <p:cNvSpPr/>
                <p:nvPr/>
              </p:nvSpPr>
              <p:spPr>
                <a:xfrm>
                  <a:off x="4334040" y="370764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9" name=""/>
                <p:cNvGrpSpPr/>
                <p:nvPr/>
              </p:nvGrpSpPr>
              <p:grpSpPr>
                <a:xfrm>
                  <a:off x="4334040" y="3707640"/>
                  <a:ext cx="477720" cy="329400"/>
                  <a:chOff x="4334040" y="3707640"/>
                  <a:chExt cx="477720" cy="329400"/>
                </a:xfrm>
              </p:grpSpPr>
              <p:sp>
                <p:nvSpPr>
                  <p:cNvPr id="3780" name=""/>
                  <p:cNvSpPr/>
                  <p:nvPr/>
                </p:nvSpPr>
                <p:spPr>
                  <a:xfrm>
                    <a:off x="4378320" y="370764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1" name=""/>
                  <p:cNvSpPr/>
                  <p:nvPr/>
                </p:nvSpPr>
                <p:spPr>
                  <a:xfrm>
                    <a:off x="4334040" y="370764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82" name=""/>
              <p:cNvGrpSpPr/>
              <p:nvPr/>
            </p:nvGrpSpPr>
            <p:grpSpPr>
              <a:xfrm>
                <a:off x="4811760" y="3707640"/>
                <a:ext cx="477720" cy="329400"/>
                <a:chOff x="4811760" y="3707640"/>
                <a:chExt cx="477720" cy="329400"/>
              </a:xfrm>
            </p:grpSpPr>
            <p:sp>
              <p:nvSpPr>
                <p:cNvPr id="3783" name=""/>
                <p:cNvSpPr/>
                <p:nvPr/>
              </p:nvSpPr>
              <p:spPr>
                <a:xfrm>
                  <a:off x="4811760" y="370764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84" name=""/>
                <p:cNvGrpSpPr/>
                <p:nvPr/>
              </p:nvGrpSpPr>
              <p:grpSpPr>
                <a:xfrm>
                  <a:off x="4811760" y="3707640"/>
                  <a:ext cx="477720" cy="329400"/>
                  <a:chOff x="4811760" y="3707640"/>
                  <a:chExt cx="477720" cy="329400"/>
                </a:xfrm>
              </p:grpSpPr>
              <p:sp>
                <p:nvSpPr>
                  <p:cNvPr id="3785" name=""/>
                  <p:cNvSpPr/>
                  <p:nvPr/>
                </p:nvSpPr>
                <p:spPr>
                  <a:xfrm>
                    <a:off x="4856040" y="370764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6" name=""/>
                  <p:cNvSpPr/>
                  <p:nvPr/>
                </p:nvSpPr>
                <p:spPr>
                  <a:xfrm>
                    <a:off x="4811760" y="370764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87" name=""/>
              <p:cNvGrpSpPr/>
              <p:nvPr/>
            </p:nvGrpSpPr>
            <p:grpSpPr>
              <a:xfrm>
                <a:off x="5289480" y="3707640"/>
                <a:ext cx="478080" cy="329400"/>
                <a:chOff x="5289480" y="3707640"/>
                <a:chExt cx="478080" cy="329400"/>
              </a:xfrm>
            </p:grpSpPr>
            <p:sp>
              <p:nvSpPr>
                <p:cNvPr id="3788" name=""/>
                <p:cNvSpPr/>
                <p:nvPr/>
              </p:nvSpPr>
              <p:spPr>
                <a:xfrm>
                  <a:off x="5289480" y="370764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89" name=""/>
                <p:cNvGrpSpPr/>
                <p:nvPr/>
              </p:nvGrpSpPr>
              <p:grpSpPr>
                <a:xfrm>
                  <a:off x="5289480" y="3707640"/>
                  <a:ext cx="478080" cy="329400"/>
                  <a:chOff x="5289480" y="3707640"/>
                  <a:chExt cx="478080" cy="329400"/>
                </a:xfrm>
              </p:grpSpPr>
              <p:sp>
                <p:nvSpPr>
                  <p:cNvPr id="3790" name=""/>
                  <p:cNvSpPr/>
                  <p:nvPr/>
                </p:nvSpPr>
                <p:spPr>
                  <a:xfrm>
                    <a:off x="5334120" y="370764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>
                    <a:off x="5289480" y="370764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2" name=""/>
              <p:cNvGrpSpPr/>
              <p:nvPr/>
            </p:nvGrpSpPr>
            <p:grpSpPr>
              <a:xfrm>
                <a:off x="5767560" y="3707640"/>
                <a:ext cx="477720" cy="329400"/>
                <a:chOff x="5767560" y="3707640"/>
                <a:chExt cx="477720" cy="329400"/>
              </a:xfrm>
            </p:grpSpPr>
            <p:sp>
              <p:nvSpPr>
                <p:cNvPr id="3793" name=""/>
                <p:cNvSpPr/>
                <p:nvPr/>
              </p:nvSpPr>
              <p:spPr>
                <a:xfrm>
                  <a:off x="5767560" y="370764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4" name=""/>
                <p:cNvGrpSpPr/>
                <p:nvPr/>
              </p:nvGrpSpPr>
              <p:grpSpPr>
                <a:xfrm>
                  <a:off x="5767560" y="3707640"/>
                  <a:ext cx="477720" cy="329400"/>
                  <a:chOff x="5767560" y="3707640"/>
                  <a:chExt cx="477720" cy="329400"/>
                </a:xfrm>
              </p:grpSpPr>
              <p:sp>
                <p:nvSpPr>
                  <p:cNvPr id="3795" name=""/>
                  <p:cNvSpPr/>
                  <p:nvPr/>
                </p:nvSpPr>
                <p:spPr>
                  <a:xfrm>
                    <a:off x="5811840" y="370764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6" name=""/>
                  <p:cNvSpPr/>
                  <p:nvPr/>
                </p:nvSpPr>
                <p:spPr>
                  <a:xfrm>
                    <a:off x="5767560" y="370764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7" name=""/>
              <p:cNvGrpSpPr/>
              <p:nvPr/>
            </p:nvGrpSpPr>
            <p:grpSpPr>
              <a:xfrm>
                <a:off x="6245280" y="3707640"/>
                <a:ext cx="477720" cy="329400"/>
                <a:chOff x="6245280" y="3707640"/>
                <a:chExt cx="477720" cy="329400"/>
              </a:xfrm>
            </p:grpSpPr>
            <p:sp>
              <p:nvSpPr>
                <p:cNvPr id="3798" name=""/>
                <p:cNvSpPr/>
                <p:nvPr/>
              </p:nvSpPr>
              <p:spPr>
                <a:xfrm>
                  <a:off x="6245280" y="370764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9" name=""/>
                <p:cNvGrpSpPr/>
                <p:nvPr/>
              </p:nvGrpSpPr>
              <p:grpSpPr>
                <a:xfrm>
                  <a:off x="6245280" y="3707640"/>
                  <a:ext cx="477720" cy="329400"/>
                  <a:chOff x="6245280" y="3707640"/>
                  <a:chExt cx="477720" cy="329400"/>
                </a:xfrm>
              </p:grpSpPr>
              <p:sp>
                <p:nvSpPr>
                  <p:cNvPr id="3800" name=""/>
                  <p:cNvSpPr/>
                  <p:nvPr/>
                </p:nvSpPr>
                <p:spPr>
                  <a:xfrm>
                    <a:off x="6289560" y="370764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>
                    <a:off x="6245280" y="370764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2" name=""/>
              <p:cNvGrpSpPr/>
              <p:nvPr/>
            </p:nvGrpSpPr>
            <p:grpSpPr>
              <a:xfrm>
                <a:off x="6723000" y="3707640"/>
                <a:ext cx="478080" cy="329400"/>
                <a:chOff x="6723000" y="3707640"/>
                <a:chExt cx="478080" cy="329400"/>
              </a:xfrm>
            </p:grpSpPr>
            <p:sp>
              <p:nvSpPr>
                <p:cNvPr id="3803" name=""/>
                <p:cNvSpPr/>
                <p:nvPr/>
              </p:nvSpPr>
              <p:spPr>
                <a:xfrm>
                  <a:off x="6723000" y="370764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4" name=""/>
                <p:cNvGrpSpPr/>
                <p:nvPr/>
              </p:nvGrpSpPr>
              <p:grpSpPr>
                <a:xfrm>
                  <a:off x="6723000" y="3707640"/>
                  <a:ext cx="478080" cy="329400"/>
                  <a:chOff x="6723000" y="3707640"/>
                  <a:chExt cx="478080" cy="329400"/>
                </a:xfrm>
              </p:grpSpPr>
              <p:sp>
                <p:nvSpPr>
                  <p:cNvPr id="3805" name=""/>
                  <p:cNvSpPr/>
                  <p:nvPr/>
                </p:nvSpPr>
                <p:spPr>
                  <a:xfrm>
                    <a:off x="6767640" y="370764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6" name=""/>
                  <p:cNvSpPr/>
                  <p:nvPr/>
                </p:nvSpPr>
                <p:spPr>
                  <a:xfrm>
                    <a:off x="6723000" y="370764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7" name=""/>
              <p:cNvGrpSpPr/>
              <p:nvPr/>
            </p:nvGrpSpPr>
            <p:grpSpPr>
              <a:xfrm>
                <a:off x="1944720" y="4037400"/>
                <a:ext cx="477720" cy="329400"/>
                <a:chOff x="1944720" y="4037400"/>
                <a:chExt cx="477720" cy="329400"/>
              </a:xfrm>
            </p:grpSpPr>
            <p:sp>
              <p:nvSpPr>
                <p:cNvPr id="3808" name=""/>
                <p:cNvSpPr/>
                <p:nvPr/>
              </p:nvSpPr>
              <p:spPr>
                <a:xfrm>
                  <a:off x="1944720" y="40374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9" name=""/>
                <p:cNvGrpSpPr/>
                <p:nvPr/>
              </p:nvGrpSpPr>
              <p:grpSpPr>
                <a:xfrm>
                  <a:off x="1944720" y="4037400"/>
                  <a:ext cx="477720" cy="329400"/>
                  <a:chOff x="1944720" y="4037400"/>
                  <a:chExt cx="477720" cy="329400"/>
                </a:xfrm>
              </p:grpSpPr>
              <p:sp>
                <p:nvSpPr>
                  <p:cNvPr id="3810" name=""/>
                  <p:cNvSpPr/>
                  <p:nvPr/>
                </p:nvSpPr>
                <p:spPr>
                  <a:xfrm>
                    <a:off x="1989000" y="40374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1" name=""/>
                  <p:cNvSpPr/>
                  <p:nvPr/>
                </p:nvSpPr>
                <p:spPr>
                  <a:xfrm>
                    <a:off x="1944720" y="40374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12" name=""/>
              <p:cNvGrpSpPr/>
              <p:nvPr/>
            </p:nvGrpSpPr>
            <p:grpSpPr>
              <a:xfrm>
                <a:off x="2422440" y="4037400"/>
                <a:ext cx="478080" cy="329400"/>
                <a:chOff x="2422440" y="4037400"/>
                <a:chExt cx="478080" cy="329400"/>
              </a:xfrm>
            </p:grpSpPr>
            <p:sp>
              <p:nvSpPr>
                <p:cNvPr id="3813" name=""/>
                <p:cNvSpPr/>
                <p:nvPr/>
              </p:nvSpPr>
              <p:spPr>
                <a:xfrm>
                  <a:off x="2422440" y="403740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4" name=""/>
                <p:cNvGrpSpPr/>
                <p:nvPr/>
              </p:nvGrpSpPr>
              <p:grpSpPr>
                <a:xfrm>
                  <a:off x="2422440" y="4037400"/>
                  <a:ext cx="478080" cy="329400"/>
                  <a:chOff x="2422440" y="4037400"/>
                  <a:chExt cx="478080" cy="329400"/>
                </a:xfrm>
              </p:grpSpPr>
              <p:sp>
                <p:nvSpPr>
                  <p:cNvPr id="3815" name=""/>
                  <p:cNvSpPr/>
                  <p:nvPr/>
                </p:nvSpPr>
                <p:spPr>
                  <a:xfrm>
                    <a:off x="2467080" y="40374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6" name=""/>
                  <p:cNvSpPr/>
                  <p:nvPr/>
                </p:nvSpPr>
                <p:spPr>
                  <a:xfrm>
                    <a:off x="2422440" y="403740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17" name=""/>
              <p:cNvGrpSpPr/>
              <p:nvPr/>
            </p:nvGrpSpPr>
            <p:grpSpPr>
              <a:xfrm>
                <a:off x="2900520" y="4037400"/>
                <a:ext cx="477720" cy="329400"/>
                <a:chOff x="2900520" y="4037400"/>
                <a:chExt cx="477720" cy="329400"/>
              </a:xfrm>
            </p:grpSpPr>
            <p:sp>
              <p:nvSpPr>
                <p:cNvPr id="3818" name=""/>
                <p:cNvSpPr/>
                <p:nvPr/>
              </p:nvSpPr>
              <p:spPr>
                <a:xfrm>
                  <a:off x="2900520" y="40374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9" name=""/>
                <p:cNvGrpSpPr/>
                <p:nvPr/>
              </p:nvGrpSpPr>
              <p:grpSpPr>
                <a:xfrm>
                  <a:off x="2900520" y="4037400"/>
                  <a:ext cx="477720" cy="329400"/>
                  <a:chOff x="2900520" y="4037400"/>
                  <a:chExt cx="477720" cy="329400"/>
                </a:xfrm>
              </p:grpSpPr>
              <p:sp>
                <p:nvSpPr>
                  <p:cNvPr id="3820" name=""/>
                  <p:cNvSpPr/>
                  <p:nvPr/>
                </p:nvSpPr>
                <p:spPr>
                  <a:xfrm>
                    <a:off x="2944800" y="40374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1" name=""/>
                  <p:cNvSpPr/>
                  <p:nvPr/>
                </p:nvSpPr>
                <p:spPr>
                  <a:xfrm>
                    <a:off x="2900520" y="40374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22" name=""/>
              <p:cNvGrpSpPr/>
              <p:nvPr/>
            </p:nvGrpSpPr>
            <p:grpSpPr>
              <a:xfrm>
                <a:off x="3378240" y="4037400"/>
                <a:ext cx="477720" cy="329400"/>
                <a:chOff x="3378240" y="4037400"/>
                <a:chExt cx="477720" cy="329400"/>
              </a:xfrm>
            </p:grpSpPr>
            <p:sp>
              <p:nvSpPr>
                <p:cNvPr id="3823" name=""/>
                <p:cNvSpPr/>
                <p:nvPr/>
              </p:nvSpPr>
              <p:spPr>
                <a:xfrm>
                  <a:off x="3378240" y="40374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4" name=""/>
                <p:cNvGrpSpPr/>
                <p:nvPr/>
              </p:nvGrpSpPr>
              <p:grpSpPr>
                <a:xfrm>
                  <a:off x="3378240" y="4037400"/>
                  <a:ext cx="477720" cy="329400"/>
                  <a:chOff x="3378240" y="4037400"/>
                  <a:chExt cx="477720" cy="329400"/>
                </a:xfrm>
              </p:grpSpPr>
              <p:sp>
                <p:nvSpPr>
                  <p:cNvPr id="3825" name=""/>
                  <p:cNvSpPr/>
                  <p:nvPr/>
                </p:nvSpPr>
                <p:spPr>
                  <a:xfrm>
                    <a:off x="3422520" y="40374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>
                    <a:off x="3378240" y="40374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27" name=""/>
              <p:cNvGrpSpPr/>
              <p:nvPr/>
            </p:nvGrpSpPr>
            <p:grpSpPr>
              <a:xfrm>
                <a:off x="3855960" y="4037400"/>
                <a:ext cx="478080" cy="329400"/>
                <a:chOff x="3855960" y="4037400"/>
                <a:chExt cx="478080" cy="329400"/>
              </a:xfrm>
            </p:grpSpPr>
            <p:sp>
              <p:nvSpPr>
                <p:cNvPr id="3828" name=""/>
                <p:cNvSpPr/>
                <p:nvPr/>
              </p:nvSpPr>
              <p:spPr>
                <a:xfrm>
                  <a:off x="3855960" y="403740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9" name=""/>
                <p:cNvGrpSpPr/>
                <p:nvPr/>
              </p:nvGrpSpPr>
              <p:grpSpPr>
                <a:xfrm>
                  <a:off x="3855960" y="4037400"/>
                  <a:ext cx="478080" cy="329400"/>
                  <a:chOff x="3855960" y="4037400"/>
                  <a:chExt cx="478080" cy="329400"/>
                </a:xfrm>
              </p:grpSpPr>
              <p:sp>
                <p:nvSpPr>
                  <p:cNvPr id="3830" name=""/>
                  <p:cNvSpPr/>
                  <p:nvPr/>
                </p:nvSpPr>
                <p:spPr>
                  <a:xfrm>
                    <a:off x="3900600" y="40374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>
                    <a:off x="3855960" y="403740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32" name=""/>
              <p:cNvGrpSpPr/>
              <p:nvPr/>
            </p:nvGrpSpPr>
            <p:grpSpPr>
              <a:xfrm>
                <a:off x="4334040" y="4037400"/>
                <a:ext cx="477720" cy="329400"/>
                <a:chOff x="4334040" y="4037400"/>
                <a:chExt cx="477720" cy="329400"/>
              </a:xfrm>
            </p:grpSpPr>
            <p:sp>
              <p:nvSpPr>
                <p:cNvPr id="3833" name=""/>
                <p:cNvSpPr/>
                <p:nvPr/>
              </p:nvSpPr>
              <p:spPr>
                <a:xfrm>
                  <a:off x="4334040" y="40374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4" name=""/>
                <p:cNvGrpSpPr/>
                <p:nvPr/>
              </p:nvGrpSpPr>
              <p:grpSpPr>
                <a:xfrm>
                  <a:off x="4334040" y="4037400"/>
                  <a:ext cx="477720" cy="329400"/>
                  <a:chOff x="4334040" y="4037400"/>
                  <a:chExt cx="477720" cy="329400"/>
                </a:xfrm>
              </p:grpSpPr>
              <p:sp>
                <p:nvSpPr>
                  <p:cNvPr id="3835" name=""/>
                  <p:cNvSpPr/>
                  <p:nvPr/>
                </p:nvSpPr>
                <p:spPr>
                  <a:xfrm>
                    <a:off x="4378320" y="40374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>
                    <a:off x="4334040" y="40374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37" name=""/>
              <p:cNvGrpSpPr/>
              <p:nvPr/>
            </p:nvGrpSpPr>
            <p:grpSpPr>
              <a:xfrm>
                <a:off x="4811760" y="4037400"/>
                <a:ext cx="477720" cy="329400"/>
                <a:chOff x="4811760" y="4037400"/>
                <a:chExt cx="477720" cy="329400"/>
              </a:xfrm>
            </p:grpSpPr>
            <p:sp>
              <p:nvSpPr>
                <p:cNvPr id="3838" name=""/>
                <p:cNvSpPr/>
                <p:nvPr/>
              </p:nvSpPr>
              <p:spPr>
                <a:xfrm>
                  <a:off x="4811760" y="40374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9" name=""/>
                <p:cNvGrpSpPr/>
                <p:nvPr/>
              </p:nvGrpSpPr>
              <p:grpSpPr>
                <a:xfrm>
                  <a:off x="4811760" y="4037400"/>
                  <a:ext cx="477720" cy="329400"/>
                  <a:chOff x="4811760" y="4037400"/>
                  <a:chExt cx="477720" cy="329400"/>
                </a:xfrm>
              </p:grpSpPr>
              <p:sp>
                <p:nvSpPr>
                  <p:cNvPr id="3840" name=""/>
                  <p:cNvSpPr/>
                  <p:nvPr/>
                </p:nvSpPr>
                <p:spPr>
                  <a:xfrm>
                    <a:off x="4856040" y="40374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4811760" y="40374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42" name=""/>
              <p:cNvGrpSpPr/>
              <p:nvPr/>
            </p:nvGrpSpPr>
            <p:grpSpPr>
              <a:xfrm>
                <a:off x="5289480" y="4037400"/>
                <a:ext cx="478080" cy="329400"/>
                <a:chOff x="5289480" y="4037400"/>
                <a:chExt cx="478080" cy="329400"/>
              </a:xfrm>
            </p:grpSpPr>
            <p:sp>
              <p:nvSpPr>
                <p:cNvPr id="3843" name=""/>
                <p:cNvSpPr/>
                <p:nvPr/>
              </p:nvSpPr>
              <p:spPr>
                <a:xfrm>
                  <a:off x="5289480" y="403740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4" name=""/>
                <p:cNvGrpSpPr/>
                <p:nvPr/>
              </p:nvGrpSpPr>
              <p:grpSpPr>
                <a:xfrm>
                  <a:off x="5289480" y="4037400"/>
                  <a:ext cx="478080" cy="329400"/>
                  <a:chOff x="5289480" y="4037400"/>
                  <a:chExt cx="478080" cy="329400"/>
                </a:xfrm>
              </p:grpSpPr>
              <p:sp>
                <p:nvSpPr>
                  <p:cNvPr id="3845" name=""/>
                  <p:cNvSpPr/>
                  <p:nvPr/>
                </p:nvSpPr>
                <p:spPr>
                  <a:xfrm>
                    <a:off x="5334120" y="40374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>
                    <a:off x="5289480" y="403740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47" name=""/>
              <p:cNvGrpSpPr/>
              <p:nvPr/>
            </p:nvGrpSpPr>
            <p:grpSpPr>
              <a:xfrm>
                <a:off x="5767560" y="4037400"/>
                <a:ext cx="477720" cy="329400"/>
                <a:chOff x="5767560" y="4037400"/>
                <a:chExt cx="477720" cy="329400"/>
              </a:xfrm>
            </p:grpSpPr>
            <p:sp>
              <p:nvSpPr>
                <p:cNvPr id="3848" name=""/>
                <p:cNvSpPr/>
                <p:nvPr/>
              </p:nvSpPr>
              <p:spPr>
                <a:xfrm>
                  <a:off x="5767560" y="40374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9" name=""/>
                <p:cNvGrpSpPr/>
                <p:nvPr/>
              </p:nvGrpSpPr>
              <p:grpSpPr>
                <a:xfrm>
                  <a:off x="5767560" y="4037400"/>
                  <a:ext cx="477720" cy="329400"/>
                  <a:chOff x="5767560" y="4037400"/>
                  <a:chExt cx="477720" cy="329400"/>
                </a:xfrm>
              </p:grpSpPr>
              <p:sp>
                <p:nvSpPr>
                  <p:cNvPr id="3850" name=""/>
                  <p:cNvSpPr/>
                  <p:nvPr/>
                </p:nvSpPr>
                <p:spPr>
                  <a:xfrm>
                    <a:off x="5811840" y="40374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1" name=""/>
                  <p:cNvSpPr/>
                  <p:nvPr/>
                </p:nvSpPr>
                <p:spPr>
                  <a:xfrm>
                    <a:off x="5767560" y="40374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52" name=""/>
              <p:cNvGrpSpPr/>
              <p:nvPr/>
            </p:nvGrpSpPr>
            <p:grpSpPr>
              <a:xfrm>
                <a:off x="6245280" y="4037400"/>
                <a:ext cx="477720" cy="329400"/>
                <a:chOff x="6245280" y="4037400"/>
                <a:chExt cx="477720" cy="329400"/>
              </a:xfrm>
            </p:grpSpPr>
            <p:sp>
              <p:nvSpPr>
                <p:cNvPr id="3853" name=""/>
                <p:cNvSpPr/>
                <p:nvPr/>
              </p:nvSpPr>
              <p:spPr>
                <a:xfrm>
                  <a:off x="6245280" y="403740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4" name=""/>
                <p:cNvGrpSpPr/>
                <p:nvPr/>
              </p:nvGrpSpPr>
              <p:grpSpPr>
                <a:xfrm>
                  <a:off x="6245280" y="4037400"/>
                  <a:ext cx="477720" cy="329400"/>
                  <a:chOff x="6245280" y="4037400"/>
                  <a:chExt cx="477720" cy="329400"/>
                </a:xfrm>
              </p:grpSpPr>
              <p:sp>
                <p:nvSpPr>
                  <p:cNvPr id="3855" name=""/>
                  <p:cNvSpPr/>
                  <p:nvPr/>
                </p:nvSpPr>
                <p:spPr>
                  <a:xfrm>
                    <a:off x="6289560" y="403740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6" name=""/>
                  <p:cNvSpPr/>
                  <p:nvPr/>
                </p:nvSpPr>
                <p:spPr>
                  <a:xfrm>
                    <a:off x="6245280" y="403740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57" name=""/>
              <p:cNvGrpSpPr/>
              <p:nvPr/>
            </p:nvGrpSpPr>
            <p:grpSpPr>
              <a:xfrm>
                <a:off x="6723000" y="4037400"/>
                <a:ext cx="478080" cy="329400"/>
                <a:chOff x="6723000" y="4037400"/>
                <a:chExt cx="478080" cy="329400"/>
              </a:xfrm>
            </p:grpSpPr>
            <p:sp>
              <p:nvSpPr>
                <p:cNvPr id="3858" name=""/>
                <p:cNvSpPr/>
                <p:nvPr/>
              </p:nvSpPr>
              <p:spPr>
                <a:xfrm>
                  <a:off x="6723000" y="403740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9" name=""/>
                <p:cNvGrpSpPr/>
                <p:nvPr/>
              </p:nvGrpSpPr>
              <p:grpSpPr>
                <a:xfrm>
                  <a:off x="6723000" y="4037400"/>
                  <a:ext cx="478080" cy="329400"/>
                  <a:chOff x="6723000" y="4037400"/>
                  <a:chExt cx="478080" cy="329400"/>
                </a:xfrm>
              </p:grpSpPr>
              <p:sp>
                <p:nvSpPr>
                  <p:cNvPr id="3860" name=""/>
                  <p:cNvSpPr/>
                  <p:nvPr/>
                </p:nvSpPr>
                <p:spPr>
                  <a:xfrm>
                    <a:off x="6767640" y="403740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1" name=""/>
                  <p:cNvSpPr/>
                  <p:nvPr/>
                </p:nvSpPr>
                <p:spPr>
                  <a:xfrm>
                    <a:off x="6723000" y="403740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62" name=""/>
              <p:cNvGrpSpPr/>
              <p:nvPr/>
            </p:nvGrpSpPr>
            <p:grpSpPr>
              <a:xfrm>
                <a:off x="1944720" y="4367160"/>
                <a:ext cx="477720" cy="329760"/>
                <a:chOff x="1944720" y="4367160"/>
                <a:chExt cx="477720" cy="329760"/>
              </a:xfrm>
            </p:grpSpPr>
            <p:sp>
              <p:nvSpPr>
                <p:cNvPr id="3863" name=""/>
                <p:cNvSpPr/>
                <p:nvPr/>
              </p:nvSpPr>
              <p:spPr>
                <a:xfrm>
                  <a:off x="1944720" y="436716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4" name=""/>
                <p:cNvGrpSpPr/>
                <p:nvPr/>
              </p:nvGrpSpPr>
              <p:grpSpPr>
                <a:xfrm>
                  <a:off x="1944720" y="4367160"/>
                  <a:ext cx="477720" cy="329760"/>
                  <a:chOff x="1944720" y="4367160"/>
                  <a:chExt cx="477720" cy="329760"/>
                </a:xfrm>
              </p:grpSpPr>
              <p:sp>
                <p:nvSpPr>
                  <p:cNvPr id="3865" name=""/>
                  <p:cNvSpPr/>
                  <p:nvPr/>
                </p:nvSpPr>
                <p:spPr>
                  <a:xfrm>
                    <a:off x="1989000" y="436716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6" name=""/>
                  <p:cNvSpPr/>
                  <p:nvPr/>
                </p:nvSpPr>
                <p:spPr>
                  <a:xfrm>
                    <a:off x="1944720" y="436716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67" name=""/>
              <p:cNvGrpSpPr/>
              <p:nvPr/>
            </p:nvGrpSpPr>
            <p:grpSpPr>
              <a:xfrm>
                <a:off x="2422440" y="4367160"/>
                <a:ext cx="478080" cy="329760"/>
                <a:chOff x="2422440" y="4367160"/>
                <a:chExt cx="478080" cy="329760"/>
              </a:xfrm>
            </p:grpSpPr>
            <p:sp>
              <p:nvSpPr>
                <p:cNvPr id="3868" name=""/>
                <p:cNvSpPr/>
                <p:nvPr/>
              </p:nvSpPr>
              <p:spPr>
                <a:xfrm>
                  <a:off x="2422440" y="436716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9" name=""/>
                <p:cNvGrpSpPr/>
                <p:nvPr/>
              </p:nvGrpSpPr>
              <p:grpSpPr>
                <a:xfrm>
                  <a:off x="2422440" y="4367160"/>
                  <a:ext cx="478080" cy="329760"/>
                  <a:chOff x="2422440" y="4367160"/>
                  <a:chExt cx="478080" cy="329760"/>
                </a:xfrm>
              </p:grpSpPr>
              <p:sp>
                <p:nvSpPr>
                  <p:cNvPr id="3870" name=""/>
                  <p:cNvSpPr/>
                  <p:nvPr/>
                </p:nvSpPr>
                <p:spPr>
                  <a:xfrm>
                    <a:off x="2467080" y="436716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1" name=""/>
                  <p:cNvSpPr/>
                  <p:nvPr/>
                </p:nvSpPr>
                <p:spPr>
                  <a:xfrm>
                    <a:off x="2422440" y="436716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2" name=""/>
              <p:cNvGrpSpPr/>
              <p:nvPr/>
            </p:nvGrpSpPr>
            <p:grpSpPr>
              <a:xfrm>
                <a:off x="2900520" y="4367160"/>
                <a:ext cx="477720" cy="329760"/>
                <a:chOff x="2900520" y="4367160"/>
                <a:chExt cx="477720" cy="329760"/>
              </a:xfrm>
            </p:grpSpPr>
            <p:sp>
              <p:nvSpPr>
                <p:cNvPr id="3873" name=""/>
                <p:cNvSpPr/>
                <p:nvPr/>
              </p:nvSpPr>
              <p:spPr>
                <a:xfrm>
                  <a:off x="2900520" y="436716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4" name=""/>
                <p:cNvGrpSpPr/>
                <p:nvPr/>
              </p:nvGrpSpPr>
              <p:grpSpPr>
                <a:xfrm>
                  <a:off x="2900520" y="4367160"/>
                  <a:ext cx="477720" cy="329760"/>
                  <a:chOff x="2900520" y="4367160"/>
                  <a:chExt cx="477720" cy="329760"/>
                </a:xfrm>
              </p:grpSpPr>
              <p:sp>
                <p:nvSpPr>
                  <p:cNvPr id="3875" name=""/>
                  <p:cNvSpPr/>
                  <p:nvPr/>
                </p:nvSpPr>
                <p:spPr>
                  <a:xfrm>
                    <a:off x="2944800" y="436716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2900520" y="436716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7" name=""/>
              <p:cNvGrpSpPr/>
              <p:nvPr/>
            </p:nvGrpSpPr>
            <p:grpSpPr>
              <a:xfrm>
                <a:off x="3378240" y="4367160"/>
                <a:ext cx="477720" cy="329760"/>
                <a:chOff x="3378240" y="4367160"/>
                <a:chExt cx="477720" cy="329760"/>
              </a:xfrm>
            </p:grpSpPr>
            <p:sp>
              <p:nvSpPr>
                <p:cNvPr id="3878" name=""/>
                <p:cNvSpPr/>
                <p:nvPr/>
              </p:nvSpPr>
              <p:spPr>
                <a:xfrm>
                  <a:off x="3378240" y="436716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9" name=""/>
                <p:cNvGrpSpPr/>
                <p:nvPr/>
              </p:nvGrpSpPr>
              <p:grpSpPr>
                <a:xfrm>
                  <a:off x="3378240" y="4367160"/>
                  <a:ext cx="477720" cy="329760"/>
                  <a:chOff x="3378240" y="4367160"/>
                  <a:chExt cx="477720" cy="329760"/>
                </a:xfrm>
              </p:grpSpPr>
              <p:sp>
                <p:nvSpPr>
                  <p:cNvPr id="3880" name=""/>
                  <p:cNvSpPr/>
                  <p:nvPr/>
                </p:nvSpPr>
                <p:spPr>
                  <a:xfrm>
                    <a:off x="3422520" y="436716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3378240" y="436716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2" name=""/>
              <p:cNvGrpSpPr/>
              <p:nvPr/>
            </p:nvGrpSpPr>
            <p:grpSpPr>
              <a:xfrm>
                <a:off x="3855960" y="4367160"/>
                <a:ext cx="478080" cy="329760"/>
                <a:chOff x="3855960" y="4367160"/>
                <a:chExt cx="478080" cy="329760"/>
              </a:xfrm>
            </p:grpSpPr>
            <p:sp>
              <p:nvSpPr>
                <p:cNvPr id="3883" name=""/>
                <p:cNvSpPr/>
                <p:nvPr/>
              </p:nvSpPr>
              <p:spPr>
                <a:xfrm>
                  <a:off x="3855960" y="436716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84" name=""/>
                <p:cNvGrpSpPr/>
                <p:nvPr/>
              </p:nvGrpSpPr>
              <p:grpSpPr>
                <a:xfrm>
                  <a:off x="3855960" y="4367160"/>
                  <a:ext cx="478080" cy="329760"/>
                  <a:chOff x="3855960" y="4367160"/>
                  <a:chExt cx="478080" cy="329760"/>
                </a:xfrm>
              </p:grpSpPr>
              <p:sp>
                <p:nvSpPr>
                  <p:cNvPr id="3885" name=""/>
                  <p:cNvSpPr/>
                  <p:nvPr/>
                </p:nvSpPr>
                <p:spPr>
                  <a:xfrm>
                    <a:off x="3900600" y="436716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>
                    <a:off x="3855960" y="436716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7" name=""/>
              <p:cNvGrpSpPr/>
              <p:nvPr/>
            </p:nvGrpSpPr>
            <p:grpSpPr>
              <a:xfrm>
                <a:off x="4334040" y="4367160"/>
                <a:ext cx="477720" cy="329760"/>
                <a:chOff x="4334040" y="4367160"/>
                <a:chExt cx="477720" cy="329760"/>
              </a:xfrm>
            </p:grpSpPr>
            <p:sp>
              <p:nvSpPr>
                <p:cNvPr id="3888" name=""/>
                <p:cNvSpPr/>
                <p:nvPr/>
              </p:nvSpPr>
              <p:spPr>
                <a:xfrm>
                  <a:off x="4334040" y="436716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89" name=""/>
                <p:cNvGrpSpPr/>
                <p:nvPr/>
              </p:nvGrpSpPr>
              <p:grpSpPr>
                <a:xfrm>
                  <a:off x="4334040" y="4367160"/>
                  <a:ext cx="477720" cy="329760"/>
                  <a:chOff x="4334040" y="4367160"/>
                  <a:chExt cx="477720" cy="329760"/>
                </a:xfrm>
              </p:grpSpPr>
              <p:sp>
                <p:nvSpPr>
                  <p:cNvPr id="3890" name=""/>
                  <p:cNvSpPr/>
                  <p:nvPr/>
                </p:nvSpPr>
                <p:spPr>
                  <a:xfrm>
                    <a:off x="4378320" y="436716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>
                    <a:off x="4334040" y="436716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92" name=""/>
              <p:cNvGrpSpPr/>
              <p:nvPr/>
            </p:nvGrpSpPr>
            <p:grpSpPr>
              <a:xfrm>
                <a:off x="4811760" y="4367160"/>
                <a:ext cx="477720" cy="329760"/>
                <a:chOff x="4811760" y="4367160"/>
                <a:chExt cx="477720" cy="329760"/>
              </a:xfrm>
            </p:grpSpPr>
            <p:sp>
              <p:nvSpPr>
                <p:cNvPr id="3893" name=""/>
                <p:cNvSpPr/>
                <p:nvPr/>
              </p:nvSpPr>
              <p:spPr>
                <a:xfrm>
                  <a:off x="4811760" y="436716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4" name=""/>
                <p:cNvGrpSpPr/>
                <p:nvPr/>
              </p:nvGrpSpPr>
              <p:grpSpPr>
                <a:xfrm>
                  <a:off x="4811760" y="4367160"/>
                  <a:ext cx="477720" cy="329760"/>
                  <a:chOff x="4811760" y="4367160"/>
                  <a:chExt cx="477720" cy="329760"/>
                </a:xfrm>
              </p:grpSpPr>
              <p:sp>
                <p:nvSpPr>
                  <p:cNvPr id="3895" name=""/>
                  <p:cNvSpPr/>
                  <p:nvPr/>
                </p:nvSpPr>
                <p:spPr>
                  <a:xfrm>
                    <a:off x="4856040" y="436716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6" name=""/>
                  <p:cNvSpPr/>
                  <p:nvPr/>
                </p:nvSpPr>
                <p:spPr>
                  <a:xfrm>
                    <a:off x="4811760" y="436716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97" name=""/>
              <p:cNvGrpSpPr/>
              <p:nvPr/>
            </p:nvGrpSpPr>
            <p:grpSpPr>
              <a:xfrm>
                <a:off x="5289480" y="4367160"/>
                <a:ext cx="478080" cy="329760"/>
                <a:chOff x="5289480" y="4367160"/>
                <a:chExt cx="478080" cy="329760"/>
              </a:xfrm>
            </p:grpSpPr>
            <p:sp>
              <p:nvSpPr>
                <p:cNvPr id="3898" name=""/>
                <p:cNvSpPr/>
                <p:nvPr/>
              </p:nvSpPr>
              <p:spPr>
                <a:xfrm>
                  <a:off x="5289480" y="436716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9" name=""/>
                <p:cNvGrpSpPr/>
                <p:nvPr/>
              </p:nvGrpSpPr>
              <p:grpSpPr>
                <a:xfrm>
                  <a:off x="5289480" y="4367160"/>
                  <a:ext cx="478080" cy="329760"/>
                  <a:chOff x="5289480" y="4367160"/>
                  <a:chExt cx="478080" cy="329760"/>
                </a:xfrm>
              </p:grpSpPr>
              <p:sp>
                <p:nvSpPr>
                  <p:cNvPr id="3900" name=""/>
                  <p:cNvSpPr/>
                  <p:nvPr/>
                </p:nvSpPr>
                <p:spPr>
                  <a:xfrm>
                    <a:off x="5334120" y="436716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>
                    <a:off x="5289480" y="436716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02" name=""/>
              <p:cNvGrpSpPr/>
              <p:nvPr/>
            </p:nvGrpSpPr>
            <p:grpSpPr>
              <a:xfrm>
                <a:off x="5767560" y="4367160"/>
                <a:ext cx="477720" cy="329760"/>
                <a:chOff x="5767560" y="4367160"/>
                <a:chExt cx="477720" cy="329760"/>
              </a:xfrm>
            </p:grpSpPr>
            <p:sp>
              <p:nvSpPr>
                <p:cNvPr id="3903" name=""/>
                <p:cNvSpPr/>
                <p:nvPr/>
              </p:nvSpPr>
              <p:spPr>
                <a:xfrm>
                  <a:off x="5767560" y="436716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4" name=""/>
                <p:cNvGrpSpPr/>
                <p:nvPr/>
              </p:nvGrpSpPr>
              <p:grpSpPr>
                <a:xfrm>
                  <a:off x="5767560" y="4367160"/>
                  <a:ext cx="477720" cy="329760"/>
                  <a:chOff x="5767560" y="4367160"/>
                  <a:chExt cx="477720" cy="329760"/>
                </a:xfrm>
              </p:grpSpPr>
              <p:sp>
                <p:nvSpPr>
                  <p:cNvPr id="3905" name=""/>
                  <p:cNvSpPr/>
                  <p:nvPr/>
                </p:nvSpPr>
                <p:spPr>
                  <a:xfrm>
                    <a:off x="5811840" y="436716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6" name=""/>
                  <p:cNvSpPr/>
                  <p:nvPr/>
                </p:nvSpPr>
                <p:spPr>
                  <a:xfrm>
                    <a:off x="5767560" y="436716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07" name=""/>
              <p:cNvGrpSpPr/>
              <p:nvPr/>
            </p:nvGrpSpPr>
            <p:grpSpPr>
              <a:xfrm>
                <a:off x="6245280" y="4367160"/>
                <a:ext cx="477720" cy="329760"/>
                <a:chOff x="6245280" y="4367160"/>
                <a:chExt cx="477720" cy="329760"/>
              </a:xfrm>
            </p:grpSpPr>
            <p:sp>
              <p:nvSpPr>
                <p:cNvPr id="3908" name=""/>
                <p:cNvSpPr/>
                <p:nvPr/>
              </p:nvSpPr>
              <p:spPr>
                <a:xfrm>
                  <a:off x="6245280" y="4367160"/>
                  <a:ext cx="47772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9" name=""/>
                <p:cNvGrpSpPr/>
                <p:nvPr/>
              </p:nvGrpSpPr>
              <p:grpSpPr>
                <a:xfrm>
                  <a:off x="6245280" y="4367160"/>
                  <a:ext cx="477720" cy="329760"/>
                  <a:chOff x="6245280" y="4367160"/>
                  <a:chExt cx="477720" cy="329760"/>
                </a:xfrm>
              </p:grpSpPr>
              <p:sp>
                <p:nvSpPr>
                  <p:cNvPr id="3910" name=""/>
                  <p:cNvSpPr/>
                  <p:nvPr/>
                </p:nvSpPr>
                <p:spPr>
                  <a:xfrm>
                    <a:off x="6289560" y="4367160"/>
                    <a:ext cx="38916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1" name=""/>
                  <p:cNvSpPr/>
                  <p:nvPr/>
                </p:nvSpPr>
                <p:spPr>
                  <a:xfrm>
                    <a:off x="6245280" y="4367160"/>
                    <a:ext cx="47772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12" name=""/>
              <p:cNvGrpSpPr/>
              <p:nvPr/>
            </p:nvGrpSpPr>
            <p:grpSpPr>
              <a:xfrm>
                <a:off x="6723000" y="4367160"/>
                <a:ext cx="478080" cy="329760"/>
                <a:chOff x="6723000" y="4367160"/>
                <a:chExt cx="478080" cy="329760"/>
              </a:xfrm>
            </p:grpSpPr>
            <p:sp>
              <p:nvSpPr>
                <p:cNvPr id="3913" name=""/>
                <p:cNvSpPr/>
                <p:nvPr/>
              </p:nvSpPr>
              <p:spPr>
                <a:xfrm>
                  <a:off x="6723000" y="4367160"/>
                  <a:ext cx="478080" cy="32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4" name=""/>
                <p:cNvGrpSpPr/>
                <p:nvPr/>
              </p:nvGrpSpPr>
              <p:grpSpPr>
                <a:xfrm>
                  <a:off x="6723000" y="4367160"/>
                  <a:ext cx="478080" cy="329760"/>
                  <a:chOff x="6723000" y="4367160"/>
                  <a:chExt cx="478080" cy="329760"/>
                </a:xfrm>
              </p:grpSpPr>
              <p:sp>
                <p:nvSpPr>
                  <p:cNvPr id="3915" name=""/>
                  <p:cNvSpPr/>
                  <p:nvPr/>
                </p:nvSpPr>
                <p:spPr>
                  <a:xfrm>
                    <a:off x="6767640" y="4367160"/>
                    <a:ext cx="388800" cy="329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6" name=""/>
                  <p:cNvSpPr/>
                  <p:nvPr/>
                </p:nvSpPr>
                <p:spPr>
                  <a:xfrm>
                    <a:off x="6723000" y="4367160"/>
                    <a:ext cx="478080" cy="329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17" name=""/>
              <p:cNvGrpSpPr/>
              <p:nvPr/>
            </p:nvGrpSpPr>
            <p:grpSpPr>
              <a:xfrm>
                <a:off x="1944720" y="4696920"/>
                <a:ext cx="477720" cy="329400"/>
                <a:chOff x="1944720" y="4696920"/>
                <a:chExt cx="477720" cy="329400"/>
              </a:xfrm>
            </p:grpSpPr>
            <p:sp>
              <p:nvSpPr>
                <p:cNvPr id="3918" name=""/>
                <p:cNvSpPr/>
                <p:nvPr/>
              </p:nvSpPr>
              <p:spPr>
                <a:xfrm>
                  <a:off x="1944720" y="46969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9" name=""/>
                <p:cNvGrpSpPr/>
                <p:nvPr/>
              </p:nvGrpSpPr>
              <p:grpSpPr>
                <a:xfrm>
                  <a:off x="1944720" y="4696920"/>
                  <a:ext cx="477720" cy="329400"/>
                  <a:chOff x="1944720" y="4696920"/>
                  <a:chExt cx="477720" cy="329400"/>
                </a:xfrm>
              </p:grpSpPr>
              <p:sp>
                <p:nvSpPr>
                  <p:cNvPr id="3920" name=""/>
                  <p:cNvSpPr/>
                  <p:nvPr/>
                </p:nvSpPr>
                <p:spPr>
                  <a:xfrm>
                    <a:off x="1989000" y="46969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1" name=""/>
                  <p:cNvSpPr/>
                  <p:nvPr/>
                </p:nvSpPr>
                <p:spPr>
                  <a:xfrm>
                    <a:off x="1944720" y="46969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2" name=""/>
              <p:cNvGrpSpPr/>
              <p:nvPr/>
            </p:nvGrpSpPr>
            <p:grpSpPr>
              <a:xfrm>
                <a:off x="2422440" y="4696920"/>
                <a:ext cx="478080" cy="329400"/>
                <a:chOff x="2422440" y="4696920"/>
                <a:chExt cx="478080" cy="329400"/>
              </a:xfrm>
            </p:grpSpPr>
            <p:sp>
              <p:nvSpPr>
                <p:cNvPr id="3923" name=""/>
                <p:cNvSpPr/>
                <p:nvPr/>
              </p:nvSpPr>
              <p:spPr>
                <a:xfrm>
                  <a:off x="2422440" y="469692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4" name=""/>
                <p:cNvGrpSpPr/>
                <p:nvPr/>
              </p:nvGrpSpPr>
              <p:grpSpPr>
                <a:xfrm>
                  <a:off x="2422440" y="4696920"/>
                  <a:ext cx="478080" cy="329400"/>
                  <a:chOff x="2422440" y="4696920"/>
                  <a:chExt cx="478080" cy="329400"/>
                </a:xfrm>
              </p:grpSpPr>
              <p:sp>
                <p:nvSpPr>
                  <p:cNvPr id="3925" name=""/>
                  <p:cNvSpPr/>
                  <p:nvPr/>
                </p:nvSpPr>
                <p:spPr>
                  <a:xfrm>
                    <a:off x="2467080" y="46969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>
                    <a:off x="2422440" y="469692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7" name=""/>
              <p:cNvGrpSpPr/>
              <p:nvPr/>
            </p:nvGrpSpPr>
            <p:grpSpPr>
              <a:xfrm>
                <a:off x="2900520" y="4696920"/>
                <a:ext cx="477720" cy="329400"/>
                <a:chOff x="2900520" y="4696920"/>
                <a:chExt cx="477720" cy="329400"/>
              </a:xfrm>
            </p:grpSpPr>
            <p:sp>
              <p:nvSpPr>
                <p:cNvPr id="3928" name=""/>
                <p:cNvSpPr/>
                <p:nvPr/>
              </p:nvSpPr>
              <p:spPr>
                <a:xfrm>
                  <a:off x="2900520" y="46969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9" name=""/>
                <p:cNvGrpSpPr/>
                <p:nvPr/>
              </p:nvGrpSpPr>
              <p:grpSpPr>
                <a:xfrm>
                  <a:off x="2900520" y="4696920"/>
                  <a:ext cx="477720" cy="329400"/>
                  <a:chOff x="2900520" y="4696920"/>
                  <a:chExt cx="477720" cy="329400"/>
                </a:xfrm>
              </p:grpSpPr>
              <p:sp>
                <p:nvSpPr>
                  <p:cNvPr id="3930" name=""/>
                  <p:cNvSpPr/>
                  <p:nvPr/>
                </p:nvSpPr>
                <p:spPr>
                  <a:xfrm>
                    <a:off x="2944800" y="46969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>
                    <a:off x="2900520" y="46969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2" name=""/>
              <p:cNvGrpSpPr/>
              <p:nvPr/>
            </p:nvGrpSpPr>
            <p:grpSpPr>
              <a:xfrm>
                <a:off x="3378240" y="4696920"/>
                <a:ext cx="477720" cy="329400"/>
                <a:chOff x="3378240" y="4696920"/>
                <a:chExt cx="477720" cy="329400"/>
              </a:xfrm>
            </p:grpSpPr>
            <p:sp>
              <p:nvSpPr>
                <p:cNvPr id="3933" name=""/>
                <p:cNvSpPr/>
                <p:nvPr/>
              </p:nvSpPr>
              <p:spPr>
                <a:xfrm>
                  <a:off x="3378240" y="46969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4" name=""/>
                <p:cNvGrpSpPr/>
                <p:nvPr/>
              </p:nvGrpSpPr>
              <p:grpSpPr>
                <a:xfrm>
                  <a:off x="3378240" y="4696920"/>
                  <a:ext cx="477720" cy="329400"/>
                  <a:chOff x="3378240" y="4696920"/>
                  <a:chExt cx="477720" cy="329400"/>
                </a:xfrm>
              </p:grpSpPr>
              <p:sp>
                <p:nvSpPr>
                  <p:cNvPr id="3935" name=""/>
                  <p:cNvSpPr/>
                  <p:nvPr/>
                </p:nvSpPr>
                <p:spPr>
                  <a:xfrm>
                    <a:off x="3422520" y="46969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6" name=""/>
                  <p:cNvSpPr/>
                  <p:nvPr/>
                </p:nvSpPr>
                <p:spPr>
                  <a:xfrm>
                    <a:off x="3378240" y="46969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7" name=""/>
              <p:cNvGrpSpPr/>
              <p:nvPr/>
            </p:nvGrpSpPr>
            <p:grpSpPr>
              <a:xfrm>
                <a:off x="3855960" y="4696920"/>
                <a:ext cx="478080" cy="329400"/>
                <a:chOff x="3855960" y="4696920"/>
                <a:chExt cx="478080" cy="329400"/>
              </a:xfrm>
            </p:grpSpPr>
            <p:sp>
              <p:nvSpPr>
                <p:cNvPr id="3938" name=""/>
                <p:cNvSpPr/>
                <p:nvPr/>
              </p:nvSpPr>
              <p:spPr>
                <a:xfrm>
                  <a:off x="3855960" y="469692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9" name=""/>
                <p:cNvGrpSpPr/>
                <p:nvPr/>
              </p:nvGrpSpPr>
              <p:grpSpPr>
                <a:xfrm>
                  <a:off x="3855960" y="4696920"/>
                  <a:ext cx="478080" cy="329400"/>
                  <a:chOff x="3855960" y="4696920"/>
                  <a:chExt cx="478080" cy="329400"/>
                </a:xfrm>
              </p:grpSpPr>
              <p:sp>
                <p:nvSpPr>
                  <p:cNvPr id="3940" name=""/>
                  <p:cNvSpPr/>
                  <p:nvPr/>
                </p:nvSpPr>
                <p:spPr>
                  <a:xfrm>
                    <a:off x="3900600" y="46969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3855960" y="469692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2" name=""/>
              <p:cNvGrpSpPr/>
              <p:nvPr/>
            </p:nvGrpSpPr>
            <p:grpSpPr>
              <a:xfrm>
                <a:off x="4334040" y="4696920"/>
                <a:ext cx="477720" cy="329400"/>
                <a:chOff x="4334040" y="4696920"/>
                <a:chExt cx="477720" cy="329400"/>
              </a:xfrm>
            </p:grpSpPr>
            <p:sp>
              <p:nvSpPr>
                <p:cNvPr id="3943" name=""/>
                <p:cNvSpPr/>
                <p:nvPr/>
              </p:nvSpPr>
              <p:spPr>
                <a:xfrm>
                  <a:off x="4334040" y="46969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4" name=""/>
                <p:cNvGrpSpPr/>
                <p:nvPr/>
              </p:nvGrpSpPr>
              <p:grpSpPr>
                <a:xfrm>
                  <a:off x="4334040" y="4696920"/>
                  <a:ext cx="477720" cy="329400"/>
                  <a:chOff x="4334040" y="4696920"/>
                  <a:chExt cx="477720" cy="329400"/>
                </a:xfrm>
              </p:grpSpPr>
              <p:sp>
                <p:nvSpPr>
                  <p:cNvPr id="3945" name=""/>
                  <p:cNvSpPr/>
                  <p:nvPr/>
                </p:nvSpPr>
                <p:spPr>
                  <a:xfrm>
                    <a:off x="4378320" y="46969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>
                    <a:off x="4334040" y="46969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7" name=""/>
              <p:cNvGrpSpPr/>
              <p:nvPr/>
            </p:nvGrpSpPr>
            <p:grpSpPr>
              <a:xfrm>
                <a:off x="4811760" y="4696920"/>
                <a:ext cx="477720" cy="329400"/>
                <a:chOff x="4811760" y="4696920"/>
                <a:chExt cx="477720" cy="329400"/>
              </a:xfrm>
            </p:grpSpPr>
            <p:sp>
              <p:nvSpPr>
                <p:cNvPr id="3948" name=""/>
                <p:cNvSpPr/>
                <p:nvPr/>
              </p:nvSpPr>
              <p:spPr>
                <a:xfrm>
                  <a:off x="4811760" y="46969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9" name=""/>
                <p:cNvGrpSpPr/>
                <p:nvPr/>
              </p:nvGrpSpPr>
              <p:grpSpPr>
                <a:xfrm>
                  <a:off x="4811760" y="4696920"/>
                  <a:ext cx="477720" cy="329400"/>
                  <a:chOff x="4811760" y="4696920"/>
                  <a:chExt cx="477720" cy="329400"/>
                </a:xfrm>
              </p:grpSpPr>
              <p:sp>
                <p:nvSpPr>
                  <p:cNvPr id="3950" name=""/>
                  <p:cNvSpPr/>
                  <p:nvPr/>
                </p:nvSpPr>
                <p:spPr>
                  <a:xfrm>
                    <a:off x="4856040" y="46969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>
                    <a:off x="4811760" y="46969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52" name=""/>
              <p:cNvGrpSpPr/>
              <p:nvPr/>
            </p:nvGrpSpPr>
            <p:grpSpPr>
              <a:xfrm>
                <a:off x="5289480" y="4696920"/>
                <a:ext cx="478080" cy="329400"/>
                <a:chOff x="5289480" y="4696920"/>
                <a:chExt cx="478080" cy="329400"/>
              </a:xfrm>
            </p:grpSpPr>
            <p:sp>
              <p:nvSpPr>
                <p:cNvPr id="3953" name=""/>
                <p:cNvSpPr/>
                <p:nvPr/>
              </p:nvSpPr>
              <p:spPr>
                <a:xfrm>
                  <a:off x="5289480" y="469692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4" name=""/>
                <p:cNvGrpSpPr/>
                <p:nvPr/>
              </p:nvGrpSpPr>
              <p:grpSpPr>
                <a:xfrm>
                  <a:off x="5289480" y="4696920"/>
                  <a:ext cx="478080" cy="329400"/>
                  <a:chOff x="5289480" y="4696920"/>
                  <a:chExt cx="478080" cy="329400"/>
                </a:xfrm>
              </p:grpSpPr>
              <p:sp>
                <p:nvSpPr>
                  <p:cNvPr id="3955" name=""/>
                  <p:cNvSpPr/>
                  <p:nvPr/>
                </p:nvSpPr>
                <p:spPr>
                  <a:xfrm>
                    <a:off x="5334120" y="46969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>
                    <a:off x="5289480" y="469692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57" name=""/>
              <p:cNvGrpSpPr/>
              <p:nvPr/>
            </p:nvGrpSpPr>
            <p:grpSpPr>
              <a:xfrm>
                <a:off x="5767560" y="4696920"/>
                <a:ext cx="477720" cy="329400"/>
                <a:chOff x="5767560" y="4696920"/>
                <a:chExt cx="477720" cy="329400"/>
              </a:xfrm>
            </p:grpSpPr>
            <p:sp>
              <p:nvSpPr>
                <p:cNvPr id="3958" name=""/>
                <p:cNvSpPr/>
                <p:nvPr/>
              </p:nvSpPr>
              <p:spPr>
                <a:xfrm>
                  <a:off x="5767560" y="46969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9" name=""/>
                <p:cNvGrpSpPr/>
                <p:nvPr/>
              </p:nvGrpSpPr>
              <p:grpSpPr>
                <a:xfrm>
                  <a:off x="5767560" y="4696920"/>
                  <a:ext cx="477720" cy="329400"/>
                  <a:chOff x="5767560" y="4696920"/>
                  <a:chExt cx="477720" cy="329400"/>
                </a:xfrm>
              </p:grpSpPr>
              <p:sp>
                <p:nvSpPr>
                  <p:cNvPr id="3960" name=""/>
                  <p:cNvSpPr/>
                  <p:nvPr/>
                </p:nvSpPr>
                <p:spPr>
                  <a:xfrm>
                    <a:off x="5811840" y="46969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1" name=""/>
                  <p:cNvSpPr/>
                  <p:nvPr/>
                </p:nvSpPr>
                <p:spPr>
                  <a:xfrm>
                    <a:off x="5767560" y="46969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2" name=""/>
              <p:cNvGrpSpPr/>
              <p:nvPr/>
            </p:nvGrpSpPr>
            <p:grpSpPr>
              <a:xfrm>
                <a:off x="6245280" y="4696920"/>
                <a:ext cx="477720" cy="329400"/>
                <a:chOff x="6245280" y="4696920"/>
                <a:chExt cx="477720" cy="329400"/>
              </a:xfrm>
            </p:grpSpPr>
            <p:sp>
              <p:nvSpPr>
                <p:cNvPr id="3963" name=""/>
                <p:cNvSpPr/>
                <p:nvPr/>
              </p:nvSpPr>
              <p:spPr>
                <a:xfrm>
                  <a:off x="6245280" y="4696920"/>
                  <a:ext cx="47772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64" name=""/>
                <p:cNvGrpSpPr/>
                <p:nvPr/>
              </p:nvGrpSpPr>
              <p:grpSpPr>
                <a:xfrm>
                  <a:off x="6245280" y="4696920"/>
                  <a:ext cx="477720" cy="329400"/>
                  <a:chOff x="6245280" y="4696920"/>
                  <a:chExt cx="477720" cy="329400"/>
                </a:xfrm>
              </p:grpSpPr>
              <p:sp>
                <p:nvSpPr>
                  <p:cNvPr id="3965" name=""/>
                  <p:cNvSpPr/>
                  <p:nvPr/>
                </p:nvSpPr>
                <p:spPr>
                  <a:xfrm>
                    <a:off x="6289560" y="4696920"/>
                    <a:ext cx="3891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6" name=""/>
                  <p:cNvSpPr/>
                  <p:nvPr/>
                </p:nvSpPr>
                <p:spPr>
                  <a:xfrm>
                    <a:off x="6245280" y="4696920"/>
                    <a:ext cx="47772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7" name=""/>
              <p:cNvGrpSpPr/>
              <p:nvPr/>
            </p:nvGrpSpPr>
            <p:grpSpPr>
              <a:xfrm>
                <a:off x="6723000" y="4696920"/>
                <a:ext cx="478080" cy="329400"/>
                <a:chOff x="6723000" y="4696920"/>
                <a:chExt cx="478080" cy="329400"/>
              </a:xfrm>
            </p:grpSpPr>
            <p:sp>
              <p:nvSpPr>
                <p:cNvPr id="3968" name=""/>
                <p:cNvSpPr/>
                <p:nvPr/>
              </p:nvSpPr>
              <p:spPr>
                <a:xfrm>
                  <a:off x="6723000" y="4696920"/>
                  <a:ext cx="478080" cy="329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69" name=""/>
                <p:cNvGrpSpPr/>
                <p:nvPr/>
              </p:nvGrpSpPr>
              <p:grpSpPr>
                <a:xfrm>
                  <a:off x="6723000" y="4696920"/>
                  <a:ext cx="478080" cy="329400"/>
                  <a:chOff x="6723000" y="4696920"/>
                  <a:chExt cx="478080" cy="329400"/>
                </a:xfrm>
              </p:grpSpPr>
              <p:sp>
                <p:nvSpPr>
                  <p:cNvPr id="3970" name=""/>
                  <p:cNvSpPr/>
                  <p:nvPr/>
                </p:nvSpPr>
                <p:spPr>
                  <a:xfrm>
                    <a:off x="6767640" y="4696920"/>
                    <a:ext cx="38880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1" name=""/>
                  <p:cNvSpPr/>
                  <p:nvPr/>
                </p:nvSpPr>
                <p:spPr>
                  <a:xfrm>
                    <a:off x="6723000" y="4696920"/>
                    <a:ext cx="478080" cy="329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72" name=""/>
            <p:cNvSpPr/>
            <p:nvPr/>
          </p:nvSpPr>
          <p:spPr>
            <a:xfrm>
              <a:off x="1940040" y="1066680"/>
              <a:ext cx="5265720" cy="3962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3" name=""/>
          <p:cNvSpPr/>
          <p:nvPr/>
        </p:nvSpPr>
        <p:spPr>
          <a:xfrm>
            <a:off x="3708360" y="5299200"/>
            <a:ext cx="16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m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0" y="1066680"/>
            <a:ext cx="168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onna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0" y="2286000"/>
            <a:ext cx="168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onna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0" y="3505320"/>
            <a:ext cx="168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onna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-1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0" y="4724280"/>
            <a:ext cx="168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on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7315200" y="1600200"/>
            <a:ext cx="182880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he2,6,7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7459560" y="3276720"/>
            <a:ext cx="168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a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3948480" y="5943600"/>
            <a:ext cx="129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tream Cip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96120" y="2819520"/>
            <a:ext cx="2445480" cy="1828800"/>
            <a:chOff x="996120" y="2819520"/>
            <a:chExt cx="2445480" cy="1828800"/>
          </a:xfrm>
        </p:grpSpPr>
        <p:grpSp>
          <p:nvGrpSpPr>
            <p:cNvPr id="110" name=""/>
            <p:cNvGrpSpPr/>
            <p:nvPr/>
          </p:nvGrpSpPr>
          <p:grpSpPr>
            <a:xfrm>
              <a:off x="1917720" y="3733920"/>
              <a:ext cx="914400" cy="914400"/>
              <a:chOff x="1917720" y="3733920"/>
              <a:chExt cx="914400" cy="914400"/>
            </a:xfrm>
          </p:grpSpPr>
          <p:sp>
            <p:nvSpPr>
              <p:cNvPr id="111" name=""/>
              <p:cNvSpPr/>
              <p:nvPr/>
            </p:nvSpPr>
            <p:spPr>
              <a:xfrm>
                <a:off x="1917720" y="373392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374920" y="373392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7720" y="4191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384200" y="41911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32120" y="4191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4920" y="3276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6120" y="3886200"/>
              <a:ext cx="46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28400" y="281952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43960" y="4883040"/>
            <a:ext cx="1904400" cy="12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F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= 1, 2, 3,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402880" y="2819520"/>
            <a:ext cx="2445840" cy="1828800"/>
            <a:chOff x="5402880" y="2819520"/>
            <a:chExt cx="2445840" cy="1828800"/>
          </a:xfrm>
        </p:grpSpPr>
        <p:grpSp>
          <p:nvGrpSpPr>
            <p:cNvPr id="121" name=""/>
            <p:cNvGrpSpPr/>
            <p:nvPr/>
          </p:nvGrpSpPr>
          <p:grpSpPr>
            <a:xfrm>
              <a:off x="6324480" y="3733920"/>
              <a:ext cx="914400" cy="914400"/>
              <a:chOff x="6324480" y="3733920"/>
              <a:chExt cx="914400" cy="914400"/>
            </a:xfrm>
          </p:grpSpPr>
          <p:sp>
            <p:nvSpPr>
              <p:cNvPr id="122" name=""/>
              <p:cNvSpPr/>
              <p:nvPr/>
            </p:nvSpPr>
            <p:spPr>
              <a:xfrm>
                <a:off x="6324480" y="373392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81680" y="373392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24480" y="4191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791320" y="41911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8880" y="41911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3276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02880" y="38862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35520" y="281952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51400" y="4854600"/>
            <a:ext cx="2871720" cy="165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CIF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= 1, 2, 3,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00400" y="1447920"/>
            <a:ext cx="2743200" cy="459720"/>
            <a:chOff x="3200400" y="1447920"/>
            <a:chExt cx="2743200" cy="459720"/>
          </a:xfrm>
        </p:grpSpPr>
        <p:sp>
          <p:nvSpPr>
            <p:cNvPr id="132" name=""/>
            <p:cNvSpPr/>
            <p:nvPr/>
          </p:nvSpPr>
          <p:spPr>
            <a:xfrm>
              <a:off x="3200400" y="1905120"/>
              <a:ext cx="2743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13480" y="14479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sincronis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676960" y="2438280"/>
            <a:ext cx="380736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LUSSO DI CHI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ungo quanto il t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mato da bit pseudocas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elto dal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752480" y="228600"/>
            <a:ext cx="5562720" cy="2666880"/>
            <a:chOff x="1752480" y="228600"/>
            <a:chExt cx="5562720" cy="2666880"/>
          </a:xfrm>
        </p:grpSpPr>
        <p:sp>
          <p:nvSpPr>
            <p:cNvPr id="136" name=""/>
            <p:cNvSpPr/>
            <p:nvPr/>
          </p:nvSpPr>
          <p:spPr>
            <a:xfrm>
              <a:off x="236232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8168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172200" y="228600"/>
              <a:ext cx="1143000" cy="2244600"/>
              <a:chOff x="6172200" y="228600"/>
              <a:chExt cx="1143000" cy="2244600"/>
            </a:xfrm>
          </p:grpSpPr>
          <p:sp>
            <p:nvSpPr>
              <p:cNvPr id="139" name=""/>
              <p:cNvSpPr/>
              <p:nvPr/>
            </p:nvSpPr>
            <p:spPr>
              <a:xfrm>
                <a:off x="6172200" y="1330200"/>
                <a:ext cx="1143000" cy="1143000"/>
              </a:xfrm>
              <a:prstGeom prst="octagon">
                <a:avLst>
                  <a:gd name="adj" fmla="val 29287"/>
                </a:avLst>
              </a:prstGeom>
              <a:solidFill>
                <a:srgbClr val="cc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782040" y="72072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38600" y="228600"/>
                <a:ext cx="72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se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752480" y="228600"/>
              <a:ext cx="1143000" cy="2244600"/>
              <a:chOff x="1752480" y="228600"/>
              <a:chExt cx="1143000" cy="2244600"/>
            </a:xfrm>
          </p:grpSpPr>
          <p:sp>
            <p:nvSpPr>
              <p:cNvPr id="143" name=""/>
              <p:cNvSpPr/>
              <p:nvPr/>
            </p:nvSpPr>
            <p:spPr>
              <a:xfrm>
                <a:off x="1752480" y="1330200"/>
                <a:ext cx="1143000" cy="1143000"/>
              </a:xfrm>
              <a:prstGeom prst="octagon">
                <a:avLst>
                  <a:gd name="adj" fmla="val 29287"/>
                </a:avLst>
              </a:prstGeom>
              <a:solidFill>
                <a:srgbClr val="cc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62320" y="72072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18880" y="228600"/>
                <a:ext cx="72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se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iccolo teorema di Fe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44136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514080" y="990720"/>
            <a:ext cx="8268480" cy="12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4 (piccolo teorema di Fermat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: “per ogni primo p e per ogni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Z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i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 = 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, cioè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1 (mod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141840" y="4559400"/>
            <a:ext cx="885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’algoritmo DH ogni utente deve scegliere il suo numero segreto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’intervallo 1 ¸ p-1, estremi esclus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motivo è molto semplice: se l’intruso intercetta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g oppure Y =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avrebbe alcuna difficoltà ad identificare il segr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533520" y="2714760"/>
            <a:ext cx="822960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seguenz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x (mod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c mod p +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(mod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re proprietà di GF(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4136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214200" y="1454040"/>
            <a:ext cx="87318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adici quadrate di 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(p-1)/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mod p = +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se x </a:t>
            </a:r>
            <a:r>
              <a:rPr b="0" lang="it-IT" sz="2400" spc="-1" strike="noStrike">
                <a:solidFill>
                  <a:srgbClr val="ff9900"/>
                </a:solidFill>
                <a:latin typeface="Times New Roman"/>
              </a:rPr>
              <a:t>non è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una radice primitiva di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 –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cioè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se x </a:t>
            </a:r>
            <a:r>
              <a:rPr b="1" lang="it-IT" sz="2400" spc="-1" strike="noStrike">
                <a:solidFill>
                  <a:srgbClr val="ff9900"/>
                </a:solidFill>
                <a:latin typeface="Times New Roman"/>
              </a:rPr>
              <a:t>è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 generatore di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sidui quadratici modulo 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:{y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Z*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| y=x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|Q| = (p-1)/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+x, -x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orniscono lo stess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ciproco (T5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“l’inverso moltiplicativo di x in GF(p) 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p-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fatt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p-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mod p =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.B.il modo più semplice di calcolarlo è l’algoritmo esteso di Euc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"/>
          <p:cNvSpPr/>
          <p:nvPr/>
        </p:nvSpPr>
        <p:spPr>
          <a:xfrm>
            <a:off x="76320" y="2438280"/>
            <a:ext cx="90406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l’aiuto di Mathemati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vede subito che 2 è u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i generatori di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ori modulo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44136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4267080" y="2666880"/>
            <a:ext cx="449604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d[2^{1,2,3,4,5,6,7,8,9,10},1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{2,4,8,5,10,9,7,3,6,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692280" y="4343400"/>
            <a:ext cx="7715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7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“i generatori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ono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-1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; per ogni generatore si 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(p-1)/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 = -1 = p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439920" y="762120"/>
            <a:ext cx="81964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“per ogni prim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esiste u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 &lt; 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detto generatore modulo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radice primitiva di p, le cui poten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 , 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 , … 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niscono tutti gli interi compresi tr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1402200" y="5334120"/>
            <a:ext cx="62082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) = 2.5 = 10.(1-1/2).(1-1/5) = (2-1).(5-1)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60480" y="3733920"/>
            <a:ext cx="90835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oprietà vale anche per 6, 7,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1334160" y="5943600"/>
            <a:ext cx="6421680" cy="875880"/>
            <a:chOff x="1334160" y="5943600"/>
            <a:chExt cx="6421680" cy="875880"/>
          </a:xfrm>
        </p:grpSpPr>
        <p:sp>
          <p:nvSpPr>
            <p:cNvPr id="3998" name=""/>
            <p:cNvSpPr/>
            <p:nvPr/>
          </p:nvSpPr>
          <p:spPr>
            <a:xfrm>
              <a:off x="1334160" y="5943600"/>
              <a:ext cx="6421680" cy="875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è un generatore di Z*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se e solo se 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it-IT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(n)/q </a:t>
              </a:r>
              <a:r>
                <a:rPr b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 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er ogni 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divisore primo di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(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H="1">
              <a:off x="7197480" y="6095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eneratori mod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76320" y="5502240"/>
            <a:ext cx="9040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generatori di p = 11 sono 2, 6, 7,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colonna i = 5 si ha sempre 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0, cioè –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colonna i = 2 non c’è 1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 ogni b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 e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-1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modp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593640" y="590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3" name=""/>
          <p:cNvGrpSpPr/>
          <p:nvPr/>
        </p:nvGrpSpPr>
        <p:grpSpPr>
          <a:xfrm>
            <a:off x="2362320" y="1295280"/>
            <a:ext cx="4427280" cy="2845080"/>
            <a:chOff x="2362320" y="1295280"/>
            <a:chExt cx="4427280" cy="2845080"/>
          </a:xfrm>
        </p:grpSpPr>
        <p:grpSp>
          <p:nvGrpSpPr>
            <p:cNvPr id="4004" name=""/>
            <p:cNvGrpSpPr/>
            <p:nvPr/>
          </p:nvGrpSpPr>
          <p:grpSpPr>
            <a:xfrm>
              <a:off x="2365920" y="1298880"/>
              <a:ext cx="4419000" cy="2837520"/>
              <a:chOff x="2365920" y="1298880"/>
              <a:chExt cx="4419000" cy="2837520"/>
            </a:xfrm>
          </p:grpSpPr>
          <p:grpSp>
            <p:nvGrpSpPr>
              <p:cNvPr id="4005" name=""/>
              <p:cNvGrpSpPr/>
              <p:nvPr/>
            </p:nvGrpSpPr>
            <p:grpSpPr>
              <a:xfrm>
                <a:off x="2365920" y="1298880"/>
                <a:ext cx="401400" cy="472680"/>
                <a:chOff x="2365920" y="1298880"/>
                <a:chExt cx="401400" cy="472680"/>
              </a:xfrm>
            </p:grpSpPr>
            <p:sp>
              <p:nvSpPr>
                <p:cNvPr id="4006" name=""/>
                <p:cNvSpPr/>
                <p:nvPr/>
              </p:nvSpPr>
              <p:spPr>
                <a:xfrm>
                  <a:off x="2365920" y="1298880"/>
                  <a:ext cx="401400" cy="4726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7" name=""/>
                <p:cNvGrpSpPr/>
                <p:nvPr/>
              </p:nvGrpSpPr>
              <p:grpSpPr>
                <a:xfrm>
                  <a:off x="2365920" y="1298880"/>
                  <a:ext cx="401400" cy="472680"/>
                  <a:chOff x="2365920" y="1298880"/>
                  <a:chExt cx="401400" cy="472680"/>
                </a:xfrm>
              </p:grpSpPr>
              <p:sp>
                <p:nvSpPr>
                  <p:cNvPr id="4008" name=""/>
                  <p:cNvSpPr/>
                  <p:nvPr/>
                </p:nvSpPr>
                <p:spPr>
                  <a:xfrm>
                    <a:off x="2403000" y="1298880"/>
                    <a:ext cx="326880" cy="4726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9" name=""/>
                  <p:cNvSpPr/>
                  <p:nvPr/>
                </p:nvSpPr>
                <p:spPr>
                  <a:xfrm>
                    <a:off x="2365920" y="129888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0" name=""/>
              <p:cNvGrpSpPr/>
              <p:nvPr/>
            </p:nvGrpSpPr>
            <p:grpSpPr>
              <a:xfrm>
                <a:off x="2767320" y="1298880"/>
                <a:ext cx="4017600" cy="472680"/>
                <a:chOff x="2767320" y="1298880"/>
                <a:chExt cx="4017600" cy="472680"/>
              </a:xfrm>
            </p:grpSpPr>
            <p:sp>
              <p:nvSpPr>
                <p:cNvPr id="4011" name=""/>
                <p:cNvSpPr/>
                <p:nvPr/>
              </p:nvSpPr>
              <p:spPr>
                <a:xfrm>
                  <a:off x="2767320" y="1298880"/>
                  <a:ext cx="40176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2" name=""/>
                <p:cNvGrpSpPr/>
                <p:nvPr/>
              </p:nvGrpSpPr>
              <p:grpSpPr>
                <a:xfrm>
                  <a:off x="2767320" y="1298880"/>
                  <a:ext cx="4017600" cy="472680"/>
                  <a:chOff x="2767320" y="1298880"/>
                  <a:chExt cx="4017600" cy="472680"/>
                </a:xfrm>
              </p:grpSpPr>
              <p:sp>
                <p:nvSpPr>
                  <p:cNvPr id="4013" name=""/>
                  <p:cNvSpPr/>
                  <p:nvPr/>
                </p:nvSpPr>
                <p:spPr>
                  <a:xfrm>
                    <a:off x="2804760" y="1298880"/>
                    <a:ext cx="394236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4" name=""/>
                  <p:cNvSpPr/>
                  <p:nvPr/>
                </p:nvSpPr>
                <p:spPr>
                  <a:xfrm>
                    <a:off x="2767320" y="1298880"/>
                    <a:ext cx="40176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5" name=""/>
              <p:cNvGrpSpPr/>
              <p:nvPr/>
            </p:nvGrpSpPr>
            <p:grpSpPr>
              <a:xfrm>
                <a:off x="2365920" y="1771560"/>
                <a:ext cx="401400" cy="473040"/>
                <a:chOff x="2365920" y="1771560"/>
                <a:chExt cx="401400" cy="47304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2365920" y="17715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7" name=""/>
                <p:cNvGrpSpPr/>
                <p:nvPr/>
              </p:nvGrpSpPr>
              <p:grpSpPr>
                <a:xfrm>
                  <a:off x="2365920" y="1771560"/>
                  <a:ext cx="401400" cy="473040"/>
                  <a:chOff x="2365920" y="1771560"/>
                  <a:chExt cx="401400" cy="473040"/>
                </a:xfrm>
              </p:grpSpPr>
              <p:sp>
                <p:nvSpPr>
                  <p:cNvPr id="4018" name=""/>
                  <p:cNvSpPr/>
                  <p:nvPr/>
                </p:nvSpPr>
                <p:spPr>
                  <a:xfrm>
                    <a:off x="2403000" y="17715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9" name=""/>
                  <p:cNvSpPr/>
                  <p:nvPr/>
                </p:nvSpPr>
                <p:spPr>
                  <a:xfrm>
                    <a:off x="2365920" y="17715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20" name=""/>
              <p:cNvGrpSpPr/>
              <p:nvPr/>
            </p:nvGrpSpPr>
            <p:grpSpPr>
              <a:xfrm>
                <a:off x="2767320" y="1771560"/>
                <a:ext cx="401760" cy="473040"/>
                <a:chOff x="2767320" y="1771560"/>
                <a:chExt cx="401760" cy="473040"/>
              </a:xfrm>
            </p:grpSpPr>
            <p:sp>
              <p:nvSpPr>
                <p:cNvPr id="4021" name=""/>
                <p:cNvSpPr/>
                <p:nvPr/>
              </p:nvSpPr>
              <p:spPr>
                <a:xfrm>
                  <a:off x="2767320" y="177156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2" name=""/>
                <p:cNvGrpSpPr/>
                <p:nvPr/>
              </p:nvGrpSpPr>
              <p:grpSpPr>
                <a:xfrm>
                  <a:off x="2767320" y="1771560"/>
                  <a:ext cx="401760" cy="473040"/>
                  <a:chOff x="2767320" y="1771560"/>
                  <a:chExt cx="401760" cy="473040"/>
                </a:xfrm>
              </p:grpSpPr>
              <p:sp>
                <p:nvSpPr>
                  <p:cNvPr id="4023" name=""/>
                  <p:cNvSpPr/>
                  <p:nvPr/>
                </p:nvSpPr>
                <p:spPr>
                  <a:xfrm>
                    <a:off x="2804760" y="17715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4" name=""/>
                  <p:cNvSpPr/>
                  <p:nvPr/>
                </p:nvSpPr>
                <p:spPr>
                  <a:xfrm>
                    <a:off x="2767320" y="177156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25" name=""/>
              <p:cNvGrpSpPr/>
              <p:nvPr/>
            </p:nvGrpSpPr>
            <p:grpSpPr>
              <a:xfrm>
                <a:off x="3169440" y="1771560"/>
                <a:ext cx="401400" cy="473040"/>
                <a:chOff x="3169440" y="1771560"/>
                <a:chExt cx="401400" cy="473040"/>
              </a:xfrm>
            </p:grpSpPr>
            <p:sp>
              <p:nvSpPr>
                <p:cNvPr id="4026" name=""/>
                <p:cNvSpPr/>
                <p:nvPr/>
              </p:nvSpPr>
              <p:spPr>
                <a:xfrm>
                  <a:off x="3169440" y="17715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7" name=""/>
                <p:cNvGrpSpPr/>
                <p:nvPr/>
              </p:nvGrpSpPr>
              <p:grpSpPr>
                <a:xfrm>
                  <a:off x="3169440" y="1771560"/>
                  <a:ext cx="401400" cy="473040"/>
                  <a:chOff x="3169440" y="1771560"/>
                  <a:chExt cx="401400" cy="473040"/>
                </a:xfrm>
              </p:grpSpPr>
              <p:sp>
                <p:nvSpPr>
                  <p:cNvPr id="4028" name=""/>
                  <p:cNvSpPr/>
                  <p:nvPr/>
                </p:nvSpPr>
                <p:spPr>
                  <a:xfrm>
                    <a:off x="3206520" y="17715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9" name=""/>
                  <p:cNvSpPr/>
                  <p:nvPr/>
                </p:nvSpPr>
                <p:spPr>
                  <a:xfrm>
                    <a:off x="3169440" y="17715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30" name=""/>
              <p:cNvGrpSpPr/>
              <p:nvPr/>
            </p:nvGrpSpPr>
            <p:grpSpPr>
              <a:xfrm>
                <a:off x="3570840" y="1771560"/>
                <a:ext cx="401400" cy="473040"/>
                <a:chOff x="3570840" y="1771560"/>
                <a:chExt cx="401400" cy="47304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3570840" y="17715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2" name=""/>
                <p:cNvGrpSpPr/>
                <p:nvPr/>
              </p:nvGrpSpPr>
              <p:grpSpPr>
                <a:xfrm>
                  <a:off x="3570840" y="1771560"/>
                  <a:ext cx="401400" cy="473040"/>
                  <a:chOff x="3570840" y="1771560"/>
                  <a:chExt cx="401400" cy="473040"/>
                </a:xfrm>
              </p:grpSpPr>
              <p:sp>
                <p:nvSpPr>
                  <p:cNvPr id="4033" name=""/>
                  <p:cNvSpPr/>
                  <p:nvPr/>
                </p:nvSpPr>
                <p:spPr>
                  <a:xfrm>
                    <a:off x="3607920" y="17715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>
                    <a:off x="3570840" y="17715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35" name=""/>
              <p:cNvGrpSpPr/>
              <p:nvPr/>
            </p:nvGrpSpPr>
            <p:grpSpPr>
              <a:xfrm>
                <a:off x="3972600" y="1771560"/>
                <a:ext cx="401760" cy="473040"/>
                <a:chOff x="3972600" y="1771560"/>
                <a:chExt cx="401760" cy="473040"/>
              </a:xfrm>
            </p:grpSpPr>
            <p:sp>
              <p:nvSpPr>
                <p:cNvPr id="4036" name=""/>
                <p:cNvSpPr/>
                <p:nvPr/>
              </p:nvSpPr>
              <p:spPr>
                <a:xfrm>
                  <a:off x="3972600" y="177156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7" name=""/>
                <p:cNvGrpSpPr/>
                <p:nvPr/>
              </p:nvGrpSpPr>
              <p:grpSpPr>
                <a:xfrm>
                  <a:off x="3972600" y="1771560"/>
                  <a:ext cx="401760" cy="473040"/>
                  <a:chOff x="3972600" y="1771560"/>
                  <a:chExt cx="401760" cy="473040"/>
                </a:xfrm>
              </p:grpSpPr>
              <p:sp>
                <p:nvSpPr>
                  <p:cNvPr id="4038" name=""/>
                  <p:cNvSpPr/>
                  <p:nvPr/>
                </p:nvSpPr>
                <p:spPr>
                  <a:xfrm>
                    <a:off x="4010040" y="17715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9" name=""/>
                  <p:cNvSpPr/>
                  <p:nvPr/>
                </p:nvSpPr>
                <p:spPr>
                  <a:xfrm>
                    <a:off x="3972600" y="177156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40" name=""/>
              <p:cNvGrpSpPr/>
              <p:nvPr/>
            </p:nvGrpSpPr>
            <p:grpSpPr>
              <a:xfrm>
                <a:off x="4374720" y="1771560"/>
                <a:ext cx="401400" cy="473040"/>
                <a:chOff x="4374720" y="1771560"/>
                <a:chExt cx="401400" cy="473040"/>
              </a:xfrm>
            </p:grpSpPr>
            <p:sp>
              <p:nvSpPr>
                <p:cNvPr id="4041" name=""/>
                <p:cNvSpPr/>
                <p:nvPr/>
              </p:nvSpPr>
              <p:spPr>
                <a:xfrm>
                  <a:off x="4374720" y="17715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2" name=""/>
                <p:cNvGrpSpPr/>
                <p:nvPr/>
              </p:nvGrpSpPr>
              <p:grpSpPr>
                <a:xfrm>
                  <a:off x="4374720" y="1771560"/>
                  <a:ext cx="401400" cy="473040"/>
                  <a:chOff x="4374720" y="1771560"/>
                  <a:chExt cx="401400" cy="473040"/>
                </a:xfrm>
              </p:grpSpPr>
              <p:sp>
                <p:nvSpPr>
                  <p:cNvPr id="4043" name=""/>
                  <p:cNvSpPr/>
                  <p:nvPr/>
                </p:nvSpPr>
                <p:spPr>
                  <a:xfrm>
                    <a:off x="4411800" y="17715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4" name=""/>
                  <p:cNvSpPr/>
                  <p:nvPr/>
                </p:nvSpPr>
                <p:spPr>
                  <a:xfrm>
                    <a:off x="4374720" y="17715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45" name=""/>
              <p:cNvGrpSpPr/>
              <p:nvPr/>
            </p:nvGrpSpPr>
            <p:grpSpPr>
              <a:xfrm>
                <a:off x="4776120" y="1771560"/>
                <a:ext cx="401400" cy="473040"/>
                <a:chOff x="4776120" y="1771560"/>
                <a:chExt cx="401400" cy="47304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4776120" y="17715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7" name=""/>
                <p:cNvGrpSpPr/>
                <p:nvPr/>
              </p:nvGrpSpPr>
              <p:grpSpPr>
                <a:xfrm>
                  <a:off x="4776120" y="1771560"/>
                  <a:ext cx="401400" cy="473040"/>
                  <a:chOff x="4776120" y="1771560"/>
                  <a:chExt cx="401400" cy="473040"/>
                </a:xfrm>
              </p:grpSpPr>
              <p:sp>
                <p:nvSpPr>
                  <p:cNvPr id="4048" name=""/>
                  <p:cNvSpPr/>
                  <p:nvPr/>
                </p:nvSpPr>
                <p:spPr>
                  <a:xfrm>
                    <a:off x="4813200" y="17715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9" name=""/>
                  <p:cNvSpPr/>
                  <p:nvPr/>
                </p:nvSpPr>
                <p:spPr>
                  <a:xfrm>
                    <a:off x="4776120" y="17715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0" name=""/>
              <p:cNvGrpSpPr/>
              <p:nvPr/>
            </p:nvGrpSpPr>
            <p:grpSpPr>
              <a:xfrm>
                <a:off x="5177880" y="1771560"/>
                <a:ext cx="401760" cy="473040"/>
                <a:chOff x="5177880" y="1771560"/>
                <a:chExt cx="401760" cy="473040"/>
              </a:xfrm>
            </p:grpSpPr>
            <p:sp>
              <p:nvSpPr>
                <p:cNvPr id="4051" name=""/>
                <p:cNvSpPr/>
                <p:nvPr/>
              </p:nvSpPr>
              <p:spPr>
                <a:xfrm>
                  <a:off x="5177880" y="177156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2" name=""/>
                <p:cNvGrpSpPr/>
                <p:nvPr/>
              </p:nvGrpSpPr>
              <p:grpSpPr>
                <a:xfrm>
                  <a:off x="5177880" y="1771560"/>
                  <a:ext cx="401760" cy="473040"/>
                  <a:chOff x="5177880" y="1771560"/>
                  <a:chExt cx="401760" cy="473040"/>
                </a:xfrm>
              </p:grpSpPr>
              <p:sp>
                <p:nvSpPr>
                  <p:cNvPr id="4053" name=""/>
                  <p:cNvSpPr/>
                  <p:nvPr/>
                </p:nvSpPr>
                <p:spPr>
                  <a:xfrm>
                    <a:off x="5215320" y="17715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4" name=""/>
                  <p:cNvSpPr/>
                  <p:nvPr/>
                </p:nvSpPr>
                <p:spPr>
                  <a:xfrm>
                    <a:off x="5177880" y="177156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5" name=""/>
              <p:cNvGrpSpPr/>
              <p:nvPr/>
            </p:nvGrpSpPr>
            <p:grpSpPr>
              <a:xfrm>
                <a:off x="5580000" y="1771560"/>
                <a:ext cx="401400" cy="473040"/>
                <a:chOff x="5580000" y="1771560"/>
                <a:chExt cx="401400" cy="473040"/>
              </a:xfrm>
            </p:grpSpPr>
            <p:sp>
              <p:nvSpPr>
                <p:cNvPr id="4056" name=""/>
                <p:cNvSpPr/>
                <p:nvPr/>
              </p:nvSpPr>
              <p:spPr>
                <a:xfrm>
                  <a:off x="5580000" y="17715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7" name=""/>
                <p:cNvGrpSpPr/>
                <p:nvPr/>
              </p:nvGrpSpPr>
              <p:grpSpPr>
                <a:xfrm>
                  <a:off x="5580000" y="1771560"/>
                  <a:ext cx="401400" cy="473040"/>
                  <a:chOff x="5580000" y="1771560"/>
                  <a:chExt cx="401400" cy="473040"/>
                </a:xfrm>
              </p:grpSpPr>
              <p:sp>
                <p:nvSpPr>
                  <p:cNvPr id="4058" name=""/>
                  <p:cNvSpPr/>
                  <p:nvPr/>
                </p:nvSpPr>
                <p:spPr>
                  <a:xfrm>
                    <a:off x="5617080" y="17715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>
                    <a:off x="5580000" y="17715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0" name=""/>
              <p:cNvGrpSpPr/>
              <p:nvPr/>
            </p:nvGrpSpPr>
            <p:grpSpPr>
              <a:xfrm>
                <a:off x="5981400" y="1771560"/>
                <a:ext cx="401400" cy="473040"/>
                <a:chOff x="5981400" y="1771560"/>
                <a:chExt cx="401400" cy="473040"/>
              </a:xfrm>
            </p:grpSpPr>
            <p:sp>
              <p:nvSpPr>
                <p:cNvPr id="4061" name=""/>
                <p:cNvSpPr/>
                <p:nvPr/>
              </p:nvSpPr>
              <p:spPr>
                <a:xfrm>
                  <a:off x="5981400" y="17715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2" name=""/>
                <p:cNvGrpSpPr/>
                <p:nvPr/>
              </p:nvGrpSpPr>
              <p:grpSpPr>
                <a:xfrm>
                  <a:off x="5981400" y="1771560"/>
                  <a:ext cx="401400" cy="473040"/>
                  <a:chOff x="5981400" y="1771560"/>
                  <a:chExt cx="401400" cy="473040"/>
                </a:xfrm>
              </p:grpSpPr>
              <p:sp>
                <p:nvSpPr>
                  <p:cNvPr id="4063" name=""/>
                  <p:cNvSpPr/>
                  <p:nvPr/>
                </p:nvSpPr>
                <p:spPr>
                  <a:xfrm>
                    <a:off x="6018480" y="17715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>
                    <a:off x="5981400" y="17715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5" name=""/>
              <p:cNvGrpSpPr/>
              <p:nvPr/>
            </p:nvGrpSpPr>
            <p:grpSpPr>
              <a:xfrm>
                <a:off x="6383160" y="1771560"/>
                <a:ext cx="401760" cy="473040"/>
                <a:chOff x="6383160" y="1771560"/>
                <a:chExt cx="401760" cy="473040"/>
              </a:xfrm>
            </p:grpSpPr>
            <p:sp>
              <p:nvSpPr>
                <p:cNvPr id="4066" name=""/>
                <p:cNvSpPr/>
                <p:nvPr/>
              </p:nvSpPr>
              <p:spPr>
                <a:xfrm>
                  <a:off x="6383160" y="177156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7" name=""/>
                <p:cNvGrpSpPr/>
                <p:nvPr/>
              </p:nvGrpSpPr>
              <p:grpSpPr>
                <a:xfrm>
                  <a:off x="6383160" y="1771560"/>
                  <a:ext cx="401760" cy="473040"/>
                  <a:chOff x="6383160" y="1771560"/>
                  <a:chExt cx="401760" cy="473040"/>
                </a:xfrm>
              </p:grpSpPr>
              <p:sp>
                <p:nvSpPr>
                  <p:cNvPr id="4068" name=""/>
                  <p:cNvSpPr/>
                  <p:nvPr/>
                </p:nvSpPr>
                <p:spPr>
                  <a:xfrm>
                    <a:off x="6420600" y="17715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>
                    <a:off x="6383160" y="177156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70" name=""/>
              <p:cNvGrpSpPr/>
              <p:nvPr/>
            </p:nvGrpSpPr>
            <p:grpSpPr>
              <a:xfrm>
                <a:off x="2365920" y="2244960"/>
                <a:ext cx="401400" cy="472680"/>
                <a:chOff x="2365920" y="2244960"/>
                <a:chExt cx="401400" cy="472680"/>
              </a:xfrm>
            </p:grpSpPr>
            <p:sp>
              <p:nvSpPr>
                <p:cNvPr id="4071" name=""/>
                <p:cNvSpPr/>
                <p:nvPr/>
              </p:nvSpPr>
              <p:spPr>
                <a:xfrm>
                  <a:off x="2365920" y="224496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2" name=""/>
                <p:cNvGrpSpPr/>
                <p:nvPr/>
              </p:nvGrpSpPr>
              <p:grpSpPr>
                <a:xfrm>
                  <a:off x="2365920" y="2244960"/>
                  <a:ext cx="401400" cy="472680"/>
                  <a:chOff x="2365920" y="2244960"/>
                  <a:chExt cx="401400" cy="472680"/>
                </a:xfrm>
              </p:grpSpPr>
              <p:sp>
                <p:nvSpPr>
                  <p:cNvPr id="4073" name=""/>
                  <p:cNvSpPr/>
                  <p:nvPr/>
                </p:nvSpPr>
                <p:spPr>
                  <a:xfrm>
                    <a:off x="2403000" y="224496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>
                    <a:off x="2365920" y="224496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75" name=""/>
              <p:cNvGrpSpPr/>
              <p:nvPr/>
            </p:nvGrpSpPr>
            <p:grpSpPr>
              <a:xfrm>
                <a:off x="2767320" y="2244960"/>
                <a:ext cx="401760" cy="472680"/>
                <a:chOff x="2767320" y="2244960"/>
                <a:chExt cx="401760" cy="472680"/>
              </a:xfrm>
            </p:grpSpPr>
            <p:sp>
              <p:nvSpPr>
                <p:cNvPr id="4076" name=""/>
                <p:cNvSpPr/>
                <p:nvPr/>
              </p:nvSpPr>
              <p:spPr>
                <a:xfrm>
                  <a:off x="2767320" y="224496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7" name=""/>
                <p:cNvGrpSpPr/>
                <p:nvPr/>
              </p:nvGrpSpPr>
              <p:grpSpPr>
                <a:xfrm>
                  <a:off x="2767320" y="2244960"/>
                  <a:ext cx="401760" cy="472680"/>
                  <a:chOff x="2767320" y="2244960"/>
                  <a:chExt cx="401760" cy="472680"/>
                </a:xfrm>
              </p:grpSpPr>
              <p:sp>
                <p:nvSpPr>
                  <p:cNvPr id="4078" name=""/>
                  <p:cNvSpPr/>
                  <p:nvPr/>
                </p:nvSpPr>
                <p:spPr>
                  <a:xfrm>
                    <a:off x="2804760" y="224496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9" name=""/>
                  <p:cNvSpPr/>
                  <p:nvPr/>
                </p:nvSpPr>
                <p:spPr>
                  <a:xfrm>
                    <a:off x="2767320" y="224496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0" name=""/>
              <p:cNvGrpSpPr/>
              <p:nvPr/>
            </p:nvGrpSpPr>
            <p:grpSpPr>
              <a:xfrm>
                <a:off x="3169440" y="2244960"/>
                <a:ext cx="401400" cy="472680"/>
                <a:chOff x="3169440" y="2244960"/>
                <a:chExt cx="401400" cy="472680"/>
              </a:xfrm>
            </p:grpSpPr>
            <p:sp>
              <p:nvSpPr>
                <p:cNvPr id="4081" name=""/>
                <p:cNvSpPr/>
                <p:nvPr/>
              </p:nvSpPr>
              <p:spPr>
                <a:xfrm>
                  <a:off x="3169440" y="224496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2" name=""/>
                <p:cNvGrpSpPr/>
                <p:nvPr/>
              </p:nvGrpSpPr>
              <p:grpSpPr>
                <a:xfrm>
                  <a:off x="3169440" y="2244960"/>
                  <a:ext cx="401400" cy="472680"/>
                  <a:chOff x="3169440" y="2244960"/>
                  <a:chExt cx="401400" cy="472680"/>
                </a:xfrm>
              </p:grpSpPr>
              <p:sp>
                <p:nvSpPr>
                  <p:cNvPr id="4083" name=""/>
                  <p:cNvSpPr/>
                  <p:nvPr/>
                </p:nvSpPr>
                <p:spPr>
                  <a:xfrm>
                    <a:off x="3206520" y="224496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4" name=""/>
                  <p:cNvSpPr/>
                  <p:nvPr/>
                </p:nvSpPr>
                <p:spPr>
                  <a:xfrm>
                    <a:off x="3169440" y="224496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5" name=""/>
              <p:cNvGrpSpPr/>
              <p:nvPr/>
            </p:nvGrpSpPr>
            <p:grpSpPr>
              <a:xfrm>
                <a:off x="3570840" y="2244960"/>
                <a:ext cx="401400" cy="472680"/>
                <a:chOff x="3570840" y="2244960"/>
                <a:chExt cx="401400" cy="472680"/>
              </a:xfrm>
            </p:grpSpPr>
            <p:sp>
              <p:nvSpPr>
                <p:cNvPr id="4086" name=""/>
                <p:cNvSpPr/>
                <p:nvPr/>
              </p:nvSpPr>
              <p:spPr>
                <a:xfrm>
                  <a:off x="3570840" y="224496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7" name=""/>
                <p:cNvGrpSpPr/>
                <p:nvPr/>
              </p:nvGrpSpPr>
              <p:grpSpPr>
                <a:xfrm>
                  <a:off x="3570840" y="2244960"/>
                  <a:ext cx="401400" cy="472680"/>
                  <a:chOff x="3570840" y="2244960"/>
                  <a:chExt cx="401400" cy="472680"/>
                </a:xfrm>
              </p:grpSpPr>
              <p:sp>
                <p:nvSpPr>
                  <p:cNvPr id="4088" name=""/>
                  <p:cNvSpPr/>
                  <p:nvPr/>
                </p:nvSpPr>
                <p:spPr>
                  <a:xfrm>
                    <a:off x="3607920" y="224496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3570840" y="224496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90" name=""/>
              <p:cNvGrpSpPr/>
              <p:nvPr/>
            </p:nvGrpSpPr>
            <p:grpSpPr>
              <a:xfrm>
                <a:off x="3972600" y="2244960"/>
                <a:ext cx="401760" cy="472680"/>
                <a:chOff x="3972600" y="2244960"/>
                <a:chExt cx="401760" cy="472680"/>
              </a:xfrm>
            </p:grpSpPr>
            <p:sp>
              <p:nvSpPr>
                <p:cNvPr id="4091" name=""/>
                <p:cNvSpPr/>
                <p:nvPr/>
              </p:nvSpPr>
              <p:spPr>
                <a:xfrm>
                  <a:off x="3972600" y="224496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2" name=""/>
                <p:cNvGrpSpPr/>
                <p:nvPr/>
              </p:nvGrpSpPr>
              <p:grpSpPr>
                <a:xfrm>
                  <a:off x="3972600" y="2244960"/>
                  <a:ext cx="401760" cy="472680"/>
                  <a:chOff x="3972600" y="2244960"/>
                  <a:chExt cx="401760" cy="472680"/>
                </a:xfrm>
              </p:grpSpPr>
              <p:sp>
                <p:nvSpPr>
                  <p:cNvPr id="4093" name=""/>
                  <p:cNvSpPr/>
                  <p:nvPr/>
                </p:nvSpPr>
                <p:spPr>
                  <a:xfrm>
                    <a:off x="4010040" y="224496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3972600" y="224496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95" name=""/>
              <p:cNvGrpSpPr/>
              <p:nvPr/>
            </p:nvGrpSpPr>
            <p:grpSpPr>
              <a:xfrm>
                <a:off x="4374720" y="2244960"/>
                <a:ext cx="401400" cy="472680"/>
                <a:chOff x="4374720" y="2244960"/>
                <a:chExt cx="401400" cy="472680"/>
              </a:xfrm>
            </p:grpSpPr>
            <p:sp>
              <p:nvSpPr>
                <p:cNvPr id="4096" name=""/>
                <p:cNvSpPr/>
                <p:nvPr/>
              </p:nvSpPr>
              <p:spPr>
                <a:xfrm>
                  <a:off x="4374720" y="224496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7" name=""/>
                <p:cNvGrpSpPr/>
                <p:nvPr/>
              </p:nvGrpSpPr>
              <p:grpSpPr>
                <a:xfrm>
                  <a:off x="4374720" y="2244960"/>
                  <a:ext cx="401400" cy="472680"/>
                  <a:chOff x="4374720" y="2244960"/>
                  <a:chExt cx="401400" cy="472680"/>
                </a:xfrm>
              </p:grpSpPr>
              <p:sp>
                <p:nvSpPr>
                  <p:cNvPr id="4098" name=""/>
                  <p:cNvSpPr/>
                  <p:nvPr/>
                </p:nvSpPr>
                <p:spPr>
                  <a:xfrm>
                    <a:off x="4411800" y="224496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4374720" y="224496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00" name=""/>
              <p:cNvGrpSpPr/>
              <p:nvPr/>
            </p:nvGrpSpPr>
            <p:grpSpPr>
              <a:xfrm>
                <a:off x="4776120" y="2244960"/>
                <a:ext cx="401400" cy="472680"/>
                <a:chOff x="4776120" y="2244960"/>
                <a:chExt cx="401400" cy="472680"/>
              </a:xfrm>
            </p:grpSpPr>
            <p:sp>
              <p:nvSpPr>
                <p:cNvPr id="4101" name=""/>
                <p:cNvSpPr/>
                <p:nvPr/>
              </p:nvSpPr>
              <p:spPr>
                <a:xfrm>
                  <a:off x="4776120" y="224496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2" name=""/>
                <p:cNvGrpSpPr/>
                <p:nvPr/>
              </p:nvGrpSpPr>
              <p:grpSpPr>
                <a:xfrm>
                  <a:off x="4776120" y="2244960"/>
                  <a:ext cx="401400" cy="472680"/>
                  <a:chOff x="4776120" y="2244960"/>
                  <a:chExt cx="401400" cy="472680"/>
                </a:xfrm>
              </p:grpSpPr>
              <p:sp>
                <p:nvSpPr>
                  <p:cNvPr id="4103" name=""/>
                  <p:cNvSpPr/>
                  <p:nvPr/>
                </p:nvSpPr>
                <p:spPr>
                  <a:xfrm>
                    <a:off x="4813200" y="224496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4" name=""/>
                  <p:cNvSpPr/>
                  <p:nvPr/>
                </p:nvSpPr>
                <p:spPr>
                  <a:xfrm>
                    <a:off x="4776120" y="224496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05" name=""/>
              <p:cNvGrpSpPr/>
              <p:nvPr/>
            </p:nvGrpSpPr>
            <p:grpSpPr>
              <a:xfrm>
                <a:off x="5177880" y="2244960"/>
                <a:ext cx="401760" cy="472680"/>
                <a:chOff x="5177880" y="2244960"/>
                <a:chExt cx="401760" cy="472680"/>
              </a:xfrm>
            </p:grpSpPr>
            <p:sp>
              <p:nvSpPr>
                <p:cNvPr id="4106" name=""/>
                <p:cNvSpPr/>
                <p:nvPr/>
              </p:nvSpPr>
              <p:spPr>
                <a:xfrm>
                  <a:off x="5177880" y="224496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7" name=""/>
                <p:cNvGrpSpPr/>
                <p:nvPr/>
              </p:nvGrpSpPr>
              <p:grpSpPr>
                <a:xfrm>
                  <a:off x="5177880" y="2244960"/>
                  <a:ext cx="401760" cy="472680"/>
                  <a:chOff x="5177880" y="2244960"/>
                  <a:chExt cx="401760" cy="472680"/>
                </a:xfrm>
              </p:grpSpPr>
              <p:sp>
                <p:nvSpPr>
                  <p:cNvPr id="4108" name=""/>
                  <p:cNvSpPr/>
                  <p:nvPr/>
                </p:nvSpPr>
                <p:spPr>
                  <a:xfrm>
                    <a:off x="5215320" y="224496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9" name=""/>
                  <p:cNvSpPr/>
                  <p:nvPr/>
                </p:nvSpPr>
                <p:spPr>
                  <a:xfrm>
                    <a:off x="5177880" y="224496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0" name=""/>
              <p:cNvGrpSpPr/>
              <p:nvPr/>
            </p:nvGrpSpPr>
            <p:grpSpPr>
              <a:xfrm>
                <a:off x="5580000" y="2244960"/>
                <a:ext cx="401400" cy="472680"/>
                <a:chOff x="5580000" y="2244960"/>
                <a:chExt cx="401400" cy="472680"/>
              </a:xfrm>
            </p:grpSpPr>
            <p:sp>
              <p:nvSpPr>
                <p:cNvPr id="4111" name=""/>
                <p:cNvSpPr/>
                <p:nvPr/>
              </p:nvSpPr>
              <p:spPr>
                <a:xfrm>
                  <a:off x="5580000" y="224496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2" name=""/>
                <p:cNvGrpSpPr/>
                <p:nvPr/>
              </p:nvGrpSpPr>
              <p:grpSpPr>
                <a:xfrm>
                  <a:off x="5580000" y="2244960"/>
                  <a:ext cx="401400" cy="472680"/>
                  <a:chOff x="5580000" y="2244960"/>
                  <a:chExt cx="401400" cy="472680"/>
                </a:xfrm>
              </p:grpSpPr>
              <p:sp>
                <p:nvSpPr>
                  <p:cNvPr id="4113" name=""/>
                  <p:cNvSpPr/>
                  <p:nvPr/>
                </p:nvSpPr>
                <p:spPr>
                  <a:xfrm>
                    <a:off x="5617080" y="224496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5580000" y="224496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5" name=""/>
              <p:cNvGrpSpPr/>
              <p:nvPr/>
            </p:nvGrpSpPr>
            <p:grpSpPr>
              <a:xfrm>
                <a:off x="5981400" y="2244960"/>
                <a:ext cx="401400" cy="472680"/>
                <a:chOff x="5981400" y="2244960"/>
                <a:chExt cx="401400" cy="472680"/>
              </a:xfrm>
            </p:grpSpPr>
            <p:sp>
              <p:nvSpPr>
                <p:cNvPr id="4116" name=""/>
                <p:cNvSpPr/>
                <p:nvPr/>
              </p:nvSpPr>
              <p:spPr>
                <a:xfrm>
                  <a:off x="5981400" y="224496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7" name=""/>
                <p:cNvGrpSpPr/>
                <p:nvPr/>
              </p:nvGrpSpPr>
              <p:grpSpPr>
                <a:xfrm>
                  <a:off x="5981400" y="2244960"/>
                  <a:ext cx="401400" cy="472680"/>
                  <a:chOff x="5981400" y="2244960"/>
                  <a:chExt cx="401400" cy="472680"/>
                </a:xfrm>
              </p:grpSpPr>
              <p:sp>
                <p:nvSpPr>
                  <p:cNvPr id="4118" name=""/>
                  <p:cNvSpPr/>
                  <p:nvPr/>
                </p:nvSpPr>
                <p:spPr>
                  <a:xfrm>
                    <a:off x="6018480" y="224496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>
                    <a:off x="5981400" y="224496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0" name=""/>
              <p:cNvGrpSpPr/>
              <p:nvPr/>
            </p:nvGrpSpPr>
            <p:grpSpPr>
              <a:xfrm>
                <a:off x="6383160" y="2244960"/>
                <a:ext cx="401760" cy="472680"/>
                <a:chOff x="6383160" y="2244960"/>
                <a:chExt cx="401760" cy="472680"/>
              </a:xfrm>
            </p:grpSpPr>
            <p:sp>
              <p:nvSpPr>
                <p:cNvPr id="4121" name=""/>
                <p:cNvSpPr/>
                <p:nvPr/>
              </p:nvSpPr>
              <p:spPr>
                <a:xfrm>
                  <a:off x="6383160" y="224496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2" name=""/>
                <p:cNvGrpSpPr/>
                <p:nvPr/>
              </p:nvGrpSpPr>
              <p:grpSpPr>
                <a:xfrm>
                  <a:off x="6383160" y="2244960"/>
                  <a:ext cx="401760" cy="472680"/>
                  <a:chOff x="6383160" y="2244960"/>
                  <a:chExt cx="401760" cy="472680"/>
                </a:xfrm>
              </p:grpSpPr>
              <p:sp>
                <p:nvSpPr>
                  <p:cNvPr id="4123" name=""/>
                  <p:cNvSpPr/>
                  <p:nvPr/>
                </p:nvSpPr>
                <p:spPr>
                  <a:xfrm>
                    <a:off x="6420600" y="224496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4" name=""/>
                  <p:cNvSpPr/>
                  <p:nvPr/>
                </p:nvSpPr>
                <p:spPr>
                  <a:xfrm>
                    <a:off x="6383160" y="224496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5" name=""/>
              <p:cNvGrpSpPr/>
              <p:nvPr/>
            </p:nvGrpSpPr>
            <p:grpSpPr>
              <a:xfrm>
                <a:off x="2365920" y="2717640"/>
                <a:ext cx="401400" cy="472680"/>
                <a:chOff x="2365920" y="2717640"/>
                <a:chExt cx="401400" cy="472680"/>
              </a:xfrm>
            </p:grpSpPr>
            <p:sp>
              <p:nvSpPr>
                <p:cNvPr id="4126" name=""/>
                <p:cNvSpPr/>
                <p:nvPr/>
              </p:nvSpPr>
              <p:spPr>
                <a:xfrm>
                  <a:off x="2365920" y="2717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7" name=""/>
                <p:cNvGrpSpPr/>
                <p:nvPr/>
              </p:nvGrpSpPr>
              <p:grpSpPr>
                <a:xfrm>
                  <a:off x="2365920" y="2717640"/>
                  <a:ext cx="401400" cy="472680"/>
                  <a:chOff x="2365920" y="2717640"/>
                  <a:chExt cx="401400" cy="472680"/>
                </a:xfrm>
              </p:grpSpPr>
              <p:sp>
                <p:nvSpPr>
                  <p:cNvPr id="4128" name=""/>
                  <p:cNvSpPr/>
                  <p:nvPr/>
                </p:nvSpPr>
                <p:spPr>
                  <a:xfrm>
                    <a:off x="2403000" y="2717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9" name=""/>
                  <p:cNvSpPr/>
                  <p:nvPr/>
                </p:nvSpPr>
                <p:spPr>
                  <a:xfrm>
                    <a:off x="2365920" y="2717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30" name=""/>
              <p:cNvGrpSpPr/>
              <p:nvPr/>
            </p:nvGrpSpPr>
            <p:grpSpPr>
              <a:xfrm>
                <a:off x="2767320" y="2717640"/>
                <a:ext cx="401760" cy="472680"/>
                <a:chOff x="2767320" y="2717640"/>
                <a:chExt cx="401760" cy="472680"/>
              </a:xfrm>
            </p:grpSpPr>
            <p:sp>
              <p:nvSpPr>
                <p:cNvPr id="4131" name=""/>
                <p:cNvSpPr/>
                <p:nvPr/>
              </p:nvSpPr>
              <p:spPr>
                <a:xfrm>
                  <a:off x="2767320" y="271764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2" name=""/>
                <p:cNvGrpSpPr/>
                <p:nvPr/>
              </p:nvGrpSpPr>
              <p:grpSpPr>
                <a:xfrm>
                  <a:off x="2767320" y="2717640"/>
                  <a:ext cx="401760" cy="472680"/>
                  <a:chOff x="2767320" y="2717640"/>
                  <a:chExt cx="401760" cy="472680"/>
                </a:xfrm>
              </p:grpSpPr>
              <p:sp>
                <p:nvSpPr>
                  <p:cNvPr id="4133" name=""/>
                  <p:cNvSpPr/>
                  <p:nvPr/>
                </p:nvSpPr>
                <p:spPr>
                  <a:xfrm>
                    <a:off x="2804760" y="2717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4" name=""/>
                  <p:cNvSpPr/>
                  <p:nvPr/>
                </p:nvSpPr>
                <p:spPr>
                  <a:xfrm>
                    <a:off x="2767320" y="271764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35" name=""/>
              <p:cNvGrpSpPr/>
              <p:nvPr/>
            </p:nvGrpSpPr>
            <p:grpSpPr>
              <a:xfrm>
                <a:off x="3169440" y="2717640"/>
                <a:ext cx="401400" cy="472680"/>
                <a:chOff x="3169440" y="2717640"/>
                <a:chExt cx="401400" cy="472680"/>
              </a:xfrm>
            </p:grpSpPr>
            <p:sp>
              <p:nvSpPr>
                <p:cNvPr id="4136" name=""/>
                <p:cNvSpPr/>
                <p:nvPr/>
              </p:nvSpPr>
              <p:spPr>
                <a:xfrm>
                  <a:off x="3169440" y="2717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7" name=""/>
                <p:cNvGrpSpPr/>
                <p:nvPr/>
              </p:nvGrpSpPr>
              <p:grpSpPr>
                <a:xfrm>
                  <a:off x="3169440" y="2717640"/>
                  <a:ext cx="401400" cy="472680"/>
                  <a:chOff x="3169440" y="2717640"/>
                  <a:chExt cx="401400" cy="472680"/>
                </a:xfrm>
              </p:grpSpPr>
              <p:sp>
                <p:nvSpPr>
                  <p:cNvPr id="4138" name=""/>
                  <p:cNvSpPr/>
                  <p:nvPr/>
                </p:nvSpPr>
                <p:spPr>
                  <a:xfrm>
                    <a:off x="3206520" y="2717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9" name=""/>
                  <p:cNvSpPr/>
                  <p:nvPr/>
                </p:nvSpPr>
                <p:spPr>
                  <a:xfrm>
                    <a:off x="3169440" y="2717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40" name=""/>
              <p:cNvGrpSpPr/>
              <p:nvPr/>
            </p:nvGrpSpPr>
            <p:grpSpPr>
              <a:xfrm>
                <a:off x="3570840" y="2717640"/>
                <a:ext cx="401400" cy="472680"/>
                <a:chOff x="3570840" y="2717640"/>
                <a:chExt cx="401400" cy="472680"/>
              </a:xfrm>
            </p:grpSpPr>
            <p:sp>
              <p:nvSpPr>
                <p:cNvPr id="4141" name=""/>
                <p:cNvSpPr/>
                <p:nvPr/>
              </p:nvSpPr>
              <p:spPr>
                <a:xfrm>
                  <a:off x="3570840" y="2717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2" name=""/>
                <p:cNvGrpSpPr/>
                <p:nvPr/>
              </p:nvGrpSpPr>
              <p:grpSpPr>
                <a:xfrm>
                  <a:off x="3570840" y="2717640"/>
                  <a:ext cx="401400" cy="472680"/>
                  <a:chOff x="3570840" y="2717640"/>
                  <a:chExt cx="401400" cy="472680"/>
                </a:xfrm>
              </p:grpSpPr>
              <p:sp>
                <p:nvSpPr>
                  <p:cNvPr id="4143" name=""/>
                  <p:cNvSpPr/>
                  <p:nvPr/>
                </p:nvSpPr>
                <p:spPr>
                  <a:xfrm>
                    <a:off x="3607920" y="2717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4" name=""/>
                  <p:cNvSpPr/>
                  <p:nvPr/>
                </p:nvSpPr>
                <p:spPr>
                  <a:xfrm>
                    <a:off x="3570840" y="2717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45" name=""/>
              <p:cNvGrpSpPr/>
              <p:nvPr/>
            </p:nvGrpSpPr>
            <p:grpSpPr>
              <a:xfrm>
                <a:off x="3972600" y="2717640"/>
                <a:ext cx="401760" cy="472680"/>
                <a:chOff x="3972600" y="2717640"/>
                <a:chExt cx="401760" cy="472680"/>
              </a:xfrm>
            </p:grpSpPr>
            <p:sp>
              <p:nvSpPr>
                <p:cNvPr id="4146" name=""/>
                <p:cNvSpPr/>
                <p:nvPr/>
              </p:nvSpPr>
              <p:spPr>
                <a:xfrm>
                  <a:off x="3972600" y="271764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7" name=""/>
                <p:cNvGrpSpPr/>
                <p:nvPr/>
              </p:nvGrpSpPr>
              <p:grpSpPr>
                <a:xfrm>
                  <a:off x="3972600" y="2717640"/>
                  <a:ext cx="401760" cy="472680"/>
                  <a:chOff x="3972600" y="2717640"/>
                  <a:chExt cx="401760" cy="472680"/>
                </a:xfrm>
              </p:grpSpPr>
              <p:sp>
                <p:nvSpPr>
                  <p:cNvPr id="4148" name=""/>
                  <p:cNvSpPr/>
                  <p:nvPr/>
                </p:nvSpPr>
                <p:spPr>
                  <a:xfrm>
                    <a:off x="4010040" y="2717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>
                    <a:off x="3972600" y="271764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0" name=""/>
              <p:cNvGrpSpPr/>
              <p:nvPr/>
            </p:nvGrpSpPr>
            <p:grpSpPr>
              <a:xfrm>
                <a:off x="4374720" y="2717640"/>
                <a:ext cx="401400" cy="472680"/>
                <a:chOff x="4374720" y="2717640"/>
                <a:chExt cx="401400" cy="472680"/>
              </a:xfrm>
            </p:grpSpPr>
            <p:sp>
              <p:nvSpPr>
                <p:cNvPr id="4151" name=""/>
                <p:cNvSpPr/>
                <p:nvPr/>
              </p:nvSpPr>
              <p:spPr>
                <a:xfrm>
                  <a:off x="4374720" y="2717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2" name=""/>
                <p:cNvGrpSpPr/>
                <p:nvPr/>
              </p:nvGrpSpPr>
              <p:grpSpPr>
                <a:xfrm>
                  <a:off x="4374720" y="2717640"/>
                  <a:ext cx="401400" cy="472680"/>
                  <a:chOff x="4374720" y="2717640"/>
                  <a:chExt cx="401400" cy="472680"/>
                </a:xfrm>
              </p:grpSpPr>
              <p:sp>
                <p:nvSpPr>
                  <p:cNvPr id="4153" name=""/>
                  <p:cNvSpPr/>
                  <p:nvPr/>
                </p:nvSpPr>
                <p:spPr>
                  <a:xfrm>
                    <a:off x="4411800" y="2717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4374720" y="2717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5" name=""/>
              <p:cNvGrpSpPr/>
              <p:nvPr/>
            </p:nvGrpSpPr>
            <p:grpSpPr>
              <a:xfrm>
                <a:off x="4776120" y="2717640"/>
                <a:ext cx="401400" cy="472680"/>
                <a:chOff x="4776120" y="2717640"/>
                <a:chExt cx="401400" cy="472680"/>
              </a:xfrm>
            </p:grpSpPr>
            <p:sp>
              <p:nvSpPr>
                <p:cNvPr id="4156" name=""/>
                <p:cNvSpPr/>
                <p:nvPr/>
              </p:nvSpPr>
              <p:spPr>
                <a:xfrm>
                  <a:off x="4776120" y="2717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7" name=""/>
                <p:cNvGrpSpPr/>
                <p:nvPr/>
              </p:nvGrpSpPr>
              <p:grpSpPr>
                <a:xfrm>
                  <a:off x="4776120" y="2717640"/>
                  <a:ext cx="401400" cy="472680"/>
                  <a:chOff x="4776120" y="2717640"/>
                  <a:chExt cx="401400" cy="472680"/>
                </a:xfrm>
              </p:grpSpPr>
              <p:sp>
                <p:nvSpPr>
                  <p:cNvPr id="4158" name=""/>
                  <p:cNvSpPr/>
                  <p:nvPr/>
                </p:nvSpPr>
                <p:spPr>
                  <a:xfrm>
                    <a:off x="4813200" y="2717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>
                    <a:off x="4776120" y="2717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0" name=""/>
              <p:cNvGrpSpPr/>
              <p:nvPr/>
            </p:nvGrpSpPr>
            <p:grpSpPr>
              <a:xfrm>
                <a:off x="5177880" y="2717640"/>
                <a:ext cx="401760" cy="472680"/>
                <a:chOff x="5177880" y="2717640"/>
                <a:chExt cx="401760" cy="472680"/>
              </a:xfrm>
            </p:grpSpPr>
            <p:sp>
              <p:nvSpPr>
                <p:cNvPr id="4161" name=""/>
                <p:cNvSpPr/>
                <p:nvPr/>
              </p:nvSpPr>
              <p:spPr>
                <a:xfrm>
                  <a:off x="5177880" y="271764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2" name=""/>
                <p:cNvGrpSpPr/>
                <p:nvPr/>
              </p:nvGrpSpPr>
              <p:grpSpPr>
                <a:xfrm>
                  <a:off x="5177880" y="2717640"/>
                  <a:ext cx="401760" cy="472680"/>
                  <a:chOff x="5177880" y="2717640"/>
                  <a:chExt cx="401760" cy="472680"/>
                </a:xfrm>
              </p:grpSpPr>
              <p:sp>
                <p:nvSpPr>
                  <p:cNvPr id="4163" name=""/>
                  <p:cNvSpPr/>
                  <p:nvPr/>
                </p:nvSpPr>
                <p:spPr>
                  <a:xfrm>
                    <a:off x="5215320" y="2717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>
                    <a:off x="5177880" y="271764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5" name=""/>
              <p:cNvGrpSpPr/>
              <p:nvPr/>
            </p:nvGrpSpPr>
            <p:grpSpPr>
              <a:xfrm>
                <a:off x="5580000" y="2717640"/>
                <a:ext cx="401400" cy="472680"/>
                <a:chOff x="5580000" y="2717640"/>
                <a:chExt cx="401400" cy="472680"/>
              </a:xfrm>
            </p:grpSpPr>
            <p:sp>
              <p:nvSpPr>
                <p:cNvPr id="4166" name=""/>
                <p:cNvSpPr/>
                <p:nvPr/>
              </p:nvSpPr>
              <p:spPr>
                <a:xfrm>
                  <a:off x="5580000" y="2717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7" name=""/>
                <p:cNvGrpSpPr/>
                <p:nvPr/>
              </p:nvGrpSpPr>
              <p:grpSpPr>
                <a:xfrm>
                  <a:off x="5580000" y="2717640"/>
                  <a:ext cx="401400" cy="472680"/>
                  <a:chOff x="5580000" y="2717640"/>
                  <a:chExt cx="401400" cy="472680"/>
                </a:xfrm>
              </p:grpSpPr>
              <p:sp>
                <p:nvSpPr>
                  <p:cNvPr id="4168" name=""/>
                  <p:cNvSpPr/>
                  <p:nvPr/>
                </p:nvSpPr>
                <p:spPr>
                  <a:xfrm>
                    <a:off x="5617080" y="2717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>
                    <a:off x="5580000" y="2717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70" name=""/>
              <p:cNvGrpSpPr/>
              <p:nvPr/>
            </p:nvGrpSpPr>
            <p:grpSpPr>
              <a:xfrm>
                <a:off x="5981400" y="2717640"/>
                <a:ext cx="401400" cy="472680"/>
                <a:chOff x="5981400" y="2717640"/>
                <a:chExt cx="401400" cy="472680"/>
              </a:xfrm>
            </p:grpSpPr>
            <p:sp>
              <p:nvSpPr>
                <p:cNvPr id="4171" name=""/>
                <p:cNvSpPr/>
                <p:nvPr/>
              </p:nvSpPr>
              <p:spPr>
                <a:xfrm>
                  <a:off x="5981400" y="2717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2" name=""/>
                <p:cNvGrpSpPr/>
                <p:nvPr/>
              </p:nvGrpSpPr>
              <p:grpSpPr>
                <a:xfrm>
                  <a:off x="5981400" y="2717640"/>
                  <a:ext cx="401400" cy="472680"/>
                  <a:chOff x="5981400" y="2717640"/>
                  <a:chExt cx="401400" cy="472680"/>
                </a:xfrm>
              </p:grpSpPr>
              <p:sp>
                <p:nvSpPr>
                  <p:cNvPr id="4173" name=""/>
                  <p:cNvSpPr/>
                  <p:nvPr/>
                </p:nvSpPr>
                <p:spPr>
                  <a:xfrm>
                    <a:off x="6018480" y="2717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>
                    <a:off x="5981400" y="2717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75" name=""/>
              <p:cNvGrpSpPr/>
              <p:nvPr/>
            </p:nvGrpSpPr>
            <p:grpSpPr>
              <a:xfrm>
                <a:off x="6383160" y="2717640"/>
                <a:ext cx="401760" cy="472680"/>
                <a:chOff x="6383160" y="2717640"/>
                <a:chExt cx="401760" cy="472680"/>
              </a:xfrm>
            </p:grpSpPr>
            <p:sp>
              <p:nvSpPr>
                <p:cNvPr id="4176" name=""/>
                <p:cNvSpPr/>
                <p:nvPr/>
              </p:nvSpPr>
              <p:spPr>
                <a:xfrm>
                  <a:off x="6383160" y="271764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7" name=""/>
                <p:cNvGrpSpPr/>
                <p:nvPr/>
              </p:nvGrpSpPr>
              <p:grpSpPr>
                <a:xfrm>
                  <a:off x="6383160" y="2717640"/>
                  <a:ext cx="401760" cy="472680"/>
                  <a:chOff x="6383160" y="2717640"/>
                  <a:chExt cx="401760" cy="472680"/>
                </a:xfrm>
              </p:grpSpPr>
              <p:sp>
                <p:nvSpPr>
                  <p:cNvPr id="4178" name=""/>
                  <p:cNvSpPr/>
                  <p:nvPr/>
                </p:nvSpPr>
                <p:spPr>
                  <a:xfrm>
                    <a:off x="6420600" y="2717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9" name=""/>
                  <p:cNvSpPr/>
                  <p:nvPr/>
                </p:nvSpPr>
                <p:spPr>
                  <a:xfrm>
                    <a:off x="6383160" y="271764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0" name=""/>
              <p:cNvGrpSpPr/>
              <p:nvPr/>
            </p:nvGrpSpPr>
            <p:grpSpPr>
              <a:xfrm>
                <a:off x="2365920" y="3190680"/>
                <a:ext cx="401400" cy="473040"/>
                <a:chOff x="2365920" y="3190680"/>
                <a:chExt cx="401400" cy="473040"/>
              </a:xfrm>
            </p:grpSpPr>
            <p:sp>
              <p:nvSpPr>
                <p:cNvPr id="4181" name=""/>
                <p:cNvSpPr/>
                <p:nvPr/>
              </p:nvSpPr>
              <p:spPr>
                <a:xfrm>
                  <a:off x="2365920" y="319068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2" name=""/>
                <p:cNvGrpSpPr/>
                <p:nvPr/>
              </p:nvGrpSpPr>
              <p:grpSpPr>
                <a:xfrm>
                  <a:off x="2365920" y="3190680"/>
                  <a:ext cx="401400" cy="473040"/>
                  <a:chOff x="2365920" y="3190680"/>
                  <a:chExt cx="401400" cy="473040"/>
                </a:xfrm>
              </p:grpSpPr>
              <p:sp>
                <p:nvSpPr>
                  <p:cNvPr id="4183" name=""/>
                  <p:cNvSpPr/>
                  <p:nvPr/>
                </p:nvSpPr>
                <p:spPr>
                  <a:xfrm>
                    <a:off x="2403000" y="319068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4" name=""/>
                  <p:cNvSpPr/>
                  <p:nvPr/>
                </p:nvSpPr>
                <p:spPr>
                  <a:xfrm>
                    <a:off x="2365920" y="319068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5" name=""/>
              <p:cNvGrpSpPr/>
              <p:nvPr/>
            </p:nvGrpSpPr>
            <p:grpSpPr>
              <a:xfrm>
                <a:off x="2767320" y="3190680"/>
                <a:ext cx="401760" cy="473040"/>
                <a:chOff x="2767320" y="3190680"/>
                <a:chExt cx="401760" cy="473040"/>
              </a:xfrm>
            </p:grpSpPr>
            <p:sp>
              <p:nvSpPr>
                <p:cNvPr id="4186" name=""/>
                <p:cNvSpPr/>
                <p:nvPr/>
              </p:nvSpPr>
              <p:spPr>
                <a:xfrm>
                  <a:off x="2767320" y="319068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7" name=""/>
                <p:cNvGrpSpPr/>
                <p:nvPr/>
              </p:nvGrpSpPr>
              <p:grpSpPr>
                <a:xfrm>
                  <a:off x="2767320" y="3190680"/>
                  <a:ext cx="401760" cy="473040"/>
                  <a:chOff x="2767320" y="3190680"/>
                  <a:chExt cx="401760" cy="473040"/>
                </a:xfrm>
              </p:grpSpPr>
              <p:sp>
                <p:nvSpPr>
                  <p:cNvPr id="4188" name=""/>
                  <p:cNvSpPr/>
                  <p:nvPr/>
                </p:nvSpPr>
                <p:spPr>
                  <a:xfrm>
                    <a:off x="2804760" y="319068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>
                    <a:off x="2767320" y="319068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90" name=""/>
              <p:cNvGrpSpPr/>
              <p:nvPr/>
            </p:nvGrpSpPr>
            <p:grpSpPr>
              <a:xfrm>
                <a:off x="3169440" y="3190680"/>
                <a:ext cx="401400" cy="473040"/>
                <a:chOff x="3169440" y="3190680"/>
                <a:chExt cx="401400" cy="473040"/>
              </a:xfrm>
            </p:grpSpPr>
            <p:sp>
              <p:nvSpPr>
                <p:cNvPr id="4191" name=""/>
                <p:cNvSpPr/>
                <p:nvPr/>
              </p:nvSpPr>
              <p:spPr>
                <a:xfrm>
                  <a:off x="3169440" y="319068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2" name=""/>
                <p:cNvGrpSpPr/>
                <p:nvPr/>
              </p:nvGrpSpPr>
              <p:grpSpPr>
                <a:xfrm>
                  <a:off x="3169440" y="3190680"/>
                  <a:ext cx="401400" cy="473040"/>
                  <a:chOff x="3169440" y="3190680"/>
                  <a:chExt cx="401400" cy="473040"/>
                </a:xfrm>
              </p:grpSpPr>
              <p:sp>
                <p:nvSpPr>
                  <p:cNvPr id="4193" name=""/>
                  <p:cNvSpPr/>
                  <p:nvPr/>
                </p:nvSpPr>
                <p:spPr>
                  <a:xfrm>
                    <a:off x="3206520" y="319068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3169440" y="319068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95" name=""/>
              <p:cNvGrpSpPr/>
              <p:nvPr/>
            </p:nvGrpSpPr>
            <p:grpSpPr>
              <a:xfrm>
                <a:off x="3570840" y="3190680"/>
                <a:ext cx="401400" cy="473040"/>
                <a:chOff x="3570840" y="3190680"/>
                <a:chExt cx="401400" cy="473040"/>
              </a:xfrm>
            </p:grpSpPr>
            <p:sp>
              <p:nvSpPr>
                <p:cNvPr id="4196" name=""/>
                <p:cNvSpPr/>
                <p:nvPr/>
              </p:nvSpPr>
              <p:spPr>
                <a:xfrm>
                  <a:off x="3570840" y="319068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7" name=""/>
                <p:cNvGrpSpPr/>
                <p:nvPr/>
              </p:nvGrpSpPr>
              <p:grpSpPr>
                <a:xfrm>
                  <a:off x="3570840" y="3190680"/>
                  <a:ext cx="401400" cy="473040"/>
                  <a:chOff x="3570840" y="3190680"/>
                  <a:chExt cx="401400" cy="473040"/>
                </a:xfrm>
              </p:grpSpPr>
              <p:sp>
                <p:nvSpPr>
                  <p:cNvPr id="4198" name=""/>
                  <p:cNvSpPr/>
                  <p:nvPr/>
                </p:nvSpPr>
                <p:spPr>
                  <a:xfrm>
                    <a:off x="3607920" y="319068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9" name=""/>
                  <p:cNvSpPr/>
                  <p:nvPr/>
                </p:nvSpPr>
                <p:spPr>
                  <a:xfrm>
                    <a:off x="3570840" y="319068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00" name=""/>
              <p:cNvGrpSpPr/>
              <p:nvPr/>
            </p:nvGrpSpPr>
            <p:grpSpPr>
              <a:xfrm>
                <a:off x="3972600" y="3190680"/>
                <a:ext cx="401760" cy="473040"/>
                <a:chOff x="3972600" y="3190680"/>
                <a:chExt cx="401760" cy="473040"/>
              </a:xfrm>
            </p:grpSpPr>
            <p:sp>
              <p:nvSpPr>
                <p:cNvPr id="4201" name=""/>
                <p:cNvSpPr/>
                <p:nvPr/>
              </p:nvSpPr>
              <p:spPr>
                <a:xfrm>
                  <a:off x="3972600" y="319068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2" name=""/>
                <p:cNvGrpSpPr/>
                <p:nvPr/>
              </p:nvGrpSpPr>
              <p:grpSpPr>
                <a:xfrm>
                  <a:off x="3972600" y="3190680"/>
                  <a:ext cx="401760" cy="473040"/>
                  <a:chOff x="3972600" y="3190680"/>
                  <a:chExt cx="401760" cy="473040"/>
                </a:xfrm>
              </p:grpSpPr>
              <p:sp>
                <p:nvSpPr>
                  <p:cNvPr id="4203" name=""/>
                  <p:cNvSpPr/>
                  <p:nvPr/>
                </p:nvSpPr>
                <p:spPr>
                  <a:xfrm>
                    <a:off x="4010040" y="319068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4" name=""/>
                  <p:cNvSpPr/>
                  <p:nvPr/>
                </p:nvSpPr>
                <p:spPr>
                  <a:xfrm>
                    <a:off x="3972600" y="319068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05" name=""/>
              <p:cNvGrpSpPr/>
              <p:nvPr/>
            </p:nvGrpSpPr>
            <p:grpSpPr>
              <a:xfrm>
                <a:off x="4374720" y="3190680"/>
                <a:ext cx="401400" cy="473040"/>
                <a:chOff x="4374720" y="3190680"/>
                <a:chExt cx="401400" cy="473040"/>
              </a:xfrm>
            </p:grpSpPr>
            <p:sp>
              <p:nvSpPr>
                <p:cNvPr id="4206" name=""/>
                <p:cNvSpPr/>
                <p:nvPr/>
              </p:nvSpPr>
              <p:spPr>
                <a:xfrm>
                  <a:off x="4374720" y="319068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7" name=""/>
                <p:cNvGrpSpPr/>
                <p:nvPr/>
              </p:nvGrpSpPr>
              <p:grpSpPr>
                <a:xfrm>
                  <a:off x="4374720" y="3190680"/>
                  <a:ext cx="401400" cy="473040"/>
                  <a:chOff x="4374720" y="3190680"/>
                  <a:chExt cx="401400" cy="473040"/>
                </a:xfrm>
              </p:grpSpPr>
              <p:sp>
                <p:nvSpPr>
                  <p:cNvPr id="4208" name=""/>
                  <p:cNvSpPr/>
                  <p:nvPr/>
                </p:nvSpPr>
                <p:spPr>
                  <a:xfrm>
                    <a:off x="4411800" y="319068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9" name=""/>
                  <p:cNvSpPr/>
                  <p:nvPr/>
                </p:nvSpPr>
                <p:spPr>
                  <a:xfrm>
                    <a:off x="4374720" y="319068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0" name=""/>
              <p:cNvGrpSpPr/>
              <p:nvPr/>
            </p:nvGrpSpPr>
            <p:grpSpPr>
              <a:xfrm>
                <a:off x="4776120" y="3190680"/>
                <a:ext cx="401400" cy="473040"/>
                <a:chOff x="4776120" y="3190680"/>
                <a:chExt cx="401400" cy="473040"/>
              </a:xfrm>
            </p:grpSpPr>
            <p:sp>
              <p:nvSpPr>
                <p:cNvPr id="4211" name=""/>
                <p:cNvSpPr/>
                <p:nvPr/>
              </p:nvSpPr>
              <p:spPr>
                <a:xfrm>
                  <a:off x="4776120" y="319068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2" name=""/>
                <p:cNvGrpSpPr/>
                <p:nvPr/>
              </p:nvGrpSpPr>
              <p:grpSpPr>
                <a:xfrm>
                  <a:off x="4776120" y="3190680"/>
                  <a:ext cx="401400" cy="473040"/>
                  <a:chOff x="4776120" y="3190680"/>
                  <a:chExt cx="401400" cy="473040"/>
                </a:xfrm>
              </p:grpSpPr>
              <p:sp>
                <p:nvSpPr>
                  <p:cNvPr id="4213" name=""/>
                  <p:cNvSpPr/>
                  <p:nvPr/>
                </p:nvSpPr>
                <p:spPr>
                  <a:xfrm>
                    <a:off x="4813200" y="319068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4" name=""/>
                  <p:cNvSpPr/>
                  <p:nvPr/>
                </p:nvSpPr>
                <p:spPr>
                  <a:xfrm>
                    <a:off x="4776120" y="319068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5" name=""/>
              <p:cNvGrpSpPr/>
              <p:nvPr/>
            </p:nvGrpSpPr>
            <p:grpSpPr>
              <a:xfrm>
                <a:off x="5177880" y="3190680"/>
                <a:ext cx="401760" cy="473040"/>
                <a:chOff x="5177880" y="3190680"/>
                <a:chExt cx="401760" cy="473040"/>
              </a:xfrm>
            </p:grpSpPr>
            <p:sp>
              <p:nvSpPr>
                <p:cNvPr id="4216" name=""/>
                <p:cNvSpPr/>
                <p:nvPr/>
              </p:nvSpPr>
              <p:spPr>
                <a:xfrm>
                  <a:off x="5177880" y="319068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7" name=""/>
                <p:cNvGrpSpPr/>
                <p:nvPr/>
              </p:nvGrpSpPr>
              <p:grpSpPr>
                <a:xfrm>
                  <a:off x="5177880" y="3190680"/>
                  <a:ext cx="401760" cy="473040"/>
                  <a:chOff x="5177880" y="3190680"/>
                  <a:chExt cx="401760" cy="473040"/>
                </a:xfrm>
              </p:grpSpPr>
              <p:sp>
                <p:nvSpPr>
                  <p:cNvPr id="4218" name=""/>
                  <p:cNvSpPr/>
                  <p:nvPr/>
                </p:nvSpPr>
                <p:spPr>
                  <a:xfrm>
                    <a:off x="5215320" y="319068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9" name=""/>
                  <p:cNvSpPr/>
                  <p:nvPr/>
                </p:nvSpPr>
                <p:spPr>
                  <a:xfrm>
                    <a:off x="5177880" y="319068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20" name=""/>
              <p:cNvGrpSpPr/>
              <p:nvPr/>
            </p:nvGrpSpPr>
            <p:grpSpPr>
              <a:xfrm>
                <a:off x="5580000" y="3190680"/>
                <a:ext cx="401400" cy="473040"/>
                <a:chOff x="5580000" y="3190680"/>
                <a:chExt cx="401400" cy="473040"/>
              </a:xfrm>
            </p:grpSpPr>
            <p:sp>
              <p:nvSpPr>
                <p:cNvPr id="4221" name=""/>
                <p:cNvSpPr/>
                <p:nvPr/>
              </p:nvSpPr>
              <p:spPr>
                <a:xfrm>
                  <a:off x="5580000" y="319068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2" name=""/>
                <p:cNvGrpSpPr/>
                <p:nvPr/>
              </p:nvGrpSpPr>
              <p:grpSpPr>
                <a:xfrm>
                  <a:off x="5580000" y="3190680"/>
                  <a:ext cx="401400" cy="473040"/>
                  <a:chOff x="5580000" y="3190680"/>
                  <a:chExt cx="401400" cy="473040"/>
                </a:xfrm>
              </p:grpSpPr>
              <p:sp>
                <p:nvSpPr>
                  <p:cNvPr id="4223" name=""/>
                  <p:cNvSpPr/>
                  <p:nvPr/>
                </p:nvSpPr>
                <p:spPr>
                  <a:xfrm>
                    <a:off x="5617080" y="319068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4" name=""/>
                  <p:cNvSpPr/>
                  <p:nvPr/>
                </p:nvSpPr>
                <p:spPr>
                  <a:xfrm>
                    <a:off x="5580000" y="319068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25" name=""/>
              <p:cNvGrpSpPr/>
              <p:nvPr/>
            </p:nvGrpSpPr>
            <p:grpSpPr>
              <a:xfrm>
                <a:off x="5981400" y="3190680"/>
                <a:ext cx="401400" cy="473040"/>
                <a:chOff x="5981400" y="3190680"/>
                <a:chExt cx="401400" cy="473040"/>
              </a:xfrm>
            </p:grpSpPr>
            <p:sp>
              <p:nvSpPr>
                <p:cNvPr id="4226" name=""/>
                <p:cNvSpPr/>
                <p:nvPr/>
              </p:nvSpPr>
              <p:spPr>
                <a:xfrm>
                  <a:off x="5981400" y="319068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7" name=""/>
                <p:cNvGrpSpPr/>
                <p:nvPr/>
              </p:nvGrpSpPr>
              <p:grpSpPr>
                <a:xfrm>
                  <a:off x="5981400" y="3190680"/>
                  <a:ext cx="401400" cy="473040"/>
                  <a:chOff x="5981400" y="3190680"/>
                  <a:chExt cx="401400" cy="473040"/>
                </a:xfrm>
              </p:grpSpPr>
              <p:sp>
                <p:nvSpPr>
                  <p:cNvPr id="4228" name=""/>
                  <p:cNvSpPr/>
                  <p:nvPr/>
                </p:nvSpPr>
                <p:spPr>
                  <a:xfrm>
                    <a:off x="6018480" y="319068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9" name=""/>
                  <p:cNvSpPr/>
                  <p:nvPr/>
                </p:nvSpPr>
                <p:spPr>
                  <a:xfrm>
                    <a:off x="5981400" y="319068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30" name=""/>
              <p:cNvGrpSpPr/>
              <p:nvPr/>
            </p:nvGrpSpPr>
            <p:grpSpPr>
              <a:xfrm>
                <a:off x="6383160" y="3190680"/>
                <a:ext cx="401760" cy="473040"/>
                <a:chOff x="6383160" y="3190680"/>
                <a:chExt cx="401760" cy="473040"/>
              </a:xfrm>
            </p:grpSpPr>
            <p:sp>
              <p:nvSpPr>
                <p:cNvPr id="4231" name=""/>
                <p:cNvSpPr/>
                <p:nvPr/>
              </p:nvSpPr>
              <p:spPr>
                <a:xfrm>
                  <a:off x="6383160" y="319068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2" name=""/>
                <p:cNvGrpSpPr/>
                <p:nvPr/>
              </p:nvGrpSpPr>
              <p:grpSpPr>
                <a:xfrm>
                  <a:off x="6383160" y="3190680"/>
                  <a:ext cx="401760" cy="473040"/>
                  <a:chOff x="6383160" y="3190680"/>
                  <a:chExt cx="401760" cy="473040"/>
                </a:xfrm>
              </p:grpSpPr>
              <p:sp>
                <p:nvSpPr>
                  <p:cNvPr id="4233" name=""/>
                  <p:cNvSpPr/>
                  <p:nvPr/>
                </p:nvSpPr>
                <p:spPr>
                  <a:xfrm>
                    <a:off x="6420600" y="319068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>
                    <a:off x="6383160" y="319068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35" name=""/>
              <p:cNvGrpSpPr/>
              <p:nvPr/>
            </p:nvGrpSpPr>
            <p:grpSpPr>
              <a:xfrm>
                <a:off x="2365920" y="3663720"/>
                <a:ext cx="401400" cy="472680"/>
                <a:chOff x="2365920" y="3663720"/>
                <a:chExt cx="401400" cy="472680"/>
              </a:xfrm>
            </p:grpSpPr>
            <p:sp>
              <p:nvSpPr>
                <p:cNvPr id="4236" name=""/>
                <p:cNvSpPr/>
                <p:nvPr/>
              </p:nvSpPr>
              <p:spPr>
                <a:xfrm>
                  <a:off x="2365920" y="36637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7" name=""/>
                <p:cNvGrpSpPr/>
                <p:nvPr/>
              </p:nvGrpSpPr>
              <p:grpSpPr>
                <a:xfrm>
                  <a:off x="2365920" y="3663720"/>
                  <a:ext cx="401400" cy="472680"/>
                  <a:chOff x="2365920" y="3663720"/>
                  <a:chExt cx="401400" cy="472680"/>
                </a:xfrm>
              </p:grpSpPr>
              <p:sp>
                <p:nvSpPr>
                  <p:cNvPr id="4238" name=""/>
                  <p:cNvSpPr/>
                  <p:nvPr/>
                </p:nvSpPr>
                <p:spPr>
                  <a:xfrm>
                    <a:off x="2403000" y="36637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2365920" y="36637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40" name=""/>
              <p:cNvGrpSpPr/>
              <p:nvPr/>
            </p:nvGrpSpPr>
            <p:grpSpPr>
              <a:xfrm>
                <a:off x="2767320" y="3663720"/>
                <a:ext cx="401760" cy="472680"/>
                <a:chOff x="2767320" y="3663720"/>
                <a:chExt cx="401760" cy="472680"/>
              </a:xfrm>
            </p:grpSpPr>
            <p:sp>
              <p:nvSpPr>
                <p:cNvPr id="4241" name=""/>
                <p:cNvSpPr/>
                <p:nvPr/>
              </p:nvSpPr>
              <p:spPr>
                <a:xfrm>
                  <a:off x="2767320" y="366372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2" name=""/>
                <p:cNvGrpSpPr/>
                <p:nvPr/>
              </p:nvGrpSpPr>
              <p:grpSpPr>
                <a:xfrm>
                  <a:off x="2767320" y="3663720"/>
                  <a:ext cx="401760" cy="472680"/>
                  <a:chOff x="2767320" y="3663720"/>
                  <a:chExt cx="401760" cy="472680"/>
                </a:xfrm>
              </p:grpSpPr>
              <p:sp>
                <p:nvSpPr>
                  <p:cNvPr id="4243" name=""/>
                  <p:cNvSpPr/>
                  <p:nvPr/>
                </p:nvSpPr>
                <p:spPr>
                  <a:xfrm>
                    <a:off x="2804760" y="36637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2767320" y="366372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45" name=""/>
              <p:cNvGrpSpPr/>
              <p:nvPr/>
            </p:nvGrpSpPr>
            <p:grpSpPr>
              <a:xfrm>
                <a:off x="3169440" y="3663720"/>
                <a:ext cx="401400" cy="472680"/>
                <a:chOff x="3169440" y="3663720"/>
                <a:chExt cx="401400" cy="472680"/>
              </a:xfrm>
            </p:grpSpPr>
            <p:sp>
              <p:nvSpPr>
                <p:cNvPr id="4246" name=""/>
                <p:cNvSpPr/>
                <p:nvPr/>
              </p:nvSpPr>
              <p:spPr>
                <a:xfrm>
                  <a:off x="3169440" y="36637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7" name=""/>
                <p:cNvGrpSpPr/>
                <p:nvPr/>
              </p:nvGrpSpPr>
              <p:grpSpPr>
                <a:xfrm>
                  <a:off x="3169440" y="3663720"/>
                  <a:ext cx="401400" cy="472680"/>
                  <a:chOff x="3169440" y="3663720"/>
                  <a:chExt cx="401400" cy="472680"/>
                </a:xfrm>
              </p:grpSpPr>
              <p:sp>
                <p:nvSpPr>
                  <p:cNvPr id="4248" name=""/>
                  <p:cNvSpPr/>
                  <p:nvPr/>
                </p:nvSpPr>
                <p:spPr>
                  <a:xfrm>
                    <a:off x="3206520" y="36637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9" name=""/>
                  <p:cNvSpPr/>
                  <p:nvPr/>
                </p:nvSpPr>
                <p:spPr>
                  <a:xfrm>
                    <a:off x="3169440" y="36637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50" name=""/>
              <p:cNvGrpSpPr/>
              <p:nvPr/>
            </p:nvGrpSpPr>
            <p:grpSpPr>
              <a:xfrm>
                <a:off x="3570840" y="3663720"/>
                <a:ext cx="401400" cy="472680"/>
                <a:chOff x="3570840" y="3663720"/>
                <a:chExt cx="401400" cy="472680"/>
              </a:xfrm>
            </p:grpSpPr>
            <p:sp>
              <p:nvSpPr>
                <p:cNvPr id="4251" name=""/>
                <p:cNvSpPr/>
                <p:nvPr/>
              </p:nvSpPr>
              <p:spPr>
                <a:xfrm>
                  <a:off x="3570840" y="36637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2" name=""/>
                <p:cNvGrpSpPr/>
                <p:nvPr/>
              </p:nvGrpSpPr>
              <p:grpSpPr>
                <a:xfrm>
                  <a:off x="3570840" y="3663720"/>
                  <a:ext cx="401400" cy="472680"/>
                  <a:chOff x="3570840" y="3663720"/>
                  <a:chExt cx="401400" cy="472680"/>
                </a:xfrm>
              </p:grpSpPr>
              <p:sp>
                <p:nvSpPr>
                  <p:cNvPr id="4253" name=""/>
                  <p:cNvSpPr/>
                  <p:nvPr/>
                </p:nvSpPr>
                <p:spPr>
                  <a:xfrm>
                    <a:off x="3607920" y="36637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4" name=""/>
                  <p:cNvSpPr/>
                  <p:nvPr/>
                </p:nvSpPr>
                <p:spPr>
                  <a:xfrm>
                    <a:off x="3570840" y="36637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55" name=""/>
              <p:cNvGrpSpPr/>
              <p:nvPr/>
            </p:nvGrpSpPr>
            <p:grpSpPr>
              <a:xfrm>
                <a:off x="3972600" y="3663720"/>
                <a:ext cx="401760" cy="472680"/>
                <a:chOff x="3972600" y="3663720"/>
                <a:chExt cx="401760" cy="472680"/>
              </a:xfrm>
            </p:grpSpPr>
            <p:sp>
              <p:nvSpPr>
                <p:cNvPr id="4256" name=""/>
                <p:cNvSpPr/>
                <p:nvPr/>
              </p:nvSpPr>
              <p:spPr>
                <a:xfrm>
                  <a:off x="3972600" y="366372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7" name=""/>
                <p:cNvGrpSpPr/>
                <p:nvPr/>
              </p:nvGrpSpPr>
              <p:grpSpPr>
                <a:xfrm>
                  <a:off x="3972600" y="3663720"/>
                  <a:ext cx="401760" cy="472680"/>
                  <a:chOff x="3972600" y="3663720"/>
                  <a:chExt cx="401760" cy="472680"/>
                </a:xfrm>
              </p:grpSpPr>
              <p:sp>
                <p:nvSpPr>
                  <p:cNvPr id="4258" name=""/>
                  <p:cNvSpPr/>
                  <p:nvPr/>
                </p:nvSpPr>
                <p:spPr>
                  <a:xfrm>
                    <a:off x="4010040" y="36637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9" name=""/>
                  <p:cNvSpPr/>
                  <p:nvPr/>
                </p:nvSpPr>
                <p:spPr>
                  <a:xfrm>
                    <a:off x="3972600" y="366372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0" name=""/>
              <p:cNvGrpSpPr/>
              <p:nvPr/>
            </p:nvGrpSpPr>
            <p:grpSpPr>
              <a:xfrm>
                <a:off x="4374720" y="3663720"/>
                <a:ext cx="401400" cy="472680"/>
                <a:chOff x="4374720" y="3663720"/>
                <a:chExt cx="401400" cy="472680"/>
              </a:xfrm>
            </p:grpSpPr>
            <p:sp>
              <p:nvSpPr>
                <p:cNvPr id="4261" name=""/>
                <p:cNvSpPr/>
                <p:nvPr/>
              </p:nvSpPr>
              <p:spPr>
                <a:xfrm>
                  <a:off x="4374720" y="36637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2" name=""/>
                <p:cNvGrpSpPr/>
                <p:nvPr/>
              </p:nvGrpSpPr>
              <p:grpSpPr>
                <a:xfrm>
                  <a:off x="4374720" y="3663720"/>
                  <a:ext cx="401400" cy="472680"/>
                  <a:chOff x="4374720" y="3663720"/>
                  <a:chExt cx="401400" cy="472680"/>
                </a:xfrm>
              </p:grpSpPr>
              <p:sp>
                <p:nvSpPr>
                  <p:cNvPr id="4263" name=""/>
                  <p:cNvSpPr/>
                  <p:nvPr/>
                </p:nvSpPr>
                <p:spPr>
                  <a:xfrm>
                    <a:off x="4411800" y="36637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4" name=""/>
                  <p:cNvSpPr/>
                  <p:nvPr/>
                </p:nvSpPr>
                <p:spPr>
                  <a:xfrm>
                    <a:off x="4374720" y="36637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5" name=""/>
              <p:cNvGrpSpPr/>
              <p:nvPr/>
            </p:nvGrpSpPr>
            <p:grpSpPr>
              <a:xfrm>
                <a:off x="4776120" y="3663720"/>
                <a:ext cx="401400" cy="472680"/>
                <a:chOff x="4776120" y="3663720"/>
                <a:chExt cx="401400" cy="472680"/>
              </a:xfrm>
            </p:grpSpPr>
            <p:sp>
              <p:nvSpPr>
                <p:cNvPr id="4266" name=""/>
                <p:cNvSpPr/>
                <p:nvPr/>
              </p:nvSpPr>
              <p:spPr>
                <a:xfrm>
                  <a:off x="4776120" y="36637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7" name=""/>
                <p:cNvGrpSpPr/>
                <p:nvPr/>
              </p:nvGrpSpPr>
              <p:grpSpPr>
                <a:xfrm>
                  <a:off x="4776120" y="3663720"/>
                  <a:ext cx="401400" cy="472680"/>
                  <a:chOff x="4776120" y="3663720"/>
                  <a:chExt cx="401400" cy="472680"/>
                </a:xfrm>
              </p:grpSpPr>
              <p:sp>
                <p:nvSpPr>
                  <p:cNvPr id="4268" name=""/>
                  <p:cNvSpPr/>
                  <p:nvPr/>
                </p:nvSpPr>
                <p:spPr>
                  <a:xfrm>
                    <a:off x="4813200" y="36637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9" name=""/>
                  <p:cNvSpPr/>
                  <p:nvPr/>
                </p:nvSpPr>
                <p:spPr>
                  <a:xfrm>
                    <a:off x="4776120" y="36637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70" name=""/>
              <p:cNvGrpSpPr/>
              <p:nvPr/>
            </p:nvGrpSpPr>
            <p:grpSpPr>
              <a:xfrm>
                <a:off x="5177880" y="3663720"/>
                <a:ext cx="401760" cy="472680"/>
                <a:chOff x="5177880" y="3663720"/>
                <a:chExt cx="401760" cy="472680"/>
              </a:xfrm>
            </p:grpSpPr>
            <p:sp>
              <p:nvSpPr>
                <p:cNvPr id="4271" name=""/>
                <p:cNvSpPr/>
                <p:nvPr/>
              </p:nvSpPr>
              <p:spPr>
                <a:xfrm>
                  <a:off x="5177880" y="366372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2" name=""/>
                <p:cNvGrpSpPr/>
                <p:nvPr/>
              </p:nvGrpSpPr>
              <p:grpSpPr>
                <a:xfrm>
                  <a:off x="5177880" y="3663720"/>
                  <a:ext cx="401760" cy="472680"/>
                  <a:chOff x="5177880" y="3663720"/>
                  <a:chExt cx="401760" cy="472680"/>
                </a:xfrm>
              </p:grpSpPr>
              <p:sp>
                <p:nvSpPr>
                  <p:cNvPr id="4273" name=""/>
                  <p:cNvSpPr/>
                  <p:nvPr/>
                </p:nvSpPr>
                <p:spPr>
                  <a:xfrm>
                    <a:off x="5215320" y="36637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4" name=""/>
                  <p:cNvSpPr/>
                  <p:nvPr/>
                </p:nvSpPr>
                <p:spPr>
                  <a:xfrm>
                    <a:off x="5177880" y="366372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75" name=""/>
              <p:cNvGrpSpPr/>
              <p:nvPr/>
            </p:nvGrpSpPr>
            <p:grpSpPr>
              <a:xfrm>
                <a:off x="5580000" y="3663720"/>
                <a:ext cx="401400" cy="472680"/>
                <a:chOff x="5580000" y="3663720"/>
                <a:chExt cx="401400" cy="472680"/>
              </a:xfrm>
            </p:grpSpPr>
            <p:sp>
              <p:nvSpPr>
                <p:cNvPr id="4276" name=""/>
                <p:cNvSpPr/>
                <p:nvPr/>
              </p:nvSpPr>
              <p:spPr>
                <a:xfrm>
                  <a:off x="5580000" y="36637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7" name=""/>
                <p:cNvGrpSpPr/>
                <p:nvPr/>
              </p:nvGrpSpPr>
              <p:grpSpPr>
                <a:xfrm>
                  <a:off x="5580000" y="3663720"/>
                  <a:ext cx="401400" cy="472680"/>
                  <a:chOff x="5580000" y="3663720"/>
                  <a:chExt cx="401400" cy="472680"/>
                </a:xfrm>
              </p:grpSpPr>
              <p:sp>
                <p:nvSpPr>
                  <p:cNvPr id="4278" name=""/>
                  <p:cNvSpPr/>
                  <p:nvPr/>
                </p:nvSpPr>
                <p:spPr>
                  <a:xfrm>
                    <a:off x="5617080" y="36637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9" name=""/>
                  <p:cNvSpPr/>
                  <p:nvPr/>
                </p:nvSpPr>
                <p:spPr>
                  <a:xfrm>
                    <a:off x="5580000" y="36637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80" name=""/>
              <p:cNvGrpSpPr/>
              <p:nvPr/>
            </p:nvGrpSpPr>
            <p:grpSpPr>
              <a:xfrm>
                <a:off x="5981400" y="3663720"/>
                <a:ext cx="401400" cy="472680"/>
                <a:chOff x="5981400" y="3663720"/>
                <a:chExt cx="401400" cy="472680"/>
              </a:xfrm>
            </p:grpSpPr>
            <p:sp>
              <p:nvSpPr>
                <p:cNvPr id="4281" name=""/>
                <p:cNvSpPr/>
                <p:nvPr/>
              </p:nvSpPr>
              <p:spPr>
                <a:xfrm>
                  <a:off x="5981400" y="36637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2" name=""/>
                <p:cNvGrpSpPr/>
                <p:nvPr/>
              </p:nvGrpSpPr>
              <p:grpSpPr>
                <a:xfrm>
                  <a:off x="5981400" y="3663720"/>
                  <a:ext cx="401400" cy="472680"/>
                  <a:chOff x="5981400" y="3663720"/>
                  <a:chExt cx="401400" cy="472680"/>
                </a:xfrm>
              </p:grpSpPr>
              <p:sp>
                <p:nvSpPr>
                  <p:cNvPr id="4283" name=""/>
                  <p:cNvSpPr/>
                  <p:nvPr/>
                </p:nvSpPr>
                <p:spPr>
                  <a:xfrm>
                    <a:off x="6018480" y="36637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4" name=""/>
                  <p:cNvSpPr/>
                  <p:nvPr/>
                </p:nvSpPr>
                <p:spPr>
                  <a:xfrm>
                    <a:off x="5981400" y="36637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85" name=""/>
              <p:cNvGrpSpPr/>
              <p:nvPr/>
            </p:nvGrpSpPr>
            <p:grpSpPr>
              <a:xfrm>
                <a:off x="6383160" y="3663720"/>
                <a:ext cx="401760" cy="472680"/>
                <a:chOff x="6383160" y="3663720"/>
                <a:chExt cx="401760" cy="472680"/>
              </a:xfrm>
            </p:grpSpPr>
            <p:sp>
              <p:nvSpPr>
                <p:cNvPr id="4286" name=""/>
                <p:cNvSpPr/>
                <p:nvPr/>
              </p:nvSpPr>
              <p:spPr>
                <a:xfrm>
                  <a:off x="6383160" y="366372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7" name=""/>
                <p:cNvGrpSpPr/>
                <p:nvPr/>
              </p:nvGrpSpPr>
              <p:grpSpPr>
                <a:xfrm>
                  <a:off x="6383160" y="3663720"/>
                  <a:ext cx="401760" cy="472680"/>
                  <a:chOff x="6383160" y="3663720"/>
                  <a:chExt cx="401760" cy="472680"/>
                </a:xfrm>
              </p:grpSpPr>
              <p:sp>
                <p:nvSpPr>
                  <p:cNvPr id="4288" name=""/>
                  <p:cNvSpPr/>
                  <p:nvPr/>
                </p:nvSpPr>
                <p:spPr>
                  <a:xfrm>
                    <a:off x="6420600" y="36637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9" name=""/>
                  <p:cNvSpPr/>
                  <p:nvPr/>
                </p:nvSpPr>
                <p:spPr>
                  <a:xfrm>
                    <a:off x="6383160" y="366372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90" name=""/>
            <p:cNvSpPr/>
            <p:nvPr/>
          </p:nvSpPr>
          <p:spPr>
            <a:xfrm>
              <a:off x="2362320" y="1295280"/>
              <a:ext cx="4427280" cy="2845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1" name=""/>
          <p:cNvSpPr/>
          <p:nvPr/>
        </p:nvSpPr>
        <p:spPr>
          <a:xfrm>
            <a:off x="3240" y="441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m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lgoritmi di esponenzi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3" name=""/>
          <p:cNvGraphicFramePr/>
          <p:nvPr/>
        </p:nvGraphicFramePr>
        <p:xfrm>
          <a:off x="1442880" y="2741760"/>
          <a:ext cx="6032520" cy="135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741760"/>
                    <a:ext cx="603252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5" name=""/>
          <p:cNvSpPr/>
          <p:nvPr/>
        </p:nvSpPr>
        <p:spPr>
          <a:xfrm>
            <a:off x="3579120" y="106668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y = 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152280" y="1805040"/>
            <a:ext cx="89154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 =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appresentazione in base 2 di x è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 = b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 2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 2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n-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+ ……….+ b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 2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 2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conseguenza si h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y = g 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x = (g 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(b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 2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)) . (g 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(b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 2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n-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)) …(( g 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(b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 2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)) . g 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i: dapprima  g, 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, 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poi si moltiplicano tra loro i 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cui 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so peggiore: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.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moltiplicazioni (..ma su numeri sempre più grandi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essit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2712240" y="3114720"/>
            <a:ext cx="3769920" cy="51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tiplic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967320" y="4114800"/>
            <a:ext cx="720972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ltiplicazione e divisione: O((log p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operazioni su b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ponenziazione: O((log p)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 operazioni binari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468000" y="1184400"/>
            <a:ext cx="8257320" cy="1607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- Riducendo in modulo il risultato di ogni moltipl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riesce ad operare sempre e solo su numeri di 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– Non separando il calcolo de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a quello dei 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i otteng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mpi di esecuzione più bre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2058840" y="5486400"/>
            <a:ext cx="51246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Robustezza e tempo d’esec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ulo: da 1024 bit a 2048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mpo: da 1 a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"/>
          <p:cNvSpPr/>
          <p:nvPr/>
        </p:nvSpPr>
        <p:spPr>
          <a:xfrm>
            <a:off x="228600" y="762120"/>
            <a:ext cx="44956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PUT: 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Z*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, 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k &lt;n , k = (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t-1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PUT: 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Set b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 If k = 0 then return (b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Set 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f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1 then set b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or i from 1 to t  do the followi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1 Set 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2 If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1 then set b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.b mod 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5. Return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228600" y="4191120"/>
            <a:ext cx="44956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PUT: 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Z*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, 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k &lt;n , k = (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t-1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PUT: 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or i from t down to 1 do the followi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1 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2 If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1 then 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.a mod 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. Return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ccessive quadrature e moltiplic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5089680" y="865080"/>
            <a:ext cx="3240000" cy="287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 = 11, a = 7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k = 5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=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 =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= 7.7 mod 11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= 5.5 mod 11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 = 3.7 mod 11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od 11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5105520" y="3962520"/>
            <a:ext cx="3240000" cy="283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= 1.1 mod 11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= 1.7 mod 11 =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= 7.7 mod 11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=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= 5.5 mod 11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= 3.7 mod 11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od 11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Formulazione recurs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152280" y="2514600"/>
            <a:ext cx="88394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ction expo (g, x,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f x = 0 then retu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f x pari then return [expo (g, x/2, n)]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lse return [g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xpo(g, x-1, n)] (mod 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aritmo discr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75960" y="1101600"/>
            <a:ext cx="8978400" cy="87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“ Dati un prim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un generato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d un qualunque inter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Z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e un unico inter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,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-1, tale che 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mod p =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152280" y="2362320"/>
            <a:ext cx="8839440" cy="4267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2" name=""/>
          <p:cNvGrpSpPr/>
          <p:nvPr/>
        </p:nvGrpSpPr>
        <p:grpSpPr>
          <a:xfrm>
            <a:off x="1219320" y="2523960"/>
            <a:ext cx="4427280" cy="2845080"/>
            <a:chOff x="1219320" y="2523960"/>
            <a:chExt cx="4427280" cy="2845080"/>
          </a:xfrm>
        </p:grpSpPr>
        <p:grpSp>
          <p:nvGrpSpPr>
            <p:cNvPr id="4313" name=""/>
            <p:cNvGrpSpPr/>
            <p:nvPr/>
          </p:nvGrpSpPr>
          <p:grpSpPr>
            <a:xfrm>
              <a:off x="1222920" y="2527560"/>
              <a:ext cx="4419000" cy="2837520"/>
              <a:chOff x="1222920" y="2527560"/>
              <a:chExt cx="4419000" cy="2837520"/>
            </a:xfrm>
          </p:grpSpPr>
          <p:grpSp>
            <p:nvGrpSpPr>
              <p:cNvPr id="4314" name=""/>
              <p:cNvGrpSpPr/>
              <p:nvPr/>
            </p:nvGrpSpPr>
            <p:grpSpPr>
              <a:xfrm>
                <a:off x="1222920" y="2527560"/>
                <a:ext cx="401400" cy="472680"/>
                <a:chOff x="1222920" y="2527560"/>
                <a:chExt cx="401400" cy="472680"/>
              </a:xfrm>
            </p:grpSpPr>
            <p:sp>
              <p:nvSpPr>
                <p:cNvPr id="4315" name=""/>
                <p:cNvSpPr/>
                <p:nvPr/>
              </p:nvSpPr>
              <p:spPr>
                <a:xfrm>
                  <a:off x="1222920" y="2527560"/>
                  <a:ext cx="401400" cy="4726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6" name=""/>
                <p:cNvGrpSpPr/>
                <p:nvPr/>
              </p:nvGrpSpPr>
              <p:grpSpPr>
                <a:xfrm>
                  <a:off x="1222920" y="2527560"/>
                  <a:ext cx="401400" cy="472680"/>
                  <a:chOff x="1222920" y="2527560"/>
                  <a:chExt cx="401400" cy="472680"/>
                </a:xfrm>
              </p:grpSpPr>
              <p:sp>
                <p:nvSpPr>
                  <p:cNvPr id="4317" name=""/>
                  <p:cNvSpPr/>
                  <p:nvPr/>
                </p:nvSpPr>
                <p:spPr>
                  <a:xfrm>
                    <a:off x="1260000" y="2527560"/>
                    <a:ext cx="326880" cy="4726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8" name=""/>
                  <p:cNvSpPr/>
                  <p:nvPr/>
                </p:nvSpPr>
                <p:spPr>
                  <a:xfrm>
                    <a:off x="1222920" y="252756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9" name=""/>
              <p:cNvGrpSpPr/>
              <p:nvPr/>
            </p:nvGrpSpPr>
            <p:grpSpPr>
              <a:xfrm>
                <a:off x="1624320" y="2527560"/>
                <a:ext cx="4017600" cy="472680"/>
                <a:chOff x="1624320" y="2527560"/>
                <a:chExt cx="4017600" cy="472680"/>
              </a:xfrm>
            </p:grpSpPr>
            <p:sp>
              <p:nvSpPr>
                <p:cNvPr id="4320" name=""/>
                <p:cNvSpPr/>
                <p:nvPr/>
              </p:nvSpPr>
              <p:spPr>
                <a:xfrm>
                  <a:off x="1624320" y="2527560"/>
                  <a:ext cx="40176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1" name=""/>
                <p:cNvGrpSpPr/>
                <p:nvPr/>
              </p:nvGrpSpPr>
              <p:grpSpPr>
                <a:xfrm>
                  <a:off x="1624320" y="2527560"/>
                  <a:ext cx="4017600" cy="472680"/>
                  <a:chOff x="1624320" y="2527560"/>
                  <a:chExt cx="4017600" cy="472680"/>
                </a:xfrm>
              </p:grpSpPr>
              <p:sp>
                <p:nvSpPr>
                  <p:cNvPr id="4322" name=""/>
                  <p:cNvSpPr/>
                  <p:nvPr/>
                </p:nvSpPr>
                <p:spPr>
                  <a:xfrm>
                    <a:off x="1661760" y="2527560"/>
                    <a:ext cx="394236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3" name=""/>
                  <p:cNvSpPr/>
                  <p:nvPr/>
                </p:nvSpPr>
                <p:spPr>
                  <a:xfrm>
                    <a:off x="1624320" y="2527560"/>
                    <a:ext cx="40176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24" name=""/>
              <p:cNvGrpSpPr/>
              <p:nvPr/>
            </p:nvGrpSpPr>
            <p:grpSpPr>
              <a:xfrm>
                <a:off x="1222920" y="3000240"/>
                <a:ext cx="401400" cy="473040"/>
                <a:chOff x="1222920" y="3000240"/>
                <a:chExt cx="401400" cy="473040"/>
              </a:xfrm>
            </p:grpSpPr>
            <p:sp>
              <p:nvSpPr>
                <p:cNvPr id="4325" name=""/>
                <p:cNvSpPr/>
                <p:nvPr/>
              </p:nvSpPr>
              <p:spPr>
                <a:xfrm>
                  <a:off x="1222920" y="300024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6" name=""/>
                <p:cNvGrpSpPr/>
                <p:nvPr/>
              </p:nvGrpSpPr>
              <p:grpSpPr>
                <a:xfrm>
                  <a:off x="1222920" y="3000240"/>
                  <a:ext cx="401400" cy="473040"/>
                  <a:chOff x="1222920" y="3000240"/>
                  <a:chExt cx="401400" cy="473040"/>
                </a:xfrm>
              </p:grpSpPr>
              <p:sp>
                <p:nvSpPr>
                  <p:cNvPr id="4327" name=""/>
                  <p:cNvSpPr/>
                  <p:nvPr/>
                </p:nvSpPr>
                <p:spPr>
                  <a:xfrm>
                    <a:off x="1260000" y="300024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8" name=""/>
                  <p:cNvSpPr/>
                  <p:nvPr/>
                </p:nvSpPr>
                <p:spPr>
                  <a:xfrm>
                    <a:off x="1222920" y="300024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29" name=""/>
              <p:cNvGrpSpPr/>
              <p:nvPr/>
            </p:nvGrpSpPr>
            <p:grpSpPr>
              <a:xfrm>
                <a:off x="1624320" y="3000240"/>
                <a:ext cx="401760" cy="473040"/>
                <a:chOff x="1624320" y="3000240"/>
                <a:chExt cx="401760" cy="473040"/>
              </a:xfrm>
            </p:grpSpPr>
            <p:sp>
              <p:nvSpPr>
                <p:cNvPr id="4330" name=""/>
                <p:cNvSpPr/>
                <p:nvPr/>
              </p:nvSpPr>
              <p:spPr>
                <a:xfrm>
                  <a:off x="1624320" y="300024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1" name=""/>
                <p:cNvGrpSpPr/>
                <p:nvPr/>
              </p:nvGrpSpPr>
              <p:grpSpPr>
                <a:xfrm>
                  <a:off x="1624320" y="3000240"/>
                  <a:ext cx="401760" cy="473040"/>
                  <a:chOff x="1624320" y="3000240"/>
                  <a:chExt cx="401760" cy="473040"/>
                </a:xfrm>
              </p:grpSpPr>
              <p:sp>
                <p:nvSpPr>
                  <p:cNvPr id="4332" name=""/>
                  <p:cNvSpPr/>
                  <p:nvPr/>
                </p:nvSpPr>
                <p:spPr>
                  <a:xfrm>
                    <a:off x="1661760" y="300024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3" name=""/>
                  <p:cNvSpPr/>
                  <p:nvPr/>
                </p:nvSpPr>
                <p:spPr>
                  <a:xfrm>
                    <a:off x="1624320" y="300024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34" name=""/>
              <p:cNvGrpSpPr/>
              <p:nvPr/>
            </p:nvGrpSpPr>
            <p:grpSpPr>
              <a:xfrm>
                <a:off x="2026440" y="3000240"/>
                <a:ext cx="401400" cy="473040"/>
                <a:chOff x="2026440" y="3000240"/>
                <a:chExt cx="401400" cy="473040"/>
              </a:xfrm>
            </p:grpSpPr>
            <p:sp>
              <p:nvSpPr>
                <p:cNvPr id="4335" name=""/>
                <p:cNvSpPr/>
                <p:nvPr/>
              </p:nvSpPr>
              <p:spPr>
                <a:xfrm>
                  <a:off x="2026440" y="300024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6" name=""/>
                <p:cNvGrpSpPr/>
                <p:nvPr/>
              </p:nvGrpSpPr>
              <p:grpSpPr>
                <a:xfrm>
                  <a:off x="2026440" y="3000240"/>
                  <a:ext cx="401400" cy="473040"/>
                  <a:chOff x="2026440" y="3000240"/>
                  <a:chExt cx="401400" cy="473040"/>
                </a:xfrm>
              </p:grpSpPr>
              <p:sp>
                <p:nvSpPr>
                  <p:cNvPr id="4337" name=""/>
                  <p:cNvSpPr/>
                  <p:nvPr/>
                </p:nvSpPr>
                <p:spPr>
                  <a:xfrm>
                    <a:off x="2063520" y="300024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8" name=""/>
                  <p:cNvSpPr/>
                  <p:nvPr/>
                </p:nvSpPr>
                <p:spPr>
                  <a:xfrm>
                    <a:off x="2026440" y="300024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39" name=""/>
              <p:cNvGrpSpPr/>
              <p:nvPr/>
            </p:nvGrpSpPr>
            <p:grpSpPr>
              <a:xfrm>
                <a:off x="2427840" y="3000240"/>
                <a:ext cx="401400" cy="473040"/>
                <a:chOff x="2427840" y="3000240"/>
                <a:chExt cx="401400" cy="473040"/>
              </a:xfrm>
            </p:grpSpPr>
            <p:sp>
              <p:nvSpPr>
                <p:cNvPr id="4340" name=""/>
                <p:cNvSpPr/>
                <p:nvPr/>
              </p:nvSpPr>
              <p:spPr>
                <a:xfrm>
                  <a:off x="2427840" y="300024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1" name=""/>
                <p:cNvGrpSpPr/>
                <p:nvPr/>
              </p:nvGrpSpPr>
              <p:grpSpPr>
                <a:xfrm>
                  <a:off x="2427840" y="3000240"/>
                  <a:ext cx="401400" cy="473040"/>
                  <a:chOff x="2427840" y="3000240"/>
                  <a:chExt cx="401400" cy="473040"/>
                </a:xfrm>
              </p:grpSpPr>
              <p:sp>
                <p:nvSpPr>
                  <p:cNvPr id="4342" name=""/>
                  <p:cNvSpPr/>
                  <p:nvPr/>
                </p:nvSpPr>
                <p:spPr>
                  <a:xfrm>
                    <a:off x="2464920" y="300024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3" name=""/>
                  <p:cNvSpPr/>
                  <p:nvPr/>
                </p:nvSpPr>
                <p:spPr>
                  <a:xfrm>
                    <a:off x="2427840" y="300024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4" name=""/>
              <p:cNvGrpSpPr/>
              <p:nvPr/>
            </p:nvGrpSpPr>
            <p:grpSpPr>
              <a:xfrm>
                <a:off x="2829600" y="3000240"/>
                <a:ext cx="401760" cy="473040"/>
                <a:chOff x="2829600" y="3000240"/>
                <a:chExt cx="401760" cy="473040"/>
              </a:xfrm>
            </p:grpSpPr>
            <p:sp>
              <p:nvSpPr>
                <p:cNvPr id="4345" name=""/>
                <p:cNvSpPr/>
                <p:nvPr/>
              </p:nvSpPr>
              <p:spPr>
                <a:xfrm>
                  <a:off x="2829600" y="300024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6" name=""/>
                <p:cNvGrpSpPr/>
                <p:nvPr/>
              </p:nvGrpSpPr>
              <p:grpSpPr>
                <a:xfrm>
                  <a:off x="2829600" y="3000240"/>
                  <a:ext cx="401760" cy="473040"/>
                  <a:chOff x="2829600" y="3000240"/>
                  <a:chExt cx="401760" cy="473040"/>
                </a:xfrm>
              </p:grpSpPr>
              <p:sp>
                <p:nvSpPr>
                  <p:cNvPr id="4347" name=""/>
                  <p:cNvSpPr/>
                  <p:nvPr/>
                </p:nvSpPr>
                <p:spPr>
                  <a:xfrm>
                    <a:off x="2867040" y="300024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8" name=""/>
                  <p:cNvSpPr/>
                  <p:nvPr/>
                </p:nvSpPr>
                <p:spPr>
                  <a:xfrm>
                    <a:off x="2829600" y="300024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9" name=""/>
              <p:cNvGrpSpPr/>
              <p:nvPr/>
            </p:nvGrpSpPr>
            <p:grpSpPr>
              <a:xfrm>
                <a:off x="3231720" y="3000240"/>
                <a:ext cx="401400" cy="473040"/>
                <a:chOff x="3231720" y="3000240"/>
                <a:chExt cx="401400" cy="473040"/>
              </a:xfrm>
            </p:grpSpPr>
            <p:sp>
              <p:nvSpPr>
                <p:cNvPr id="4350" name=""/>
                <p:cNvSpPr/>
                <p:nvPr/>
              </p:nvSpPr>
              <p:spPr>
                <a:xfrm>
                  <a:off x="3231720" y="300024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1" name=""/>
                <p:cNvGrpSpPr/>
                <p:nvPr/>
              </p:nvGrpSpPr>
              <p:grpSpPr>
                <a:xfrm>
                  <a:off x="3231720" y="3000240"/>
                  <a:ext cx="401400" cy="473040"/>
                  <a:chOff x="3231720" y="3000240"/>
                  <a:chExt cx="401400" cy="473040"/>
                </a:xfrm>
              </p:grpSpPr>
              <p:sp>
                <p:nvSpPr>
                  <p:cNvPr id="4352" name=""/>
                  <p:cNvSpPr/>
                  <p:nvPr/>
                </p:nvSpPr>
                <p:spPr>
                  <a:xfrm>
                    <a:off x="3268800" y="300024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3" name=""/>
                  <p:cNvSpPr/>
                  <p:nvPr/>
                </p:nvSpPr>
                <p:spPr>
                  <a:xfrm>
                    <a:off x="3231720" y="300024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54" name=""/>
              <p:cNvGrpSpPr/>
              <p:nvPr/>
            </p:nvGrpSpPr>
            <p:grpSpPr>
              <a:xfrm>
                <a:off x="3633120" y="3000240"/>
                <a:ext cx="401400" cy="473040"/>
                <a:chOff x="3633120" y="3000240"/>
                <a:chExt cx="401400" cy="473040"/>
              </a:xfrm>
            </p:grpSpPr>
            <p:sp>
              <p:nvSpPr>
                <p:cNvPr id="4355" name=""/>
                <p:cNvSpPr/>
                <p:nvPr/>
              </p:nvSpPr>
              <p:spPr>
                <a:xfrm>
                  <a:off x="3633120" y="300024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6" name=""/>
                <p:cNvGrpSpPr/>
                <p:nvPr/>
              </p:nvGrpSpPr>
              <p:grpSpPr>
                <a:xfrm>
                  <a:off x="3633120" y="3000240"/>
                  <a:ext cx="401400" cy="473040"/>
                  <a:chOff x="3633120" y="3000240"/>
                  <a:chExt cx="401400" cy="473040"/>
                </a:xfrm>
              </p:grpSpPr>
              <p:sp>
                <p:nvSpPr>
                  <p:cNvPr id="4357" name=""/>
                  <p:cNvSpPr/>
                  <p:nvPr/>
                </p:nvSpPr>
                <p:spPr>
                  <a:xfrm>
                    <a:off x="3670200" y="300024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3633120" y="300024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59" name=""/>
              <p:cNvGrpSpPr/>
              <p:nvPr/>
            </p:nvGrpSpPr>
            <p:grpSpPr>
              <a:xfrm>
                <a:off x="4034880" y="3000240"/>
                <a:ext cx="401760" cy="473040"/>
                <a:chOff x="4034880" y="3000240"/>
                <a:chExt cx="401760" cy="473040"/>
              </a:xfrm>
            </p:grpSpPr>
            <p:sp>
              <p:nvSpPr>
                <p:cNvPr id="4360" name=""/>
                <p:cNvSpPr/>
                <p:nvPr/>
              </p:nvSpPr>
              <p:spPr>
                <a:xfrm>
                  <a:off x="4034880" y="300024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1" name=""/>
                <p:cNvGrpSpPr/>
                <p:nvPr/>
              </p:nvGrpSpPr>
              <p:grpSpPr>
                <a:xfrm>
                  <a:off x="4034880" y="3000240"/>
                  <a:ext cx="401760" cy="473040"/>
                  <a:chOff x="4034880" y="3000240"/>
                  <a:chExt cx="401760" cy="473040"/>
                </a:xfrm>
              </p:grpSpPr>
              <p:sp>
                <p:nvSpPr>
                  <p:cNvPr id="4362" name=""/>
                  <p:cNvSpPr/>
                  <p:nvPr/>
                </p:nvSpPr>
                <p:spPr>
                  <a:xfrm>
                    <a:off x="4072320" y="300024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4034880" y="300024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4" name=""/>
              <p:cNvGrpSpPr/>
              <p:nvPr/>
            </p:nvGrpSpPr>
            <p:grpSpPr>
              <a:xfrm>
                <a:off x="4437000" y="3000240"/>
                <a:ext cx="401400" cy="473040"/>
                <a:chOff x="4437000" y="3000240"/>
                <a:chExt cx="401400" cy="473040"/>
              </a:xfrm>
            </p:grpSpPr>
            <p:sp>
              <p:nvSpPr>
                <p:cNvPr id="4365" name=""/>
                <p:cNvSpPr/>
                <p:nvPr/>
              </p:nvSpPr>
              <p:spPr>
                <a:xfrm>
                  <a:off x="4437000" y="300024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6" name=""/>
                <p:cNvGrpSpPr/>
                <p:nvPr/>
              </p:nvGrpSpPr>
              <p:grpSpPr>
                <a:xfrm>
                  <a:off x="4437000" y="3000240"/>
                  <a:ext cx="401400" cy="473040"/>
                  <a:chOff x="4437000" y="3000240"/>
                  <a:chExt cx="401400" cy="473040"/>
                </a:xfrm>
              </p:grpSpPr>
              <p:sp>
                <p:nvSpPr>
                  <p:cNvPr id="4367" name=""/>
                  <p:cNvSpPr/>
                  <p:nvPr/>
                </p:nvSpPr>
                <p:spPr>
                  <a:xfrm>
                    <a:off x="4474080" y="300024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8" name=""/>
                  <p:cNvSpPr/>
                  <p:nvPr/>
                </p:nvSpPr>
                <p:spPr>
                  <a:xfrm>
                    <a:off x="4437000" y="300024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9" name=""/>
              <p:cNvGrpSpPr/>
              <p:nvPr/>
            </p:nvGrpSpPr>
            <p:grpSpPr>
              <a:xfrm>
                <a:off x="4838400" y="3000240"/>
                <a:ext cx="401400" cy="473040"/>
                <a:chOff x="4838400" y="3000240"/>
                <a:chExt cx="401400" cy="473040"/>
              </a:xfrm>
            </p:grpSpPr>
            <p:sp>
              <p:nvSpPr>
                <p:cNvPr id="4370" name=""/>
                <p:cNvSpPr/>
                <p:nvPr/>
              </p:nvSpPr>
              <p:spPr>
                <a:xfrm>
                  <a:off x="4838400" y="300024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1" name=""/>
                <p:cNvGrpSpPr/>
                <p:nvPr/>
              </p:nvGrpSpPr>
              <p:grpSpPr>
                <a:xfrm>
                  <a:off x="4838400" y="3000240"/>
                  <a:ext cx="401400" cy="473040"/>
                  <a:chOff x="4838400" y="3000240"/>
                  <a:chExt cx="401400" cy="473040"/>
                </a:xfrm>
              </p:grpSpPr>
              <p:sp>
                <p:nvSpPr>
                  <p:cNvPr id="4372" name=""/>
                  <p:cNvSpPr/>
                  <p:nvPr/>
                </p:nvSpPr>
                <p:spPr>
                  <a:xfrm>
                    <a:off x="4875480" y="300024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3" name=""/>
                  <p:cNvSpPr/>
                  <p:nvPr/>
                </p:nvSpPr>
                <p:spPr>
                  <a:xfrm>
                    <a:off x="4838400" y="300024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4" name=""/>
              <p:cNvGrpSpPr/>
              <p:nvPr/>
            </p:nvGrpSpPr>
            <p:grpSpPr>
              <a:xfrm>
                <a:off x="5240160" y="3000240"/>
                <a:ext cx="401760" cy="473040"/>
                <a:chOff x="5240160" y="3000240"/>
                <a:chExt cx="401760" cy="473040"/>
              </a:xfrm>
            </p:grpSpPr>
            <p:sp>
              <p:nvSpPr>
                <p:cNvPr id="4375" name=""/>
                <p:cNvSpPr/>
                <p:nvPr/>
              </p:nvSpPr>
              <p:spPr>
                <a:xfrm>
                  <a:off x="5240160" y="300024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6" name=""/>
                <p:cNvGrpSpPr/>
                <p:nvPr/>
              </p:nvGrpSpPr>
              <p:grpSpPr>
                <a:xfrm>
                  <a:off x="5240160" y="3000240"/>
                  <a:ext cx="401760" cy="473040"/>
                  <a:chOff x="5240160" y="3000240"/>
                  <a:chExt cx="401760" cy="473040"/>
                </a:xfrm>
              </p:grpSpPr>
              <p:sp>
                <p:nvSpPr>
                  <p:cNvPr id="4377" name=""/>
                  <p:cNvSpPr/>
                  <p:nvPr/>
                </p:nvSpPr>
                <p:spPr>
                  <a:xfrm>
                    <a:off x="5277600" y="300024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8" name=""/>
                  <p:cNvSpPr/>
                  <p:nvPr/>
                </p:nvSpPr>
                <p:spPr>
                  <a:xfrm>
                    <a:off x="5240160" y="300024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9" name=""/>
              <p:cNvGrpSpPr/>
              <p:nvPr/>
            </p:nvGrpSpPr>
            <p:grpSpPr>
              <a:xfrm>
                <a:off x="1222920" y="3473640"/>
                <a:ext cx="401400" cy="472680"/>
                <a:chOff x="1222920" y="3473640"/>
                <a:chExt cx="401400" cy="47268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1222920" y="3473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1" name=""/>
                <p:cNvGrpSpPr/>
                <p:nvPr/>
              </p:nvGrpSpPr>
              <p:grpSpPr>
                <a:xfrm>
                  <a:off x="1222920" y="3473640"/>
                  <a:ext cx="401400" cy="472680"/>
                  <a:chOff x="1222920" y="3473640"/>
                  <a:chExt cx="401400" cy="472680"/>
                </a:xfrm>
              </p:grpSpPr>
              <p:sp>
                <p:nvSpPr>
                  <p:cNvPr id="4382" name=""/>
                  <p:cNvSpPr/>
                  <p:nvPr/>
                </p:nvSpPr>
                <p:spPr>
                  <a:xfrm>
                    <a:off x="1260000" y="3473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1222920" y="3473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84" name=""/>
              <p:cNvGrpSpPr/>
              <p:nvPr/>
            </p:nvGrpSpPr>
            <p:grpSpPr>
              <a:xfrm>
                <a:off x="1624320" y="3473640"/>
                <a:ext cx="401760" cy="472680"/>
                <a:chOff x="1624320" y="3473640"/>
                <a:chExt cx="401760" cy="472680"/>
              </a:xfrm>
            </p:grpSpPr>
            <p:sp>
              <p:nvSpPr>
                <p:cNvPr id="4385" name=""/>
                <p:cNvSpPr/>
                <p:nvPr/>
              </p:nvSpPr>
              <p:spPr>
                <a:xfrm>
                  <a:off x="1624320" y="347364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6" name=""/>
                <p:cNvGrpSpPr/>
                <p:nvPr/>
              </p:nvGrpSpPr>
              <p:grpSpPr>
                <a:xfrm>
                  <a:off x="1624320" y="3473640"/>
                  <a:ext cx="401760" cy="472680"/>
                  <a:chOff x="1624320" y="3473640"/>
                  <a:chExt cx="401760" cy="472680"/>
                </a:xfrm>
              </p:grpSpPr>
              <p:sp>
                <p:nvSpPr>
                  <p:cNvPr id="4387" name=""/>
                  <p:cNvSpPr/>
                  <p:nvPr/>
                </p:nvSpPr>
                <p:spPr>
                  <a:xfrm>
                    <a:off x="1661760" y="3473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8" name=""/>
                  <p:cNvSpPr/>
                  <p:nvPr/>
                </p:nvSpPr>
                <p:spPr>
                  <a:xfrm>
                    <a:off x="1624320" y="347364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89" name=""/>
              <p:cNvGrpSpPr/>
              <p:nvPr/>
            </p:nvGrpSpPr>
            <p:grpSpPr>
              <a:xfrm>
                <a:off x="2026440" y="3473640"/>
                <a:ext cx="401400" cy="472680"/>
                <a:chOff x="2026440" y="3473640"/>
                <a:chExt cx="401400" cy="472680"/>
              </a:xfrm>
            </p:grpSpPr>
            <p:sp>
              <p:nvSpPr>
                <p:cNvPr id="4390" name=""/>
                <p:cNvSpPr/>
                <p:nvPr/>
              </p:nvSpPr>
              <p:spPr>
                <a:xfrm>
                  <a:off x="2026440" y="3473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1" name=""/>
                <p:cNvGrpSpPr/>
                <p:nvPr/>
              </p:nvGrpSpPr>
              <p:grpSpPr>
                <a:xfrm>
                  <a:off x="2026440" y="3473640"/>
                  <a:ext cx="401400" cy="472680"/>
                  <a:chOff x="2026440" y="3473640"/>
                  <a:chExt cx="401400" cy="472680"/>
                </a:xfrm>
              </p:grpSpPr>
              <p:sp>
                <p:nvSpPr>
                  <p:cNvPr id="4392" name=""/>
                  <p:cNvSpPr/>
                  <p:nvPr/>
                </p:nvSpPr>
                <p:spPr>
                  <a:xfrm>
                    <a:off x="2063520" y="3473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>
                    <a:off x="2026440" y="3473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4" name=""/>
              <p:cNvGrpSpPr/>
              <p:nvPr/>
            </p:nvGrpSpPr>
            <p:grpSpPr>
              <a:xfrm>
                <a:off x="2427840" y="3473640"/>
                <a:ext cx="401400" cy="472680"/>
                <a:chOff x="2427840" y="3473640"/>
                <a:chExt cx="401400" cy="472680"/>
              </a:xfrm>
            </p:grpSpPr>
            <p:sp>
              <p:nvSpPr>
                <p:cNvPr id="4395" name=""/>
                <p:cNvSpPr/>
                <p:nvPr/>
              </p:nvSpPr>
              <p:spPr>
                <a:xfrm>
                  <a:off x="2427840" y="3473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6" name=""/>
                <p:cNvGrpSpPr/>
                <p:nvPr/>
              </p:nvGrpSpPr>
              <p:grpSpPr>
                <a:xfrm>
                  <a:off x="2427840" y="3473640"/>
                  <a:ext cx="401400" cy="472680"/>
                  <a:chOff x="2427840" y="3473640"/>
                  <a:chExt cx="401400" cy="472680"/>
                </a:xfrm>
              </p:grpSpPr>
              <p:sp>
                <p:nvSpPr>
                  <p:cNvPr id="4397" name=""/>
                  <p:cNvSpPr/>
                  <p:nvPr/>
                </p:nvSpPr>
                <p:spPr>
                  <a:xfrm>
                    <a:off x="2464920" y="3473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8" name=""/>
                  <p:cNvSpPr/>
                  <p:nvPr/>
                </p:nvSpPr>
                <p:spPr>
                  <a:xfrm>
                    <a:off x="2427840" y="3473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9" name=""/>
              <p:cNvGrpSpPr/>
              <p:nvPr/>
            </p:nvGrpSpPr>
            <p:grpSpPr>
              <a:xfrm>
                <a:off x="2829600" y="3473640"/>
                <a:ext cx="401760" cy="472680"/>
                <a:chOff x="2829600" y="3473640"/>
                <a:chExt cx="401760" cy="472680"/>
              </a:xfrm>
            </p:grpSpPr>
            <p:sp>
              <p:nvSpPr>
                <p:cNvPr id="4400" name=""/>
                <p:cNvSpPr/>
                <p:nvPr/>
              </p:nvSpPr>
              <p:spPr>
                <a:xfrm>
                  <a:off x="2829600" y="347364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1" name=""/>
                <p:cNvGrpSpPr/>
                <p:nvPr/>
              </p:nvGrpSpPr>
              <p:grpSpPr>
                <a:xfrm>
                  <a:off x="2829600" y="3473640"/>
                  <a:ext cx="401760" cy="472680"/>
                  <a:chOff x="2829600" y="3473640"/>
                  <a:chExt cx="401760" cy="472680"/>
                </a:xfrm>
              </p:grpSpPr>
              <p:sp>
                <p:nvSpPr>
                  <p:cNvPr id="4402" name=""/>
                  <p:cNvSpPr/>
                  <p:nvPr/>
                </p:nvSpPr>
                <p:spPr>
                  <a:xfrm>
                    <a:off x="2867040" y="3473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>
                    <a:off x="2829600" y="347364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4" name=""/>
              <p:cNvGrpSpPr/>
              <p:nvPr/>
            </p:nvGrpSpPr>
            <p:grpSpPr>
              <a:xfrm>
                <a:off x="3231720" y="3473640"/>
                <a:ext cx="401400" cy="472680"/>
                <a:chOff x="3231720" y="3473640"/>
                <a:chExt cx="401400" cy="472680"/>
              </a:xfrm>
            </p:grpSpPr>
            <p:sp>
              <p:nvSpPr>
                <p:cNvPr id="4405" name=""/>
                <p:cNvSpPr/>
                <p:nvPr/>
              </p:nvSpPr>
              <p:spPr>
                <a:xfrm>
                  <a:off x="3231720" y="3473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6" name=""/>
                <p:cNvGrpSpPr/>
                <p:nvPr/>
              </p:nvGrpSpPr>
              <p:grpSpPr>
                <a:xfrm>
                  <a:off x="3231720" y="3473640"/>
                  <a:ext cx="401400" cy="472680"/>
                  <a:chOff x="3231720" y="3473640"/>
                  <a:chExt cx="401400" cy="472680"/>
                </a:xfrm>
              </p:grpSpPr>
              <p:sp>
                <p:nvSpPr>
                  <p:cNvPr id="4407" name=""/>
                  <p:cNvSpPr/>
                  <p:nvPr/>
                </p:nvSpPr>
                <p:spPr>
                  <a:xfrm>
                    <a:off x="3268800" y="3473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>
                    <a:off x="3231720" y="3473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9" name=""/>
              <p:cNvGrpSpPr/>
              <p:nvPr/>
            </p:nvGrpSpPr>
            <p:grpSpPr>
              <a:xfrm>
                <a:off x="3633120" y="3473640"/>
                <a:ext cx="401400" cy="472680"/>
                <a:chOff x="3633120" y="3473640"/>
                <a:chExt cx="401400" cy="472680"/>
              </a:xfrm>
            </p:grpSpPr>
            <p:sp>
              <p:nvSpPr>
                <p:cNvPr id="4410" name=""/>
                <p:cNvSpPr/>
                <p:nvPr/>
              </p:nvSpPr>
              <p:spPr>
                <a:xfrm>
                  <a:off x="3633120" y="3473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11" name=""/>
                <p:cNvGrpSpPr/>
                <p:nvPr/>
              </p:nvGrpSpPr>
              <p:grpSpPr>
                <a:xfrm>
                  <a:off x="3633120" y="3473640"/>
                  <a:ext cx="401400" cy="472680"/>
                  <a:chOff x="3633120" y="3473640"/>
                  <a:chExt cx="401400" cy="472680"/>
                </a:xfrm>
              </p:grpSpPr>
              <p:sp>
                <p:nvSpPr>
                  <p:cNvPr id="4412" name=""/>
                  <p:cNvSpPr/>
                  <p:nvPr/>
                </p:nvSpPr>
                <p:spPr>
                  <a:xfrm>
                    <a:off x="3670200" y="3473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>
                    <a:off x="3633120" y="3473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4" name=""/>
              <p:cNvGrpSpPr/>
              <p:nvPr/>
            </p:nvGrpSpPr>
            <p:grpSpPr>
              <a:xfrm>
                <a:off x="4034880" y="3473640"/>
                <a:ext cx="401760" cy="472680"/>
                <a:chOff x="4034880" y="3473640"/>
                <a:chExt cx="401760" cy="472680"/>
              </a:xfrm>
            </p:grpSpPr>
            <p:sp>
              <p:nvSpPr>
                <p:cNvPr id="4415" name=""/>
                <p:cNvSpPr/>
                <p:nvPr/>
              </p:nvSpPr>
              <p:spPr>
                <a:xfrm>
                  <a:off x="4034880" y="347364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16" name=""/>
                <p:cNvGrpSpPr/>
                <p:nvPr/>
              </p:nvGrpSpPr>
              <p:grpSpPr>
                <a:xfrm>
                  <a:off x="4034880" y="3473640"/>
                  <a:ext cx="401760" cy="472680"/>
                  <a:chOff x="4034880" y="3473640"/>
                  <a:chExt cx="401760" cy="472680"/>
                </a:xfrm>
              </p:grpSpPr>
              <p:sp>
                <p:nvSpPr>
                  <p:cNvPr id="4417" name=""/>
                  <p:cNvSpPr/>
                  <p:nvPr/>
                </p:nvSpPr>
                <p:spPr>
                  <a:xfrm>
                    <a:off x="4072320" y="3473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8" name=""/>
                  <p:cNvSpPr/>
                  <p:nvPr/>
                </p:nvSpPr>
                <p:spPr>
                  <a:xfrm>
                    <a:off x="4034880" y="347364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9" name=""/>
              <p:cNvGrpSpPr/>
              <p:nvPr/>
            </p:nvGrpSpPr>
            <p:grpSpPr>
              <a:xfrm>
                <a:off x="4437000" y="3473640"/>
                <a:ext cx="401400" cy="472680"/>
                <a:chOff x="4437000" y="3473640"/>
                <a:chExt cx="401400" cy="472680"/>
              </a:xfrm>
            </p:grpSpPr>
            <p:sp>
              <p:nvSpPr>
                <p:cNvPr id="4420" name=""/>
                <p:cNvSpPr/>
                <p:nvPr/>
              </p:nvSpPr>
              <p:spPr>
                <a:xfrm>
                  <a:off x="4437000" y="3473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1" name=""/>
                <p:cNvGrpSpPr/>
                <p:nvPr/>
              </p:nvGrpSpPr>
              <p:grpSpPr>
                <a:xfrm>
                  <a:off x="4437000" y="3473640"/>
                  <a:ext cx="401400" cy="472680"/>
                  <a:chOff x="4437000" y="3473640"/>
                  <a:chExt cx="401400" cy="472680"/>
                </a:xfrm>
              </p:grpSpPr>
              <p:sp>
                <p:nvSpPr>
                  <p:cNvPr id="4422" name=""/>
                  <p:cNvSpPr/>
                  <p:nvPr/>
                </p:nvSpPr>
                <p:spPr>
                  <a:xfrm>
                    <a:off x="4474080" y="3473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3" name=""/>
                  <p:cNvSpPr/>
                  <p:nvPr/>
                </p:nvSpPr>
                <p:spPr>
                  <a:xfrm>
                    <a:off x="4437000" y="3473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4" name=""/>
              <p:cNvGrpSpPr/>
              <p:nvPr/>
            </p:nvGrpSpPr>
            <p:grpSpPr>
              <a:xfrm>
                <a:off x="4838400" y="3473640"/>
                <a:ext cx="401400" cy="472680"/>
                <a:chOff x="4838400" y="3473640"/>
                <a:chExt cx="401400" cy="472680"/>
              </a:xfrm>
            </p:grpSpPr>
            <p:sp>
              <p:nvSpPr>
                <p:cNvPr id="4425" name=""/>
                <p:cNvSpPr/>
                <p:nvPr/>
              </p:nvSpPr>
              <p:spPr>
                <a:xfrm>
                  <a:off x="4838400" y="347364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6" name=""/>
                <p:cNvGrpSpPr/>
                <p:nvPr/>
              </p:nvGrpSpPr>
              <p:grpSpPr>
                <a:xfrm>
                  <a:off x="4838400" y="3473640"/>
                  <a:ext cx="401400" cy="472680"/>
                  <a:chOff x="4838400" y="3473640"/>
                  <a:chExt cx="401400" cy="472680"/>
                </a:xfrm>
              </p:grpSpPr>
              <p:sp>
                <p:nvSpPr>
                  <p:cNvPr id="4427" name=""/>
                  <p:cNvSpPr/>
                  <p:nvPr/>
                </p:nvSpPr>
                <p:spPr>
                  <a:xfrm>
                    <a:off x="4875480" y="347364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>
                    <a:off x="4838400" y="347364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9" name=""/>
              <p:cNvGrpSpPr/>
              <p:nvPr/>
            </p:nvGrpSpPr>
            <p:grpSpPr>
              <a:xfrm>
                <a:off x="5240160" y="3473640"/>
                <a:ext cx="401760" cy="472680"/>
                <a:chOff x="5240160" y="3473640"/>
                <a:chExt cx="401760" cy="472680"/>
              </a:xfrm>
            </p:grpSpPr>
            <p:sp>
              <p:nvSpPr>
                <p:cNvPr id="4430" name=""/>
                <p:cNvSpPr/>
                <p:nvPr/>
              </p:nvSpPr>
              <p:spPr>
                <a:xfrm>
                  <a:off x="5240160" y="347364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1" name=""/>
                <p:cNvGrpSpPr/>
                <p:nvPr/>
              </p:nvGrpSpPr>
              <p:grpSpPr>
                <a:xfrm>
                  <a:off x="5240160" y="3473640"/>
                  <a:ext cx="401760" cy="472680"/>
                  <a:chOff x="5240160" y="3473640"/>
                  <a:chExt cx="401760" cy="472680"/>
                </a:xfrm>
              </p:grpSpPr>
              <p:sp>
                <p:nvSpPr>
                  <p:cNvPr id="4432" name=""/>
                  <p:cNvSpPr/>
                  <p:nvPr/>
                </p:nvSpPr>
                <p:spPr>
                  <a:xfrm>
                    <a:off x="5277600" y="347364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3" name=""/>
                  <p:cNvSpPr/>
                  <p:nvPr/>
                </p:nvSpPr>
                <p:spPr>
                  <a:xfrm>
                    <a:off x="5240160" y="347364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34" name=""/>
              <p:cNvGrpSpPr/>
              <p:nvPr/>
            </p:nvGrpSpPr>
            <p:grpSpPr>
              <a:xfrm>
                <a:off x="1222920" y="3946320"/>
                <a:ext cx="401400" cy="472680"/>
                <a:chOff x="1222920" y="3946320"/>
                <a:chExt cx="401400" cy="472680"/>
              </a:xfrm>
            </p:grpSpPr>
            <p:sp>
              <p:nvSpPr>
                <p:cNvPr id="4435" name=""/>
                <p:cNvSpPr/>
                <p:nvPr/>
              </p:nvSpPr>
              <p:spPr>
                <a:xfrm>
                  <a:off x="1222920" y="39463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6" name=""/>
                <p:cNvGrpSpPr/>
                <p:nvPr/>
              </p:nvGrpSpPr>
              <p:grpSpPr>
                <a:xfrm>
                  <a:off x="1222920" y="3946320"/>
                  <a:ext cx="401400" cy="472680"/>
                  <a:chOff x="1222920" y="3946320"/>
                  <a:chExt cx="401400" cy="472680"/>
                </a:xfrm>
              </p:grpSpPr>
              <p:sp>
                <p:nvSpPr>
                  <p:cNvPr id="4437" name=""/>
                  <p:cNvSpPr/>
                  <p:nvPr/>
                </p:nvSpPr>
                <p:spPr>
                  <a:xfrm>
                    <a:off x="1260000" y="39463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8" name=""/>
                  <p:cNvSpPr/>
                  <p:nvPr/>
                </p:nvSpPr>
                <p:spPr>
                  <a:xfrm>
                    <a:off x="1222920" y="39463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39" name=""/>
              <p:cNvGrpSpPr/>
              <p:nvPr/>
            </p:nvGrpSpPr>
            <p:grpSpPr>
              <a:xfrm>
                <a:off x="1624320" y="3946320"/>
                <a:ext cx="401760" cy="472680"/>
                <a:chOff x="1624320" y="3946320"/>
                <a:chExt cx="401760" cy="472680"/>
              </a:xfrm>
            </p:grpSpPr>
            <p:sp>
              <p:nvSpPr>
                <p:cNvPr id="4440" name=""/>
                <p:cNvSpPr/>
                <p:nvPr/>
              </p:nvSpPr>
              <p:spPr>
                <a:xfrm>
                  <a:off x="1624320" y="394632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1" name=""/>
                <p:cNvGrpSpPr/>
                <p:nvPr/>
              </p:nvGrpSpPr>
              <p:grpSpPr>
                <a:xfrm>
                  <a:off x="1624320" y="3946320"/>
                  <a:ext cx="401760" cy="472680"/>
                  <a:chOff x="1624320" y="3946320"/>
                  <a:chExt cx="401760" cy="472680"/>
                </a:xfrm>
              </p:grpSpPr>
              <p:sp>
                <p:nvSpPr>
                  <p:cNvPr id="4442" name=""/>
                  <p:cNvSpPr/>
                  <p:nvPr/>
                </p:nvSpPr>
                <p:spPr>
                  <a:xfrm>
                    <a:off x="1661760" y="39463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>
                    <a:off x="1624320" y="394632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44" name=""/>
              <p:cNvGrpSpPr/>
              <p:nvPr/>
            </p:nvGrpSpPr>
            <p:grpSpPr>
              <a:xfrm>
                <a:off x="2026440" y="3946320"/>
                <a:ext cx="401400" cy="472680"/>
                <a:chOff x="2026440" y="3946320"/>
                <a:chExt cx="401400" cy="472680"/>
              </a:xfrm>
            </p:grpSpPr>
            <p:sp>
              <p:nvSpPr>
                <p:cNvPr id="4445" name=""/>
                <p:cNvSpPr/>
                <p:nvPr/>
              </p:nvSpPr>
              <p:spPr>
                <a:xfrm>
                  <a:off x="2026440" y="39463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6" name=""/>
                <p:cNvGrpSpPr/>
                <p:nvPr/>
              </p:nvGrpSpPr>
              <p:grpSpPr>
                <a:xfrm>
                  <a:off x="2026440" y="3946320"/>
                  <a:ext cx="401400" cy="472680"/>
                  <a:chOff x="2026440" y="3946320"/>
                  <a:chExt cx="401400" cy="472680"/>
                </a:xfrm>
              </p:grpSpPr>
              <p:sp>
                <p:nvSpPr>
                  <p:cNvPr id="4447" name=""/>
                  <p:cNvSpPr/>
                  <p:nvPr/>
                </p:nvSpPr>
                <p:spPr>
                  <a:xfrm>
                    <a:off x="2063520" y="39463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8" name=""/>
                  <p:cNvSpPr/>
                  <p:nvPr/>
                </p:nvSpPr>
                <p:spPr>
                  <a:xfrm>
                    <a:off x="2026440" y="39463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49" name=""/>
              <p:cNvGrpSpPr/>
              <p:nvPr/>
            </p:nvGrpSpPr>
            <p:grpSpPr>
              <a:xfrm>
                <a:off x="2427840" y="3946320"/>
                <a:ext cx="401400" cy="472680"/>
                <a:chOff x="2427840" y="3946320"/>
                <a:chExt cx="401400" cy="472680"/>
              </a:xfrm>
            </p:grpSpPr>
            <p:sp>
              <p:nvSpPr>
                <p:cNvPr id="4450" name=""/>
                <p:cNvSpPr/>
                <p:nvPr/>
              </p:nvSpPr>
              <p:spPr>
                <a:xfrm>
                  <a:off x="2427840" y="39463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1" name=""/>
                <p:cNvGrpSpPr/>
                <p:nvPr/>
              </p:nvGrpSpPr>
              <p:grpSpPr>
                <a:xfrm>
                  <a:off x="2427840" y="3946320"/>
                  <a:ext cx="401400" cy="472680"/>
                  <a:chOff x="2427840" y="3946320"/>
                  <a:chExt cx="401400" cy="472680"/>
                </a:xfrm>
              </p:grpSpPr>
              <p:sp>
                <p:nvSpPr>
                  <p:cNvPr id="4452" name=""/>
                  <p:cNvSpPr/>
                  <p:nvPr/>
                </p:nvSpPr>
                <p:spPr>
                  <a:xfrm>
                    <a:off x="2464920" y="39463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3" name=""/>
                  <p:cNvSpPr/>
                  <p:nvPr/>
                </p:nvSpPr>
                <p:spPr>
                  <a:xfrm>
                    <a:off x="2427840" y="39463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54" name=""/>
              <p:cNvGrpSpPr/>
              <p:nvPr/>
            </p:nvGrpSpPr>
            <p:grpSpPr>
              <a:xfrm>
                <a:off x="2829600" y="3946320"/>
                <a:ext cx="401760" cy="472680"/>
                <a:chOff x="2829600" y="3946320"/>
                <a:chExt cx="401760" cy="472680"/>
              </a:xfrm>
            </p:grpSpPr>
            <p:sp>
              <p:nvSpPr>
                <p:cNvPr id="4455" name=""/>
                <p:cNvSpPr/>
                <p:nvPr/>
              </p:nvSpPr>
              <p:spPr>
                <a:xfrm>
                  <a:off x="2829600" y="394632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6" name=""/>
                <p:cNvGrpSpPr/>
                <p:nvPr/>
              </p:nvGrpSpPr>
              <p:grpSpPr>
                <a:xfrm>
                  <a:off x="2829600" y="3946320"/>
                  <a:ext cx="401760" cy="472680"/>
                  <a:chOff x="2829600" y="3946320"/>
                  <a:chExt cx="401760" cy="472680"/>
                </a:xfrm>
              </p:grpSpPr>
              <p:sp>
                <p:nvSpPr>
                  <p:cNvPr id="4457" name=""/>
                  <p:cNvSpPr/>
                  <p:nvPr/>
                </p:nvSpPr>
                <p:spPr>
                  <a:xfrm>
                    <a:off x="2867040" y="39463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>
                    <a:off x="2829600" y="394632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59" name=""/>
              <p:cNvGrpSpPr/>
              <p:nvPr/>
            </p:nvGrpSpPr>
            <p:grpSpPr>
              <a:xfrm>
                <a:off x="3231720" y="3946320"/>
                <a:ext cx="401400" cy="472680"/>
                <a:chOff x="3231720" y="3946320"/>
                <a:chExt cx="401400" cy="472680"/>
              </a:xfrm>
            </p:grpSpPr>
            <p:sp>
              <p:nvSpPr>
                <p:cNvPr id="4460" name=""/>
                <p:cNvSpPr/>
                <p:nvPr/>
              </p:nvSpPr>
              <p:spPr>
                <a:xfrm>
                  <a:off x="3231720" y="39463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1" name=""/>
                <p:cNvGrpSpPr/>
                <p:nvPr/>
              </p:nvGrpSpPr>
              <p:grpSpPr>
                <a:xfrm>
                  <a:off x="3231720" y="3946320"/>
                  <a:ext cx="401400" cy="472680"/>
                  <a:chOff x="3231720" y="3946320"/>
                  <a:chExt cx="401400" cy="472680"/>
                </a:xfrm>
              </p:grpSpPr>
              <p:sp>
                <p:nvSpPr>
                  <p:cNvPr id="4462" name=""/>
                  <p:cNvSpPr/>
                  <p:nvPr/>
                </p:nvSpPr>
                <p:spPr>
                  <a:xfrm>
                    <a:off x="3268800" y="39463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>
                    <a:off x="3231720" y="39463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4" name=""/>
              <p:cNvGrpSpPr/>
              <p:nvPr/>
            </p:nvGrpSpPr>
            <p:grpSpPr>
              <a:xfrm>
                <a:off x="3633120" y="3946320"/>
                <a:ext cx="401400" cy="472680"/>
                <a:chOff x="3633120" y="3946320"/>
                <a:chExt cx="401400" cy="472680"/>
              </a:xfrm>
            </p:grpSpPr>
            <p:sp>
              <p:nvSpPr>
                <p:cNvPr id="4465" name=""/>
                <p:cNvSpPr/>
                <p:nvPr/>
              </p:nvSpPr>
              <p:spPr>
                <a:xfrm>
                  <a:off x="3633120" y="39463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6" name=""/>
                <p:cNvGrpSpPr/>
                <p:nvPr/>
              </p:nvGrpSpPr>
              <p:grpSpPr>
                <a:xfrm>
                  <a:off x="3633120" y="3946320"/>
                  <a:ext cx="401400" cy="472680"/>
                  <a:chOff x="3633120" y="3946320"/>
                  <a:chExt cx="401400" cy="472680"/>
                </a:xfrm>
              </p:grpSpPr>
              <p:sp>
                <p:nvSpPr>
                  <p:cNvPr id="4467" name=""/>
                  <p:cNvSpPr/>
                  <p:nvPr/>
                </p:nvSpPr>
                <p:spPr>
                  <a:xfrm>
                    <a:off x="3670200" y="39463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>
                    <a:off x="3633120" y="39463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9" name=""/>
              <p:cNvGrpSpPr/>
              <p:nvPr/>
            </p:nvGrpSpPr>
            <p:grpSpPr>
              <a:xfrm>
                <a:off x="4034880" y="3946320"/>
                <a:ext cx="401760" cy="472680"/>
                <a:chOff x="4034880" y="3946320"/>
                <a:chExt cx="401760" cy="472680"/>
              </a:xfrm>
            </p:grpSpPr>
            <p:sp>
              <p:nvSpPr>
                <p:cNvPr id="4470" name=""/>
                <p:cNvSpPr/>
                <p:nvPr/>
              </p:nvSpPr>
              <p:spPr>
                <a:xfrm>
                  <a:off x="4034880" y="394632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1" name=""/>
                <p:cNvGrpSpPr/>
                <p:nvPr/>
              </p:nvGrpSpPr>
              <p:grpSpPr>
                <a:xfrm>
                  <a:off x="4034880" y="3946320"/>
                  <a:ext cx="401760" cy="472680"/>
                  <a:chOff x="4034880" y="3946320"/>
                  <a:chExt cx="401760" cy="472680"/>
                </a:xfrm>
              </p:grpSpPr>
              <p:sp>
                <p:nvSpPr>
                  <p:cNvPr id="4472" name=""/>
                  <p:cNvSpPr/>
                  <p:nvPr/>
                </p:nvSpPr>
                <p:spPr>
                  <a:xfrm>
                    <a:off x="4072320" y="39463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4034880" y="394632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4" name=""/>
              <p:cNvGrpSpPr/>
              <p:nvPr/>
            </p:nvGrpSpPr>
            <p:grpSpPr>
              <a:xfrm>
                <a:off x="4437000" y="3946320"/>
                <a:ext cx="401400" cy="472680"/>
                <a:chOff x="4437000" y="3946320"/>
                <a:chExt cx="401400" cy="472680"/>
              </a:xfrm>
            </p:grpSpPr>
            <p:sp>
              <p:nvSpPr>
                <p:cNvPr id="4475" name=""/>
                <p:cNvSpPr/>
                <p:nvPr/>
              </p:nvSpPr>
              <p:spPr>
                <a:xfrm>
                  <a:off x="4437000" y="39463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6" name=""/>
                <p:cNvGrpSpPr/>
                <p:nvPr/>
              </p:nvGrpSpPr>
              <p:grpSpPr>
                <a:xfrm>
                  <a:off x="4437000" y="3946320"/>
                  <a:ext cx="401400" cy="472680"/>
                  <a:chOff x="4437000" y="3946320"/>
                  <a:chExt cx="401400" cy="472680"/>
                </a:xfrm>
              </p:grpSpPr>
              <p:sp>
                <p:nvSpPr>
                  <p:cNvPr id="4477" name=""/>
                  <p:cNvSpPr/>
                  <p:nvPr/>
                </p:nvSpPr>
                <p:spPr>
                  <a:xfrm>
                    <a:off x="4474080" y="39463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>
                    <a:off x="4437000" y="39463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9" name=""/>
              <p:cNvGrpSpPr/>
              <p:nvPr/>
            </p:nvGrpSpPr>
            <p:grpSpPr>
              <a:xfrm>
                <a:off x="4838400" y="3946320"/>
                <a:ext cx="401400" cy="472680"/>
                <a:chOff x="4838400" y="3946320"/>
                <a:chExt cx="401400" cy="472680"/>
              </a:xfrm>
            </p:grpSpPr>
            <p:sp>
              <p:nvSpPr>
                <p:cNvPr id="4480" name=""/>
                <p:cNvSpPr/>
                <p:nvPr/>
              </p:nvSpPr>
              <p:spPr>
                <a:xfrm>
                  <a:off x="4838400" y="394632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1" name=""/>
                <p:cNvGrpSpPr/>
                <p:nvPr/>
              </p:nvGrpSpPr>
              <p:grpSpPr>
                <a:xfrm>
                  <a:off x="4838400" y="3946320"/>
                  <a:ext cx="401400" cy="472680"/>
                  <a:chOff x="4838400" y="3946320"/>
                  <a:chExt cx="401400" cy="472680"/>
                </a:xfrm>
              </p:grpSpPr>
              <p:sp>
                <p:nvSpPr>
                  <p:cNvPr id="4482" name=""/>
                  <p:cNvSpPr/>
                  <p:nvPr/>
                </p:nvSpPr>
                <p:spPr>
                  <a:xfrm>
                    <a:off x="4875480" y="394632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3" name=""/>
                  <p:cNvSpPr/>
                  <p:nvPr/>
                </p:nvSpPr>
                <p:spPr>
                  <a:xfrm>
                    <a:off x="4838400" y="394632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84" name=""/>
              <p:cNvGrpSpPr/>
              <p:nvPr/>
            </p:nvGrpSpPr>
            <p:grpSpPr>
              <a:xfrm>
                <a:off x="5240160" y="3946320"/>
                <a:ext cx="401760" cy="472680"/>
                <a:chOff x="5240160" y="3946320"/>
                <a:chExt cx="401760" cy="472680"/>
              </a:xfrm>
            </p:grpSpPr>
            <p:sp>
              <p:nvSpPr>
                <p:cNvPr id="4485" name=""/>
                <p:cNvSpPr/>
                <p:nvPr/>
              </p:nvSpPr>
              <p:spPr>
                <a:xfrm>
                  <a:off x="5240160" y="394632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6" name=""/>
                <p:cNvGrpSpPr/>
                <p:nvPr/>
              </p:nvGrpSpPr>
              <p:grpSpPr>
                <a:xfrm>
                  <a:off x="5240160" y="3946320"/>
                  <a:ext cx="401760" cy="472680"/>
                  <a:chOff x="5240160" y="3946320"/>
                  <a:chExt cx="401760" cy="472680"/>
                </a:xfrm>
              </p:grpSpPr>
              <p:sp>
                <p:nvSpPr>
                  <p:cNvPr id="4487" name=""/>
                  <p:cNvSpPr/>
                  <p:nvPr/>
                </p:nvSpPr>
                <p:spPr>
                  <a:xfrm>
                    <a:off x="5277600" y="394632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>
                    <a:off x="5240160" y="394632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89" name=""/>
              <p:cNvGrpSpPr/>
              <p:nvPr/>
            </p:nvGrpSpPr>
            <p:grpSpPr>
              <a:xfrm>
                <a:off x="1222920" y="4419360"/>
                <a:ext cx="401400" cy="473040"/>
                <a:chOff x="1222920" y="4419360"/>
                <a:chExt cx="401400" cy="473040"/>
              </a:xfrm>
            </p:grpSpPr>
            <p:sp>
              <p:nvSpPr>
                <p:cNvPr id="4490" name=""/>
                <p:cNvSpPr/>
                <p:nvPr/>
              </p:nvSpPr>
              <p:spPr>
                <a:xfrm>
                  <a:off x="1222920" y="44193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91" name=""/>
                <p:cNvGrpSpPr/>
                <p:nvPr/>
              </p:nvGrpSpPr>
              <p:grpSpPr>
                <a:xfrm>
                  <a:off x="1222920" y="4419360"/>
                  <a:ext cx="401400" cy="473040"/>
                  <a:chOff x="1222920" y="4419360"/>
                  <a:chExt cx="401400" cy="473040"/>
                </a:xfrm>
              </p:grpSpPr>
              <p:sp>
                <p:nvSpPr>
                  <p:cNvPr id="4492" name=""/>
                  <p:cNvSpPr/>
                  <p:nvPr/>
                </p:nvSpPr>
                <p:spPr>
                  <a:xfrm>
                    <a:off x="1260000" y="44193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3" name=""/>
                  <p:cNvSpPr/>
                  <p:nvPr/>
                </p:nvSpPr>
                <p:spPr>
                  <a:xfrm>
                    <a:off x="1222920" y="44193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94" name=""/>
              <p:cNvGrpSpPr/>
              <p:nvPr/>
            </p:nvGrpSpPr>
            <p:grpSpPr>
              <a:xfrm>
                <a:off x="1624320" y="4419360"/>
                <a:ext cx="401760" cy="473040"/>
                <a:chOff x="1624320" y="4419360"/>
                <a:chExt cx="401760" cy="473040"/>
              </a:xfrm>
            </p:grpSpPr>
            <p:sp>
              <p:nvSpPr>
                <p:cNvPr id="4495" name=""/>
                <p:cNvSpPr/>
                <p:nvPr/>
              </p:nvSpPr>
              <p:spPr>
                <a:xfrm>
                  <a:off x="1624320" y="441936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96" name=""/>
                <p:cNvGrpSpPr/>
                <p:nvPr/>
              </p:nvGrpSpPr>
              <p:grpSpPr>
                <a:xfrm>
                  <a:off x="1624320" y="4419360"/>
                  <a:ext cx="401760" cy="473040"/>
                  <a:chOff x="1624320" y="4419360"/>
                  <a:chExt cx="401760" cy="473040"/>
                </a:xfrm>
              </p:grpSpPr>
              <p:sp>
                <p:nvSpPr>
                  <p:cNvPr id="4497" name=""/>
                  <p:cNvSpPr/>
                  <p:nvPr/>
                </p:nvSpPr>
                <p:spPr>
                  <a:xfrm>
                    <a:off x="1661760" y="44193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>
                    <a:off x="1624320" y="441936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99" name=""/>
              <p:cNvGrpSpPr/>
              <p:nvPr/>
            </p:nvGrpSpPr>
            <p:grpSpPr>
              <a:xfrm>
                <a:off x="2026440" y="4419360"/>
                <a:ext cx="401400" cy="473040"/>
                <a:chOff x="2026440" y="4419360"/>
                <a:chExt cx="401400" cy="473040"/>
              </a:xfrm>
            </p:grpSpPr>
            <p:sp>
              <p:nvSpPr>
                <p:cNvPr id="4500" name=""/>
                <p:cNvSpPr/>
                <p:nvPr/>
              </p:nvSpPr>
              <p:spPr>
                <a:xfrm>
                  <a:off x="2026440" y="44193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1" name=""/>
                <p:cNvGrpSpPr/>
                <p:nvPr/>
              </p:nvGrpSpPr>
              <p:grpSpPr>
                <a:xfrm>
                  <a:off x="2026440" y="4419360"/>
                  <a:ext cx="401400" cy="473040"/>
                  <a:chOff x="2026440" y="4419360"/>
                  <a:chExt cx="401400" cy="473040"/>
                </a:xfrm>
              </p:grpSpPr>
              <p:sp>
                <p:nvSpPr>
                  <p:cNvPr id="4502" name=""/>
                  <p:cNvSpPr/>
                  <p:nvPr/>
                </p:nvSpPr>
                <p:spPr>
                  <a:xfrm>
                    <a:off x="2063520" y="44193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3" name=""/>
                  <p:cNvSpPr/>
                  <p:nvPr/>
                </p:nvSpPr>
                <p:spPr>
                  <a:xfrm>
                    <a:off x="2026440" y="44193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4" name=""/>
              <p:cNvGrpSpPr/>
              <p:nvPr/>
            </p:nvGrpSpPr>
            <p:grpSpPr>
              <a:xfrm>
                <a:off x="2427840" y="4419360"/>
                <a:ext cx="401400" cy="473040"/>
                <a:chOff x="2427840" y="4419360"/>
                <a:chExt cx="401400" cy="473040"/>
              </a:xfrm>
            </p:grpSpPr>
            <p:sp>
              <p:nvSpPr>
                <p:cNvPr id="4505" name=""/>
                <p:cNvSpPr/>
                <p:nvPr/>
              </p:nvSpPr>
              <p:spPr>
                <a:xfrm>
                  <a:off x="2427840" y="44193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6" name=""/>
                <p:cNvGrpSpPr/>
                <p:nvPr/>
              </p:nvGrpSpPr>
              <p:grpSpPr>
                <a:xfrm>
                  <a:off x="2427840" y="4419360"/>
                  <a:ext cx="401400" cy="473040"/>
                  <a:chOff x="2427840" y="4419360"/>
                  <a:chExt cx="401400" cy="473040"/>
                </a:xfrm>
              </p:grpSpPr>
              <p:sp>
                <p:nvSpPr>
                  <p:cNvPr id="4507" name=""/>
                  <p:cNvSpPr/>
                  <p:nvPr/>
                </p:nvSpPr>
                <p:spPr>
                  <a:xfrm>
                    <a:off x="2464920" y="44193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8" name=""/>
                  <p:cNvSpPr/>
                  <p:nvPr/>
                </p:nvSpPr>
                <p:spPr>
                  <a:xfrm>
                    <a:off x="2427840" y="44193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9" name=""/>
              <p:cNvGrpSpPr/>
              <p:nvPr/>
            </p:nvGrpSpPr>
            <p:grpSpPr>
              <a:xfrm>
                <a:off x="2829600" y="4419360"/>
                <a:ext cx="401760" cy="473040"/>
                <a:chOff x="2829600" y="4419360"/>
                <a:chExt cx="401760" cy="473040"/>
              </a:xfrm>
            </p:grpSpPr>
            <p:sp>
              <p:nvSpPr>
                <p:cNvPr id="4510" name=""/>
                <p:cNvSpPr/>
                <p:nvPr/>
              </p:nvSpPr>
              <p:spPr>
                <a:xfrm>
                  <a:off x="2829600" y="441936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1" name=""/>
                <p:cNvGrpSpPr/>
                <p:nvPr/>
              </p:nvGrpSpPr>
              <p:grpSpPr>
                <a:xfrm>
                  <a:off x="2829600" y="4419360"/>
                  <a:ext cx="401760" cy="473040"/>
                  <a:chOff x="2829600" y="4419360"/>
                  <a:chExt cx="401760" cy="473040"/>
                </a:xfrm>
              </p:grpSpPr>
              <p:sp>
                <p:nvSpPr>
                  <p:cNvPr id="4512" name=""/>
                  <p:cNvSpPr/>
                  <p:nvPr/>
                </p:nvSpPr>
                <p:spPr>
                  <a:xfrm>
                    <a:off x="2867040" y="44193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3" name=""/>
                  <p:cNvSpPr/>
                  <p:nvPr/>
                </p:nvSpPr>
                <p:spPr>
                  <a:xfrm>
                    <a:off x="2829600" y="441936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4" name=""/>
              <p:cNvGrpSpPr/>
              <p:nvPr/>
            </p:nvGrpSpPr>
            <p:grpSpPr>
              <a:xfrm>
                <a:off x="3231720" y="4419360"/>
                <a:ext cx="401400" cy="473040"/>
                <a:chOff x="3231720" y="4419360"/>
                <a:chExt cx="401400" cy="473040"/>
              </a:xfrm>
            </p:grpSpPr>
            <p:sp>
              <p:nvSpPr>
                <p:cNvPr id="4515" name=""/>
                <p:cNvSpPr/>
                <p:nvPr/>
              </p:nvSpPr>
              <p:spPr>
                <a:xfrm>
                  <a:off x="3231720" y="44193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6" name=""/>
                <p:cNvGrpSpPr/>
                <p:nvPr/>
              </p:nvGrpSpPr>
              <p:grpSpPr>
                <a:xfrm>
                  <a:off x="3231720" y="4419360"/>
                  <a:ext cx="401400" cy="473040"/>
                  <a:chOff x="3231720" y="4419360"/>
                  <a:chExt cx="401400" cy="473040"/>
                </a:xfrm>
              </p:grpSpPr>
              <p:sp>
                <p:nvSpPr>
                  <p:cNvPr id="4517" name=""/>
                  <p:cNvSpPr/>
                  <p:nvPr/>
                </p:nvSpPr>
                <p:spPr>
                  <a:xfrm>
                    <a:off x="3268800" y="44193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>
                    <a:off x="3231720" y="44193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9" name=""/>
              <p:cNvGrpSpPr/>
              <p:nvPr/>
            </p:nvGrpSpPr>
            <p:grpSpPr>
              <a:xfrm>
                <a:off x="3633120" y="4419360"/>
                <a:ext cx="401400" cy="473040"/>
                <a:chOff x="3633120" y="4419360"/>
                <a:chExt cx="401400" cy="473040"/>
              </a:xfrm>
            </p:grpSpPr>
            <p:sp>
              <p:nvSpPr>
                <p:cNvPr id="4520" name=""/>
                <p:cNvSpPr/>
                <p:nvPr/>
              </p:nvSpPr>
              <p:spPr>
                <a:xfrm>
                  <a:off x="3633120" y="44193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1" name=""/>
                <p:cNvGrpSpPr/>
                <p:nvPr/>
              </p:nvGrpSpPr>
              <p:grpSpPr>
                <a:xfrm>
                  <a:off x="3633120" y="4419360"/>
                  <a:ext cx="401400" cy="473040"/>
                  <a:chOff x="3633120" y="4419360"/>
                  <a:chExt cx="401400" cy="473040"/>
                </a:xfrm>
              </p:grpSpPr>
              <p:sp>
                <p:nvSpPr>
                  <p:cNvPr id="4522" name=""/>
                  <p:cNvSpPr/>
                  <p:nvPr/>
                </p:nvSpPr>
                <p:spPr>
                  <a:xfrm>
                    <a:off x="3670200" y="44193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>
                    <a:off x="3633120" y="44193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24" name=""/>
              <p:cNvGrpSpPr/>
              <p:nvPr/>
            </p:nvGrpSpPr>
            <p:grpSpPr>
              <a:xfrm>
                <a:off x="4034880" y="4419360"/>
                <a:ext cx="401760" cy="473040"/>
                <a:chOff x="4034880" y="4419360"/>
                <a:chExt cx="401760" cy="473040"/>
              </a:xfrm>
            </p:grpSpPr>
            <p:sp>
              <p:nvSpPr>
                <p:cNvPr id="4525" name=""/>
                <p:cNvSpPr/>
                <p:nvPr/>
              </p:nvSpPr>
              <p:spPr>
                <a:xfrm>
                  <a:off x="4034880" y="441936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6" name=""/>
                <p:cNvGrpSpPr/>
                <p:nvPr/>
              </p:nvGrpSpPr>
              <p:grpSpPr>
                <a:xfrm>
                  <a:off x="4034880" y="4419360"/>
                  <a:ext cx="401760" cy="473040"/>
                  <a:chOff x="4034880" y="4419360"/>
                  <a:chExt cx="401760" cy="473040"/>
                </a:xfrm>
              </p:grpSpPr>
              <p:sp>
                <p:nvSpPr>
                  <p:cNvPr id="4527" name=""/>
                  <p:cNvSpPr/>
                  <p:nvPr/>
                </p:nvSpPr>
                <p:spPr>
                  <a:xfrm>
                    <a:off x="4072320" y="44193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8" name=""/>
                  <p:cNvSpPr/>
                  <p:nvPr/>
                </p:nvSpPr>
                <p:spPr>
                  <a:xfrm>
                    <a:off x="4034880" y="441936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29" name=""/>
              <p:cNvGrpSpPr/>
              <p:nvPr/>
            </p:nvGrpSpPr>
            <p:grpSpPr>
              <a:xfrm>
                <a:off x="4437000" y="4419360"/>
                <a:ext cx="401400" cy="473040"/>
                <a:chOff x="4437000" y="4419360"/>
                <a:chExt cx="401400" cy="473040"/>
              </a:xfrm>
            </p:grpSpPr>
            <p:sp>
              <p:nvSpPr>
                <p:cNvPr id="4530" name=""/>
                <p:cNvSpPr/>
                <p:nvPr/>
              </p:nvSpPr>
              <p:spPr>
                <a:xfrm>
                  <a:off x="4437000" y="44193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1" name=""/>
                <p:cNvGrpSpPr/>
                <p:nvPr/>
              </p:nvGrpSpPr>
              <p:grpSpPr>
                <a:xfrm>
                  <a:off x="4437000" y="4419360"/>
                  <a:ext cx="401400" cy="473040"/>
                  <a:chOff x="4437000" y="4419360"/>
                  <a:chExt cx="401400" cy="473040"/>
                </a:xfrm>
              </p:grpSpPr>
              <p:sp>
                <p:nvSpPr>
                  <p:cNvPr id="4532" name=""/>
                  <p:cNvSpPr/>
                  <p:nvPr/>
                </p:nvSpPr>
                <p:spPr>
                  <a:xfrm>
                    <a:off x="4474080" y="44193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3" name=""/>
                  <p:cNvSpPr/>
                  <p:nvPr/>
                </p:nvSpPr>
                <p:spPr>
                  <a:xfrm>
                    <a:off x="4437000" y="44193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4" name=""/>
              <p:cNvGrpSpPr/>
              <p:nvPr/>
            </p:nvGrpSpPr>
            <p:grpSpPr>
              <a:xfrm>
                <a:off x="4838400" y="4419360"/>
                <a:ext cx="401400" cy="473040"/>
                <a:chOff x="4838400" y="4419360"/>
                <a:chExt cx="401400" cy="473040"/>
              </a:xfrm>
            </p:grpSpPr>
            <p:sp>
              <p:nvSpPr>
                <p:cNvPr id="4535" name=""/>
                <p:cNvSpPr/>
                <p:nvPr/>
              </p:nvSpPr>
              <p:spPr>
                <a:xfrm>
                  <a:off x="4838400" y="4419360"/>
                  <a:ext cx="40140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6" name=""/>
                <p:cNvGrpSpPr/>
                <p:nvPr/>
              </p:nvGrpSpPr>
              <p:grpSpPr>
                <a:xfrm>
                  <a:off x="4838400" y="4419360"/>
                  <a:ext cx="401400" cy="473040"/>
                  <a:chOff x="4838400" y="4419360"/>
                  <a:chExt cx="401400" cy="473040"/>
                </a:xfrm>
              </p:grpSpPr>
              <p:sp>
                <p:nvSpPr>
                  <p:cNvPr id="4537" name=""/>
                  <p:cNvSpPr/>
                  <p:nvPr/>
                </p:nvSpPr>
                <p:spPr>
                  <a:xfrm>
                    <a:off x="4875480" y="4419360"/>
                    <a:ext cx="32688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8" name=""/>
                  <p:cNvSpPr/>
                  <p:nvPr/>
                </p:nvSpPr>
                <p:spPr>
                  <a:xfrm>
                    <a:off x="4838400" y="4419360"/>
                    <a:ext cx="40140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9" name=""/>
              <p:cNvGrpSpPr/>
              <p:nvPr/>
            </p:nvGrpSpPr>
            <p:grpSpPr>
              <a:xfrm>
                <a:off x="5240160" y="4419360"/>
                <a:ext cx="401760" cy="473040"/>
                <a:chOff x="5240160" y="4419360"/>
                <a:chExt cx="401760" cy="473040"/>
              </a:xfrm>
            </p:grpSpPr>
            <p:sp>
              <p:nvSpPr>
                <p:cNvPr id="4540" name=""/>
                <p:cNvSpPr/>
                <p:nvPr/>
              </p:nvSpPr>
              <p:spPr>
                <a:xfrm>
                  <a:off x="5240160" y="4419360"/>
                  <a:ext cx="401760" cy="473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41" name=""/>
                <p:cNvGrpSpPr/>
                <p:nvPr/>
              </p:nvGrpSpPr>
              <p:grpSpPr>
                <a:xfrm>
                  <a:off x="5240160" y="4419360"/>
                  <a:ext cx="401760" cy="473040"/>
                  <a:chOff x="5240160" y="4419360"/>
                  <a:chExt cx="401760" cy="473040"/>
                </a:xfrm>
              </p:grpSpPr>
              <p:sp>
                <p:nvSpPr>
                  <p:cNvPr id="4542" name=""/>
                  <p:cNvSpPr/>
                  <p:nvPr/>
                </p:nvSpPr>
                <p:spPr>
                  <a:xfrm>
                    <a:off x="5277600" y="4419360"/>
                    <a:ext cx="326520" cy="47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3" name=""/>
                  <p:cNvSpPr/>
                  <p:nvPr/>
                </p:nvSpPr>
                <p:spPr>
                  <a:xfrm>
                    <a:off x="5240160" y="4419360"/>
                    <a:ext cx="401760" cy="473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4" name=""/>
              <p:cNvGrpSpPr/>
              <p:nvPr/>
            </p:nvGrpSpPr>
            <p:grpSpPr>
              <a:xfrm>
                <a:off x="1222920" y="4892400"/>
                <a:ext cx="401400" cy="472680"/>
                <a:chOff x="1222920" y="4892400"/>
                <a:chExt cx="401400" cy="472680"/>
              </a:xfrm>
            </p:grpSpPr>
            <p:sp>
              <p:nvSpPr>
                <p:cNvPr id="4545" name=""/>
                <p:cNvSpPr/>
                <p:nvPr/>
              </p:nvSpPr>
              <p:spPr>
                <a:xfrm>
                  <a:off x="1222920" y="489240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46" name=""/>
                <p:cNvGrpSpPr/>
                <p:nvPr/>
              </p:nvGrpSpPr>
              <p:grpSpPr>
                <a:xfrm>
                  <a:off x="1222920" y="4892400"/>
                  <a:ext cx="401400" cy="472680"/>
                  <a:chOff x="1222920" y="4892400"/>
                  <a:chExt cx="401400" cy="472680"/>
                </a:xfrm>
              </p:grpSpPr>
              <p:sp>
                <p:nvSpPr>
                  <p:cNvPr id="4547" name=""/>
                  <p:cNvSpPr/>
                  <p:nvPr/>
                </p:nvSpPr>
                <p:spPr>
                  <a:xfrm>
                    <a:off x="1260000" y="489240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8" name=""/>
                  <p:cNvSpPr/>
                  <p:nvPr/>
                </p:nvSpPr>
                <p:spPr>
                  <a:xfrm>
                    <a:off x="1222920" y="489240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9" name=""/>
              <p:cNvGrpSpPr/>
              <p:nvPr/>
            </p:nvGrpSpPr>
            <p:grpSpPr>
              <a:xfrm>
                <a:off x="1624320" y="4892400"/>
                <a:ext cx="401760" cy="472680"/>
                <a:chOff x="1624320" y="4892400"/>
                <a:chExt cx="401760" cy="472680"/>
              </a:xfrm>
            </p:grpSpPr>
            <p:sp>
              <p:nvSpPr>
                <p:cNvPr id="4550" name=""/>
                <p:cNvSpPr/>
                <p:nvPr/>
              </p:nvSpPr>
              <p:spPr>
                <a:xfrm>
                  <a:off x="1624320" y="489240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1" name=""/>
                <p:cNvGrpSpPr/>
                <p:nvPr/>
              </p:nvGrpSpPr>
              <p:grpSpPr>
                <a:xfrm>
                  <a:off x="1624320" y="4892400"/>
                  <a:ext cx="401760" cy="472680"/>
                  <a:chOff x="1624320" y="4892400"/>
                  <a:chExt cx="401760" cy="472680"/>
                </a:xfrm>
              </p:grpSpPr>
              <p:sp>
                <p:nvSpPr>
                  <p:cNvPr id="4552" name=""/>
                  <p:cNvSpPr/>
                  <p:nvPr/>
                </p:nvSpPr>
                <p:spPr>
                  <a:xfrm>
                    <a:off x="1661760" y="489240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3" name=""/>
                  <p:cNvSpPr/>
                  <p:nvPr/>
                </p:nvSpPr>
                <p:spPr>
                  <a:xfrm>
                    <a:off x="1624320" y="489240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4" name=""/>
              <p:cNvGrpSpPr/>
              <p:nvPr/>
            </p:nvGrpSpPr>
            <p:grpSpPr>
              <a:xfrm>
                <a:off x="2026440" y="4892400"/>
                <a:ext cx="401400" cy="472680"/>
                <a:chOff x="2026440" y="4892400"/>
                <a:chExt cx="401400" cy="472680"/>
              </a:xfrm>
            </p:grpSpPr>
            <p:sp>
              <p:nvSpPr>
                <p:cNvPr id="4555" name=""/>
                <p:cNvSpPr/>
                <p:nvPr/>
              </p:nvSpPr>
              <p:spPr>
                <a:xfrm>
                  <a:off x="2026440" y="489240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6" name=""/>
                <p:cNvGrpSpPr/>
                <p:nvPr/>
              </p:nvGrpSpPr>
              <p:grpSpPr>
                <a:xfrm>
                  <a:off x="2026440" y="4892400"/>
                  <a:ext cx="401400" cy="472680"/>
                  <a:chOff x="2026440" y="4892400"/>
                  <a:chExt cx="401400" cy="472680"/>
                </a:xfrm>
              </p:grpSpPr>
              <p:sp>
                <p:nvSpPr>
                  <p:cNvPr id="4557" name=""/>
                  <p:cNvSpPr/>
                  <p:nvPr/>
                </p:nvSpPr>
                <p:spPr>
                  <a:xfrm>
                    <a:off x="2063520" y="489240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8" name=""/>
                  <p:cNvSpPr/>
                  <p:nvPr/>
                </p:nvSpPr>
                <p:spPr>
                  <a:xfrm>
                    <a:off x="2026440" y="489240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9" name=""/>
              <p:cNvGrpSpPr/>
              <p:nvPr/>
            </p:nvGrpSpPr>
            <p:grpSpPr>
              <a:xfrm>
                <a:off x="2427840" y="4892400"/>
                <a:ext cx="401400" cy="472680"/>
                <a:chOff x="2427840" y="4892400"/>
                <a:chExt cx="401400" cy="472680"/>
              </a:xfrm>
            </p:grpSpPr>
            <p:sp>
              <p:nvSpPr>
                <p:cNvPr id="4560" name=""/>
                <p:cNvSpPr/>
                <p:nvPr/>
              </p:nvSpPr>
              <p:spPr>
                <a:xfrm>
                  <a:off x="2427840" y="489240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61" name=""/>
                <p:cNvGrpSpPr/>
                <p:nvPr/>
              </p:nvGrpSpPr>
              <p:grpSpPr>
                <a:xfrm>
                  <a:off x="2427840" y="4892400"/>
                  <a:ext cx="401400" cy="472680"/>
                  <a:chOff x="2427840" y="4892400"/>
                  <a:chExt cx="401400" cy="472680"/>
                </a:xfrm>
              </p:grpSpPr>
              <p:sp>
                <p:nvSpPr>
                  <p:cNvPr id="4562" name=""/>
                  <p:cNvSpPr/>
                  <p:nvPr/>
                </p:nvSpPr>
                <p:spPr>
                  <a:xfrm>
                    <a:off x="2464920" y="489240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"/>
                  <p:cNvSpPr/>
                  <p:nvPr/>
                </p:nvSpPr>
                <p:spPr>
                  <a:xfrm>
                    <a:off x="2427840" y="489240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4" name=""/>
              <p:cNvGrpSpPr/>
              <p:nvPr/>
            </p:nvGrpSpPr>
            <p:grpSpPr>
              <a:xfrm>
                <a:off x="2829600" y="4892400"/>
                <a:ext cx="401760" cy="472680"/>
                <a:chOff x="2829600" y="4892400"/>
                <a:chExt cx="401760" cy="472680"/>
              </a:xfrm>
            </p:grpSpPr>
            <p:sp>
              <p:nvSpPr>
                <p:cNvPr id="4565" name=""/>
                <p:cNvSpPr/>
                <p:nvPr/>
              </p:nvSpPr>
              <p:spPr>
                <a:xfrm>
                  <a:off x="2829600" y="489240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66" name=""/>
                <p:cNvGrpSpPr/>
                <p:nvPr/>
              </p:nvGrpSpPr>
              <p:grpSpPr>
                <a:xfrm>
                  <a:off x="2829600" y="4892400"/>
                  <a:ext cx="401760" cy="472680"/>
                  <a:chOff x="2829600" y="4892400"/>
                  <a:chExt cx="401760" cy="472680"/>
                </a:xfrm>
              </p:grpSpPr>
              <p:sp>
                <p:nvSpPr>
                  <p:cNvPr id="4567" name=""/>
                  <p:cNvSpPr/>
                  <p:nvPr/>
                </p:nvSpPr>
                <p:spPr>
                  <a:xfrm>
                    <a:off x="2867040" y="489240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8" name=""/>
                  <p:cNvSpPr/>
                  <p:nvPr/>
                </p:nvSpPr>
                <p:spPr>
                  <a:xfrm>
                    <a:off x="2829600" y="489240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9" name=""/>
              <p:cNvGrpSpPr/>
              <p:nvPr/>
            </p:nvGrpSpPr>
            <p:grpSpPr>
              <a:xfrm>
                <a:off x="3231720" y="4892400"/>
                <a:ext cx="401400" cy="472680"/>
                <a:chOff x="3231720" y="4892400"/>
                <a:chExt cx="401400" cy="472680"/>
              </a:xfrm>
            </p:grpSpPr>
            <p:sp>
              <p:nvSpPr>
                <p:cNvPr id="4570" name=""/>
                <p:cNvSpPr/>
                <p:nvPr/>
              </p:nvSpPr>
              <p:spPr>
                <a:xfrm>
                  <a:off x="3231720" y="489240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1" name=""/>
                <p:cNvGrpSpPr/>
                <p:nvPr/>
              </p:nvGrpSpPr>
              <p:grpSpPr>
                <a:xfrm>
                  <a:off x="3231720" y="4892400"/>
                  <a:ext cx="401400" cy="472680"/>
                  <a:chOff x="3231720" y="4892400"/>
                  <a:chExt cx="401400" cy="472680"/>
                </a:xfrm>
              </p:grpSpPr>
              <p:sp>
                <p:nvSpPr>
                  <p:cNvPr id="4572" name=""/>
                  <p:cNvSpPr/>
                  <p:nvPr/>
                </p:nvSpPr>
                <p:spPr>
                  <a:xfrm>
                    <a:off x="3268800" y="489240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3" name=""/>
                  <p:cNvSpPr/>
                  <p:nvPr/>
                </p:nvSpPr>
                <p:spPr>
                  <a:xfrm>
                    <a:off x="3231720" y="489240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74" name=""/>
              <p:cNvGrpSpPr/>
              <p:nvPr/>
            </p:nvGrpSpPr>
            <p:grpSpPr>
              <a:xfrm>
                <a:off x="3633120" y="4892400"/>
                <a:ext cx="401400" cy="472680"/>
                <a:chOff x="3633120" y="4892400"/>
                <a:chExt cx="401400" cy="472680"/>
              </a:xfrm>
            </p:grpSpPr>
            <p:sp>
              <p:nvSpPr>
                <p:cNvPr id="4575" name=""/>
                <p:cNvSpPr/>
                <p:nvPr/>
              </p:nvSpPr>
              <p:spPr>
                <a:xfrm>
                  <a:off x="3633120" y="489240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6" name=""/>
                <p:cNvGrpSpPr/>
                <p:nvPr/>
              </p:nvGrpSpPr>
              <p:grpSpPr>
                <a:xfrm>
                  <a:off x="3633120" y="4892400"/>
                  <a:ext cx="401400" cy="472680"/>
                  <a:chOff x="3633120" y="4892400"/>
                  <a:chExt cx="401400" cy="472680"/>
                </a:xfrm>
              </p:grpSpPr>
              <p:sp>
                <p:nvSpPr>
                  <p:cNvPr id="4577" name=""/>
                  <p:cNvSpPr/>
                  <p:nvPr/>
                </p:nvSpPr>
                <p:spPr>
                  <a:xfrm>
                    <a:off x="3670200" y="489240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8" name=""/>
                  <p:cNvSpPr/>
                  <p:nvPr/>
                </p:nvSpPr>
                <p:spPr>
                  <a:xfrm>
                    <a:off x="3633120" y="489240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79" name=""/>
              <p:cNvGrpSpPr/>
              <p:nvPr/>
            </p:nvGrpSpPr>
            <p:grpSpPr>
              <a:xfrm>
                <a:off x="4034880" y="4892400"/>
                <a:ext cx="401760" cy="472680"/>
                <a:chOff x="4034880" y="4892400"/>
                <a:chExt cx="401760" cy="472680"/>
              </a:xfrm>
            </p:grpSpPr>
            <p:sp>
              <p:nvSpPr>
                <p:cNvPr id="4580" name=""/>
                <p:cNvSpPr/>
                <p:nvPr/>
              </p:nvSpPr>
              <p:spPr>
                <a:xfrm>
                  <a:off x="4034880" y="489240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1" name=""/>
                <p:cNvGrpSpPr/>
                <p:nvPr/>
              </p:nvGrpSpPr>
              <p:grpSpPr>
                <a:xfrm>
                  <a:off x="4034880" y="4892400"/>
                  <a:ext cx="401760" cy="472680"/>
                  <a:chOff x="4034880" y="4892400"/>
                  <a:chExt cx="401760" cy="472680"/>
                </a:xfrm>
              </p:grpSpPr>
              <p:sp>
                <p:nvSpPr>
                  <p:cNvPr id="4582" name=""/>
                  <p:cNvSpPr/>
                  <p:nvPr/>
                </p:nvSpPr>
                <p:spPr>
                  <a:xfrm>
                    <a:off x="4072320" y="489240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3" name=""/>
                  <p:cNvSpPr/>
                  <p:nvPr/>
                </p:nvSpPr>
                <p:spPr>
                  <a:xfrm>
                    <a:off x="4034880" y="489240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4" name=""/>
              <p:cNvGrpSpPr/>
              <p:nvPr/>
            </p:nvGrpSpPr>
            <p:grpSpPr>
              <a:xfrm>
                <a:off x="4437000" y="4892400"/>
                <a:ext cx="401400" cy="472680"/>
                <a:chOff x="4437000" y="4892400"/>
                <a:chExt cx="401400" cy="472680"/>
              </a:xfrm>
            </p:grpSpPr>
            <p:sp>
              <p:nvSpPr>
                <p:cNvPr id="4585" name=""/>
                <p:cNvSpPr/>
                <p:nvPr/>
              </p:nvSpPr>
              <p:spPr>
                <a:xfrm>
                  <a:off x="4437000" y="489240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6" name=""/>
                <p:cNvGrpSpPr/>
                <p:nvPr/>
              </p:nvGrpSpPr>
              <p:grpSpPr>
                <a:xfrm>
                  <a:off x="4437000" y="4892400"/>
                  <a:ext cx="401400" cy="472680"/>
                  <a:chOff x="4437000" y="4892400"/>
                  <a:chExt cx="401400" cy="472680"/>
                </a:xfrm>
              </p:grpSpPr>
              <p:sp>
                <p:nvSpPr>
                  <p:cNvPr id="4587" name=""/>
                  <p:cNvSpPr/>
                  <p:nvPr/>
                </p:nvSpPr>
                <p:spPr>
                  <a:xfrm>
                    <a:off x="4474080" y="489240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8" name=""/>
                  <p:cNvSpPr/>
                  <p:nvPr/>
                </p:nvSpPr>
                <p:spPr>
                  <a:xfrm>
                    <a:off x="4437000" y="489240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9" name=""/>
              <p:cNvGrpSpPr/>
              <p:nvPr/>
            </p:nvGrpSpPr>
            <p:grpSpPr>
              <a:xfrm>
                <a:off x="4838400" y="4892400"/>
                <a:ext cx="401400" cy="472680"/>
                <a:chOff x="4838400" y="4892400"/>
                <a:chExt cx="401400" cy="472680"/>
              </a:xfrm>
            </p:grpSpPr>
            <p:sp>
              <p:nvSpPr>
                <p:cNvPr id="4590" name=""/>
                <p:cNvSpPr/>
                <p:nvPr/>
              </p:nvSpPr>
              <p:spPr>
                <a:xfrm>
                  <a:off x="4838400" y="4892400"/>
                  <a:ext cx="40140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91" name=""/>
                <p:cNvGrpSpPr/>
                <p:nvPr/>
              </p:nvGrpSpPr>
              <p:grpSpPr>
                <a:xfrm>
                  <a:off x="4838400" y="4892400"/>
                  <a:ext cx="401400" cy="472680"/>
                  <a:chOff x="4838400" y="4892400"/>
                  <a:chExt cx="401400" cy="472680"/>
                </a:xfrm>
              </p:grpSpPr>
              <p:sp>
                <p:nvSpPr>
                  <p:cNvPr id="4592" name=""/>
                  <p:cNvSpPr/>
                  <p:nvPr/>
                </p:nvSpPr>
                <p:spPr>
                  <a:xfrm>
                    <a:off x="4875480" y="4892400"/>
                    <a:ext cx="32688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>
                    <a:off x="4838400" y="4892400"/>
                    <a:ext cx="40140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94" name=""/>
              <p:cNvGrpSpPr/>
              <p:nvPr/>
            </p:nvGrpSpPr>
            <p:grpSpPr>
              <a:xfrm>
                <a:off x="5240160" y="4892400"/>
                <a:ext cx="401760" cy="472680"/>
                <a:chOff x="5240160" y="4892400"/>
                <a:chExt cx="401760" cy="472680"/>
              </a:xfrm>
            </p:grpSpPr>
            <p:sp>
              <p:nvSpPr>
                <p:cNvPr id="4595" name=""/>
                <p:cNvSpPr/>
                <p:nvPr/>
              </p:nvSpPr>
              <p:spPr>
                <a:xfrm>
                  <a:off x="5240160" y="4892400"/>
                  <a:ext cx="401760" cy="472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96" name=""/>
                <p:cNvGrpSpPr/>
                <p:nvPr/>
              </p:nvGrpSpPr>
              <p:grpSpPr>
                <a:xfrm>
                  <a:off x="5240160" y="4892400"/>
                  <a:ext cx="401760" cy="472680"/>
                  <a:chOff x="5240160" y="4892400"/>
                  <a:chExt cx="401760" cy="472680"/>
                </a:xfrm>
              </p:grpSpPr>
              <p:sp>
                <p:nvSpPr>
                  <p:cNvPr id="4597" name=""/>
                  <p:cNvSpPr/>
                  <p:nvPr/>
                </p:nvSpPr>
                <p:spPr>
                  <a:xfrm>
                    <a:off x="5277600" y="4892400"/>
                    <a:ext cx="326520" cy="47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2286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>
                    <a:off x="5240160" y="4892400"/>
                    <a:ext cx="401760" cy="472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99" name=""/>
            <p:cNvSpPr/>
            <p:nvPr/>
          </p:nvSpPr>
          <p:spPr>
            <a:xfrm>
              <a:off x="1219320" y="2523960"/>
              <a:ext cx="4427280" cy="2845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0" name=""/>
          <p:cNvSpPr/>
          <p:nvPr/>
        </p:nvSpPr>
        <p:spPr>
          <a:xfrm>
            <a:off x="3151080" y="5943600"/>
            <a:ext cx="81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1" name=""/>
          <p:cNvGrpSpPr/>
          <p:nvPr/>
        </p:nvGrpSpPr>
        <p:grpSpPr>
          <a:xfrm>
            <a:off x="4419720" y="3463920"/>
            <a:ext cx="3771000" cy="459720"/>
            <a:chOff x="4419720" y="3463920"/>
            <a:chExt cx="3771000" cy="459720"/>
          </a:xfrm>
        </p:grpSpPr>
        <p:sp>
          <p:nvSpPr>
            <p:cNvPr id="4602" name=""/>
            <p:cNvSpPr/>
            <p:nvPr/>
          </p:nvSpPr>
          <p:spPr>
            <a:xfrm>
              <a:off x="6351840" y="3463920"/>
              <a:ext cx="1838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 = 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419720" y="3463920"/>
              <a:ext cx="45720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4" name=""/>
          <p:cNvGrpSpPr/>
          <p:nvPr/>
        </p:nvGrpSpPr>
        <p:grpSpPr>
          <a:xfrm>
            <a:off x="1981080" y="3921120"/>
            <a:ext cx="6209640" cy="459720"/>
            <a:chOff x="1981080" y="3921120"/>
            <a:chExt cx="6209640" cy="459720"/>
          </a:xfrm>
        </p:grpSpPr>
        <p:sp>
          <p:nvSpPr>
            <p:cNvPr id="4605" name=""/>
            <p:cNvSpPr/>
            <p:nvPr/>
          </p:nvSpPr>
          <p:spPr>
            <a:xfrm>
              <a:off x="1981080" y="3921120"/>
              <a:ext cx="45720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6351840" y="3921120"/>
              <a:ext cx="1838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 = 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7" name=""/>
          <p:cNvGrpSpPr/>
          <p:nvPr/>
        </p:nvGrpSpPr>
        <p:grpSpPr>
          <a:xfrm>
            <a:off x="2819520" y="4378320"/>
            <a:ext cx="5371200" cy="459720"/>
            <a:chOff x="2819520" y="4378320"/>
            <a:chExt cx="5371200" cy="459720"/>
          </a:xfrm>
        </p:grpSpPr>
        <p:sp>
          <p:nvSpPr>
            <p:cNvPr id="4608" name=""/>
            <p:cNvSpPr/>
            <p:nvPr/>
          </p:nvSpPr>
          <p:spPr>
            <a:xfrm>
              <a:off x="2819520" y="437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6351840" y="4378320"/>
              <a:ext cx="1838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 = 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3581280" y="4835520"/>
            <a:ext cx="4609440" cy="459720"/>
            <a:chOff x="3581280" y="4835520"/>
            <a:chExt cx="4609440" cy="459720"/>
          </a:xfrm>
        </p:grpSpPr>
        <p:sp>
          <p:nvSpPr>
            <p:cNvPr id="4611" name=""/>
            <p:cNvSpPr/>
            <p:nvPr/>
          </p:nvSpPr>
          <p:spPr>
            <a:xfrm>
              <a:off x="3581280" y="4835520"/>
              <a:ext cx="45720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6351840" y="4835520"/>
              <a:ext cx="1838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 = 8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x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goritmi per il logaritmo discr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1484640" y="1371600"/>
            <a:ext cx="6220440" cy="4899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Ricerca esau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olinomi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 valore del da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-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sponenzi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 numero di bit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 = O(exp (n)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Baby-ste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Giant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 = O(exp (n 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Index Calcu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b-esponenzi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 =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(exp ((n)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(ln(n)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Numb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fiel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ie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b-esponenzi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 =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(exp ((n)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(ln(n)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o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70720" y="4572000"/>
            <a:ext cx="7831440" cy="2082960"/>
            <a:chOff x="1170720" y="4572000"/>
            <a:chExt cx="7831440" cy="2082960"/>
          </a:xfrm>
        </p:grpSpPr>
        <p:grpSp>
          <p:nvGrpSpPr>
            <p:cNvPr id="148" name=""/>
            <p:cNvGrpSpPr/>
            <p:nvPr/>
          </p:nvGrpSpPr>
          <p:grpSpPr>
            <a:xfrm>
              <a:off x="1170720" y="4572000"/>
              <a:ext cx="3396960" cy="2082960"/>
              <a:chOff x="1170720" y="4572000"/>
              <a:chExt cx="3396960" cy="208296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376720" y="6062760"/>
                <a:ext cx="592200" cy="592200"/>
                <a:chOff x="2376720" y="6062760"/>
                <a:chExt cx="592200" cy="5922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376720" y="6062760"/>
                  <a:ext cx="592200" cy="592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672640" y="6062760"/>
                  <a:ext cx="0" cy="59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76720" y="6358680"/>
                  <a:ext cx="592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2030400" y="6357960"/>
                <a:ext cx="34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68920" y="6357960"/>
                <a:ext cx="87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71920" y="5766120"/>
                <a:ext cx="0" cy="29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41960" y="6151680"/>
                <a:ext cx="34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70520" y="5740560"/>
                <a:ext cx="34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7760" y="5283360"/>
                <a:ext cx="1714320" cy="48276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13080" y="549144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70720" y="5124600"/>
                <a:ext cx="63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se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33240" y="6151680"/>
                <a:ext cx="33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91000" y="4572000"/>
                <a:ext cx="1714320" cy="4827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Shi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67160" y="4826160"/>
                <a:ext cx="533520" cy="1523880"/>
              </a:xfrm>
              <a:custGeom>
                <a:avLst/>
                <a:gdLst/>
                <a:ahLst/>
                <a:rect l="l" t="t" r="r" b="b"/>
                <a:pathLst>
                  <a:path w="336" h="960">
                    <a:moveTo>
                      <a:pt x="192" y="960"/>
                    </a:moveTo>
                    <a:lnTo>
                      <a:pt x="336" y="960"/>
                    </a:lnTo>
                    <a:lnTo>
                      <a:pt x="336" y="0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00680" y="63500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05400" y="5054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033160" y="4572000"/>
              <a:ext cx="3969000" cy="2082960"/>
              <a:chOff x="5033160" y="4572000"/>
              <a:chExt cx="3969000" cy="20829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6796080" y="6062760"/>
                <a:ext cx="592200" cy="592200"/>
                <a:chOff x="6796080" y="6062760"/>
                <a:chExt cx="592200" cy="592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796080" y="6062760"/>
                  <a:ext cx="592200" cy="592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092000" y="6062760"/>
                  <a:ext cx="0" cy="59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796080" y="6358680"/>
                  <a:ext cx="592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5333760" y="6400800"/>
                <a:ext cx="14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88280" y="6357960"/>
                <a:ext cx="122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091280" y="5765760"/>
                <a:ext cx="0" cy="29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33160" y="6151680"/>
                <a:ext cx="33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89880" y="5740560"/>
                <a:ext cx="34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07120" y="5283360"/>
                <a:ext cx="1714320" cy="48240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32440" y="549108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90080" y="5124600"/>
                <a:ext cx="63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se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652240" y="6151680"/>
                <a:ext cx="34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10360" y="4572000"/>
                <a:ext cx="1714320" cy="4827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Shi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24760" y="5054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2360" y="4800600"/>
                <a:ext cx="609840" cy="1600200"/>
              </a:xfrm>
              <a:custGeom>
                <a:avLst/>
                <a:gdLst/>
                <a:ahLst/>
                <a:rect l="l" t="t" r="r" b="b"/>
                <a:pathLst>
                  <a:path w="384" h="960">
                    <a:moveTo>
                      <a:pt x="0" y="960"/>
                    </a:moveTo>
                    <a:lnTo>
                      <a:pt x="0" y="0"/>
                    </a:lnTo>
                    <a:lnTo>
                      <a:pt x="3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318240" y="1041480"/>
            <a:ext cx="8379360" cy="2768400"/>
            <a:chOff x="318240" y="1041480"/>
            <a:chExt cx="8379360" cy="2768400"/>
          </a:xfrm>
        </p:grpSpPr>
        <p:grpSp>
          <p:nvGrpSpPr>
            <p:cNvPr id="184" name=""/>
            <p:cNvGrpSpPr/>
            <p:nvPr/>
          </p:nvGrpSpPr>
          <p:grpSpPr>
            <a:xfrm>
              <a:off x="318240" y="1041480"/>
              <a:ext cx="4020840" cy="2768400"/>
              <a:chOff x="318240" y="1041480"/>
              <a:chExt cx="4020840" cy="2768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463840" y="3217680"/>
                <a:ext cx="592200" cy="592200"/>
                <a:chOff x="2463840" y="3217680"/>
                <a:chExt cx="592200" cy="592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463840" y="3217680"/>
                  <a:ext cx="592200" cy="592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59760" y="3217680"/>
                  <a:ext cx="0" cy="59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63840" y="3513600"/>
                  <a:ext cx="592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2117880" y="3513240"/>
                <a:ext cx="34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56040" y="3513240"/>
                <a:ext cx="87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59040" y="2921040"/>
                <a:ext cx="0" cy="29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29440" y="3306600"/>
                <a:ext cx="34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8000" y="2895480"/>
                <a:ext cx="34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74880" y="2438280"/>
                <a:ext cx="1714680" cy="48276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 (outpu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52560" y="195588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8240" y="1727280"/>
                <a:ext cx="63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se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04640" y="3306600"/>
                <a:ext cx="33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878120" y="1727280"/>
                <a:ext cx="1714320" cy="4824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Regis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05040" y="2209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66960" y="1041480"/>
                <a:ext cx="1714680" cy="48240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G (next sta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05040" y="1498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43480" y="1285920"/>
                <a:ext cx="457200" cy="647640"/>
              </a:xfrm>
              <a:custGeom>
                <a:avLst/>
                <a:gdLst/>
                <a:ahLst/>
                <a:rect l="l" t="t" r="r" b="b"/>
                <a:pathLst>
                  <a:path w="288" h="480">
                    <a:moveTo>
                      <a:pt x="48" y="480"/>
                    </a:moveTo>
                    <a:lnTo>
                      <a:pt x="288" y="480"/>
                    </a:lnTo>
                    <a:lnTo>
                      <a:pt x="288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1257480" y="1269720"/>
                <a:ext cx="6094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57480" y="1955880"/>
                <a:ext cx="6094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661640" y="1041480"/>
              <a:ext cx="4035960" cy="2768400"/>
              <a:chOff x="4661640" y="1041480"/>
              <a:chExt cx="4035960" cy="27684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6807240" y="3217680"/>
                <a:ext cx="592200" cy="592200"/>
                <a:chOff x="6807240" y="3217680"/>
                <a:chExt cx="592200" cy="5922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807240" y="3217680"/>
                  <a:ext cx="592200" cy="592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03160" y="3217680"/>
                  <a:ext cx="0" cy="59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807240" y="3513600"/>
                  <a:ext cx="592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6461280" y="3513240"/>
                <a:ext cx="34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99440" y="3513240"/>
                <a:ext cx="87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02440" y="2921040"/>
                <a:ext cx="0" cy="29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73200" y="3306600"/>
                <a:ext cx="334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01400" y="2895480"/>
                <a:ext cx="34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18280" y="2438280"/>
                <a:ext cx="1714680" cy="48276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 (outpu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95960" y="195588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61640" y="1727280"/>
                <a:ext cx="63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se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347680" y="3306600"/>
                <a:ext cx="34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21520" y="1727280"/>
                <a:ext cx="1714320" cy="4824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Regis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048440" y="2209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10360" y="1041480"/>
                <a:ext cx="1714680" cy="48240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G (next sta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048440" y="1498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86880" y="1285920"/>
                <a:ext cx="457200" cy="647640"/>
              </a:xfrm>
              <a:custGeom>
                <a:avLst/>
                <a:gdLst/>
                <a:ahLst/>
                <a:rect l="l" t="t" r="r" b="b"/>
                <a:pathLst>
                  <a:path w="288" h="480">
                    <a:moveTo>
                      <a:pt x="48" y="480"/>
                    </a:moveTo>
                    <a:lnTo>
                      <a:pt x="288" y="480"/>
                    </a:lnTo>
                    <a:lnTo>
                      <a:pt x="288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00880" y="1269720"/>
                <a:ext cx="6094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00880" y="1955880"/>
                <a:ext cx="6094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flusso sincrono (RC4, SEAL, A5, 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autosincronizzazione (DES-CFB, .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5" name=""/>
          <p:cNvGrpSpPr/>
          <p:nvPr/>
        </p:nvGrpSpPr>
        <p:grpSpPr>
          <a:xfrm>
            <a:off x="0" y="774720"/>
            <a:ext cx="9144000" cy="5308560"/>
            <a:chOff x="0" y="774720"/>
            <a:chExt cx="9144000" cy="5308560"/>
          </a:xfrm>
        </p:grpSpPr>
        <p:graphicFrame>
          <p:nvGraphicFramePr>
            <p:cNvPr id="4616" name=""/>
            <p:cNvGraphicFramePr/>
            <p:nvPr/>
          </p:nvGraphicFramePr>
          <p:xfrm>
            <a:off x="0" y="774720"/>
            <a:ext cx="9144000" cy="5308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6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774720"/>
                      <a:ext cx="9144000" cy="530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18" name=""/>
            <p:cNvSpPr/>
            <p:nvPr/>
          </p:nvSpPr>
          <p:spPr>
            <a:xfrm>
              <a:off x="8229600" y="2727360"/>
              <a:ext cx="685800" cy="74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ssi del bambino, passi del gig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107640" y="1035000"/>
            <a:ext cx="3090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y (mod p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3706560" y="1143000"/>
            <a:ext cx="1729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qrt(p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795840" y="1676520"/>
            <a:ext cx="1550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q.m +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450000" y="1873080"/>
            <a:ext cx="1981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qm+r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369360" y="2711520"/>
            <a:ext cx="2223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y.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-q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227160" y="3625920"/>
            <a:ext cx="2965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y.((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504000" y="4616280"/>
            <a:ext cx="18882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y.c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4154040" y="3127320"/>
            <a:ext cx="851400" cy="3934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5492520" y="4114800"/>
            <a:ext cx="54360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6645960" y="3092400"/>
            <a:ext cx="858960" cy="6426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.c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6645960" y="3733920"/>
            <a:ext cx="858960" cy="6426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.c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6645960" y="4378320"/>
            <a:ext cx="858960" cy="6426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.c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6669000" y="5867280"/>
            <a:ext cx="1168560" cy="6426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.c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6323040" y="1387440"/>
            <a:ext cx="23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fondime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3] pag.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Verifiche con Mathema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371808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6" name=""/>
          <p:cNvGraphicFramePr/>
          <p:nvPr/>
        </p:nvGraphicFramePr>
        <p:xfrm>
          <a:off x="1905120" y="2487600"/>
          <a:ext cx="527184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87600"/>
                    <a:ext cx="527184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8" name=""/>
          <p:cNvSpPr/>
          <p:nvPr/>
        </p:nvSpPr>
        <p:spPr>
          <a:xfrm>
            <a:off x="44798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"/>
          <p:cNvSpPr/>
          <p:nvPr/>
        </p:nvSpPr>
        <p:spPr>
          <a:xfrm>
            <a:off x="304920" y="187200"/>
            <a:ext cx="8610480" cy="6213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Q: Numeri pr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il crivello di Eratoste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un test di primalit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e cos’è il test di Miller-Rabi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Il crivello di Eratost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98720" y="2098800"/>
            <a:ext cx="76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14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2" name=""/>
          <p:cNvGrpSpPr/>
          <p:nvPr/>
        </p:nvGrpSpPr>
        <p:grpSpPr>
          <a:xfrm>
            <a:off x="1641960" y="1946880"/>
            <a:ext cx="5402880" cy="754560"/>
            <a:chOff x="1641960" y="1946880"/>
            <a:chExt cx="5402880" cy="754560"/>
          </a:xfrm>
        </p:grpSpPr>
        <p:sp>
          <p:nvSpPr>
            <p:cNvPr id="4643" name=""/>
            <p:cNvSpPr/>
            <p:nvPr/>
          </p:nvSpPr>
          <p:spPr>
            <a:xfrm rot="2700000">
              <a:off x="2895480" y="2057040"/>
              <a:ext cx="53352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 rot="2700000">
              <a:off x="1752480" y="2057040"/>
              <a:ext cx="53352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 rot="2700000">
              <a:off x="4038480" y="2057040"/>
              <a:ext cx="53352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 rot="2700000">
              <a:off x="5257800" y="2057040"/>
              <a:ext cx="53352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 rot="2700000">
              <a:off x="6400800" y="2057040"/>
              <a:ext cx="53352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8" name=""/>
          <p:cNvGrpSpPr/>
          <p:nvPr/>
        </p:nvGrpSpPr>
        <p:grpSpPr>
          <a:xfrm>
            <a:off x="499320" y="2709000"/>
            <a:ext cx="6469200" cy="754200"/>
            <a:chOff x="499320" y="2709000"/>
            <a:chExt cx="6469200" cy="754200"/>
          </a:xfrm>
        </p:grpSpPr>
        <p:sp>
          <p:nvSpPr>
            <p:cNvPr id="4649" name=""/>
            <p:cNvSpPr/>
            <p:nvPr/>
          </p:nvSpPr>
          <p:spPr>
            <a:xfrm rot="2700000">
              <a:off x="609840" y="2819160"/>
              <a:ext cx="53316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 rot="2700000">
              <a:off x="1752840" y="2819160"/>
              <a:ext cx="53316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rot="2700000">
              <a:off x="2895840" y="2819160"/>
              <a:ext cx="53316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 rot="2700000">
              <a:off x="4038840" y="2819160"/>
              <a:ext cx="53316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 rot="2700000">
              <a:off x="5181840" y="2819160"/>
              <a:ext cx="53316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rot="2700000">
              <a:off x="6324840" y="2819160"/>
              <a:ext cx="53316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423000" y="3394800"/>
            <a:ext cx="3039840" cy="754200"/>
            <a:chOff x="423000" y="3394800"/>
            <a:chExt cx="3039840" cy="754200"/>
          </a:xfrm>
        </p:grpSpPr>
        <p:sp>
          <p:nvSpPr>
            <p:cNvPr id="4656" name=""/>
            <p:cNvSpPr/>
            <p:nvPr/>
          </p:nvSpPr>
          <p:spPr>
            <a:xfrm rot="2700000">
              <a:off x="2819160" y="3504960"/>
              <a:ext cx="533160" cy="53316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 rot="2700000">
              <a:off x="533160" y="3504960"/>
              <a:ext cx="533160" cy="53316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 rot="2700000">
              <a:off x="1752840" y="3504960"/>
              <a:ext cx="533160" cy="533520"/>
            </a:xfrm>
            <a:prstGeom prst="plus">
              <a:avLst>
                <a:gd name="adj" fmla="val 439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9" name=""/>
          <p:cNvSpPr/>
          <p:nvPr/>
        </p:nvSpPr>
        <p:spPr>
          <a:xfrm rot="2700000">
            <a:off x="4647600" y="2057760"/>
            <a:ext cx="533520" cy="533160"/>
          </a:xfrm>
          <a:prstGeom prst="plus">
            <a:avLst>
              <a:gd name="adj" fmla="val 439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0" name=""/>
          <p:cNvGrpSpPr/>
          <p:nvPr/>
        </p:nvGrpSpPr>
        <p:grpSpPr>
          <a:xfrm>
            <a:off x="956520" y="2709000"/>
            <a:ext cx="4259520" cy="754200"/>
            <a:chOff x="956520" y="2709000"/>
            <a:chExt cx="4259520" cy="754200"/>
          </a:xfrm>
        </p:grpSpPr>
        <p:sp>
          <p:nvSpPr>
            <p:cNvPr id="4661" name=""/>
            <p:cNvSpPr/>
            <p:nvPr/>
          </p:nvSpPr>
          <p:spPr>
            <a:xfrm rot="2700000">
              <a:off x="1067040" y="2819160"/>
              <a:ext cx="533160" cy="533520"/>
            </a:xfrm>
            <a:prstGeom prst="plus">
              <a:avLst>
                <a:gd name="adj" fmla="val 4392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 rot="2700000">
              <a:off x="4572360" y="2819160"/>
              <a:ext cx="533160" cy="533520"/>
            </a:xfrm>
            <a:prstGeom prst="plus">
              <a:avLst>
                <a:gd name="adj" fmla="val 4392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3" name=""/>
          <p:cNvSpPr/>
          <p:nvPr/>
        </p:nvSpPr>
        <p:spPr>
          <a:xfrm rot="2700000">
            <a:off x="1067040" y="3504960"/>
            <a:ext cx="533160" cy="533520"/>
          </a:xfrm>
          <a:prstGeom prst="plus">
            <a:avLst>
              <a:gd name="adj" fmla="val 439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 rot="2700000">
            <a:off x="6933960" y="2819160"/>
            <a:ext cx="533160" cy="533160"/>
          </a:xfrm>
          <a:prstGeom prst="plus">
            <a:avLst>
              <a:gd name="adj" fmla="val 4392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3962520" y="1219320"/>
            <a:ext cx="2057400" cy="609480"/>
          </a:xfrm>
          <a:prstGeom prst="wedgeRectCallout">
            <a:avLst>
              <a:gd name="adj1" fmla="val -59180"/>
              <a:gd name="adj2" fmla="val 1130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7 = 49 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3851640" y="4911840"/>
            <a:ext cx="148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0)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cerca di un numero primo gra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3962520" y="1066680"/>
            <a:ext cx="36576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9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9" name=""/>
              <p:cNvSpPr txBox="1"/>
              <p:nvPr/>
            </p:nvSpPr>
            <p:spPr>
              <a:xfrm>
                <a:off x="4745160" y="1255680"/>
                <a:ext cx="21891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70" name=""/>
          <p:cNvGrpSpPr/>
          <p:nvPr/>
        </p:nvGrpSpPr>
        <p:grpSpPr>
          <a:xfrm>
            <a:off x="5181480" y="2590920"/>
            <a:ext cx="1371600" cy="992880"/>
            <a:chOff x="5181480" y="2590920"/>
            <a:chExt cx="1371600" cy="992880"/>
          </a:xfrm>
        </p:grpSpPr>
        <p:sp>
          <p:nvSpPr>
            <p:cNvPr id="4671" name=""/>
            <p:cNvSpPr/>
            <p:nvPr/>
          </p:nvSpPr>
          <p:spPr>
            <a:xfrm>
              <a:off x="5181480" y="2590920"/>
              <a:ext cx="137160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563080" y="31240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n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3" name=""/>
          <p:cNvSpPr/>
          <p:nvPr/>
        </p:nvSpPr>
        <p:spPr>
          <a:xfrm>
            <a:off x="609480" y="2895480"/>
            <a:ext cx="762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5638680" y="2590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5029200" y="2590920"/>
            <a:ext cx="53352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797400" y="1295280"/>
            <a:ext cx="243468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n° di pri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intevallo 2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1902960" y="4572000"/>
            <a:ext cx="536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generato a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.1 I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ri the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 = 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f  (x primo?)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 = x + 2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d repeat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. Retur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2432520" y="3733920"/>
            <a:ext cx="431244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orema di Dirichlet: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n l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Verifiche con Mathema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762120" y="1523880"/>
            <a:ext cx="761976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=Random[Integer,{10</a:t>
            </a:r>
            <a:r>
              <a:rPr b="1" lang="it-IT" sz="2400" spc="-1" strike="noStrike" baseline="30000">
                <a:solidFill>
                  <a:srgbClr val="000000"/>
                </a:solidFill>
                <a:latin typeface="Courier New"/>
              </a:rPr>
              <a:t>1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10</a:t>
            </a:r>
            <a:r>
              <a:rPr b="1" lang="it-IT" sz="2400" spc="-1" strike="noStrike" baseline="30000">
                <a:solidFill>
                  <a:srgbClr val="000000"/>
                </a:solidFill>
                <a:latin typeface="Courier New"/>
              </a:rPr>
              <a:t>11</a:t>
            </a:r>
            <a:r>
              <a:rPr b="1" lang="it-IT" sz="2400" spc="-1" strike="noStrike">
                <a:solidFill>
                  <a:srgbClr val="000000"/>
                </a:solidFill>
                <a:latin typeface="MS Mincho"/>
              </a:rPr>
              <a:t>}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75754512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rimoSuccessivo[num_]:=Module[{n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f[EvenQ[num],n=num+1,n=num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While[!PrimeQ[n],n=n+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rimoSuccessivo[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75754512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rimeQ[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"/>
          <p:cNvSpPr/>
          <p:nvPr/>
        </p:nvSpPr>
        <p:spPr>
          <a:xfrm>
            <a:off x="5400" y="3295800"/>
            <a:ext cx="916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 deterministic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sono computazionalmente più onerosi dei 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stici (algoritmi non polinomial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002: algoritmo polinomiale (Indian Institute of Techn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 probabilistic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sono polinomiali, ma devono essere poi ripetu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iù e più volte per far tendere a 1 la probabilità di avere real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ato un pr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129240" y="1219320"/>
            <a:ext cx="854136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est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istic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 s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on lo supera è </a:t>
            </a:r>
            <a:r>
              <a:rPr b="1" lang="it-IT" sz="2400" spc="-1" strike="noStrike">
                <a:solidFill>
                  <a:srgbClr val="ff6600"/>
                </a:solidFill>
                <a:latin typeface="Arial"/>
                <a:ea typeface="Arial"/>
              </a:rPr>
              <a:t>compos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e lo supera è pr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est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stic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  s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fallisce il test è compost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e lo supera è </a:t>
            </a:r>
            <a:r>
              <a:rPr b="1" lang="it-IT" sz="2400" spc="-1" strike="noStrike">
                <a:solidFill>
                  <a:srgbClr val="ff6600"/>
                </a:solidFill>
                <a:latin typeface="Arial"/>
                <a:ea typeface="Arial"/>
              </a:rPr>
              <a:t>probabilmente prim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Test di primalit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93000" y="5730840"/>
            <a:ext cx="776736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iller-Rabin: dopo t iterazioni superate positivament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à che n non sia primo è più piccola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umeri pseudo-pri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243000" y="990720"/>
            <a:ext cx="86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erma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 Da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. si sceglie a caso un inter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 &lt;a &lt;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. si calco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.1 se il risultato è diverso da 1, allo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è compost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.2 se il risultato vale 1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è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seudo-primo in base 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2585880" y="37339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ermat, Eulero, Dirichlet,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8" name=""/>
          <p:cNvGrpSpPr/>
          <p:nvPr/>
        </p:nvGrpSpPr>
        <p:grpSpPr>
          <a:xfrm>
            <a:off x="1104840" y="5029200"/>
            <a:ext cx="6308640" cy="841320"/>
            <a:chOff x="1104840" y="5029200"/>
            <a:chExt cx="6308640" cy="841320"/>
          </a:xfrm>
        </p:grpSpPr>
        <p:sp>
          <p:nvSpPr>
            <p:cNvPr id="4689" name=""/>
            <p:cNvSpPr/>
            <p:nvPr/>
          </p:nvSpPr>
          <p:spPr>
            <a:xfrm>
              <a:off x="1104840" y="5045040"/>
              <a:ext cx="23007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est 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olovay-Strass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5637240" y="5029200"/>
              <a:ext cx="177624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est 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iller-Ra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Test di Miller e Rabin: diagramma di flu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914400" y="1600200"/>
            <a:ext cx="1981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z = a</a:t>
            </a:r>
            <a:r>
              <a:rPr b="1" lang="it-IT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o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3" name=""/>
          <p:cNvGrpSpPr/>
          <p:nvPr/>
        </p:nvGrpSpPr>
        <p:grpSpPr>
          <a:xfrm>
            <a:off x="2895480" y="1179360"/>
            <a:ext cx="6019920" cy="1451880"/>
            <a:chOff x="2895480" y="1179360"/>
            <a:chExt cx="6019920" cy="1451880"/>
          </a:xfrm>
        </p:grpSpPr>
        <p:grpSp>
          <p:nvGrpSpPr>
            <p:cNvPr id="4694" name=""/>
            <p:cNvGrpSpPr/>
            <p:nvPr/>
          </p:nvGrpSpPr>
          <p:grpSpPr>
            <a:xfrm>
              <a:off x="3814560" y="1179360"/>
              <a:ext cx="1519560" cy="1451880"/>
              <a:chOff x="3814560" y="1179360"/>
              <a:chExt cx="1519560" cy="1451880"/>
            </a:xfrm>
          </p:grpSpPr>
          <p:sp>
            <p:nvSpPr>
              <p:cNvPr id="4695" name=""/>
              <p:cNvSpPr/>
              <p:nvPr/>
            </p:nvSpPr>
            <p:spPr>
              <a:xfrm rot="2148600">
                <a:off x="3967200" y="1447920"/>
                <a:ext cx="1214280" cy="914400"/>
              </a:xfrm>
              <a:prstGeom prst="parallelogram">
                <a:avLst>
                  <a:gd name="adj" fmla="val 3319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4172040" y="1523880"/>
                <a:ext cx="799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1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-1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7" name=""/>
            <p:cNvSpPr/>
            <p:nvPr/>
          </p:nvSpPr>
          <p:spPr>
            <a:xfrm>
              <a:off x="6248520" y="1676520"/>
              <a:ext cx="2666880" cy="457200"/>
            </a:xfrm>
            <a:prstGeom prst="flowChartTermina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babilmente pri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2895480" y="1905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5334120" y="1905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5489640" y="1523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1" name=""/>
          <p:cNvSpPr/>
          <p:nvPr/>
        </p:nvSpPr>
        <p:spPr>
          <a:xfrm>
            <a:off x="42480" y="644400"/>
            <a:ext cx="90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ispari. Pos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-1 = r.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c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ispar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scelto a ca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2" name=""/>
          <p:cNvGrpSpPr/>
          <p:nvPr/>
        </p:nvGrpSpPr>
        <p:grpSpPr>
          <a:xfrm>
            <a:off x="326520" y="1041480"/>
            <a:ext cx="3407400" cy="484560"/>
            <a:chOff x="326520" y="1041480"/>
            <a:chExt cx="3407400" cy="484560"/>
          </a:xfrm>
        </p:grpSpPr>
        <p:sp>
          <p:nvSpPr>
            <p:cNvPr id="4703" name=""/>
            <p:cNvSpPr/>
            <p:nvPr/>
          </p:nvSpPr>
          <p:spPr>
            <a:xfrm>
              <a:off x="326520" y="1139760"/>
              <a:ext cx="3407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it-IT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-1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od n = (a</a:t>
              </a:r>
              <a:r>
                <a:rPr b="1" lang="it-IT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mod 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538360" y="1041480"/>
              <a:ext cx="358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5" name=""/>
          <p:cNvGrpSpPr/>
          <p:nvPr/>
        </p:nvGrpSpPr>
        <p:grpSpPr>
          <a:xfrm>
            <a:off x="685800" y="2133720"/>
            <a:ext cx="7465680" cy="4840920"/>
            <a:chOff x="685800" y="2133720"/>
            <a:chExt cx="7465680" cy="4840920"/>
          </a:xfrm>
        </p:grpSpPr>
        <p:sp>
          <p:nvSpPr>
            <p:cNvPr id="4706" name=""/>
            <p:cNvSpPr/>
            <p:nvPr/>
          </p:nvSpPr>
          <p:spPr>
            <a:xfrm>
              <a:off x="7696080" y="2133720"/>
              <a:ext cx="381240" cy="4114800"/>
            </a:xfrm>
            <a:custGeom>
              <a:avLst/>
              <a:gdLst/>
              <a:ahLst/>
              <a:rect l="l" t="t" r="r" b="b"/>
              <a:pathLst>
                <a:path w="240" h="2688">
                  <a:moveTo>
                    <a:pt x="0" y="2688"/>
                  </a:moveTo>
                  <a:lnTo>
                    <a:pt x="240" y="2688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7" name=""/>
            <p:cNvGrpSpPr/>
            <p:nvPr/>
          </p:nvGrpSpPr>
          <p:grpSpPr>
            <a:xfrm>
              <a:off x="685800" y="2209680"/>
              <a:ext cx="7465680" cy="4764960"/>
              <a:chOff x="685800" y="2209680"/>
              <a:chExt cx="7465680" cy="4764960"/>
            </a:xfrm>
          </p:grpSpPr>
          <p:sp>
            <p:nvSpPr>
              <p:cNvPr id="4708" name=""/>
              <p:cNvSpPr/>
              <p:nvPr/>
            </p:nvSpPr>
            <p:spPr>
              <a:xfrm>
                <a:off x="3618720" y="4867200"/>
                <a:ext cx="193320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 = z</a:t>
                </a:r>
                <a:r>
                  <a:rPr b="1" lang="it-IT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mod 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9" name=""/>
              <p:cNvGrpSpPr/>
              <p:nvPr/>
            </p:nvGrpSpPr>
            <p:grpSpPr>
              <a:xfrm>
                <a:off x="3814560" y="5522760"/>
                <a:ext cx="1519560" cy="1451880"/>
                <a:chOff x="3814560" y="5522760"/>
                <a:chExt cx="1519560" cy="1451880"/>
              </a:xfrm>
            </p:grpSpPr>
            <p:sp>
              <p:nvSpPr>
                <p:cNvPr id="4710" name=""/>
                <p:cNvSpPr/>
                <p:nvPr/>
              </p:nvSpPr>
              <p:spPr>
                <a:xfrm rot="2148600">
                  <a:off x="3967200" y="5791320"/>
                  <a:ext cx="1214280" cy="914400"/>
                </a:xfrm>
                <a:prstGeom prst="parallelogram">
                  <a:avLst>
                    <a:gd name="adj" fmla="val 3319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>
                  <a:off x="4283640" y="601992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?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2" name=""/>
              <p:cNvSpPr/>
              <p:nvPr/>
            </p:nvSpPr>
            <p:spPr>
              <a:xfrm>
                <a:off x="685800" y="6019920"/>
                <a:ext cx="2666880" cy="457200"/>
              </a:xfrm>
              <a:prstGeom prst="flowChartTerminator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ertamente compos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3" name=""/>
              <p:cNvGrpSpPr/>
              <p:nvPr/>
            </p:nvGrpSpPr>
            <p:grpSpPr>
              <a:xfrm>
                <a:off x="3814560" y="3236760"/>
                <a:ext cx="1519560" cy="1451880"/>
                <a:chOff x="3814560" y="3236760"/>
                <a:chExt cx="1519560" cy="1451880"/>
              </a:xfrm>
            </p:grpSpPr>
            <p:sp>
              <p:nvSpPr>
                <p:cNvPr id="4714" name=""/>
                <p:cNvSpPr/>
                <p:nvPr/>
              </p:nvSpPr>
              <p:spPr>
                <a:xfrm rot="2148600">
                  <a:off x="3967200" y="3505320"/>
                  <a:ext cx="1214280" cy="914400"/>
                </a:xfrm>
                <a:prstGeom prst="parallelogram">
                  <a:avLst>
                    <a:gd name="adj" fmla="val 3319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>
                  <a:off x="4083840" y="3733920"/>
                  <a:ext cx="101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=s-1?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6" name=""/>
              <p:cNvSpPr/>
              <p:nvPr/>
            </p:nvSpPr>
            <p:spPr>
              <a:xfrm>
                <a:off x="4266360" y="2658960"/>
                <a:ext cx="5907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j=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7" name=""/>
              <p:cNvGrpSpPr/>
              <p:nvPr/>
            </p:nvGrpSpPr>
            <p:grpSpPr>
              <a:xfrm>
                <a:off x="6176880" y="5522760"/>
                <a:ext cx="1519560" cy="1451880"/>
                <a:chOff x="6176880" y="5522760"/>
                <a:chExt cx="1519560" cy="1451880"/>
              </a:xfrm>
            </p:grpSpPr>
            <p:sp>
              <p:nvSpPr>
                <p:cNvPr id="4718" name=""/>
                <p:cNvSpPr/>
                <p:nvPr/>
              </p:nvSpPr>
              <p:spPr>
                <a:xfrm rot="2148600">
                  <a:off x="6329520" y="5791320"/>
                  <a:ext cx="1214280" cy="914400"/>
                </a:xfrm>
                <a:prstGeom prst="parallelogram">
                  <a:avLst>
                    <a:gd name="adj" fmla="val 3319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>
                  <a:off x="6598800" y="60199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-1?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0" name=""/>
              <p:cNvSpPr/>
              <p:nvPr/>
            </p:nvSpPr>
            <p:spPr>
              <a:xfrm>
                <a:off x="4572000" y="2438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4572000" y="31240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334120" y="62485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H="1">
                <a:off x="3352680" y="6248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4572000" y="44956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45720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6481440" y="4869000"/>
                <a:ext cx="8481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j=i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flipV="1">
                <a:off x="69343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4572000" y="3276720"/>
                <a:ext cx="2362320" cy="1600200"/>
              </a:xfrm>
              <a:custGeom>
                <a:avLst/>
                <a:gdLst/>
                <a:ahLst/>
                <a:rect l="l" t="t" r="r" b="b"/>
                <a:pathLst>
                  <a:path w="1488" h="1008">
                    <a:moveTo>
                      <a:pt x="1488" y="1008"/>
                    </a:moveTo>
                    <a:lnTo>
                      <a:pt x="1488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2666880" y="3962520"/>
                <a:ext cx="1143000" cy="2057400"/>
              </a:xfrm>
              <a:custGeom>
                <a:avLst/>
                <a:gdLst/>
                <a:ahLst/>
                <a:rect l="l" t="t" r="r" b="b"/>
                <a:pathLst>
                  <a:path w="1008" h="1392">
                    <a:moveTo>
                      <a:pt x="1008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3430800" y="58672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412960" y="5867280"/>
                <a:ext cx="61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699320" y="58672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6938640" y="5410080"/>
                <a:ext cx="61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3889080" y="4343400"/>
                <a:ext cx="61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3202200" y="34290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4727160" y="2209680"/>
                <a:ext cx="61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7" name=""/>
          <p:cNvSpPr/>
          <p:nvPr/>
        </p:nvSpPr>
        <p:spPr>
          <a:xfrm>
            <a:off x="258840" y="2378160"/>
            <a:ext cx="2314440" cy="2373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sicur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o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r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 n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 se, per ogni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-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a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 mod n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518400" y="502920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pag.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9] pag.2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i dei Cifrari simmetrici a fluss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1240" y="1717560"/>
            <a:ext cx="891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ACCH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LUSSO SINCRO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UTOSINC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Cancellazione di b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pagazione d’err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ns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dita di sincronizzaz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rilev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Inserzione di b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pagazione d’err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ns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dita di sincronizzaz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rilev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Replica di b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pagazione d’err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ns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dita di sincronizzaz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rilev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Modifica di b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propag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nsito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rilevabi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leva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07840" y="95580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utenticazione dell’origine e dell’integr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"/>
          <p:cNvSpPr/>
          <p:nvPr/>
        </p:nvSpPr>
        <p:spPr>
          <a:xfrm>
            <a:off x="105120" y="1447920"/>
            <a:ext cx="8902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g.75: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pparenteme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termini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Prime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first tests for divisibility using small primes, then use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ller-Rabin strong pseudoprime test base 2 and base 3, and then 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Lucas te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s of 1997, this procedure is known to be correct only for n&lt;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d it is conceivable that for larger  it could claim a composit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 be pr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he package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NumberTheory`PrimeQ`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tains a much sl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hm which has been proved correct for all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t can return an explicit certificate of prim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rata corri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7T12:15:43Z</dcterms:created>
  <dc:creator>Roberto Laschi</dc:creator>
  <dc:description/>
  <dc:language>en-US</dc:language>
  <cp:lastModifiedBy>Roberto Laschi</cp:lastModifiedBy>
  <dcterms:modified xsi:type="dcterms:W3CDTF">2004-02-25T11:37:58Z</dcterms:modified>
  <cp:revision>103</cp:revision>
  <dc:subject/>
  <dc:title>Presentazione di PowerPoint</dc:title>
</cp:coreProperties>
</file>